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FEF-3711-42BD-8430-042622A6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ing the CDC Recommendations: Can it be done? What lessons can b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ex Kemper, M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68-80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4B2-41B9-41D3-84A9-26EFB9DA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rching Philosoph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want to learn from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have developed some tools to help – we need feedback from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 Ki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 Pla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 Education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 Follow-up Diary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6C8-86D9-4AB2-BA52-066543185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e K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b and Go” – things to consider inclu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tadine / alcoh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numb the skin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to I+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e swab and lab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auze and band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A983-9F25-4736-B381-484C70A13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nic note with the embedded guidelines and cod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will revise to fit your ch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n also work with you to make it “electroni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97DA-9200-43F4-9A8E-F4C0BAAF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ient Education Materi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ndout on general skin inf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ndout on Staph inf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2B0-0464-4899-AAFC-D0AA04683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ient Di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C recommends “close follow-up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have developed a diary that patients can return by mail, which can then be added into the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f a patient doesn’t return the dia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primarily interested in coming up with feasible tools for practice.  Thought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0B64-39BE-4B40-BA34-6EF208DD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BF6-4047-49CC-BDAC-33EBB228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22C-DB93-4C37-939D-3873ACA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F52-F62C-426F-A10E-AFED64B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EB9-EF12-48F9-A8FC-8DA6EDD0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62E-30C0-481C-B38C-436AB7B2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330-BA4B-4304-AC5D-7B91EA3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4BC-3480-4CFB-AC28-46B8166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17C-B50D-4316-B47F-30BCBB2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F68-D839-4BE4-8E29-3A60405D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96A-D45A-439D-8FB7-97944F3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B4D-CC39-4EDE-A299-45EF8A4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5FE-C08A-4AFE-A97B-961DE80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07D-B476-4467-85FB-44A94DA0C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the CDC Recommendation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it be don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essons can be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Kemper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8-80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rching Philosop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learn from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veloped some tools to help – we need feedback from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K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Education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Follow-up Di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and Go” – things to consider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dine /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numb the skin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I+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swab and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ze and band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 note with the embedded guidelines and cod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revise to fit your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work with you to make it “electroni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Education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 on general skin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 on Staph inf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 D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recommends “close follow-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veloped a diary that patients can return by mail, which can then be added into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a patient doesn’t return the di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primarily interested in coming up with feasible tools for practice.  Thought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1:20:09Z</dcterms:created>
  <dc:creator>DCRI</dc:creator>
  <dc:description/>
  <dc:language>en-US</dc:language>
  <cp:lastModifiedBy>Helen Fox</cp:lastModifiedBy>
  <dcterms:modified xsi:type="dcterms:W3CDTF">2010-10-31T16:34:03Z</dcterms:modified>
  <cp:revision>8</cp:revision>
  <dc:subject/>
  <dc:title>Implementing the CDC Recommendations: Can it be done? What lessons can be learned?</dc:title>
</cp:coreProperties>
</file>