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8520-3F15-4898-951B-3DC042ED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ing the CDC Recommendations: Can it be done? What lessons can b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ex Kemper, M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68-80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B779-7258-4769-9F48-D5B5EFAA0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rching Philosoph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want to learn from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have developed some tools to help – we need feedback from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 Ki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Pla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 Education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 Follow-up Diary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2549-AE13-49BE-8307-D20265B0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ture K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b and Go” – things to consider inclu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tadine / alcoh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to numb the skin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to I+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 swab and lab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auze and band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99CD-9967-4494-A0F6-243DB209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 note with the embedded guidelines and cod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will revise to fit your ch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n also work with you to make it “electronic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E22D-236C-420F-81EA-9CB568708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ient Education Materi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ndout on general skin inf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ndout on Staph inf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9955-54B9-49F3-B660-F03A0A65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ient Di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DC recommends “close follow-up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have developed a diary that patients can return by mail, which can then be added into the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f a patient doesn’t return the dia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are primarily interested in coming up with feasible tools for practice.  Thought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3F6F-37FD-474B-B41D-3F01787F1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983-BC5B-4DA9-B60D-57EDD2EE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62A-C0FD-4881-B8E0-2E2D27E1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D24-3991-4AE4-8414-24E38AE1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BFA-97DA-4810-9DAB-654A0659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28D-4B7B-4D03-859F-0FFCEB15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516-7867-4FEA-900A-2DFE5D35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BCC-B8C8-4CE4-9BD1-8D590655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5A1-80C6-48C7-8451-96AC4936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7BC-5EB0-497D-A1E2-251A50FF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C18-0B86-4ECD-B66C-86D6B53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345-3F07-485C-B421-71A29CC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28D-47B1-43B0-BC75-8049F2F9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AE68-1D5F-4998-A2E9-59F49A80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the CDC Recommendation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t be done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essons can be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Kemper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-80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rching Philoso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learn from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veloped some tools to help – we need feedback from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K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Educatio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Follow-up Di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and Go” – things to consider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dine /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numb the skin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I+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swab and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ze and band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 note with the embedded guidelines and cod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revise to fit your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work with you to make it “electroni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 Education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 on general skin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 on Staph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 D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recommends “close follow-u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veloped a diary that patients can return by mail, which can then be added into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a patient doesn’t return the di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primarily interested in coming up with feasible tools for practice.  Thought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1:20:09Z</dcterms:created>
  <dc:creator>DCRI</dc:creator>
  <dc:description/>
  <dc:language>en-US</dc:language>
  <cp:lastModifiedBy>Helen Fox</cp:lastModifiedBy>
  <dcterms:modified xsi:type="dcterms:W3CDTF">2010-10-31T16:34:03Z</dcterms:modified>
  <cp:revision>8</cp:revision>
  <dc:subject/>
  <dc:title>Implementing the CDC Recommendations: Can it be done? What lessons can be learned?</dc:title>
</cp:coreProperties>
</file>