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99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3159AE-6447-4D33-96AC-FEFF92AEE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31840" y="692280"/>
            <a:ext cx="4595400" cy="34462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8840" cy="414000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720" rIns="90720" tIns="44640" bIns="446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0" y="0"/>
            <a:ext cx="6857640" cy="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+mn-e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855720" y="5052960"/>
          <a:ext cx="5222520" cy="227772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5052960"/>
                    <a:ext cx="5222520" cy="22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18924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164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16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164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16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20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318924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20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164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416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164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416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0520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09480" y="318924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0520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164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1416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0948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164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1416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0520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09480" y="318924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70520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164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1416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0948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164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1416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3"/>
          <p:cNvGrpSpPr/>
          <p:nvPr/>
        </p:nvGrpSpPr>
        <p:grpSpPr>
          <a:xfrm>
            <a:off x="0" y="1333440"/>
            <a:ext cx="7986600" cy="19440"/>
            <a:chOff x="0" y="1333440"/>
            <a:chExt cx="7986600" cy="19440"/>
          </a:xfrm>
        </p:grpSpPr>
        <p:sp>
          <p:nvSpPr>
            <p:cNvPr id="1" name="Line 94"/>
            <p:cNvSpPr/>
            <p:nvPr/>
          </p:nvSpPr>
          <p:spPr>
            <a:xfrm>
              <a:off x="5400" y="1352520"/>
              <a:ext cx="7981200" cy="360"/>
            </a:xfrm>
            <a:prstGeom prst="line">
              <a:avLst/>
            </a:prstGeom>
            <a:ln w="50800">
              <a:solidFill>
                <a:srgbClr val="0017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Line 95"/>
            <p:cNvSpPr/>
            <p:nvPr/>
          </p:nvSpPr>
          <p:spPr>
            <a:xfrm>
              <a:off x="0" y="1333440"/>
              <a:ext cx="7980840" cy="360"/>
            </a:xfrm>
            <a:prstGeom prst="line">
              <a:avLst/>
            </a:prstGeom>
            <a:ln w="508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" name="Object 109"/>
          <p:cNvGraphicFramePr/>
          <p:nvPr/>
        </p:nvGraphicFramePr>
        <p:xfrm>
          <a:off x="142920" y="317520"/>
          <a:ext cx="1428480" cy="671040"/>
        </p:xfrm>
        <a:graphic>
          <a:graphicData uri="http://schemas.openxmlformats.org/presentationml/2006/ole">
            <p:oleObj progId="MSPhotoEd.3" r:id="rId2" spid="">
              <p:embed/>
              <p:pic>
                <p:nvPicPr>
                  <p:cNvPr id="4" name="Object 1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480" cy="67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Master title sty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9480" y="1676520"/>
            <a:ext cx="3919320" cy="28951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961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Monotype Sorts" charset="2"/>
              <a:buChar char="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681440" y="1676520"/>
            <a:ext cx="3920760" cy="28951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961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Monotype Sorts" charset="2"/>
              <a:buChar char="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93"/>
          <p:cNvGrpSpPr/>
          <p:nvPr/>
        </p:nvGrpSpPr>
        <p:grpSpPr>
          <a:xfrm>
            <a:off x="0" y="1333440"/>
            <a:ext cx="7986600" cy="19440"/>
            <a:chOff x="0" y="1333440"/>
            <a:chExt cx="7986600" cy="19440"/>
          </a:xfrm>
        </p:grpSpPr>
        <p:sp>
          <p:nvSpPr>
            <p:cNvPr id="45" name="Line 94"/>
            <p:cNvSpPr/>
            <p:nvPr/>
          </p:nvSpPr>
          <p:spPr>
            <a:xfrm>
              <a:off x="5400" y="1352520"/>
              <a:ext cx="7981200" cy="360"/>
            </a:xfrm>
            <a:prstGeom prst="line">
              <a:avLst/>
            </a:prstGeom>
            <a:ln w="50800">
              <a:solidFill>
                <a:srgbClr val="0017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Line 95"/>
            <p:cNvSpPr/>
            <p:nvPr/>
          </p:nvSpPr>
          <p:spPr>
            <a:xfrm>
              <a:off x="0" y="1333440"/>
              <a:ext cx="7980840" cy="360"/>
            </a:xfrm>
            <a:prstGeom prst="line">
              <a:avLst/>
            </a:prstGeom>
            <a:ln w="508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7" name="Object 109"/>
          <p:cNvGraphicFramePr/>
          <p:nvPr/>
        </p:nvGraphicFramePr>
        <p:xfrm>
          <a:off x="142920" y="317520"/>
          <a:ext cx="1428480" cy="671040"/>
        </p:xfrm>
        <a:graphic>
          <a:graphicData uri="http://schemas.openxmlformats.org/presentationml/2006/ole">
            <p:oleObj progId="MSPhotoEd.3" r:id="rId2" spid="">
              <p:embed/>
              <p:pic>
                <p:nvPicPr>
                  <p:cNvPr id="48" name="Object 1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480" cy="67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Master title sty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09480" y="1676520"/>
            <a:ext cx="3919320" cy="28951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961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Monotype Sorts" charset="2"/>
              <a:buChar char="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681440" y="1676520"/>
            <a:ext cx="3920760" cy="28951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961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Monotype Sorts" charset="2"/>
              <a:buChar char="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93"/>
          <p:cNvGrpSpPr/>
          <p:nvPr/>
        </p:nvGrpSpPr>
        <p:grpSpPr>
          <a:xfrm>
            <a:off x="0" y="1333440"/>
            <a:ext cx="7986600" cy="19440"/>
            <a:chOff x="0" y="1333440"/>
            <a:chExt cx="7986600" cy="19440"/>
          </a:xfrm>
        </p:grpSpPr>
        <p:sp>
          <p:nvSpPr>
            <p:cNvPr id="89" name="Line 94"/>
            <p:cNvSpPr/>
            <p:nvPr/>
          </p:nvSpPr>
          <p:spPr>
            <a:xfrm>
              <a:off x="5400" y="1352520"/>
              <a:ext cx="7981200" cy="360"/>
            </a:xfrm>
            <a:prstGeom prst="line">
              <a:avLst/>
            </a:prstGeom>
            <a:ln w="50800">
              <a:solidFill>
                <a:srgbClr val="0017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Line 95"/>
            <p:cNvSpPr/>
            <p:nvPr/>
          </p:nvSpPr>
          <p:spPr>
            <a:xfrm>
              <a:off x="0" y="1333440"/>
              <a:ext cx="7980840" cy="360"/>
            </a:xfrm>
            <a:prstGeom prst="line">
              <a:avLst/>
            </a:prstGeom>
            <a:ln w="508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91" name="Object 109"/>
          <p:cNvGraphicFramePr/>
          <p:nvPr/>
        </p:nvGraphicFramePr>
        <p:xfrm>
          <a:off x="142920" y="317520"/>
          <a:ext cx="1428480" cy="671040"/>
        </p:xfrm>
        <a:graphic>
          <a:graphicData uri="http://schemas.openxmlformats.org/presentationml/2006/ole">
            <p:oleObj progId="MSPhotoEd.3" r:id="rId2" spid="">
              <p:embed/>
              <p:pic>
                <p:nvPicPr>
                  <p:cNvPr id="92" name="Object 1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480" cy="67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Master title sty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961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Monotype Sorts" charset="2"/>
              <a:buChar char="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93"/>
          <p:cNvGrpSpPr/>
          <p:nvPr/>
        </p:nvGrpSpPr>
        <p:grpSpPr>
          <a:xfrm>
            <a:off x="0" y="1333440"/>
            <a:ext cx="7986600" cy="19440"/>
            <a:chOff x="0" y="1333440"/>
            <a:chExt cx="7986600" cy="19440"/>
          </a:xfrm>
        </p:grpSpPr>
        <p:sp>
          <p:nvSpPr>
            <p:cNvPr id="132" name="Line 94"/>
            <p:cNvSpPr/>
            <p:nvPr/>
          </p:nvSpPr>
          <p:spPr>
            <a:xfrm>
              <a:off x="5400" y="1352520"/>
              <a:ext cx="7981200" cy="360"/>
            </a:xfrm>
            <a:prstGeom prst="line">
              <a:avLst/>
            </a:prstGeom>
            <a:ln w="50800">
              <a:solidFill>
                <a:srgbClr val="0017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Line 95"/>
            <p:cNvSpPr/>
            <p:nvPr/>
          </p:nvSpPr>
          <p:spPr>
            <a:xfrm>
              <a:off x="0" y="1333440"/>
              <a:ext cx="7980840" cy="360"/>
            </a:xfrm>
            <a:prstGeom prst="line">
              <a:avLst/>
            </a:prstGeom>
            <a:ln w="508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34" name="Object 109"/>
          <p:cNvGraphicFramePr/>
          <p:nvPr/>
        </p:nvGraphicFramePr>
        <p:xfrm>
          <a:off x="142920" y="317520"/>
          <a:ext cx="1428480" cy="671040"/>
        </p:xfrm>
        <a:graphic>
          <a:graphicData uri="http://schemas.openxmlformats.org/presentationml/2006/ole">
            <p:oleObj progId="MSPhotoEd.3" r:id="rId2" spid="">
              <p:embed/>
              <p:pic>
                <p:nvPicPr>
                  <p:cNvPr id="135" name="Object 1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480" cy="67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Master title sty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hrq.gov/qual/qrdr07.htm" TargetMode="External"/><Relationship Id="rId2" Type="http://schemas.openxmlformats.org/officeDocument/2006/relationships/hyperlink" Target="http://nhqrnet.ahrq.gov/nhqr/jsp/nhqr.jsp" TargetMode="External"/><Relationship Id="rId3" Type="http://schemas.openxmlformats.org/officeDocument/2006/relationships/hyperlink" Target="mailto:AHRQPubs@ahrq.hhs.gov" TargetMode="External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007 National Healthcare Quality Report (NHQR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1440" y="1676520"/>
            <a:ext cx="3920760" cy="28951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indent="0">
              <a:lnSpc>
                <a:spcPct val="80000"/>
              </a:lnSpc>
              <a:spcBef>
                <a:spcPts val="1321"/>
              </a:spcBef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 care quality continues to improve, but the rate of improvement has slow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3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8" descr="QUALITY"/>
          <p:cNvPicPr/>
          <p:nvPr/>
        </p:nvPicPr>
        <p:blipFill>
          <a:blip r:embed="rId1"/>
          <a:stretch/>
        </p:blipFill>
        <p:spPr>
          <a:xfrm>
            <a:off x="609480" y="1523880"/>
            <a:ext cx="3531960" cy="4571640"/>
          </a:xfrm>
          <a:prstGeom prst="rect">
            <a:avLst/>
          </a:prstGeom>
          <a:ln w="38100">
            <a:solidFill>
              <a:srgbClr val="ffffff"/>
            </a:solidFill>
            <a:miter/>
          </a:ln>
        </p:spPr>
      </p:pic>
      <p:sp>
        <p:nvSpPr>
          <p:cNvPr id="183" name="Text Box 11"/>
          <p:cNvSpPr/>
          <p:nvPr/>
        </p:nvSpPr>
        <p:spPr>
          <a:xfrm>
            <a:off x="533520" y="6324480"/>
            <a:ext cx="3580920" cy="333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leased March 3,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rigin of NHQ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4495320" cy="49525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 and Human Services Secretary required to submit annual report to Congres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trends in health care quality (National Healthcare Quality Report, or NHQ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ailing disparities in health care delivery as it relates to racial factors and socioeconomic factors in priority populations (National Healthcare Disparities Report, or NHD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4" descr="dv1254053-cap"/>
          <p:cNvPicPr/>
          <p:nvPr/>
        </p:nvPicPr>
        <p:blipFill>
          <a:blip r:embed="rId1"/>
          <a:stretch/>
        </p:blipFill>
        <p:spPr>
          <a:xfrm>
            <a:off x="5410080" y="1447920"/>
            <a:ext cx="2366640" cy="3580920"/>
          </a:xfrm>
          <a:prstGeom prst="rect">
            <a:avLst/>
          </a:prstGeom>
          <a:ln w="9525">
            <a:solidFill>
              <a:srgbClr val="ffffff"/>
            </a:solidFill>
            <a:miter/>
          </a:ln>
        </p:spPr>
      </p:pic>
      <p:sp>
        <p:nvSpPr>
          <p:cNvPr id="210" name="Text Box 5"/>
          <p:cNvSpPr/>
          <p:nvPr/>
        </p:nvSpPr>
        <p:spPr>
          <a:xfrm>
            <a:off x="5029200" y="5181480"/>
            <a:ext cx="3123720" cy="1301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dated by Congress in Healthcare Research and Quality Act (PL. 106-1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HQR and NHDR Goa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69040" cy="51811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839"/>
              </a:spcBef>
              <a:spcAft>
                <a:spcPts val="839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a snapshot of health care deli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1 core measures of quality and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1 total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39"/>
              </a:spcBef>
              <a:spcAft>
                <a:spcPts val="839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e the biggest gaps in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39"/>
              </a:spcBef>
              <a:spcAft>
                <a:spcPts val="839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 national and State tr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39"/>
              </a:spcBef>
              <a:spcAft>
                <a:spcPts val="839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 us how we can reach our go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39"/>
              </a:spcBef>
              <a:spcAft>
                <a:spcPts val="839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align measures across public and private quality initi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HQR and NHDR Framewo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Group 3"/>
          <p:cNvGraphicFramePr/>
          <p:nvPr/>
        </p:nvGraphicFramePr>
        <p:xfrm>
          <a:off x="457200" y="1676520"/>
          <a:ext cx="8229240" cy="3885840"/>
        </p:xfrm>
        <a:graphic>
          <a:graphicData uri="http://schemas.openxmlformats.org/drawingml/2006/table">
            <a:tbl>
              <a:tblPr/>
              <a:tblGrid>
                <a:gridCol w="2319120"/>
                <a:gridCol w="1196640"/>
                <a:gridCol w="1598400"/>
                <a:gridCol w="1644480"/>
                <a:gridCol w="1469880"/>
              </a:tblGrid>
              <a:tr h="99684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er Perspectives on Health Care N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anchor="b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onents of Health Care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ient Centered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l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ying healt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tting b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ving with illness or dis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ping with end-of-life ma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Text Box 44"/>
          <p:cNvSpPr/>
          <p:nvPr/>
        </p:nvSpPr>
        <p:spPr>
          <a:xfrm>
            <a:off x="457200" y="5791320"/>
            <a:ext cx="8305560" cy="576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nstitute of Medicine Committee. “Envisioning the National Health Care Quality Report,”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lationship Between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HQR and NHD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7" name="Group 63"/>
          <p:cNvGraphicFramePr/>
          <p:nvPr/>
        </p:nvGraphicFramePr>
        <p:xfrm>
          <a:off x="457200" y="1596960"/>
          <a:ext cx="8229240" cy="4630680"/>
        </p:xfrm>
        <a:graphic>
          <a:graphicData uri="http://schemas.openxmlformats.org/drawingml/2006/table">
            <a:tbl>
              <a:tblPr/>
              <a:tblGrid>
                <a:gridCol w="4073400"/>
                <a:gridCol w="4155840"/>
              </a:tblGrid>
              <a:tr h="44424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839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HQ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839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HD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39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apshot of quality of health care in Ame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39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apshot of disparities in health care in Ame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39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39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+ acc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39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fety, effectiveness, timeliness, patient centered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839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39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fety, effectiveness, timeliness, patient centeredness + equ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39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tion across Sta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39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tion across popul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839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HQR/NHDR Content and Organ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92720" cy="49525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7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ective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541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c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541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be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541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Stage Renal Disease (ESRD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541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rt Disea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541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V and AI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541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nal and Child Heal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541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tal Health and 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541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rsing Home, Home Health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000" indent="0">
              <a:lnSpc>
                <a:spcPct val="7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Hospice C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 Saf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li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 Centered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ccess to Health Ca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Priority Popul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Also includes a chapter on Efficien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5562720" y="1600200"/>
            <a:ext cx="151920" cy="3657240"/>
          </a:xfrm>
          <a:prstGeom prst="rightBrace">
            <a:avLst>
              <a:gd name="adj1" fmla="val 200000"/>
              <a:gd name="adj2" fmla="val 50000"/>
            </a:avLst>
          </a:prstGeom>
          <a:noFill/>
          <a:ln w="6350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6781680" y="1600200"/>
            <a:ext cx="228240" cy="4266720"/>
          </a:xfrm>
          <a:prstGeom prst="rightBrace">
            <a:avLst>
              <a:gd name="adj1" fmla="val 155556"/>
              <a:gd name="adj2" fmla="val 50000"/>
            </a:avLst>
          </a:prstGeom>
          <a:noFill/>
          <a:ln w="635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5718240" y="3352680"/>
            <a:ext cx="1194480" cy="455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HQR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7013520" y="3733920"/>
            <a:ext cx="1042200" cy="455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H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ew in the 2007 NHQ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487656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2, Cancer: Cancer treatment measures (two for breast cancer, one for colon cancer) from National Cancer Data Base, American Cancer Society and American College of Surge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2, HIV and AIDS: HIV testing measures, CDC National Survey on Family Grow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2, Nursing Home and Home Health: Pain management for nursing home residents, CDC National Nursing Home Surv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6, Ef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r more information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487656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174600" indent="0">
              <a:lnSpc>
                <a:spcPct val="9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QR and NHDR Web page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www.ahrq.gov/qual/qrdr07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83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QRnet for data tables and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http://nhqrnet.ahrq.gov/nhqr/jsp/nhqr.js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83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st a copy (AHRQ publication no. 08-0040) from AHRQ Publications Clearinghou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800-358-9295 or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AHRQPubs@ahrq.hhs.g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83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nnual Median Rate of Chan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3657240" cy="49525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839"/>
              </a:spcBef>
              <a:spcAft>
                <a:spcPts val="839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nnual median rate of change from 1994 to 2005 was 2.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2000 to 2005, the annual median rate of change was 1.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76320" indent="0">
              <a:lnSpc>
                <a:spcPct val="7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269"/>
              </a:spcBef>
              <a:buNone/>
              <a:tabLst>
                <a:tab algn="l" pos="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4724280" y="5257800"/>
            <a:ext cx="3198600" cy="244080"/>
          </a:xfrm>
          <a:prstGeom prst="rect">
            <a:avLst/>
          </a:prstGeom>
          <a:solidFill>
            <a:schemeClr val="tx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</a:pPr>
            <a:r>
              <a:rPr b="0" lang="en-US" sz="900" spc="-1" strike="noStrike">
                <a:solidFill>
                  <a:srgbClr val="003300"/>
                </a:solidFill>
                <a:latin typeface="Arial"/>
              </a:rPr>
              <a:t>n=number of 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8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200040" cy="3685680"/>
          </a:xfrm>
          <a:prstGeom prst="rect">
            <a:avLst/>
          </a:prstGeom>
          <a:ln w="127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mprovement in Core Measu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434304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961"/>
              </a:spcBef>
              <a:spcAft>
                <a:spcPts val="961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measures show some improv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61"/>
              </a:spcBef>
              <a:spcAft>
                <a:spcPts val="961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e 41 core measures reported with data that span 1994-200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7 impro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decl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showed no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ariation in Health Care Qual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487656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839"/>
              </a:spcBef>
              <a:spcAft>
                <a:spcPts val="839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ation in quality of health care across the Nation is decreasing, but not for all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39"/>
              </a:spcBef>
              <a:spcAft>
                <a:spcPts val="839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measures have seen progress in terms of decreases in variation between the best performing State and the worst performing State between 2000 and 2005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bility decreased for 28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bility increased for 13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was no change for 18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39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 of Decreased Vari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8602200" cy="68544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rt attack patients given smoking cessation counseling while hospita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QR07 Fig H"/>
          <p:cNvPicPr/>
          <p:nvPr/>
        </p:nvPicPr>
        <p:blipFill>
          <a:blip r:embed="rId1"/>
          <a:srcRect l="0" t="6664" r="0" b="6664"/>
          <a:stretch/>
        </p:blipFill>
        <p:spPr>
          <a:xfrm>
            <a:off x="0" y="2260440"/>
            <a:ext cx="4419360" cy="4024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QR07 Fig H"/>
          <p:cNvPicPr/>
          <p:nvPr/>
        </p:nvPicPr>
        <p:blipFill>
          <a:blip r:embed="rId2"/>
          <a:stretch/>
        </p:blipFill>
        <p:spPr>
          <a:xfrm>
            <a:off x="4629240" y="2286000"/>
            <a:ext cx="4514400" cy="39621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7"/>
          <p:cNvSpPr/>
          <p:nvPr/>
        </p:nvSpPr>
        <p:spPr>
          <a:xfrm>
            <a:off x="0" y="6400800"/>
            <a:ext cx="8762760" cy="333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MS, Medicare Quality Improvement Organization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 Safe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3123720" cy="47239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961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fety of health care has improved since 2000, but more needs to be d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5" descr="QR07 Fig H"/>
          <p:cNvPicPr/>
          <p:nvPr/>
        </p:nvPicPr>
        <p:blipFill>
          <a:blip r:embed="rId1"/>
          <a:srcRect l="2554" t="0" r="0" b="0"/>
          <a:stretch/>
        </p:blipFill>
        <p:spPr>
          <a:xfrm>
            <a:off x="3395520" y="1447920"/>
            <a:ext cx="4524120" cy="5229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3505320" y="6400800"/>
            <a:ext cx="4038120" cy="272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n=number of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tes of Improv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487656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961"/>
              </a:spcBef>
              <a:spcAft>
                <a:spcPts val="961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improved slightly between 2000 and 2005, at an annual rate of 1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61"/>
              </a:spcBef>
              <a:spcAft>
                <a:spcPts val="961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areas improved at significantly greater rates, such as care for heart disease (5.6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tes of Improv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51811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839"/>
              </a:spcBef>
              <a:spcAft>
                <a:spcPts val="839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s where significant attention has been concentrated, such as appropriate timing of antibiotics for surgery and reducing medication errors, have shown progres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30% more patients received appropriate timing for antibiotics before and after surgery in 2005 than in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2004 to 2005, adverse drug events from warfarin and low-molecular-weight heparin declined 21% and 28%, respectiv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ths following complications of care declined 2.4% from 1994 to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 Safety Dat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487656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80000"/>
              </a:lnSpc>
              <a:spcBef>
                <a:spcPts val="839"/>
              </a:spcBef>
              <a:spcAft>
                <a:spcPts val="839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any areas, data needed to track patient safety effectively are no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39"/>
              </a:spcBef>
              <a:spcAft>
                <a:spcPts val="839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ost cases, clinicians lack basic monitoring data on medical errors and adverse events. For 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25 of 41 safety measures in the full NHQR measure set have data available for tracking recent tre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national data systems currently report data on safety at a State or local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adverse events and medical errors are rare events from a statistical perspective, it is difficult to compare across time or patient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efault Design">
  <a:themeElements>
    <a:clrScheme name="">
      <a:dk1>
        <a:srgbClr val="00279f"/>
      </a:dk1>
      <a:lt1>
        <a:srgbClr val="ffffff"/>
      </a:lt1>
      <a:dk2>
        <a:srgbClr val="0000ff"/>
      </a:dk2>
      <a:lt2>
        <a:srgbClr val="ffff00"/>
      </a:lt2>
      <a:accent1>
        <a:srgbClr val="8cf4ea"/>
      </a:accent1>
      <a:accent2>
        <a:srgbClr val="ff00ff"/>
      </a:accent2>
      <a:accent3>
        <a:srgbClr val="aaaaff"/>
      </a:accent3>
      <a:accent4>
        <a:srgbClr val="dadada"/>
      </a:accent4>
      <a:accent5>
        <a:srgbClr val="c5f8f3"/>
      </a:accent5>
      <a:accent6>
        <a:srgbClr val="e700e7"/>
      </a:accent6>
      <a:hlink>
        <a:srgbClr val="fafd00"/>
      </a:hlink>
      <a:folHlink>
        <a:srgbClr val="51d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efault Design">
  <a:themeElements>
    <a:clrScheme name="">
      <a:dk1>
        <a:srgbClr val="00279f"/>
      </a:dk1>
      <a:lt1>
        <a:srgbClr val="ffffff"/>
      </a:lt1>
      <a:dk2>
        <a:srgbClr val="0000ff"/>
      </a:dk2>
      <a:lt2>
        <a:srgbClr val="ffff00"/>
      </a:lt2>
      <a:accent1>
        <a:srgbClr val="8cf4ea"/>
      </a:accent1>
      <a:accent2>
        <a:srgbClr val="ff00ff"/>
      </a:accent2>
      <a:accent3>
        <a:srgbClr val="aaaaff"/>
      </a:accent3>
      <a:accent4>
        <a:srgbClr val="dadada"/>
      </a:accent4>
      <a:accent5>
        <a:srgbClr val="c5f8f3"/>
      </a:accent5>
      <a:accent6>
        <a:srgbClr val="e700e7"/>
      </a:accent6>
      <a:hlink>
        <a:srgbClr val="fafd00"/>
      </a:hlink>
      <a:folHlink>
        <a:srgbClr val="51d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Default Design">
  <a:themeElements>
    <a:clrScheme name="">
      <a:dk1>
        <a:srgbClr val="00279f"/>
      </a:dk1>
      <a:lt1>
        <a:srgbClr val="ffffff"/>
      </a:lt1>
      <a:dk2>
        <a:srgbClr val="0000ff"/>
      </a:dk2>
      <a:lt2>
        <a:srgbClr val="ffff00"/>
      </a:lt2>
      <a:accent1>
        <a:srgbClr val="8cf4ea"/>
      </a:accent1>
      <a:accent2>
        <a:srgbClr val="ff00ff"/>
      </a:accent2>
      <a:accent3>
        <a:srgbClr val="aaaaff"/>
      </a:accent3>
      <a:accent4>
        <a:srgbClr val="dadada"/>
      </a:accent4>
      <a:accent5>
        <a:srgbClr val="c5f8f3"/>
      </a:accent5>
      <a:accent6>
        <a:srgbClr val="e700e7"/>
      </a:accent6>
      <a:hlink>
        <a:srgbClr val="fafd00"/>
      </a:hlink>
      <a:folHlink>
        <a:srgbClr val="51d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Default Design">
  <a:themeElements>
    <a:clrScheme name="">
      <a:dk1>
        <a:srgbClr val="00279f"/>
      </a:dk1>
      <a:lt1>
        <a:srgbClr val="ffffff"/>
      </a:lt1>
      <a:dk2>
        <a:srgbClr val="0000ff"/>
      </a:dk2>
      <a:lt2>
        <a:srgbClr val="ffff00"/>
      </a:lt2>
      <a:accent1>
        <a:srgbClr val="8cf4ea"/>
      </a:accent1>
      <a:accent2>
        <a:srgbClr val="ff00ff"/>
      </a:accent2>
      <a:accent3>
        <a:srgbClr val="aaaaff"/>
      </a:accent3>
      <a:accent4>
        <a:srgbClr val="dadada"/>
      </a:accent4>
      <a:accent5>
        <a:srgbClr val="c5f8f3"/>
      </a:accent5>
      <a:accent6>
        <a:srgbClr val="e700e7"/>
      </a:accent6>
      <a:hlink>
        <a:srgbClr val="fafd00"/>
      </a:hlink>
      <a:folHlink>
        <a:srgbClr val="51d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ff"/>
      </a:dk2>
      <a:lt2>
        <a:srgbClr val="ffff00"/>
      </a:lt2>
      <a:accent1>
        <a:srgbClr val="8cf4ea"/>
      </a:accent1>
      <a:accent2>
        <a:srgbClr val="ff00ff"/>
      </a:accent2>
      <a:accent3>
        <a:srgbClr val="aaaaff"/>
      </a:accent3>
      <a:accent4>
        <a:srgbClr val="dadada"/>
      </a:accent4>
      <a:accent5>
        <a:srgbClr val="c5f8f3"/>
      </a:accent5>
      <a:accent6>
        <a:srgbClr val="e700e7"/>
      </a:accent6>
      <a:hlink>
        <a:srgbClr val="fafd00"/>
      </a:hlink>
      <a:folHlink>
        <a:srgbClr val="51d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0</TotalTime>
  <Application>LibreOffice/7.4.7.2$Linux_X86_64 LibreOffice_project/40$Build-2</Application>
  <AppVersion>15.0000</AppVersion>
  <Pages>1</Pages>
  <Words>803</Words>
  <Paragraphs>129</Paragraphs>
  <Company>OCK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dc:language>en-US</dc:language>
  <cp:lastModifiedBy>DHHS</cp:lastModifiedBy>
  <cp:lastPrinted>2003-01-21T20:19:23Z</cp:lastPrinted>
  <dcterms:modified xsi:type="dcterms:W3CDTF">2012-10-16T19:29:16Z</dcterms:modified>
  <cp:revision>158</cp:revision>
  <dc:subject/>
  <dc:title>AHRQ Slide Template 200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6</vt:r8>
  </property>
  <property fmtid="{D5CDD505-2E9C-101B-9397-08002B2CF9AE}" pid="3" name="PresentationFormat">
    <vt:lpwstr>On-screen Show (4:3)</vt:lpwstr>
  </property>
  <property fmtid="{D5CDD505-2E9C-101B-9397-08002B2CF9AE}" pid="4" name="Slides">
    <vt:r8>16</vt:r8>
  </property>
</Properties>
</file>