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99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6833F4-6E2C-418B-9F76-D3F435A73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5400" cy="344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8840" cy="414000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720" rIns="90720" tIns="44640" bIns="4464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6857640" cy="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+mn-e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855720" y="5052960"/>
          <a:ext cx="5222520" cy="227772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5052960"/>
                    <a:ext cx="5222520" cy="22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164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4160" y="167652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0948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164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4160" y="3189240"/>
            <a:ext cx="257328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28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924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520"/>
            <a:ext cx="390024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189240"/>
            <a:ext cx="7992720" cy="13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3"/>
          <p:cNvGrpSpPr/>
          <p:nvPr/>
        </p:nvGrpSpPr>
        <p:grpSpPr>
          <a:xfrm>
            <a:off x="0" y="1333440"/>
            <a:ext cx="7986600" cy="19440"/>
            <a:chOff x="0" y="1333440"/>
            <a:chExt cx="7986600" cy="19440"/>
          </a:xfrm>
        </p:grpSpPr>
        <p:sp>
          <p:nvSpPr>
            <p:cNvPr id="1" name="Line 94"/>
            <p:cNvSpPr/>
            <p:nvPr/>
          </p:nvSpPr>
          <p:spPr>
            <a:xfrm>
              <a:off x="5400" y="1352520"/>
              <a:ext cx="798120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Line 95"/>
            <p:cNvSpPr/>
            <p:nvPr/>
          </p:nvSpPr>
          <p:spPr>
            <a:xfrm>
              <a:off x="0" y="1333440"/>
              <a:ext cx="798084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" name="Object 109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progId="MSPhotoEd.3" r:id="rId2" spid="">
              <p:embed/>
              <p:pic>
                <p:nvPicPr>
                  <p:cNvPr id="4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39193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681440" y="1676520"/>
            <a:ext cx="392076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93"/>
          <p:cNvGrpSpPr/>
          <p:nvPr/>
        </p:nvGrpSpPr>
        <p:grpSpPr>
          <a:xfrm>
            <a:off x="0" y="1333440"/>
            <a:ext cx="7986600" cy="19440"/>
            <a:chOff x="0" y="1333440"/>
            <a:chExt cx="7986600" cy="19440"/>
          </a:xfrm>
        </p:grpSpPr>
        <p:sp>
          <p:nvSpPr>
            <p:cNvPr id="45" name="Line 94"/>
            <p:cNvSpPr/>
            <p:nvPr/>
          </p:nvSpPr>
          <p:spPr>
            <a:xfrm>
              <a:off x="5400" y="1352520"/>
              <a:ext cx="798120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Line 95"/>
            <p:cNvSpPr/>
            <p:nvPr/>
          </p:nvSpPr>
          <p:spPr>
            <a:xfrm>
              <a:off x="0" y="1333440"/>
              <a:ext cx="798084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Object 109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progId="MSPhotoEd.3" r:id="rId2" spid="">
              <p:embed/>
              <p:pic>
                <p:nvPicPr>
                  <p:cNvPr id="48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39193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681440" y="1676520"/>
            <a:ext cx="392076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93"/>
          <p:cNvGrpSpPr/>
          <p:nvPr/>
        </p:nvGrpSpPr>
        <p:grpSpPr>
          <a:xfrm>
            <a:off x="0" y="1333440"/>
            <a:ext cx="7986600" cy="19440"/>
            <a:chOff x="0" y="1333440"/>
            <a:chExt cx="7986600" cy="19440"/>
          </a:xfrm>
        </p:grpSpPr>
        <p:sp>
          <p:nvSpPr>
            <p:cNvPr id="89" name="Line 94"/>
            <p:cNvSpPr/>
            <p:nvPr/>
          </p:nvSpPr>
          <p:spPr>
            <a:xfrm>
              <a:off x="5400" y="1352520"/>
              <a:ext cx="798120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95"/>
            <p:cNvSpPr/>
            <p:nvPr/>
          </p:nvSpPr>
          <p:spPr>
            <a:xfrm>
              <a:off x="0" y="1333440"/>
              <a:ext cx="798084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109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progId="MSPhotoEd.3" r:id="rId2" spid="">
              <p:embed/>
              <p:pic>
                <p:nvPicPr>
                  <p:cNvPr id="92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20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Monotype Sorts" charset="2"/>
              <a:buChar char="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93"/>
          <p:cNvGrpSpPr/>
          <p:nvPr/>
        </p:nvGrpSpPr>
        <p:grpSpPr>
          <a:xfrm>
            <a:off x="0" y="1333440"/>
            <a:ext cx="7986600" cy="19440"/>
            <a:chOff x="0" y="1333440"/>
            <a:chExt cx="7986600" cy="19440"/>
          </a:xfrm>
        </p:grpSpPr>
        <p:sp>
          <p:nvSpPr>
            <p:cNvPr id="132" name="Line 94"/>
            <p:cNvSpPr/>
            <p:nvPr/>
          </p:nvSpPr>
          <p:spPr>
            <a:xfrm>
              <a:off x="5400" y="1352520"/>
              <a:ext cx="7981200" cy="360"/>
            </a:xfrm>
            <a:prstGeom prst="line">
              <a:avLst/>
            </a:prstGeom>
            <a:ln w="50800">
              <a:solidFill>
                <a:srgbClr val="0017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Line 95"/>
            <p:cNvSpPr/>
            <p:nvPr/>
          </p:nvSpPr>
          <p:spPr>
            <a:xfrm>
              <a:off x="0" y="1333440"/>
              <a:ext cx="7980840" cy="360"/>
            </a:xfrm>
            <a:prstGeom prst="line">
              <a:avLst/>
            </a:prstGeom>
            <a:ln w="508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4" name="Object 109"/>
          <p:cNvGraphicFramePr/>
          <p:nvPr/>
        </p:nvGraphicFramePr>
        <p:xfrm>
          <a:off x="142920" y="317520"/>
          <a:ext cx="1428480" cy="671040"/>
        </p:xfrm>
        <a:graphic>
          <a:graphicData uri="http://schemas.openxmlformats.org/presentationml/2006/ole">
            <p:oleObj progId="MSPhotoEd.3" r:id="rId2" spid="">
              <p:embed/>
              <p:pic>
                <p:nvPicPr>
                  <p:cNvPr id="135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480" cy="67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09480" y="1676520"/>
            <a:ext cx="7992720" cy="28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hrq.gov/qual/qrdr07.htm" TargetMode="External"/><Relationship Id="rId2" Type="http://schemas.openxmlformats.org/officeDocument/2006/relationships/hyperlink" Target="http://nhqrnet.ahrq.gov/nhqr/jsp/nhqr.jsp" TargetMode="External"/><Relationship Id="rId3" Type="http://schemas.openxmlformats.org/officeDocument/2006/relationships/hyperlink" Target="mailto:AHRQPubs@ahrq.hhs.gov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7 National Healthcare Quality Report (NHQ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1440" y="1676520"/>
            <a:ext cx="3920760" cy="2895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1321"/>
              </a:spcBef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lth care quality continues to improve, but the rate of improvement has slo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QUALITY"/>
          <p:cNvPicPr/>
          <p:nvPr/>
        </p:nvPicPr>
        <p:blipFill>
          <a:blip r:embed="rId1"/>
          <a:stretch/>
        </p:blipFill>
        <p:spPr>
          <a:xfrm>
            <a:off x="609480" y="1523880"/>
            <a:ext cx="3531960" cy="457164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sp>
        <p:nvSpPr>
          <p:cNvPr id="183" name="Text Box 11"/>
          <p:cNvSpPr/>
          <p:nvPr/>
        </p:nvSpPr>
        <p:spPr>
          <a:xfrm>
            <a:off x="533520" y="6324480"/>
            <a:ext cx="358092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eased March 3,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igin of NHQ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495320" cy="49525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and Human Services Secretary required to submit annual report to Congr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trends in health care quality (National Healthcare Quality Report, or NHQ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iling disparities in health care delivery as it relates to racial factors and socioeconomic factors in priority populations (National Healthcare Disparities Report, or NHD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4" descr="dv1254053-cap"/>
          <p:cNvPicPr/>
          <p:nvPr/>
        </p:nvPicPr>
        <p:blipFill>
          <a:blip r:embed="rId1"/>
          <a:stretch/>
        </p:blipFill>
        <p:spPr>
          <a:xfrm>
            <a:off x="5410080" y="1447920"/>
            <a:ext cx="2366640" cy="3580920"/>
          </a:xfrm>
          <a:prstGeom prst="rect">
            <a:avLst/>
          </a:prstGeom>
          <a:ln w="9525">
            <a:solidFill>
              <a:srgbClr val="ffffff"/>
            </a:solidFill>
            <a:miter/>
          </a:ln>
        </p:spPr>
      </p:pic>
      <p:sp>
        <p:nvSpPr>
          <p:cNvPr id="210" name="Text Box 5"/>
          <p:cNvSpPr/>
          <p:nvPr/>
        </p:nvSpPr>
        <p:spPr>
          <a:xfrm>
            <a:off x="5029200" y="5181480"/>
            <a:ext cx="3123720" cy="1301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dated by Congress in Healthcare Research and Quality Act (PL. 106-1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QR and NHDR Goa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5181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snapshot of health ca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 core measures of quality and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1 tot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he biggest gaps in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us how we can reach our go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align measures across public and private quality initi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and NHDR Fra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4" name="Group 3"/>
          <p:cNvGraphicFramePr/>
          <p:nvPr/>
        </p:nvGraphicFramePr>
        <p:xfrm>
          <a:off x="457200" y="1676520"/>
          <a:ext cx="8229240" cy="3885840"/>
        </p:xfrm>
        <a:graphic>
          <a:graphicData uri="http://schemas.openxmlformats.org/drawingml/2006/table">
            <a:tbl>
              <a:tblPr/>
              <a:tblGrid>
                <a:gridCol w="2319120"/>
                <a:gridCol w="1196640"/>
                <a:gridCol w="1598400"/>
                <a:gridCol w="1644480"/>
                <a:gridCol w="1469880"/>
              </a:tblGrid>
              <a:tr h="9968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 Perspectives on Health Care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onents of Health Care Qu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 Centered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ying heal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 be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ing with illness or dis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ing with end-of-life ma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Text Box 44"/>
          <p:cNvSpPr/>
          <p:nvPr/>
        </p:nvSpPr>
        <p:spPr>
          <a:xfrm>
            <a:off x="457200" y="5791320"/>
            <a:ext cx="8305560" cy="5763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stitute of Medicine Committee. “Envisioning the National Health Care Quality Report,”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lationship Betwee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and NHD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7" name="Group 63"/>
          <p:cNvGraphicFramePr/>
          <p:nvPr/>
        </p:nvGraphicFramePr>
        <p:xfrm>
          <a:off x="457200" y="1596960"/>
          <a:ext cx="8229240" cy="4630680"/>
        </p:xfrm>
        <a:graphic>
          <a:graphicData uri="http://schemas.openxmlformats.org/drawingml/2006/table">
            <a:tbl>
              <a:tblPr/>
              <a:tblGrid>
                <a:gridCol w="4073400"/>
                <a:gridCol w="4155840"/>
              </a:tblGrid>
              <a:tr h="444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Q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D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shot of quality of health care in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shot of disparities in health care in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+ ac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, effectiveness, timeliness, patient centered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, effectiveness, timeliness, patient centeredness + equ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popul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839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/NHDR Content and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92720" cy="49525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541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000" indent="0">
              <a:lnSpc>
                <a:spcPct val="7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Also includes a chapter on Effici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5562720" y="1600200"/>
            <a:ext cx="151920" cy="3657240"/>
          </a:xfrm>
          <a:prstGeom prst="rightBrace">
            <a:avLst>
              <a:gd name="adj1" fmla="val 200000"/>
              <a:gd name="adj2" fmla="val 50000"/>
            </a:avLst>
          </a:prstGeom>
          <a:noFill/>
          <a:ln w="635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6781680" y="1600200"/>
            <a:ext cx="228240" cy="4266720"/>
          </a:xfrm>
          <a:prstGeom prst="rightBrace">
            <a:avLst>
              <a:gd name="adj1" fmla="val 155556"/>
              <a:gd name="adj2" fmla="val 50000"/>
            </a:avLst>
          </a:prstGeom>
          <a:noFill/>
          <a:ln w="635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5718240" y="3352680"/>
            <a:ext cx="119448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013520" y="3733920"/>
            <a:ext cx="1042200" cy="4554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in the 2007 NHQ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Cancer: Cancer treatment measures (two for breast cancer, one for colon cancer) from National Cancer Data Base, American Cancer Society and American College of Surge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HIV and AIDS: HIV testing measures, CDC National Survey on Family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Nursing Home and Home Health: Pain management for nursing home residents, CDC National Nursing Home Surv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6,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 more information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 and NHDR Web page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ahrq.gov/qual/qrdr07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net for data tables and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nhqrnet.ahrq.gov/nhqr/jsp/nhqr.js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a copy (AHRQ publication no. 08-0040) from AHRQ Publications Clearing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800-358-9295 or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AHRQPubs@ahrq.hhs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74600" indent="0">
              <a:lnSpc>
                <a:spcPct val="9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nual Median Rate of Cha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3657240" cy="49525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nual median rate of change from 1994 to 2005 was 2.3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2000 to 2005, the annual median rate of change was 1.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76320" indent="0">
              <a:lnSpc>
                <a:spcPct val="7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269"/>
              </a:spcBef>
              <a:buNone/>
              <a:tabLst>
                <a:tab algn="l" pos="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4724280" y="5257800"/>
            <a:ext cx="3198600" cy="244080"/>
          </a:xfrm>
          <a:prstGeom prst="rect">
            <a:avLst/>
          </a:prstGeom>
          <a:solidFill>
            <a:schemeClr val="tx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</a:pPr>
            <a:r>
              <a:rPr b="0" lang="en-US" sz="900" spc="-1" strike="noStrike">
                <a:solidFill>
                  <a:srgbClr val="003300"/>
                </a:solidFill>
                <a:latin typeface="Arial"/>
              </a:rPr>
              <a:t>n=number of meas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8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200040" cy="3685680"/>
          </a:xfrm>
          <a:prstGeom prst="rect">
            <a:avLst/>
          </a:prstGeom>
          <a:ln w="1270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rovement in Core Meas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3430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spcAft>
                <a:spcPts val="961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easures show some impr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61"/>
              </a:spcBef>
              <a:spcAft>
                <a:spcPts val="961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41 core measures reported with data that span 1994-200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7 im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dec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839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showed n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ariation in Health Care Qua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tion in quality of health care across the Nation is decreasing, but not for all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measures have seen progress in terms of decreases in variation between the best performing State and the worst performing State between 2000 and 2005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ility decreased for 28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ility increased for 13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as no change for 18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39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 of Decreased Vari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602200" cy="68544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attack patients given smoking cessation counseling while hospit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QR07 Fig H"/>
          <p:cNvPicPr/>
          <p:nvPr/>
        </p:nvPicPr>
        <p:blipFill>
          <a:blip r:embed="rId1"/>
          <a:srcRect l="0" t="6664" r="0" b="6664"/>
          <a:stretch/>
        </p:blipFill>
        <p:spPr>
          <a:xfrm>
            <a:off x="0" y="2260440"/>
            <a:ext cx="4419360" cy="402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QR07 Fig H"/>
          <p:cNvPicPr/>
          <p:nvPr/>
        </p:nvPicPr>
        <p:blipFill>
          <a:blip r:embed="rId2"/>
          <a:stretch/>
        </p:blipFill>
        <p:spPr>
          <a:xfrm>
            <a:off x="4629240" y="2286000"/>
            <a:ext cx="4514400" cy="3962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0" y="6400800"/>
            <a:ext cx="8762760" cy="3330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CMS, Medicare Quality Improvement Organization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123720" cy="47239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fety of health care has improved since 2000, but more needs to be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QR07 Fig H"/>
          <p:cNvPicPr/>
          <p:nvPr/>
        </p:nvPicPr>
        <p:blipFill>
          <a:blip r:embed="rId1"/>
          <a:srcRect l="2554" t="0" r="0" b="0"/>
          <a:stretch/>
        </p:blipFill>
        <p:spPr>
          <a:xfrm>
            <a:off x="3395520" y="1447920"/>
            <a:ext cx="4524120" cy="5229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3505320" y="6400800"/>
            <a:ext cx="4038120" cy="27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=number of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tes of Improv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61"/>
              </a:spcBef>
              <a:spcAft>
                <a:spcPts val="961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improved slightly between 2000 and 2005, at an annual rate of 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61"/>
              </a:spcBef>
              <a:spcAft>
                <a:spcPts val="961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areas improved at significantly greater rates, such as care for heart disease (5.6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tes of Improv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518112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where significant attention has been concentrated, such as appropriate timing of antibiotics for surgery and reducing medication errors, have shown progre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30% more patients received appropriate timing for antibiotics before and after surgery in 2005 than in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2004 to 2005, adverse drug events from warfarin and low-molecular-weight heparin declined 21% and 28%, respec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ths following complications of care declined 2.4% from 1994 to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588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Da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92720" cy="4876560"/>
          </a:xfrm>
          <a:prstGeom prst="rect">
            <a:avLst/>
          </a:prstGeom>
          <a:noFill/>
          <a:ln w="12600">
            <a:noFill/>
          </a:ln>
        </p:spPr>
        <p:txBody>
          <a:bodyPr numCol="1" spcCol="0"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areas, data needed to track patient safety effectively are no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39"/>
              </a:spcBef>
              <a:spcAft>
                <a:spcPts val="839"/>
              </a:spcAft>
              <a:buClr>
                <a:srgbClr val="ffff00"/>
              </a:buClr>
              <a:buSzPct val="95000"/>
              <a:buFont typeface="Wingdings" charset="2"/>
              <a:buChar char="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ost cases, clinicians lack basic monitoring data on medical errors and adverse events. For examp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25 of 41 safety measures in the full NHQR measure set have data available for tracking recent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national data systems currently report data on safety at a State or local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20"/>
              </a:spcBef>
              <a:buClr>
                <a:srgbClr val="ffff00"/>
              </a:buClr>
              <a:buSzPct val="9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adverse events and medical errors are rare events from a statistical perspective, it is difficult to compare across time or patient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">
      <a:dk1>
        <a:srgbClr val="00279f"/>
      </a:dk1>
      <a:lt1>
        <a:srgbClr val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ff"/>
      </a:dk2>
      <a:lt2>
        <a:srgbClr val="ffff00"/>
      </a:lt2>
      <a:accent1>
        <a:srgbClr val="8cf4ea"/>
      </a:accent1>
      <a:accent2>
        <a:srgbClr val="ff00ff"/>
      </a:accent2>
      <a:accent3>
        <a:srgbClr val="aaaaff"/>
      </a:accent3>
      <a:accent4>
        <a:srgbClr val="dadada"/>
      </a:accent4>
      <a:accent5>
        <a:srgbClr val="c5f8f3"/>
      </a:accent5>
      <a:accent6>
        <a:srgbClr val="e700e7"/>
      </a:accent6>
      <a:hlink>
        <a:srgbClr val="fafd00"/>
      </a:hlink>
      <a:folHlink>
        <a:srgbClr val="51d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</TotalTime>
  <Application>LibreOffice/7.4.7.2$Linux_X86_64 LibreOffice_project/40$Build-2</Application>
  <AppVersion>15.0000</AppVersion>
  <Pages>1</Pages>
  <Words>803</Words>
  <Paragraphs>129</Paragraphs>
  <Company>OCK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DHHS</cp:lastModifiedBy>
  <cp:lastPrinted>2003-01-21T20:19:23Z</cp:lastPrinted>
  <dcterms:modified xsi:type="dcterms:W3CDTF">2012-10-16T19:29:16Z</dcterms:modified>
  <cp:revision>158</cp:revision>
  <dc:subject/>
  <dc:title>AHRQ Slide Template 200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