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131840" y="691920"/>
            <a:ext cx="4595760" cy="344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30800" y="8803080"/>
            <a:ext cx="930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sp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8FE7679-03AF-481A-9C5E-ED2D79221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../slides/slide2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1840" y="69228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55720" y="5052960"/>
          <a:ext cx="522288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5052960"/>
                    <a:ext cx="522288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1840" y="69228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55720" y="5052960"/>
          <a:ext cx="522288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5052960"/>
                    <a:ext cx="522288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hrq.gov/qual/qrdr07.htm" TargetMode="External"/><Relationship Id="rId2" Type="http://schemas.openxmlformats.org/officeDocument/2006/relationships/hyperlink" Target="http://nhdrnet.ahrq.gov/nhdr/jsp/nhdr.jsp" TargetMode="External"/><Relationship Id="rId3" Type="http://schemas.openxmlformats.org/officeDocument/2006/relationships/hyperlink" Target="http://nhdrnet.ahrq.gov/nhdr/jsp/nhdr.jsp" TargetMode="External"/><Relationship Id="rId4" Type="http://schemas.openxmlformats.org/officeDocument/2006/relationships/hyperlink" Target="mailto:AHRQPubs@ahrq.hhs.go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07 National Healthcare Disparities Report (NHDR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589200" cy="4648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91120" y="251424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is being made, but many of the biggest gaps re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32448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leased March 3, 20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insurance Is a Major Barrier To Reducing Disparit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nsured individuals do worse than privately insured individuals on almost 90% of quality measures and on all access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3560760" cy="5334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95680" y="658332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CRM=core report meas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rigin of NHD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and Human Services Secretary required to submit annual report to Congr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trends in health care quality (National Healthcare Quality Report, or NHQ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ailing disparities in health care delivery as it relates to racial factors and socioeconomic factors in priority populations (NHD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2367000" cy="3581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5029200" y="5181480"/>
            <a:ext cx="3124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dated by Congress in Healthcare Research and Quality Act (PL. 106-12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QR and NHDR Go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453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 snapshot of health care deli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 core measures of quality and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1 total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the biggest gaps in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 national and State tr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us how we can reach our go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align measures across public and private quality initi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HQR and NHDR Framewor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76520"/>
          <a:ext cx="8229600" cy="3886200"/>
        </p:xfrm>
        <a:graphic>
          <a:graphicData uri="http://schemas.openxmlformats.org/drawingml/2006/table">
            <a:tbl>
              <a:tblPr/>
              <a:tblGrid>
                <a:gridCol w="2319840"/>
                <a:gridCol w="1197000"/>
                <a:gridCol w="1597320"/>
                <a:gridCol w="1644840"/>
                <a:gridCol w="1470600"/>
              </a:tblGrid>
              <a:tr h="996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umer Perspectives on Health Care Nee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ponents of Health Care Qu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ve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ient Centered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melin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aying healt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tting be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ving with illness or disabi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ping with end-of-life mat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57200" y="579132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stitute of Medicine Committee. “Envisioning the National Health Care Quality Report,”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lationship Betwee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HDR and NHQ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773600"/>
        </p:xfrm>
        <a:graphic>
          <a:graphicData uri="http://schemas.openxmlformats.org/drawingml/2006/table">
            <a:tbl>
              <a:tblPr/>
              <a:tblGrid>
                <a:gridCol w="4187160"/>
                <a:gridCol w="404244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D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HQ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shot of disparities in health care in Americ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apshot of quality of health care in Amer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+ acc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, effectiveness, timeliness, patient centeredness + equ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, effectiveness, timeliness, patient centeredn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popul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tion across Sta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HQR/NHDR Content and Organiz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tage Renal Disease (ESR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V and A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al Health and 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sing Home, Home Healt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Hospice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l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Centered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ccess to Health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riority Popu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Also includes a chapter on Efficien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600200"/>
            <a:ext cx="152280" cy="3657600"/>
          </a:xfrm>
          <a:custGeom>
            <a:avLst/>
            <a:gdLst>
              <a:gd name="textAreaLeft" fmla="*/ 0 w 152280"/>
              <a:gd name="textAreaRight" fmla="*/ 55080 w 1522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1600200"/>
            <a:ext cx="228600" cy="4267080"/>
          </a:xfrm>
          <a:custGeom>
            <a:avLst/>
            <a:gdLst>
              <a:gd name="textAreaLeft" fmla="*/ 0 w 228600"/>
              <a:gd name="textAreaRight" fmla="*/ 82440 w 2286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8600" y="33526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HQR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3880" y="37339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H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w in the 2007 NHD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, Patient Centeredness: Diversity of the Registered Nurse Work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2, Patient Centeredness: Focus on Health Liter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4, Priority Populations: Supplemental data for Asians and Hispanics from the California Health Interview Survey (CH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4, Priority Populations: People With Disabilities and Special Health Care Needs, Adults With Dis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r more information…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 and NHDR Web Page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ahrq.gov/qual/qrdr07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DRnet for data tables and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nhdrnet.ahrq.gov/nhdr/jsp/nhdr.j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 a copy (AHRQ publication no. 08-0041) from AHRQ Publications Clearinghou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800-358-9295 or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AHRQPubs@ahrq.hhs.go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4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Care Quality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1244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arities in health care quality are staying the same or increa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1093" r="0" b="0"/>
          <a:stretch/>
        </p:blipFill>
        <p:spPr>
          <a:xfrm>
            <a:off x="3962520" y="1447920"/>
            <a:ext cx="3987720" cy="529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62520" y="652140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=number of core meas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cess to Health C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12444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parities in access to care are staying the same or increa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1135" r="1479" b="0"/>
          <a:stretch/>
        </p:blipFill>
        <p:spPr>
          <a:xfrm>
            <a:off x="3886200" y="1447920"/>
            <a:ext cx="4052880" cy="5300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86200" y="6611760"/>
            <a:ext cx="40496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9144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=number of core meas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HDR Find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690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60% of disparities in quality of care have stayed the same or worsened for Blacks, Asians, and poor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60% of disparities have stayed the same or worsened for Hispan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Blacks, Asians, Hispanics, and poor populations, disparities in about half the core measures of access to care are less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ore Measures That Showed Reduction in Disparities, 2000-2001 to 2004-2005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1447920"/>
          <a:ext cx="8839440" cy="5281560"/>
        </p:xfrm>
        <a:graphic>
          <a:graphicData uri="http://schemas.openxmlformats.org/drawingml/2006/table">
            <a:tbl>
              <a:tblPr/>
              <a:tblGrid>
                <a:gridCol w="1444680"/>
                <a:gridCol w="3508560"/>
                <a:gridCol w="1950840"/>
                <a:gridCol w="193536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 for earliest year in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 for most recent year in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ac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ared with Wh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emodialysis patients with adequate dialysis (urea reduction ratio 65% or great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AIDS cases per 100,000 population age 13 and ov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 19-35 months who received all recommended vacci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ian compared with Wh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sons who have a usual primary care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 19-35 months who received all recommended vacci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uberculosis patients who completed a curative course of treatment within 12 months of initiation of treat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/A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ared with Wh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gh-risk short-stay nursing home residents who developed pressure s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gh-risk long-stay nursing home residents who developed pressure so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ore Measures That Showed Reduction in Disparities, 2000-2001 to 2004-2005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571760"/>
          <a:ext cx="8686800" cy="5057640"/>
        </p:xfrm>
        <a:graphic>
          <a:graphicData uri="http://schemas.openxmlformats.org/drawingml/2006/table">
            <a:tbl>
              <a:tblPr/>
              <a:tblGrid>
                <a:gridCol w="1371600"/>
                <a:gridCol w="3505320"/>
                <a:gridCol w="1904760"/>
                <a:gridCol w="1905120"/>
              </a:tblGrid>
              <a:tr h="78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 for earliest year in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 for most recent year in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19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spanic compared with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n-Hispanic Wh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 perforated appendix per 1,000 admissions with appendic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who can sometimes or never get care for illness or injury as soon a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 19-35 months who received all recommended vacci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AIDS cases per 100,000 population age 13 and ov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gnant women receiving prenatal care in first trimes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or compared with High in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 perforated appendix per 1,000 admissions with appendicit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sons under age 65 with health insur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6974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ree Largest Disparities in Health Care Quality for Selected Groups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05 Versus 2007 NHD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280" y="1371600"/>
          <a:ext cx="8839440" cy="5403960"/>
        </p:xfrm>
        <a:graphic>
          <a:graphicData uri="http://schemas.openxmlformats.org/drawingml/2006/table">
            <a:tbl>
              <a:tblPr/>
              <a:tblGrid>
                <a:gridCol w="762120"/>
                <a:gridCol w="3429000"/>
                <a:gridCol w="914400"/>
                <a:gridCol w="281952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7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AIDS cases per 100,000 population age 13 and ov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AIDS cases per 100,000 population age 13 and ov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spital admissions for pediatric asthma per 100,000 population ages 2-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spital admissions for pediatric asthma per 100,000 population ages 2-1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cent of patients who left the emergency department without being s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spital admissions for lower extremity amputations in patients with diabetes per 100,000 populatio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i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465120" indent="-465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sons age 18 or older with serious mental illness who did not receive mental health treatment or counseling in the past ye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e:  Adults who reported poor communication with health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who can sometimes or never get care for illness or injury as soon a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ng-stay nursing home residents who were physically restrain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age 65 and over who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d not ever receive pneumococcal vaccin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age 65 and over who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d not ever receive pneumococcal vaccin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6974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ree Largest Disparities in Health Care Quality for Selected Groups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05 Versus 2007 NHD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1447920"/>
          <a:ext cx="8839440" cy="5344920"/>
        </p:xfrm>
        <a:graphic>
          <a:graphicData uri="http://schemas.openxmlformats.org/drawingml/2006/table">
            <a:tbl>
              <a:tblPr/>
              <a:tblGrid>
                <a:gridCol w="990720"/>
                <a:gridCol w="3079800"/>
                <a:gridCol w="1019160"/>
                <a:gridCol w="2741400"/>
                <a:gridCol w="100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7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I/A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men not receiving prenatal care in the first trimes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men not receiving prenatal care in the first trimest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e:  Adults who reported poor communication with health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e:  Adults who reported poor communication with health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 ages 2-17 with no advice about physical ac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men age 40 and over who reported they did not have a mammogram within the past 2 y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span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AIDS cases per 100,000 population age 13 and ov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ew AIDS cases per 100,000 population age 13 and o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who can sometimes or never get care for illness or injury as soon as wanted</a:t>
                      </a: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spital admissions for lower extremity amputations in patients with diabetes per 100,000 populatio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e: Children whose parents reported poor communication with their health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men not receiving prenatal care in the first trimes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6974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ree Largest Disparities in Health Care Quality for Selected Groups: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05 Versus 2007 NHDR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1676520"/>
          <a:ext cx="8839440" cy="4038480"/>
        </p:xfrm>
        <a:graphic>
          <a:graphicData uri="http://schemas.openxmlformats.org/drawingml/2006/table">
            <a:tbl>
              <a:tblPr/>
              <a:tblGrid>
                <a:gridCol w="1727280"/>
                <a:gridCol w="2679840"/>
                <a:gridCol w="946080"/>
                <a:gridCol w="2549520"/>
                <a:gridCol w="9367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5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7 NHD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lative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1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e: Children whose parents reported poor communication with their health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posite: Children whose parents reported poor communication with their health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who can sometimes or never get care for illness or injury as soon a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who can sometimes or never get care for illness or injury as soon as want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 ages 2-17 who did not have a dental vis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omen age 40 and over who reported they did not have a mammogram within the past 2 yea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MB</cp:lastModifiedBy>
  <cp:lastPrinted>2003-01-21T20:19:23Z</cp:lastPrinted>
  <dcterms:modified xsi:type="dcterms:W3CDTF">2008-03-07T15:07:16Z</dcterms:modified>
  <cp:revision>160</cp:revision>
  <dc:subject/>
  <dc:title>AHRQ Slide Template 2004</dc:title>
</cp:coreProperties>
</file>