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A21-0011-4151-BE72-ABE29342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DE1-559C-417B-A2D1-205ABFCE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D16-8C28-4E36-BA40-59AA2AE7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8C6-E0B8-4B66-9B6A-FF1AF3BA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D13-3A51-4FAE-BA5A-BDC9DAE9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BD4-3FDD-4CDF-BC3D-500D8AC5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091-59DA-432C-9AD8-D65B79E7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B58-3F90-42AE-9496-0898E9D0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E40-A2EC-4208-A995-F0A699E9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B00-1DC9-40FD-8F42-61ED9C85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4B4-0AAC-448E-B29F-EEFF0B78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F8A1-6790-476D-AD68-D4787022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B8EA-629B-4C1D-BC95-A6BFC2306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95480" y="6095880"/>
            <a:ext cx="3353040" cy="63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25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nging Data to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an Wei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ional Academy for State Health Policy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4, 2008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ing Administrative Data to Answer State Policy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R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68560" y="2603520"/>
            <a:ext cx="71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show data to policymakers but you can’t make them read the foot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Worlds Col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03A-1F58-404D-922C-C40AA15512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low’s Hierarchy of N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36840" y="2013120"/>
            <a:ext cx="4270320" cy="3698280"/>
            <a:chOff x="2436840" y="2013120"/>
            <a:chExt cx="4270320" cy="3698280"/>
          </a:xfrm>
        </p:grpSpPr>
        <p:sp>
          <p:nvSpPr>
            <p:cNvPr id="66" name="_s119813"/>
            <p:cNvSpPr/>
            <p:nvPr/>
          </p:nvSpPr>
          <p:spPr>
            <a:xfrm flipV="1">
              <a:off x="4145040" y="2013120"/>
              <a:ext cx="853920" cy="739440"/>
            </a:xfrm>
            <a:custGeom>
              <a:avLst/>
              <a:gdLst>
                <a:gd name="textAreaLeft" fmla="*/ 306360 w 853920"/>
                <a:gd name="textAreaRight" fmla="*/ 547560 w 853920"/>
                <a:gd name="textAreaTop" fmla="*/ 265320 h 739440"/>
                <a:gd name="textAreaBottom" fmla="*/ 474120 h 73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lf Act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19814"/>
            <p:cNvSpPr/>
            <p:nvPr/>
          </p:nvSpPr>
          <p:spPr>
            <a:xfrm flipV="1">
              <a:off x="3718080" y="2751840"/>
              <a:ext cx="1707840" cy="739800"/>
            </a:xfrm>
            <a:custGeom>
              <a:avLst/>
              <a:gdLst>
                <a:gd name="textAreaLeft" fmla="*/ 375480 w 1707840"/>
                <a:gd name="textAreaRight" fmla="*/ 1332360 w 1707840"/>
                <a:gd name="textAreaTop" fmla="*/ 162720 h 739800"/>
                <a:gd name="textAreaBottom" fmla="*/ 57708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lf Este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19815"/>
            <p:cNvSpPr/>
            <p:nvPr/>
          </p:nvSpPr>
          <p:spPr>
            <a:xfrm flipV="1">
              <a:off x="3290760" y="3491640"/>
              <a:ext cx="2562480" cy="739800"/>
            </a:xfrm>
            <a:custGeom>
              <a:avLst/>
              <a:gdLst>
                <a:gd name="textAreaLeft" fmla="*/ 444600 w 2562480"/>
                <a:gd name="textAreaRight" fmla="*/ 2117880 w 2562480"/>
                <a:gd name="textAreaTop" fmla="*/ 128160 h 739800"/>
                <a:gd name="textAreaBottom" fmla="*/ 61164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long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19816"/>
            <p:cNvSpPr/>
            <p:nvPr/>
          </p:nvSpPr>
          <p:spPr>
            <a:xfrm flipV="1">
              <a:off x="2863800" y="4231440"/>
              <a:ext cx="3416400" cy="739800"/>
            </a:xfrm>
            <a:custGeom>
              <a:avLst/>
              <a:gdLst>
                <a:gd name="textAreaLeft" fmla="*/ 514080 w 3416400"/>
                <a:gd name="textAreaRight" fmla="*/ 2902320 w 3416400"/>
                <a:gd name="textAreaTop" fmla="*/ 111240 h 739800"/>
                <a:gd name="textAreaBottom" fmla="*/ 62856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19817"/>
            <p:cNvSpPr/>
            <p:nvPr/>
          </p:nvSpPr>
          <p:spPr>
            <a:xfrm flipV="1">
              <a:off x="2436840" y="4971240"/>
              <a:ext cx="4270320" cy="739800"/>
            </a:xfrm>
            <a:custGeom>
              <a:avLst/>
              <a:gdLst>
                <a:gd name="textAreaLeft" fmla="*/ 583200 w 4270320"/>
                <a:gd name="textAreaRight" fmla="*/ 3687120 w 4270320"/>
                <a:gd name="textAreaTop" fmla="*/ 100800 h 739800"/>
                <a:gd name="textAreaBottom" fmla="*/ 639000 h 73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C7B-4BCF-462A-9183-92F463306F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lsam’s Hierarchy of N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684680" y="2014200"/>
            <a:ext cx="4270320" cy="3698640"/>
            <a:chOff x="4684680" y="2014200"/>
            <a:chExt cx="4270320" cy="3698640"/>
          </a:xfrm>
        </p:grpSpPr>
        <p:sp>
          <p:nvSpPr>
            <p:cNvPr id="73" name="_s150541"/>
            <p:cNvSpPr/>
            <p:nvPr/>
          </p:nvSpPr>
          <p:spPr>
            <a:xfrm flipV="1">
              <a:off x="6464160" y="2013840"/>
              <a:ext cx="711360" cy="615960"/>
            </a:xfrm>
            <a:custGeom>
              <a:avLst/>
              <a:gdLst>
                <a:gd name="textAreaLeft" fmla="*/ 255240 w 711360"/>
                <a:gd name="textAreaRight" fmla="*/ 456120 w 711360"/>
                <a:gd name="textAreaTop" fmla="*/ 221040 h 615960"/>
                <a:gd name="textAreaBottom" fmla="*/ 3949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n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50542"/>
            <p:cNvSpPr/>
            <p:nvPr/>
          </p:nvSpPr>
          <p:spPr>
            <a:xfrm flipV="1">
              <a:off x="6108480" y="2629800"/>
              <a:ext cx="1422720" cy="617400"/>
            </a:xfrm>
            <a:custGeom>
              <a:avLst/>
              <a:gdLst>
                <a:gd name="textAreaLeft" fmla="*/ 312840 w 1422720"/>
                <a:gd name="textAreaRight" fmla="*/ 1109880 w 1422720"/>
                <a:gd name="textAreaTop" fmla="*/ 135720 h 617400"/>
                <a:gd name="textAreaBottom" fmla="*/ 481680 h 6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ginal effe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50543"/>
            <p:cNvSpPr/>
            <p:nvPr/>
          </p:nvSpPr>
          <p:spPr>
            <a:xfrm flipV="1">
              <a:off x="5753160" y="3247200"/>
              <a:ext cx="2133360" cy="615960"/>
            </a:xfrm>
            <a:custGeom>
              <a:avLst/>
              <a:gdLst>
                <a:gd name="textAreaLeft" fmla="*/ 370080 w 2133360"/>
                <a:gd name="textAreaRight" fmla="*/ 1763280 w 2133360"/>
                <a:gd name="textAreaTop" fmla="*/ 106920 h 615960"/>
                <a:gd name="textAreaBottom" fmla="*/ 50904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bje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0544"/>
            <p:cNvSpPr/>
            <p:nvPr/>
          </p:nvSpPr>
          <p:spPr>
            <a:xfrm flipV="1">
              <a:off x="5395680" y="3863160"/>
              <a:ext cx="2848320" cy="615960"/>
            </a:xfrm>
            <a:custGeom>
              <a:avLst/>
              <a:gdLst>
                <a:gd name="textAreaLeft" fmla="*/ 428400 w 2848320"/>
                <a:gd name="textAreaRight" fmla="*/ 2419920 w 2848320"/>
                <a:gd name="textAreaTop" fmla="*/ 92520 h 615960"/>
                <a:gd name="textAreaBottom" fmla="*/ 52344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er revie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50545"/>
            <p:cNvSpPr/>
            <p:nvPr/>
          </p:nvSpPr>
          <p:spPr>
            <a:xfrm flipV="1">
              <a:off x="5040360" y="4479120"/>
              <a:ext cx="3558960" cy="615960"/>
            </a:xfrm>
            <a:custGeom>
              <a:avLst/>
              <a:gdLst>
                <a:gd name="textAreaLeft" fmla="*/ 486000 w 3558960"/>
                <a:gd name="textAreaRight" fmla="*/ 3072960 w 3558960"/>
                <a:gd name="textAreaTop" fmla="*/ 83880 h 615960"/>
                <a:gd name="textAreaBottom" fmla="*/ 53208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le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50546"/>
            <p:cNvSpPr/>
            <p:nvPr/>
          </p:nvSpPr>
          <p:spPr>
            <a:xfrm flipV="1">
              <a:off x="4684680" y="5095080"/>
              <a:ext cx="4270320" cy="617400"/>
            </a:xfrm>
            <a:custGeom>
              <a:avLst/>
              <a:gdLst>
                <a:gd name="textAreaLeft" fmla="*/ 543600 w 4270320"/>
                <a:gd name="textAreaRight" fmla="*/ 3726720 w 4270320"/>
                <a:gd name="textAreaTop" fmla="*/ 78480 h 617400"/>
                <a:gd name="textAreaBottom" fmla="*/ 538920 h 6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fore the grant runs o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371600" y="13971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icym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1371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ear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" y="2127960"/>
            <a:ext cx="4147920" cy="3591360"/>
            <a:chOff x="457200" y="2127960"/>
            <a:chExt cx="4147920" cy="3591360"/>
          </a:xfrm>
        </p:grpSpPr>
        <p:sp>
          <p:nvSpPr>
            <p:cNvPr id="82" name="_s150554"/>
            <p:cNvSpPr/>
            <p:nvPr/>
          </p:nvSpPr>
          <p:spPr>
            <a:xfrm flipV="1">
              <a:off x="2185560" y="2127960"/>
              <a:ext cx="691200" cy="598320"/>
            </a:xfrm>
            <a:custGeom>
              <a:avLst/>
              <a:gdLst>
                <a:gd name="textAreaLeft" fmla="*/ 248040 w 691200"/>
                <a:gd name="textAreaRight" fmla="*/ 443160 w 691200"/>
                <a:gd name="textAreaTop" fmla="*/ 214560 h 598320"/>
                <a:gd name="textAreaBottom" fmla="*/ 383760 h 59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el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50555"/>
            <p:cNvSpPr/>
            <p:nvPr/>
          </p:nvSpPr>
          <p:spPr>
            <a:xfrm flipV="1">
              <a:off x="1839600" y="2725920"/>
              <a:ext cx="1382760" cy="597960"/>
            </a:xfrm>
            <a:custGeom>
              <a:avLst/>
              <a:gdLst>
                <a:gd name="textAreaLeft" fmla="*/ 303840 w 1382760"/>
                <a:gd name="textAreaRight" fmla="*/ 1078920 w 1382760"/>
                <a:gd name="textAreaTop" fmla="*/ 131400 h 597960"/>
                <a:gd name="textAreaBottom" fmla="*/ 466560 h 59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 effe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50556"/>
            <p:cNvSpPr/>
            <p:nvPr/>
          </p:nvSpPr>
          <p:spPr>
            <a:xfrm flipV="1">
              <a:off x="1494000" y="3324960"/>
              <a:ext cx="2074320" cy="599760"/>
            </a:xfrm>
            <a:custGeom>
              <a:avLst/>
              <a:gdLst>
                <a:gd name="textAreaLeft" fmla="*/ 360000 w 2074320"/>
                <a:gd name="textAreaRight" fmla="*/ 1714320 w 2074320"/>
                <a:gd name="textAreaTop" fmla="*/ 104040 h 599760"/>
                <a:gd name="textAreaBottom" fmla="*/ 49572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50557"/>
            <p:cNvSpPr/>
            <p:nvPr/>
          </p:nvSpPr>
          <p:spPr>
            <a:xfrm flipV="1">
              <a:off x="1148400" y="3924360"/>
              <a:ext cx="2765160" cy="597960"/>
            </a:xfrm>
            <a:custGeom>
              <a:avLst/>
              <a:gdLst>
                <a:gd name="textAreaLeft" fmla="*/ 415800 w 2765160"/>
                <a:gd name="textAreaRight" fmla="*/ 2349360 w 2765160"/>
                <a:gd name="textAreaTop" fmla="*/ 90000 h 597960"/>
                <a:gd name="textAreaBottom" fmla="*/ 507960 h 59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cessible to 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50558"/>
            <p:cNvSpPr/>
            <p:nvPr/>
          </p:nvSpPr>
          <p:spPr>
            <a:xfrm flipV="1">
              <a:off x="802800" y="4523040"/>
              <a:ext cx="3456720" cy="598320"/>
            </a:xfrm>
            <a:custGeom>
              <a:avLst/>
              <a:gdLst>
                <a:gd name="textAreaLeft" fmla="*/ 471960 w 3456720"/>
                <a:gd name="textAreaRight" fmla="*/ 2984760 w 3456720"/>
                <a:gd name="textAreaTop" fmla="*/ 81720 h 598320"/>
                <a:gd name="textAreaBottom" fmla="*/ 516600 h 59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nambiguo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50559"/>
            <p:cNvSpPr/>
            <p:nvPr/>
          </p:nvSpPr>
          <p:spPr>
            <a:xfrm flipV="1">
              <a:off x="457200" y="5121000"/>
              <a:ext cx="4147920" cy="597960"/>
            </a:xfrm>
            <a:custGeom>
              <a:avLst/>
              <a:gdLst>
                <a:gd name="textAreaLeft" fmla="*/ 528120 w 4147920"/>
                <a:gd name="textAreaRight" fmla="*/ 3619800 w 4147920"/>
                <a:gd name="textAreaTop" fmla="*/ 75960 h 597960"/>
                <a:gd name="textAreaBottom" fmla="*/ 522000 h 59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W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0D8-E1F8-4410-9461-DB7806ABDE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Policy Needs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01800" y="1658880"/>
            <a:ext cx="4086360" cy="42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BA6-65CC-4428-BDB9-4B1F3A9443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Data to Inform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E0F-4808-43E9-9A45-AF4EB45B37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le of Two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orlds Col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Policy Needs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1F2-AD8C-48F2-A64D-A730780797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ale of Two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440" y="2100240"/>
          <a:ext cx="449136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2100240"/>
                    <a:ext cx="44913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675320" y="2281320"/>
          <a:ext cx="42386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75320" y="2281320"/>
                    <a:ext cx="42386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41480" y="162576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ollment in SCHIP (thous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60840" y="1676520"/>
            <a:ext cx="28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Receiving TANF (thous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B66-EC2D-44CE-B261-6444F6E1A7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95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529-C5B6-49B7-B593-FCD40A738E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00120"/>
            <a:ext cx="800100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9800" y="6184800"/>
            <a:ext cx="8255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“Final Synthesis Report Of Findings From ASPE’s ‘Leavers’ Grants,” Gregory Acs and Pamela Loprest, November 27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56A-B248-4079-BF7A-E4AE7D6DB7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193760"/>
            <a:ext cx="8763120" cy="451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9800" y="6184800"/>
            <a:ext cx="8255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“Final Synthesis Report Of Findings From ASPE’s ‘Leavers’ Grants,” Gregory Acs and Pamela Loprest, November 27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CF2-4779-47DF-873B-2071DCC22C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1960" y="1170000"/>
            <a:ext cx="8560080" cy="451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0F7-5537-43A7-9CF9-DADACA1743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8680" y="1111320"/>
            <a:ext cx="8486640" cy="46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243-68CA-4746-B129-0D527DA6D1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680" y="544680"/>
            <a:ext cx="8594640" cy="576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7F4-C880-4741-80EC-15878B13F3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3:03:09Z</dcterms:created>
  <dc:creator>Alan Weil</dc:creator>
  <dc:description/>
  <dc:language>en-US</dc:language>
  <cp:lastModifiedBy>Caroline Pang</cp:lastModifiedBy>
  <dcterms:modified xsi:type="dcterms:W3CDTF">2009-01-22T17:54:25Z</dcterms:modified>
  <cp:revision>41</cp:revision>
  <dc:subject/>
  <dc:title>Developing Utah’s Approach to Addressing the Uninsured</dc:title>
</cp:coreProperties>
</file>