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2BE-A2C2-4438-B0E4-BFE4E9F2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79B-A143-48F8-9D2A-82892CE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AB4-4EA1-40EE-8C81-8F1FD455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8F1-5077-49B8-8F6E-DE847E10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58C-02CA-457F-97AE-22D254B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620-12E8-4D47-A2FA-7DF116A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A15-0288-4B4F-9B5F-5063C13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FCC-F16B-40EF-9508-5A7A4FA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645-F5ED-4761-8461-103985E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CDB-AE61-448A-981D-E6EC440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0D0-F08B-4245-BC24-20CA5B0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0E8-E169-4CC3-8A9E-7A58E06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9EA7-56AF-4589-B812-3F7F2744C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95480" y="6095880"/>
            <a:ext cx="335304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ing Data to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an Wei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Academy for State Health Policy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4, 200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Administrative Data to Answer State Policy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8560" y="260352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how data to policymakers but you can’t make them read the foot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orlds Col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AA0-5A4E-456B-9698-4DC7CF3ADE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6840" y="2013120"/>
            <a:ext cx="4270320" cy="3698280"/>
            <a:chOff x="2436840" y="2013120"/>
            <a:chExt cx="4270320" cy="3698280"/>
          </a:xfrm>
        </p:grpSpPr>
        <p:sp>
          <p:nvSpPr>
            <p:cNvPr id="66" name="_s119813"/>
            <p:cNvSpPr/>
            <p:nvPr/>
          </p:nvSpPr>
          <p:spPr>
            <a:xfrm flipV="1">
              <a:off x="4145040" y="2013120"/>
              <a:ext cx="853920" cy="739440"/>
            </a:xfrm>
            <a:custGeom>
              <a:avLst/>
              <a:gdLst>
                <a:gd name="textAreaLeft" fmla="*/ 306360 w 853920"/>
                <a:gd name="textAreaRight" fmla="*/ 547560 w 853920"/>
                <a:gd name="textAreaTop" fmla="*/ 265320 h 739440"/>
                <a:gd name="textAreaBottom" fmla="*/ 47412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lf 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19814"/>
            <p:cNvSpPr/>
            <p:nvPr/>
          </p:nvSpPr>
          <p:spPr>
            <a:xfrm flipV="1">
              <a:off x="3718080" y="2751840"/>
              <a:ext cx="1707840" cy="739800"/>
            </a:xfrm>
            <a:custGeom>
              <a:avLst/>
              <a:gdLst>
                <a:gd name="textAreaLeft" fmla="*/ 375480 w 1707840"/>
                <a:gd name="textAreaRight" fmla="*/ 1332360 w 1707840"/>
                <a:gd name="textAreaTop" fmla="*/ 162720 h 739800"/>
                <a:gd name="textAreaBottom" fmla="*/ 5770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lf Este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19815"/>
            <p:cNvSpPr/>
            <p:nvPr/>
          </p:nvSpPr>
          <p:spPr>
            <a:xfrm flipV="1">
              <a:off x="3290760" y="3491640"/>
              <a:ext cx="2562480" cy="739800"/>
            </a:xfrm>
            <a:custGeom>
              <a:avLst/>
              <a:gdLst>
                <a:gd name="textAreaLeft" fmla="*/ 444600 w 2562480"/>
                <a:gd name="textAreaRight" fmla="*/ 2117880 w 256248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lon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19816"/>
            <p:cNvSpPr/>
            <p:nvPr/>
          </p:nvSpPr>
          <p:spPr>
            <a:xfrm flipV="1">
              <a:off x="2863800" y="4231440"/>
              <a:ext cx="3416400" cy="739800"/>
            </a:xfrm>
            <a:custGeom>
              <a:avLst/>
              <a:gdLst>
                <a:gd name="textAreaLeft" fmla="*/ 514080 w 3416400"/>
                <a:gd name="textAreaRight" fmla="*/ 2902320 w 341640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19817"/>
            <p:cNvSpPr/>
            <p:nvPr/>
          </p:nvSpPr>
          <p:spPr>
            <a:xfrm flipV="1">
              <a:off x="2436840" y="4971240"/>
              <a:ext cx="4270320" cy="739800"/>
            </a:xfrm>
            <a:custGeom>
              <a:avLst/>
              <a:gdLst>
                <a:gd name="textAreaLeft" fmla="*/ 583200 w 4270320"/>
                <a:gd name="textAreaRight" fmla="*/ 3687120 w 427032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59E-4F5D-483C-BDD1-14C4C370D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sam’s Hierarchy of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84680" y="2014200"/>
            <a:ext cx="4270320" cy="3698640"/>
            <a:chOff x="4684680" y="2014200"/>
            <a:chExt cx="4270320" cy="3698640"/>
          </a:xfrm>
        </p:grpSpPr>
        <p:sp>
          <p:nvSpPr>
            <p:cNvPr id="73" name="_s150541"/>
            <p:cNvSpPr/>
            <p:nvPr/>
          </p:nvSpPr>
          <p:spPr>
            <a:xfrm flipV="1">
              <a:off x="6464160" y="2013840"/>
              <a:ext cx="711360" cy="615960"/>
            </a:xfrm>
            <a:custGeom>
              <a:avLst/>
              <a:gdLst>
                <a:gd name="textAreaLeft" fmla="*/ 255240 w 711360"/>
                <a:gd name="textAreaRight" fmla="*/ 456120 w 711360"/>
                <a:gd name="textAreaTop" fmla="*/ 221040 h 615960"/>
                <a:gd name="textAreaBottom" fmla="*/ 3949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0542"/>
            <p:cNvSpPr/>
            <p:nvPr/>
          </p:nvSpPr>
          <p:spPr>
            <a:xfrm flipV="1">
              <a:off x="6108480" y="2629800"/>
              <a:ext cx="1422720" cy="617400"/>
            </a:xfrm>
            <a:custGeom>
              <a:avLst/>
              <a:gdLst>
                <a:gd name="textAreaLeft" fmla="*/ 312840 w 1422720"/>
                <a:gd name="textAreaRight" fmla="*/ 1109880 w 1422720"/>
                <a:gd name="textAreaTop" fmla="*/ 135720 h 617400"/>
                <a:gd name="textAreaBottom" fmla="*/ 4816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 effe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0543"/>
            <p:cNvSpPr/>
            <p:nvPr/>
          </p:nvSpPr>
          <p:spPr>
            <a:xfrm flipV="1">
              <a:off x="5753160" y="3247200"/>
              <a:ext cx="2133360" cy="615960"/>
            </a:xfrm>
            <a:custGeom>
              <a:avLst/>
              <a:gdLst>
                <a:gd name="textAreaLeft" fmla="*/ 370080 w 2133360"/>
                <a:gd name="textAreaRight" fmla="*/ 1763280 w 2133360"/>
                <a:gd name="textAreaTop" fmla="*/ 106920 h 615960"/>
                <a:gd name="textAreaBottom" fmla="*/ 5090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0544"/>
            <p:cNvSpPr/>
            <p:nvPr/>
          </p:nvSpPr>
          <p:spPr>
            <a:xfrm flipV="1">
              <a:off x="5395680" y="3863160"/>
              <a:ext cx="2848320" cy="615960"/>
            </a:xfrm>
            <a:custGeom>
              <a:avLst/>
              <a:gdLst>
                <a:gd name="textAreaLeft" fmla="*/ 428400 w 2848320"/>
                <a:gd name="textAreaRight" fmla="*/ 2419920 w 2848320"/>
                <a:gd name="textAreaTop" fmla="*/ 92520 h 615960"/>
                <a:gd name="textAreaBottom" fmla="*/ 5234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0545"/>
            <p:cNvSpPr/>
            <p:nvPr/>
          </p:nvSpPr>
          <p:spPr>
            <a:xfrm flipV="1">
              <a:off x="5040360" y="4479120"/>
              <a:ext cx="3558960" cy="615960"/>
            </a:xfrm>
            <a:custGeom>
              <a:avLst/>
              <a:gdLst>
                <a:gd name="textAreaLeft" fmla="*/ 486000 w 3558960"/>
                <a:gd name="textAreaRight" fmla="*/ 3072960 w 3558960"/>
                <a:gd name="textAreaTop" fmla="*/ 83880 h 615960"/>
                <a:gd name="textAreaBottom" fmla="*/ 53208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0546"/>
            <p:cNvSpPr/>
            <p:nvPr/>
          </p:nvSpPr>
          <p:spPr>
            <a:xfrm flipV="1">
              <a:off x="4684680" y="5095080"/>
              <a:ext cx="4270320" cy="617400"/>
            </a:xfrm>
            <a:custGeom>
              <a:avLst/>
              <a:gdLst>
                <a:gd name="textAreaLeft" fmla="*/ 543600 w 4270320"/>
                <a:gd name="textAreaRight" fmla="*/ 3726720 w 4270320"/>
                <a:gd name="textAreaTop" fmla="*/ 78480 h 617400"/>
                <a:gd name="textAreaBottom" fmla="*/ 53892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the grant runs 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371600" y="13971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cy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1371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127960"/>
            <a:ext cx="4147920" cy="3591360"/>
            <a:chOff x="457200" y="2127960"/>
            <a:chExt cx="4147920" cy="3591360"/>
          </a:xfrm>
        </p:grpSpPr>
        <p:sp>
          <p:nvSpPr>
            <p:cNvPr id="82" name="_s150554"/>
            <p:cNvSpPr/>
            <p:nvPr/>
          </p:nvSpPr>
          <p:spPr>
            <a:xfrm flipV="1">
              <a:off x="2185560" y="2127960"/>
              <a:ext cx="691200" cy="598320"/>
            </a:xfrm>
            <a:custGeom>
              <a:avLst/>
              <a:gdLst>
                <a:gd name="textAreaLeft" fmla="*/ 248040 w 691200"/>
                <a:gd name="textAreaRight" fmla="*/ 443160 w 691200"/>
                <a:gd name="textAreaTop" fmla="*/ 214560 h 598320"/>
                <a:gd name="textAreaBottom" fmla="*/ 38376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e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50555"/>
            <p:cNvSpPr/>
            <p:nvPr/>
          </p:nvSpPr>
          <p:spPr>
            <a:xfrm flipV="1">
              <a:off x="1839600" y="2725920"/>
              <a:ext cx="1382760" cy="597960"/>
            </a:xfrm>
            <a:custGeom>
              <a:avLst/>
              <a:gdLst>
                <a:gd name="textAreaLeft" fmla="*/ 303840 w 1382760"/>
                <a:gd name="textAreaRight" fmla="*/ 1078920 w 1382760"/>
                <a:gd name="textAreaTop" fmla="*/ 131400 h 597960"/>
                <a:gd name="textAreaBottom" fmla="*/ 46656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 effe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0556"/>
            <p:cNvSpPr/>
            <p:nvPr/>
          </p:nvSpPr>
          <p:spPr>
            <a:xfrm flipV="1">
              <a:off x="1494000" y="3324960"/>
              <a:ext cx="2074320" cy="599760"/>
            </a:xfrm>
            <a:custGeom>
              <a:avLst/>
              <a:gdLst>
                <a:gd name="textAreaLeft" fmla="*/ 360000 w 2074320"/>
                <a:gd name="textAreaRight" fmla="*/ 1714320 w 2074320"/>
                <a:gd name="textAreaTop" fmla="*/ 104040 h 599760"/>
                <a:gd name="textAreaBottom" fmla="*/ 4957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50557"/>
            <p:cNvSpPr/>
            <p:nvPr/>
          </p:nvSpPr>
          <p:spPr>
            <a:xfrm flipV="1">
              <a:off x="1148400" y="3924360"/>
              <a:ext cx="2765160" cy="597960"/>
            </a:xfrm>
            <a:custGeom>
              <a:avLst/>
              <a:gdLst>
                <a:gd name="textAreaLeft" fmla="*/ 415800 w 2765160"/>
                <a:gd name="textAreaRight" fmla="*/ 2349360 w 2765160"/>
                <a:gd name="textAreaTop" fmla="*/ 90000 h 597960"/>
                <a:gd name="textAreaBottom" fmla="*/ 50796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essible to 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50558"/>
            <p:cNvSpPr/>
            <p:nvPr/>
          </p:nvSpPr>
          <p:spPr>
            <a:xfrm flipV="1">
              <a:off x="802800" y="4523040"/>
              <a:ext cx="3456720" cy="598320"/>
            </a:xfrm>
            <a:custGeom>
              <a:avLst/>
              <a:gdLst>
                <a:gd name="textAreaLeft" fmla="*/ 471960 w 3456720"/>
                <a:gd name="textAreaRight" fmla="*/ 2984760 w 3456720"/>
                <a:gd name="textAreaTop" fmla="*/ 81720 h 598320"/>
                <a:gd name="textAreaBottom" fmla="*/ 51660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ambigu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50559"/>
            <p:cNvSpPr/>
            <p:nvPr/>
          </p:nvSpPr>
          <p:spPr>
            <a:xfrm flipV="1">
              <a:off x="457200" y="5121000"/>
              <a:ext cx="4147920" cy="597960"/>
            </a:xfrm>
            <a:custGeom>
              <a:avLst/>
              <a:gdLst>
                <a:gd name="textAreaLeft" fmla="*/ 528120 w 4147920"/>
                <a:gd name="textAreaRight" fmla="*/ 3619800 w 4147920"/>
                <a:gd name="textAreaTop" fmla="*/ 75960 h 597960"/>
                <a:gd name="textAreaBottom" fmla="*/ 52200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W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30B-A9FA-4591-96FE-4B891D07C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olicy Needs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01800" y="1658880"/>
            <a:ext cx="4086360" cy="42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942-2C05-48C2-A30C-4F1C46CCA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Data to Inform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DD2-F6AD-4CD1-ACD6-F830DDDDE4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orlds Col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olicy Needs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814-AA7D-405E-967A-EDC5D798F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le of Two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40" y="2100240"/>
          <a:ext cx="44913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100240"/>
                    <a:ext cx="44913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75320" y="2281320"/>
          <a:ext cx="42386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5320" y="2281320"/>
                    <a:ext cx="42386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41480" y="16257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ment in SCHIP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60840" y="1676520"/>
            <a:ext cx="28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Receiving TANF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BD4-22EE-45F5-8422-C9F026E74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9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FA6-D3E3-4B68-B599-B9E53BA4F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00120"/>
            <a:ext cx="800100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9800" y="6184800"/>
            <a:ext cx="8255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“Final Synthesis Report Of Findings From ASPE’s ‘Leavers’ Grants,” Gregory Acs and Pamela Loprest, November 27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E69-26D5-4E14-A7E6-08234459B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193760"/>
            <a:ext cx="8763120" cy="45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9800" y="6184800"/>
            <a:ext cx="8255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“Final Synthesis Report Of Findings From ASPE’s ‘Leavers’ Grants,” Gregory Acs and Pamela Loprest, November 27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8A0-F39D-44B5-A1BE-7BA57A9D7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960" y="1170000"/>
            <a:ext cx="8560080" cy="451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F2D-CADE-46F1-B662-77E4055EE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8680" y="1111320"/>
            <a:ext cx="848664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3E8-51FA-4A33-8116-7A51464569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544680"/>
            <a:ext cx="8594640" cy="57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75E-8A7D-480C-B52F-943521A6C0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3:03:09Z</dcterms:created>
  <dc:creator>Alan Weil</dc:creator>
  <dc:description/>
  <dc:language>en-US</dc:language>
  <cp:lastModifiedBy>Caroline Pang</cp:lastModifiedBy>
  <dcterms:modified xsi:type="dcterms:W3CDTF">2009-01-22T17:54:25Z</dcterms:modified>
  <cp:revision>41</cp:revision>
  <dc:subject/>
  <dc:title>Developing Utah’s Approach to Addressing the Uninsured</dc:title>
</cp:coreProperties>
</file>