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EDF9-9524-467C-B613-9AB67F803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8505-F2DF-40F0-A115-192E676F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0CAC-2E83-464E-B698-77F2BCA7F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063F-92C8-499F-A8D4-C54DF225C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8971-EF49-4211-A125-39A61034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68C4-B709-4C9B-887B-3E99435E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ADF1-DB43-4604-8A9B-BFA5BD0E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94FF-AA50-4002-B1C6-22634B0D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1396-C9CF-40FC-BAEE-8B4CFA3C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933E-E8A6-40A4-AF91-B9353645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E355-F86E-4F2C-AF34-F1DFE225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1BAC-A347-4705-8C6E-BE521719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AE56-482B-4589-9CB4-AB563FE82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295280" y="3200400"/>
            <a:ext cx="6400800" cy="1143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3818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ing Data for Quality Improvement: Reporting and Payment </a:t>
            </a:r>
            <a:br>
              <a:rPr sz="3200"/>
            </a:br>
            <a:br>
              <a:rPr sz="32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Maryland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143000"/>
          </a:xfrm>
          <a:prstGeom prst="rect">
            <a:avLst/>
          </a:prstGeom>
          <a:solidFill>
            <a:srgbClr val="cccccc"/>
          </a:solidFill>
          <a:ln w="38160">
            <a:solidFill>
              <a:srgbClr val="7f7f7f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HRQ Con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dministrative Data to Answer State Policy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838080" y="525780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ert Murray, Executive Direc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yland Health Services Cost Review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Murray@HSCRC.State.MD.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Elements in the Exerc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al: Improve Quality of care (and reduce cost) by lowering complication and re-admission r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use: Administrative Discharge Data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y Data Element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on Admission indicator (POA) for com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abilistic match of patients in data set across hospitals for re-ad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tool required: Use of Severity Adjusted DR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chanisms to create behavioral change by hospital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or Public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por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y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Medicaid and/or Large private payer in st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Cs and PP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86108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tentially Preventable Complications (PP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armful events (accidental laceration during a procedure) or negative outcomes (hospital acquired pneumonia) that may result from the process of care and treatment rather than from a natural progression of underlying disea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tentially Preventable Readmissions (PP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turn hospitalizations that may result from deficiencies in the process of care and treatment (readmission for a surgical wound infection) or lack of post discharge follow-up (prescription not filled) rather than unrelated events that occur post discharge (broken leg due to trauma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33080" y="6324480"/>
            <a:ext cx="75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PPRs/PPCs definitions and methodology developed by 3M Health Information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PPCs (Twenty-nine of the Most Significant PP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Cardiac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ulmonary Com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roke &amp; Intracranial Hemorrhag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xtreme CNS Complic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ute Lung Edema &amp; Respiratory Failu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neumonia, Lung Infe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spiration Pneumoni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ulmonary Embolis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hoc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gestive Heart Failur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ute Myocardial Infarc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 Fibrillation, Cardiac Arre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87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ulmonary Vascular Complication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aj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dical Com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jor GI Complications w transfu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jor Liver Complic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ther Major GI Complication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nal Failure with Dialys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st-Hem &amp; Other Acute Anemia w transfu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cubitus Ulc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pticemia &amp; Severe Infe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ther Major Complications of Medical Ca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114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Peri-Ope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st-Op Wound Infection &amp; Deep Wound Disruption w Procedu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opening or Revision of Surgical Si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st-Op Hemorrhage &amp; Hematoma w Hemorrhage Control Proc or I&amp;D Pro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st-Op Foreign Body &amp; Inappropriate O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st-Op Respiratory Failure with Tracheostom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Complication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vices, Graft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lfunction of Device, Prosthesis, Graf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fection, Inflammation, &amp; Other Comp of Devices and Grafts Excluding Vascular Infe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mplications of Central Venous &amp; Other Vascular Catheters &amp; Devi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jor Obstetrical Com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bstetrical Hemorrhage w Transfu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jor Obstetrical Complic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6017040" y="6346800"/>
            <a:ext cx="23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M Health Information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80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designing Incentives - PP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6108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162"/>
              </a:spcBef>
              <a:spcAft>
                <a:spcPts val="22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ing Administrative data (and POA) - can calculat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rates of PPCs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y hospit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162"/>
              </a:spcBef>
              <a:spcAft>
                <a:spcPts val="22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ates of Complications are specific to each facility but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risk adjusted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 account for its patient popul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162"/>
              </a:spcBef>
              <a:spcAft>
                <a:spcPts val="22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dentify where there is statistically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significant variation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rom an “expected” rate of complica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162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Expected rate – Policy deci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5000"/>
              </a:lnSpc>
              <a:spcBef>
                <a:spcPts val="113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practi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5000"/>
              </a:lnSpc>
              <a:spcBef>
                <a:spcPts val="113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wide aver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162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tential Application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5000"/>
              </a:lnSpc>
              <a:spcBef>
                <a:spcPts val="113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Reports back to the Hospital (private reporting – NY st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5000"/>
              </a:lnSpc>
              <a:spcBef>
                <a:spcPts val="113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 performance (PPRs - Flor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5000"/>
              </a:lnSpc>
              <a:spcBef>
                <a:spcPts val="113"/>
              </a:spcBef>
              <a:spcAft>
                <a:spcPts val="146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to payment (Medicaid and/or Private Pay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5000"/>
              </a:lnSpc>
              <a:spcBef>
                <a:spcPts val="125"/>
              </a:spcBef>
              <a:spcAft>
                <a:spcPts val="1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Y Hospital Ex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003 Major PPCs - All Service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Object 3"/>
          <p:cNvGraphicFramePr/>
          <p:nvPr/>
        </p:nvGraphicFramePr>
        <p:xfrm>
          <a:off x="217440" y="1611360"/>
          <a:ext cx="8650440" cy="419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1611360"/>
                    <a:ext cx="865044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Text Box 4"/>
          <p:cNvSpPr/>
          <p:nvPr/>
        </p:nvSpPr>
        <p:spPr>
          <a:xfrm>
            <a:off x="6397920" y="6324480"/>
            <a:ext cx="23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M Health Information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ata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Validity Issues for PP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 on Admission (POA) now required by Medi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Verify Accuracy of Present on Admission Stat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/Edit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ch mark vs. other States (California/Maryla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accuracy of overall SDX and procedure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Validity Issues for PP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stic matching to track patients across hospi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99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99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nk to Payment – Rates of PPCs/PP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ggregate Results into overall Quality Scores and rank hospital performance on 2 dimens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inment (absolute level in a given ye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 (year-to-year perform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 Attainment/Improvement scores can be calculated and arrayed on a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id/Private Payers can redistribute some proportion of payment (amount “at-risk”) based on performance along this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es to both PPCs and PP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Maryland Figure1"/>
          <p:cNvPicPr/>
          <p:nvPr/>
        </p:nvPicPr>
        <p:blipFill>
          <a:blip r:embed="rId1"/>
          <a:stretch/>
        </p:blipFill>
        <p:spPr>
          <a:xfrm>
            <a:off x="152280" y="914400"/>
            <a:ext cx="8610840" cy="5757840"/>
          </a:xfrm>
          <a:prstGeom prst="rect">
            <a:avLst/>
          </a:prstGeom>
          <a:ln w="0">
            <a:noFill/>
          </a:ln>
        </p:spPr>
      </p:pic>
      <p:sp>
        <p:nvSpPr>
          <p:cNvPr id="86" name="TextBox 2"/>
          <p:cNvSpPr/>
          <p:nvPr/>
        </p:nvSpPr>
        <p:spPr>
          <a:xfrm>
            <a:off x="304920" y="3049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ing a Distribution of Performers to Pay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edicare Value based Purchas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31680" y="1447920"/>
            <a:ext cx="576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ribution of Hospital Performance (PPC rates vs. Expec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r of Attainment or Improvement s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Straight Arrow Connector 5"/>
          <p:cNvCxnSpPr/>
          <p:nvPr/>
        </p:nvCxnSpPr>
        <p:spPr>
          <a:xfrm>
            <a:off x="3962520" y="1980720"/>
            <a:ext cx="76248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Straight Arrow Connector 7"/>
          <p:cNvCxnSpPr/>
          <p:nvPr/>
        </p:nvCxnSpPr>
        <p:spPr>
          <a:xfrm>
            <a:off x="3961440" y="1980720"/>
            <a:ext cx="7668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Straight Arrow Connector 9"/>
          <p:cNvCxnSpPr/>
          <p:nvPr/>
        </p:nvCxnSpPr>
        <p:spPr>
          <a:xfrm>
            <a:off x="3962520" y="1981080"/>
            <a:ext cx="12960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" name="Straight Arrow Connector 14"/>
          <p:cNvCxnSpPr/>
          <p:nvPr/>
        </p:nvCxnSpPr>
        <p:spPr>
          <a:xfrm flipH="1" flipV="1">
            <a:off x="2057040" y="3200040"/>
            <a:ext cx="190584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2" name="TextBox 15"/>
          <p:cNvSpPr/>
          <p:nvPr/>
        </p:nvSpPr>
        <p:spPr>
          <a:xfrm>
            <a:off x="2060280" y="28195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s to pa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k to Payment – Payment Reduc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Complications that are “highly preventable” (like Medicare HACs) – DRG payments should be reduc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ly preventable PPCs are 100% or nearly 100% preven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show very little variation across hospitals after adjusting for risk fac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yment reductions applicable to DRG-based payment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aft payment decrement commensurate with level of preventability (i.e., 90% decrement &amp; 10% reten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5"/>
          <p:cNvSpPr/>
          <p:nvPr/>
        </p:nvSpPr>
        <p:spPr>
          <a:xfrm>
            <a:off x="380880" y="3049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w in Severity Adjusted Payment System that needs to be fi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447920" y="955800"/>
            <a:ext cx="601956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2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xt: A Self-Contained Data Collection and Reimburs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Bases established for Rat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of Care Example/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to Payment and Financial Incen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152280" y="2438280"/>
            <a:ext cx="8899560" cy="419112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380880" y="30492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Examples of Preventable Complications and how the current Payment System unfairly and inappropriately increases a Hospital’s revenue when it makes a preventable mis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Straight Arrow Connector 4"/>
          <p:cNvCxnSpPr/>
          <p:nvPr/>
        </p:nvCxnSpPr>
        <p:spPr>
          <a:xfrm flipH="1">
            <a:off x="3351960" y="2132640"/>
            <a:ext cx="2210760" cy="19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TextBox 6"/>
          <p:cNvSpPr/>
          <p:nvPr/>
        </p:nvSpPr>
        <p:spPr>
          <a:xfrm>
            <a:off x="4638600" y="1600200"/>
            <a:ext cx="44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entable Infection and associated proced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ed in higher payment to hos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8"/>
          <p:cNvCxnSpPr/>
          <p:nvPr/>
        </p:nvCxnSpPr>
        <p:spPr>
          <a:xfrm flipH="1">
            <a:off x="2895120" y="2209320"/>
            <a:ext cx="2743920" cy="297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Straight Arrow Connector 10"/>
          <p:cNvCxnSpPr/>
          <p:nvPr/>
        </p:nvCxnSpPr>
        <p:spPr>
          <a:xfrm>
            <a:off x="6172200" y="2285640"/>
            <a:ext cx="838800" cy="342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xt: Maryland All-Payer Hospital Rate Set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spcAft>
                <a:spcPts val="11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st State to Control Hospital Charges (All-Payer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spcAft>
                <a:spcPts val="11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ystem made possible by Waiver from Medica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mary Statutory Responsibilitie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strong data collection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788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e setting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spcAft>
                <a:spcPts val="11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ata are the Foundation &amp; Building Block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y Positive Externalities from Data Colle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ative analy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s for rat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data by consumers and 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 of disparities and in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 for Performance and Quality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licy Objectives &amp; Use of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t Containmen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cost data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aymen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 to Car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data on uninsured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UC Pool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quity in Paymen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data on payment level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ncial Stability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data on operating performanc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untability/Transpar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System performance vs. Targets; Community Benefit Performanc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26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a focus 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y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29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ryland Data Bases &amp;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75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Volumes, Cost and Financial Dat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Pay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Record Discharge Dat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Structuring Payment DRG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ve data on the uninsured receiving car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C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ge and salary data by facilit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djust Payment (L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ents and Interns Surve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djust Payment (G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and Operating Dat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nitor Financial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Benefit Dat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ld Hospitals Accoun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on Admiss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wer Complication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ssions and Readmission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wer Re-Admission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ortance of “Data Efficacy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omple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ing less desirable and less defen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ccur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its, Cross-checks &amp; Reconcil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chmarks vs. Other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of the data (for payment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ime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 Care Market changes rapid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effective policy decisions require timely data (&lt;2 years o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Robu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other data for adjustments/cor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cy Decisions more powerful when data bases are comb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sholds for being able to use data for reporting or pay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Fai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 for factors beyond the control of prov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 for certain factors you don’t want providers to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haracteristics of Data Use in Marylan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direct link: Data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olicy Decis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tire system built from bottom up using granular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positive externalities to comprehensive data collection effort (research, public health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rge role for public agency to make data available for the Market and Publ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xample: 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Using Administrative Data to Lower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Complication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e-Admission Rates </a:t>
            </a:r>
            <a:br>
              <a:rPr sz="4800"/>
            </a:br>
            <a:br>
              <a:rPr sz="32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Admission Rates &amp;Diagnosis Present on Admission (POA)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xt/Rationa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Next logical step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ter process measure P4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MS taken first step: Hospital Acquired Cond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es can go further – tailor concept to local cond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al: To Reduce Complication and Re-admission r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cus attention on poor performers (reporting) and correct payment incen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ward hospitals who are doing the best job – lowest complication rates and re-admission rates (risk-adjuste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2T04:08:48Z</dcterms:created>
  <dc:creator>Michael Price</dc:creator>
  <dc:description/>
  <dc:language>en-US</dc:language>
  <cp:lastModifiedBy>Emily Moser</cp:lastModifiedBy>
  <dcterms:modified xsi:type="dcterms:W3CDTF">2009-06-19T17:56:38Z</dcterms:modified>
  <cp:revision>42</cp:revision>
  <dc:subject/>
  <dc:title>Market Failure: Externalities and Public Goods</dc:title>
</cp:coreProperties>
</file>