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A79-F157-4EB8-9EB6-E99A05F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BC1-059B-4973-8531-E39CED0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9A6-1519-4B5F-8258-7B08ED06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17B-02A6-42B5-A2FE-BAA3346C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345-EC23-4F09-8B0C-16D34DC0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116-4F78-4FC2-A388-4E1FA331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702-712F-4EEC-A0DC-889FBDDC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6B6-088F-4051-A0EE-97F0799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C4C-8C7C-4154-8310-92ABF6D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671-F2F6-42EA-ACAA-6EE909A2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E22-7104-47E2-A09E-88928B7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971-15BD-47D5-96AB-D286226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2F2-D0C2-4807-925C-A4BE4C7C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295280" y="3200400"/>
            <a:ext cx="64008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Data for Quality Improvement: Reporting and Payment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aryl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143000"/>
          </a:xfrm>
          <a:prstGeom prst="rect">
            <a:avLst/>
          </a:prstGeom>
          <a:solidFill>
            <a:srgbClr val="cccccc"/>
          </a:solidFill>
          <a:ln w="38160">
            <a:solidFill>
              <a:srgbClr val="7f7f7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dministrative Data to Answer State Polic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38080" y="52578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Murray, Executive Dir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land Health Services Cost Review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urray@HSCRC.State.MD.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Elements in the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Improve Quality of care (and reduce cost) by lowering complication and re-admission 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use: Administrative Discharge Data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Data Element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on Admission indicator (POA) for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match of patients in data set across hospitals for re-ad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ool required: Use of Severity Adjusted DR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s to create behavioral change by hospit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or Publ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por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dicaid and/or Large private payer in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Cs and PP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tentially Preventable Complications (PP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rmful events (accidental laceration during a procedure) or negative outcomes (hospital acquired pneumonia) that may result from the process of care and treatment rather than from a natural progression of underlying dise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tentially Preventable Readmissions (PP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 hospitalizations that may result from deficiencies in the process of care and treatment (readmission for a surgical wound infection) or lack of post discharge follow-up (prescription not filled) rather than unrelated events that occur post discharge (broken leg due to traum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33080" y="6324480"/>
            <a:ext cx="75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PPRs/PPCs definitions and methodology developed by 3M Health Information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PCs (Twenty-nine of the Most Significant PP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Cardia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lmonary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oke &amp; Intracranial Hemorrh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reme CNS Com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ute Lung Edema &amp; Respiratory Fail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neumonia, Lung Inf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iration Pneum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gestive Heart Failu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ute Myocardial Infar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 Fibrillation, Cardiac Arr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lmonary Vascular Complica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cal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GI Complications w transfu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Liver Com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ther Major GI Complica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nal Failure with Di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Hem &amp; Other Acute Anemia w transfu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ubitus Ulc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pticemia &amp; Severe Inf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ther Major Complications of Medical C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Peri-O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Wound Infection &amp; Deep Wound Disruption w Proced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opening or Revision of Surgical Si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Hemorrhage &amp; Hematoma w Hemorrhage Control Proc or I&amp;D Pr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Foreign Body &amp; Inappropriate 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Respiratory Failure with Tracheostom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Complicatio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ces, Graf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lfunction of Device, Prosthesis, Gr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fection, Inflammation, &amp; Other Comp of Devices and Grafts Excluding Vascular Inf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lications of Central Venous &amp; Other Vascular Catheters &amp; 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jor Obstetrical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stetrical Hemorrhage w Transfu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Obstetrical Com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17040" y="634680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M Health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8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esigning Incentives - P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ing Administrative data (and POA) - can calculat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ates of PPC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hospi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tes of Complications are specific to each facility bu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sk adjust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account for its patient pop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where there is statistically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significant vari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an “expected” rate of com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xpected rate – Policy deci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wide aver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ential Applicatio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Reports back to the Hospital (private reporting – NY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performance (PPRs - Flor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14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payment (Medicaid and/or Private Pay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5000"/>
              </a:lnSpc>
              <a:spcBef>
                <a:spcPts val="125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 Hospital Ex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3 Major PPCs - All Service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17440" y="1611360"/>
          <a:ext cx="8650440" cy="41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611360"/>
                    <a:ext cx="865044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4"/>
          <p:cNvSpPr/>
          <p:nvPr/>
        </p:nvSpPr>
        <p:spPr>
          <a:xfrm>
            <a:off x="6397920" y="632448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M Health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a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Validity Issues for P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on Admission (POA) now required by Medi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Verify Accuracy of Present on Admission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/Edit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 mark vs. other States (California/Mary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accuracy of overall SDX and procedure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Validity Issues for P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matching to track patients across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 to Payment – Rates of PPCs/PP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ggregate Results into overall Quality Scores and rank hospital performance on 2 dimens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inment (absolute level in a given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(year-to-year 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ttainment/Improvement scores can be calculated and arrayed on a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/Private Payers can redistribute some proportion of payment (amount “at-risk”) based on performance along thi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both PPCs and P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aryland Figure1"/>
          <p:cNvPicPr/>
          <p:nvPr/>
        </p:nvPicPr>
        <p:blipFill>
          <a:blip r:embed="rId1"/>
          <a:stretch/>
        </p:blipFill>
        <p:spPr>
          <a:xfrm>
            <a:off x="152280" y="914400"/>
            <a:ext cx="8610840" cy="5757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492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a Distribution of Performers to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dicare Value based Purcha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1680" y="1447920"/>
            <a:ext cx="576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f Hospital Performance (PPC rates vs. Exp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of Attainment or Improvement s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5"/>
          <p:cNvCxnSpPr/>
          <p:nvPr/>
        </p:nvCxnSpPr>
        <p:spPr>
          <a:xfrm>
            <a:off x="3962520" y="1980720"/>
            <a:ext cx="7624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"/>
          <p:cNvCxnSpPr/>
          <p:nvPr/>
        </p:nvCxnSpPr>
        <p:spPr>
          <a:xfrm>
            <a:off x="3961440" y="1980720"/>
            <a:ext cx="766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9"/>
          <p:cNvCxnSpPr/>
          <p:nvPr/>
        </p:nvCxnSpPr>
        <p:spPr>
          <a:xfrm>
            <a:off x="3962520" y="198108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traight Arrow Connector 14"/>
          <p:cNvCxnSpPr/>
          <p:nvPr/>
        </p:nvCxnSpPr>
        <p:spPr>
          <a:xfrm flipH="1" flipV="1">
            <a:off x="2057040" y="3200040"/>
            <a:ext cx="1905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15"/>
          <p:cNvSpPr/>
          <p:nvPr/>
        </p:nvSpPr>
        <p:spPr>
          <a:xfrm>
            <a:off x="2060280" y="28195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o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to Payment – Payment Redu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omplications that are “highly preventable” (like Medicare HACs) – DRG payments should be re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y preventable PPCs are 100% or nearly 100% preven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show very little variation across hospitals after adjusting for risk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ment reductions applicable to DRG-based paymen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ft payment decrement commensurate with level of preventability (i.e., 90% decrement &amp; 10% reten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/>
          <p:cNvSpPr/>
          <p:nvPr/>
        </p:nvSpPr>
        <p:spPr>
          <a:xfrm>
            <a:off x="380880" y="304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w in Severity Adjusted Payment System that needs to b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47920" y="955800"/>
            <a:ext cx="601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: A Self-Contained Data Collection and Reimburs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ases established for Ra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Care Example/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Payment and Financial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995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80880" y="3049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Examples of Preventable Complications and how the current Payment System unfairly and inappropriately increases a Hospital’s revenue when it makes a preventable 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H="1">
            <a:off x="3351960" y="2132640"/>
            <a:ext cx="221076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Box 6"/>
          <p:cNvSpPr/>
          <p:nvPr/>
        </p:nvSpPr>
        <p:spPr>
          <a:xfrm>
            <a:off x="4638600" y="1600200"/>
            <a:ext cx="44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able Infection and associated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ed in higher payment to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8"/>
          <p:cNvCxnSpPr/>
          <p:nvPr/>
        </p:nvCxnSpPr>
        <p:spPr>
          <a:xfrm flipH="1">
            <a:off x="2895120" y="2209320"/>
            <a:ext cx="274392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Straight Arrow Connector 10"/>
          <p:cNvCxnSpPr/>
          <p:nvPr/>
        </p:nvCxnSpPr>
        <p:spPr>
          <a:xfrm>
            <a:off x="6172200" y="2285640"/>
            <a:ext cx="838800" cy="342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: Maryland All-Payer Hospital Rate Set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1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t State to Control Hospital Charges (All-Pay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1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 made possible by Waiver from Medic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y Statutory Responsibilit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trong data collec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setting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1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are the Foundation &amp; Building Block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y Positive Externalities from Data Coll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for ra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data by consumers an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f disparities and in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for Performance and 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y Objectives &amp; Us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Contain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st dat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y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Ca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ata on uninsure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C Poo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ty in Pay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ata on payment leve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 Stabil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ata on operating perform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/Transpar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ystem performance vs. Targets; Community Benefit Perform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yland Data Bases &amp;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Volumes, Cost and Financi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Record Discharge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ructuring Payment DR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data on the uninsured receiving ca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C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and salary data by fac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ust Payment (L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s and Interns Surve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ust Payment (G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nd Operating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or Financi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Benefit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ld Hospitals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Complic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s and Readmiss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Re-Admiss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“Data Efficac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pl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less desirable and less def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s, Cross-checks &amp; Reconcil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s vs. Oth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f the data (for paymen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im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Market changes rapi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ffective policy decisions require timely data (&lt;2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Robu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other data for adjustments/cor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Decisions more powerful when data bases are 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 for being able to use data for reporting or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for factors beyond the control of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for certain factors you don’t want providers t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racteristics of Data Use in Maryla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direct link: Dat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licy Deci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ire system built from bottom up using granular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positive externalities to comprehensive data collection effort (research, public healt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role for public agency to make data available for the Market and Pub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ing Administrative Data to Lower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mplicatio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-Admission Rates 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dmission Rates &amp;Diagnosis Present on Admission (POA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/Ration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xt logical ste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process measure P4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S taken first step: Hospital Acquired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s can go further – tailor concept to local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To Reduce Complication and Re-admission 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attention on poor performers (reporting) and correct payment incen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 hospitals who are doing the best job – lowest complication rates and re-admission rates (risk-adjust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4:08:48Z</dcterms:created>
  <dc:creator>Michael Price</dc:creator>
  <dc:description/>
  <dc:language>en-US</dc:language>
  <cp:lastModifiedBy>Emily Moser</cp:lastModifiedBy>
  <dcterms:modified xsi:type="dcterms:W3CDTF">2009-06-19T17:56:38Z</dcterms:modified>
  <cp:revision>42</cp:revision>
  <dc:subject/>
  <dc:title>Market Failure: Externalities and Public Goods</dc:title>
</cp:coreProperties>
</file>