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0059-2F28-45D3-9BD8-015CC2037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7C33-20EF-4D3E-A3C6-730307970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D8E4-8A28-426D-815E-4FAF40224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8047-04BD-40C2-ADE8-C66EC7B13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A9CC-2D88-45ED-9371-8F00DFAB0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68EA-1CAB-4E33-99AC-17847A0DF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3C38-A9E8-47D5-8BC2-B74502A0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934E-C3EB-4AFA-A46B-C731B6EBC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2B61-7343-4C0E-9A74-383E8F755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3E37-D6EA-4A01-A4FF-B8DD544B6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66960" cy="34261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3CD3-7C33-4E1A-A954-BF4689DBF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4D7E-F153-44B6-8026-2B9CCD36D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516B-5FBC-4D40-947C-CC67C85F5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208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12B3-7BB8-4C7D-840D-C786D4C19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89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1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1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qualityindicators.ahrq.gov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qualityindicators.ahrq.gov/" TargetMode="External"/><Relationship Id="rId2" Type="http://schemas.openxmlformats.org/officeDocument/2006/relationships/hyperlink" Target="http://qualityindicators.ahrq.gov/" TargetMode="External"/><Relationship Id="rId3" Type="http://schemas.openxmlformats.org/officeDocument/2006/relationships/hyperlink" Target="http://qualityindicators.ahrq.gov/" TargetMode="External"/><Relationship Id="rId4" Type="http://schemas.openxmlformats.org/officeDocument/2006/relationships/hyperlink" Target="mailto:support@qualityindicators.ahrq.gov" TargetMode="External"/><Relationship Id="rId5" Type="http://schemas.openxmlformats.org/officeDocument/2006/relationships/hyperlink" Target="mailto:Mamatha.Pancholi@ahrq.hhs.gov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chanskym@battelle.org" TargetMode="Externa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2590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AHRQ Quality Indicato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2280" y="39621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nie Chansky, MAA, Research Scient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lle Memorial Instit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ember 4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IQ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rtality Rates for Medical Condi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ute Myocardial Infar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MI, without transfer ca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gestive Heart Fail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astrointestinal Hemorrh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p Fra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440" y="1676160"/>
            <a:ext cx="3921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4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rtality Rates for Surgical Procedu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ophageal Re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ncreatic Re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dominal Aortic Aneurysm Repa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ronary Artery Bypass Gra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cutaneous Transluminal Coronary Angioplasty (PTC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rotid Endarterecto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anioto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4320" indent="-4543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p Repla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IQIs (cont’d.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ospital-Level Procedure Utilization Ra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sarean Section 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ary Cesarean 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ginal Birth After Cesarean (VBAC), uncomplic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BAC,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paroscopic cholecystect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dental Appendectomy in the elder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-lateral cardiac catheter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1440" y="1676160"/>
            <a:ext cx="3921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rea-Level Utilization Ra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onary Artery Bypass G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T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sterect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minectomy or spinal 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IQIs (cont’d.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olume of Procedu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ophageal Re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creatic Re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minal Aortic Aneurysm Re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onary Artery Bypass G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T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otid endarterec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Indic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set of QIs (released 200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 on potential adverse events occurring during hospital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PS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ospital-Lev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lications of anesth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ath in Low Mortality DR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ubitus Ul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lure to Resc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eign Body Left in During Proced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atrogenic Pneumothora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ected Infections Due to Medical 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Hip Fra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Hemorrhage or Hemato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Physiologic or Metabolic Derang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Respiratory Fail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9211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Pulmonary Embolism or Deep Vein Thromb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Sep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toperative Wound Dehiscence in Abdominopelvic Surgical Pat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cidental Puncture or Lac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fusion Re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rth Trauma – Injury to Neon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tetric Trauma – Vaginal Delivery with Instr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tetric Trauma – Vaginal Delivery Without Instru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tetric Trauma – Cesarean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PSIs (cont’d.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a-Lev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ign Body Left in During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atrogenic Pneumothor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ed Infections Due to Medical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operative Wound Dehiscence in Abdominopelvic Surgica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idental Puncture and Lac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usion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operative Hemorrhage or Hemat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diatric Quality Indicato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set of QIs (released 200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2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ures similar to other modules, but focus on pediatric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PD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spital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cidental Puncture or Lace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cubitus Ulc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eign Body Left in During Proced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atrogenic Pneumothorax in Neonates at Ris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atrogenic Pneomothorax in Non-Neona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diatric Heart Surgery Mort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diatric Heart Surgery Volu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2057040"/>
            <a:ext cx="39211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Hemorrhage or Hemato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Respiratory Fail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Sep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operative Wound Dehisc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lected Infections Due to Medical C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fusion Rea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PDIs (cont’d.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a-Lev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hma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 Short-Term Complications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enteritis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ated Appendix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Tract Infection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tag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development documentation and details on each indicator available on Web site 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www.qualityindicators.ahrq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available to download at no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d indicator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used with any administrative data: HCUP, MEDPAR,* State data sets, payer data, hospital interna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s can replica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icare Provider Analysis and Review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QIs and QI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QF-Approved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idation Eff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I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6312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tages (cont’d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100 individual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measure can be stratified by other variables including patient race, age, sex, provider, geographic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priority populations and areas:  Child health, women’s health (pregnancy and child-birth), diabetes, hypertension, ischemic heart disease, stroke, asthma, patient safety, preventive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acute care but do cross over to community and outpatient care deliver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392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tages (cont’d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onization of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cator maintenance, up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and technical as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bench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Healthcare Quality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Healthcare Disparities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UP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urrent Limitations &amp; Challeng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s data less actionable tha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clinical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adjustment challen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cy hinges on accuracy of documentation and 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potentially subject to g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l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Is and QI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QF-Approved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idation Eff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I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76312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Quality Forum Endorse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itable for comparative reporting and quality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d for importance, scientific acceptability, usability, and fea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ffort to harmonize and standardize measures among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Quality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5000"/>
              </a:lnSpc>
              <a:spcBef>
                <a:spcPts val="10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 Prevention Quality Indicators (PQ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5000"/>
              </a:lnSpc>
              <a:spcBef>
                <a:spcPts val="10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Inpatient Quality Indicators (IQ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5000"/>
              </a:lnSpc>
              <a:spcBef>
                <a:spcPts val="10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Patient Safety Indicators (P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5000"/>
              </a:lnSpc>
              <a:spcBef>
                <a:spcPts val="10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Pediatric Quality Indicators (PD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53452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8886-1045-47BC-AEDE-E1BC3D2C71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Quality Forum Endorsemen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53452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DB70-0204-4227-83F9-F4A5C5A886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09480" y="1676520"/>
          <a:ext cx="7993080" cy="4495680"/>
        </p:xfrm>
        <a:graphic>
          <a:graphicData uri="http://schemas.openxmlformats.org/drawingml/2006/table">
            <a:tbl>
              <a:tblPr/>
              <a:tblGrid>
                <a:gridCol w="868320"/>
                <a:gridCol w="3562560"/>
                <a:gridCol w="868320"/>
                <a:gridCol w="269388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ophageal Resection Volu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F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creatic Resection Volu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ute Stroke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dominal Aortic Aneurysm (AAA) Repair Volu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p Fracture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ophageal Resection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neumonia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creatic Resection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tal Appendectomy in the Elder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dominal Aortic Aneurysm (AAA) Repair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QI #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lateral Catheteriz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Quality Forum Endorsemen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3452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EC56-A936-461E-AE5B-D4FA11CFA0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09480" y="1676520"/>
          <a:ext cx="7993080" cy="3643200"/>
        </p:xfrm>
        <a:graphic>
          <a:graphicData uri="http://schemas.openxmlformats.org/drawingml/2006/table">
            <a:tbl>
              <a:tblPr/>
              <a:tblGrid>
                <a:gridCol w="982800"/>
                <a:gridCol w="3132000"/>
                <a:gridCol w="990720"/>
                <a:gridCol w="2887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in Low Mortality DR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DVT or 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Among Surgical Inpatients With Treatable Serious Com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Wound Dehisc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ign Bod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idental Puncture or Lacer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atrogenic Pneumothora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 #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usion Rea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Quality Forum Endorsemen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3452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86E4-9771-4492-BD5B-B881808445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676520"/>
          <a:ext cx="7993080" cy="3504960"/>
        </p:xfrm>
        <a:graphic>
          <a:graphicData uri="http://schemas.openxmlformats.org/drawingml/2006/table">
            <a:tbl>
              <a:tblPr/>
              <a:tblGrid>
                <a:gridCol w="1306800"/>
                <a:gridCol w="2689200"/>
                <a:gridCol w="1261800"/>
                <a:gridCol w="273528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idental Puncture or Lacer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diatric Heart Surgery Volu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ubitus Ul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Wound Dehisc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ign Bod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usion Rea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atrogenic Pneumothora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QI* #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Stream Infection in Neonates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I #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diatric Heart Surgery Morta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762120" y="5791320"/>
            <a:ext cx="4495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NQI- Neonate Quality Ind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Endorsement pe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osite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atient Quality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tality for Selected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tality for Selected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Safety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diatric Quality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-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ction, AAA repair, pediatric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18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575C-55E3-47C4-A899-1A6EE42ED2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Is and QI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QF-Approved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ublic Repor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idation Eff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I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76312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y Indicators &amp; HCU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UP:  Partnership among States, industry, and AHR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orm database for cross-State studies; includes clinical, demographic, and resource us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s all inpatient discharge data from participating States—represents approximately 90 percent of all dis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90480" y="152280"/>
            <a:ext cx="7553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neral Uses of the AHRQ Q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424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10000"/>
              </a:lnSpc>
              <a:spcBef>
                <a:spcPts val="1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Quality Improvement – Internal and 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 hospitals and health care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 association member-only repor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, State, and Regional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Healthcare Quality/Disparities Re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5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wealth Fund’s Health Performance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-for-Performance by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S/Premier D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hem of Virgi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Profi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 Cross/Blue Shield of Illino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tive Public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2 States Use QIs for Public Hospital Report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Is and QI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QF-Approved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lidation Eff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I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alidation Stud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6172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RQ spons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dep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al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Recru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508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alidation Pilot, Phase 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ot 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her evidence on the scientific acceptability of the P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record reviews, data analysis, clinical panels, evidence revie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olidate the evidence b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guidance on the interpretation and use of th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potential refinements to the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alidation Pilot, Phase 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ve evaluated PSIs have variable PPVs, which should be considered in selecting indicators for public reporting and pay-for-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ot-tested a mechanism for supporting ongoing validation work, which can be applied to estimate sensitivity in 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alidation Pilot, Phase I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ation Pilot, 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ding OMB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sensitivity (false negatives) in addition to PPV (false positiv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organizations have indicated an interest in participating in Phase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hospitals in HCUP partner States to particip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ther Validation Stud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6172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HealthSystem Consortium – Patient Safety Indi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508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QIs and QI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QF-Approved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idation Eff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I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indows Quality Indicators Software (WinQ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s to run AHRQ QI analysis with data they pro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users: federal govt., state govt.,hospital associations, individual hospitals, resear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enables calculation of QI rates as well as generation of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ground on the Q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2600" y="1447920"/>
            <a:ext cx="8466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through contract with UCSF-Stanford Evidence-based Practice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xisting hospital discharge data, based on readily available data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11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a range of severity adjustment methods, including APR-DRGs and comorbidity groupin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modules: Prevention, Inpatient, Patient Safety, Pediatric and Neona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County-Level Mapping Too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9930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C mapping tool is a QI software application designed to help organization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understand geographical patterns of potentially preventable hospital admission rates for selected health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cate resources more effectively by calculating potential cost savings if admission rates are re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n Functions of th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C Mapping Too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eation of ma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show the rates of hospital admission for selected health problems on a county-by-county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lculation of potential cost sav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may occur if the number of hospital admissions for selected health problems in each county is reduce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bility to place additional information about local populations onto ma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indicate the number of persons who are at greatest risk for those health problems in each count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e Map for PQI 14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controlled Diabetes Admiss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5715000" cy="5105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267080" y="4191120"/>
            <a:ext cx="6098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3124080" cy="1969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 flipV="1">
            <a:off x="4876920" y="388584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5410080"/>
            <a:ext cx="21337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2895480"/>
            <a:ext cx="1676520" cy="179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Quintiles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n is the lowest 20%, or lowest rates. Red is the highest 20%, or highest ra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066320" y="4876920"/>
            <a:ext cx="22860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el Spreadsheet Produced by PHC, with Cost Savings Estimat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099280" cy="464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952880" y="43434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24480" y="43434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4343400"/>
            <a:ext cx="533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48720" y="5105520"/>
            <a:ext cx="1143000" cy="82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Savings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72400" y="47242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29200" y="5638680"/>
            <a:ext cx="1981080" cy="1067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y Risk – Adjusted Rate is significantly higher than sta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480060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248520" y="48006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86400" cy="5257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371600" y="1522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e Map for PQI 14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pulation Data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4724280"/>
            <a:ext cx="1828800" cy="1067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981080"/>
            <a:ext cx="1904760" cy="2040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data broken into three groups. Stick figures superimposed on map to represent relative population siz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1752120" y="4190760"/>
            <a:ext cx="228600" cy="533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or More Information…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qualityindicators.ahrq.gov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I documentation and software a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support@qualityindicators.ahrq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Phone: (888) 512-6090 (voicemai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ff: 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Mamatha.Pancholi@ahrq.hhs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er Contact Inf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anie Chansky, Batt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: 703-248-16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chanskym@battelle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3047760"/>
            <a:ext cx="79930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 Indicator Evalu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57200" y="1219320"/>
            <a:ext cx="8305920" cy="5486400"/>
            <a:chOff x="457200" y="1219320"/>
            <a:chExt cx="8305920" cy="5486400"/>
          </a:xfrm>
        </p:grpSpPr>
        <p:sp>
          <p:nvSpPr>
            <p:cNvPr id="189" name=""/>
            <p:cNvSpPr/>
            <p:nvPr/>
          </p:nvSpPr>
          <p:spPr>
            <a:xfrm>
              <a:off x="457200" y="1447920"/>
              <a:ext cx="2666880" cy="1371600"/>
            </a:xfrm>
            <a:prstGeom prst="rect">
              <a:avLst/>
            </a:prstGeom>
            <a:solidFill>
              <a:srgbClr val="51d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0400" y="3429000"/>
              <a:ext cx="2743200" cy="1371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NEL EVALU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4876920"/>
              <a:ext cx="2666880" cy="18288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URTH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PIRICAL ANALY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FINED DEF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5880" y="5105520"/>
              <a:ext cx="2667240" cy="160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URTHER REVIEW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NAL DEFINI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1219320"/>
              <a:ext cx="2895840" cy="1828800"/>
            </a:xfrm>
            <a:prstGeom prst="ellipse">
              <a:avLst/>
            </a:prstGeom>
            <a:solidFill>
              <a:srgbClr val="8cf4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ITIA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PRICAL ANALY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ND DEFINI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7360" y="1752480"/>
              <a:ext cx="259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ERATURE REVIE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SER DA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76720" y="1981080"/>
              <a:ext cx="2438280" cy="0"/>
            </a:xfrm>
            <a:prstGeom prst="line">
              <a:avLst/>
            </a:prstGeom>
            <a:ln w="85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5791320"/>
              <a:ext cx="2438280" cy="0"/>
            </a:xfrm>
            <a:prstGeom prst="line">
              <a:avLst/>
            </a:prstGeom>
            <a:ln w="85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172200" y="3200400"/>
              <a:ext cx="990720" cy="762120"/>
            </a:xfrm>
            <a:prstGeom prst="line">
              <a:avLst/>
            </a:prstGeom>
            <a:ln w="85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057400" y="4114800"/>
              <a:ext cx="990720" cy="762120"/>
            </a:xfrm>
            <a:prstGeom prst="line">
              <a:avLst/>
            </a:prstGeom>
            <a:ln w="85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839080" y="64008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5120" y="2438280"/>
            <a:ext cx="990360" cy="990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514600"/>
            <a:ext cx="990360" cy="990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411480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6002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npatient Q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76620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urrent QI Mod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1600200"/>
            <a:ext cx="2895480" cy="28195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evention Q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Area L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voida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Hospitalization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ther Avoida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3809880"/>
            <a:ext cx="2971800" cy="28958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atient Safe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Q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79f"/>
                </a:solidFill>
                <a:latin typeface="Arial"/>
              </a:rPr>
              <a:t>Com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279f"/>
                </a:solidFill>
                <a:latin typeface="Arial"/>
              </a:rPr>
              <a:t>Unexpected Deat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581280" y="1600200"/>
            <a:ext cx="1828800" cy="1828800"/>
            <a:chOff x="3581280" y="1600200"/>
            <a:chExt cx="1828800" cy="1828800"/>
          </a:xfrm>
        </p:grpSpPr>
        <p:sp>
          <p:nvSpPr>
            <p:cNvPr id="208" name=""/>
            <p:cNvSpPr/>
            <p:nvPr/>
          </p:nvSpPr>
          <p:spPr>
            <a:xfrm>
              <a:off x="3581280" y="1600200"/>
              <a:ext cx="1828800" cy="1828800"/>
            </a:xfrm>
            <a:prstGeom prst="ellips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198108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ediatric QI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33520" y="4648320"/>
            <a:ext cx="1904760" cy="10666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Neonatal Q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23699E-006 L 0.22917 -0.07214 E">
                                      <p:cBhvr>
                                        <p:cTn id="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7052E-007 L -0.03333 -0.32185 E">
                                      <p:cBhvr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67052E-007 L -0.25834 -0.07769 E">
                                      <p:cBhvr>
                                        <p:cTn id="10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vention Quality Indicato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riginal QI module (released 200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 on quality of care for ambulatory care-sensitive con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 of PQ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, short-term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ated Append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, long-term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Obstructive Pulmona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stive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Birth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1440" y="1676160"/>
            <a:ext cx="3921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l 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ary Inf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ina without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ntrolled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Extremity Amputations among Patients with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920" y="-228960"/>
            <a:ext cx="66974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patient Quality Indic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set of QIs (released 200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 on quality of care inside hospit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measures of inpatient mortality, utilization, and volu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7:59:45Z</dcterms:created>
  <dc:creator>JDeLaMar</dc:creator>
  <dc:description/>
  <dc:language>en-US</dc:language>
  <cp:lastModifiedBy>william.hyde</cp:lastModifiedBy>
  <dcterms:modified xsi:type="dcterms:W3CDTF">2009-03-20T17:43:34Z</dcterms:modified>
  <cp:revision>100</cp:revision>
  <dc:subject/>
  <dc:title>Nine States Use AHRQ QIs for Public Hospital Reporting</dc:title>
</cp:coreProperties>
</file>