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F58D-ACA0-49AB-925F-CB9FBD7A0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637C-AAA3-4EF6-8CBC-9A4E88580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B6C3-48E1-44BE-8F7E-B2854D1F9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4C56-EB09-4460-8F35-C369C3200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DBF6-2F7D-44F4-A7AF-14EABE5BA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6895-1F0E-43BF-9E43-C32FC9DE0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16FF-EBA9-4C15-9F7A-01375C0E4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1EDC-7AA8-4462-8B9B-CC8C3BD56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9E1A-2EEE-4C9E-8D8E-CB682B35E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E13D-F30A-4B1D-A296-C0554CF9F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66960" cy="34261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9199-46AA-4548-890A-9D4B0F195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94CD-ED03-47CA-B370-21A43A4A6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B6EB-9B00-4793-9225-B4A681F05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208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8382-E935-40EE-AFA1-9733CD95F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5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89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91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131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33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qualityindicators.ahrq.gov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qualityindicators.ahrq.gov/" TargetMode="External"/><Relationship Id="rId2" Type="http://schemas.openxmlformats.org/officeDocument/2006/relationships/hyperlink" Target="http://qualityindicators.ahrq.gov/" TargetMode="External"/><Relationship Id="rId3" Type="http://schemas.openxmlformats.org/officeDocument/2006/relationships/hyperlink" Target="http://qualityindicators.ahrq.gov/" TargetMode="External"/><Relationship Id="rId4" Type="http://schemas.openxmlformats.org/officeDocument/2006/relationships/hyperlink" Target="mailto:support@qualityindicators.ahrq.gov" TargetMode="External"/><Relationship Id="rId5" Type="http://schemas.openxmlformats.org/officeDocument/2006/relationships/hyperlink" Target="mailto:Mamatha.Pancholi@ahrq.hhs.gov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mailto:chanskym@battelle.org" TargetMode="Externa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2590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AHRQ Quality Indicato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52280" y="396216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anie Chansky, MAA, Research Scienti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lle Memorial Instit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ember 4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st of IQI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3919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rtality Rates for Medical Condi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ute Myocardial Infar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MI, without transfer ca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gestive Heart Fail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rok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astrointestinal Hemorrh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ip Fra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neumon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1440" y="1676160"/>
            <a:ext cx="39211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43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rtality Rates for Surgical Procedur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ophageal Re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ncreatic Re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dominal Aortic Aneurysm Repa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ronary Artery Bypass Gra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rcutaneous Transluminal Coronary Angioplasty (PTC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rotid Endarterectom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raniotom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ip Repla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st of IQIs (cont’d.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3919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ospital-Level Procedure Utilization Rat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sarean Section Deliv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mary Cesarean Deliv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ginal Birth After Cesarean (VBAC), uncomplic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BAC,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paroscopic cholecystect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idental Appendectomy in the elder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-lateral cardiac catheter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1440" y="1676160"/>
            <a:ext cx="3921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rea-Level Utilization Rat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onary Artery Bypass Gra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T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sterect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minectomy or spinal 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st of IQIs (cont’d.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olume of Procedu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ophageal Re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creatic Re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dominal Aortic Aneurysm Rep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onary Artery Bypass G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T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otid endarterec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Safety Indic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rd set of QIs (released 200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37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cus on potential adverse events occurring during hospital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st of PSI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3919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ospital-Lev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lications of anesth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ath in Low Mortality DR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cubitus Ulc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lure to Resc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eign Body Left in During Proced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atrogenic Pneumothora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lected Infections Due to Medical C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toperative Hip Fra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toperative Hemorrhage or Hemato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toperative Physiologic or Metabolic Derang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toperative Respiratory Fail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39211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toperative Pulmonary Embolism or Deep Vein Thrombo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toperative Sep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toperative Wound Dehiscence in Abdominopelvic Surgical Pati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cidental Puncture or Lace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fusion Re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rth Trauma – Injury to Neon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tetric Trauma – Vaginal Delivery with Instru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tetric Trauma – Vaginal Delivery Without Instru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tetric Trauma – Cesarean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st of PSIs (cont’d.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rea-Leve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eign Body Left in During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atrogenic Pneumothor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ed Infections Due to Medical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operative Wound Dehiscence in Abdominopelvic Surgical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idental Puncture and Lac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usion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operative Hemorrhage or Hemat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ediatric Quality Indicato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2360" indent="-4323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th set of QIs (released 200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32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ures similar to other modules, but focus on pediatric pop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st of PDI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3919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spital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cidental Puncture or Lace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cubitus Ulc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eign Body Left in During Proced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atrogenic Pneumothorax in Neonates at Ris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atrogenic Pneomothorax in Non-Neona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diatric Heart Surgery Morta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diatric Heart Surgery Volu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2057040"/>
            <a:ext cx="39211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operative Hemorrhage or Hemato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operative Respiratory Fail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operative Seps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operative Wound Dehisce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lected Infections Due to Medical Ca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nsfusion Rea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st of PDIs (cont’d.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rea-Leve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thma Admission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betes Short-Term Complications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troenteritis Admission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ated Appendix Admission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Tract Infection Admission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tag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development documentation and details on each indicator available on Web site 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www.qualityindicators.ahrq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available to download at no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ized indicator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used with any administrative data: HCUP, MEDPAR,* State data sets, payer data, hospital internal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s can replicat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dicare Provider Analysis and Review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QIs and QI Modu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QF-Approved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blic Repor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lidation Eff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I To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763120" y="64008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tages (cont’d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100 individual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measure can be stratified by other variables including patient race, age, sex, provider, geographic re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 priority populations and areas:  Child health, women’s health (pregnancy and child-birth), diabetes, hypertension, ischemic heart disease, stroke, asthma, patient safety, preventive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acute care but do cross over to community and outpatient care deliver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392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tages (cont’d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monization of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tor maintenance, up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s and technical as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bench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Healthcare Quality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Healthcare Disparities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UP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urrent Limitations &amp; Challeng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s data less actionable tha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clinical det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adjustment challen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uracy hinges on accuracy of documentation and co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potentially subject to ga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la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QIs and QI Modu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QF-Approved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blic Repor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lidation Eff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I To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763120" y="64008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ational Quality Forum Endorse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5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itable for comparative reporting and quality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5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d for importance, scientific acceptability, usability, and fea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5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ffort to harmonize and standardize measures among develo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5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 Quality Indic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5000"/>
              </a:lnSpc>
              <a:spcBef>
                <a:spcPts val="10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4 Prevention Quality Indicators (PQ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5000"/>
              </a:lnSpc>
              <a:spcBef>
                <a:spcPts val="10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Inpatient Quality Indicators (IQ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5000"/>
              </a:lnSpc>
              <a:spcBef>
                <a:spcPts val="10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Patient Safety Indicators (P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5000"/>
              </a:lnSpc>
              <a:spcBef>
                <a:spcPts val="10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 Pediatric Quality Indicators (PD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534520" y="6248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4B8D-644E-4562-8FE6-B00E55B9A1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ational Quality Forum Endorsement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534520" y="6248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7E68-A997-4186-8A94-F5AD42A762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09480" y="1676520"/>
          <a:ext cx="7993080" cy="4495680"/>
        </p:xfrm>
        <a:graphic>
          <a:graphicData uri="http://schemas.openxmlformats.org/drawingml/2006/table">
            <a:tbl>
              <a:tblPr/>
              <a:tblGrid>
                <a:gridCol w="868320"/>
                <a:gridCol w="3562560"/>
                <a:gridCol w="868320"/>
                <a:gridCol w="269388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ophageal Resection Volu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F Morta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ncreatic Resection Volu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ute Stroke Morta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dominal Aortic Aneurysm (AAA) Repair Volu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p Fracture Morta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ophageal Resection Morta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neumonia Morta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ncreatic Resection Morta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tal Appendectomy in the Elder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dominal Aortic Aneurysm (AAA) Repair Morta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lateral Catheteriz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ational Quality Forum Endorsement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534520" y="6248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FAF8-6FE4-4D9C-99F1-1909684AD9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09480" y="1676520"/>
          <a:ext cx="7993080" cy="3643200"/>
        </p:xfrm>
        <a:graphic>
          <a:graphicData uri="http://schemas.openxmlformats.org/drawingml/2006/table">
            <a:tbl>
              <a:tblPr/>
              <a:tblGrid>
                <a:gridCol w="982800"/>
                <a:gridCol w="3132000"/>
                <a:gridCol w="990720"/>
                <a:gridCol w="2887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 #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th in Low Mortality DR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 #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 DVT or 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 #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th Among Surgical Inpatients With Treatable Serious Compl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 #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 Wound Dehisc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 #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eign Bod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 #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idental Puncture or Lacer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 #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atrogenic Pneumothora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 #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fusion Rea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ational Quality Forum Endorsement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534520" y="6248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B002-4FBF-4A68-AD11-B3742A4FF8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09480" y="1676520"/>
          <a:ext cx="7993080" cy="3504960"/>
        </p:xfrm>
        <a:graphic>
          <a:graphicData uri="http://schemas.openxmlformats.org/drawingml/2006/table">
            <a:tbl>
              <a:tblPr/>
              <a:tblGrid>
                <a:gridCol w="1306800"/>
                <a:gridCol w="2689200"/>
                <a:gridCol w="1261800"/>
                <a:gridCol w="273528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cat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cat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I #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idental Puncture or Lacer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I #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diatric Heart Surgery Volu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I #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ubitus Ulc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I #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 Wound Dehisc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I #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eign Bod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I #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fusion Rea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I #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atrogenic Pneumothora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QI* #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Stream Infection in Neonates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I #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diatric Heart Surgery Morta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762120" y="5791320"/>
            <a:ext cx="4495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NQI- Neonate Quality Indic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Endorsement pen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posite Meas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atient Quality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tality for Selected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tality for Selected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Safety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diatric Quality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-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ction, AAA repair, pediatric he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818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3503-4D24-4AFC-909F-FB66831730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QIs and QI Modu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QF-Approved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ublic Repor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lidation Eff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I To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763120" y="64008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ality Indicators &amp; HCU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UP:  Partnership among States, industry, and AHR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form database for cross-State studies; includes clinical, demographic, and resource use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sents all inpatient discharge data from participating States—represents approximately 90 percent of all dischar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90480" y="152280"/>
            <a:ext cx="7553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neral Uses of the AHRQ QI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4247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10000"/>
              </a:lnSpc>
              <a:spcBef>
                <a:spcPts val="1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 Quality Improvement – Internal and Exte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10000"/>
              </a:lnSpc>
              <a:spcBef>
                <a:spcPts val="1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vidual hospitals and health care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10000"/>
              </a:lnSpc>
              <a:spcBef>
                <a:spcPts val="1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tal association member-only repor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1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, State, and Regional Repo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10000"/>
              </a:lnSpc>
              <a:spcBef>
                <a:spcPts val="1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Healthcare Quality/Disparities Repo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5000"/>
              </a:lnSpc>
              <a:spcBef>
                <a:spcPts val="1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wealth Fund’s Health Performance Initi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1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y-for-Performance by Hos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10000"/>
              </a:lnSpc>
              <a:spcBef>
                <a:spcPts val="1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S/Premier De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10000"/>
              </a:lnSpc>
              <a:spcBef>
                <a:spcPts val="1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hem of Virgi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1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 Profi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10000"/>
              </a:lnSpc>
              <a:spcBef>
                <a:spcPts val="1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 Cross/Blue Shield of Illino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1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ative Public Repo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2 States Use QIs for Public Hospital Report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1405080"/>
            <a:ext cx="9144000" cy="5452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QIs and QI Modu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QF-Approved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blic Repor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lidation Eff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I To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alidation Stud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61722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RQ spons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dep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emental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 Recru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50840" y="164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alidation Pilot, Phase I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lot 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her evidence on the scientific acceptability of the P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record reviews, data analysis, clinical panels, evidence review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olidate the evidence b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guidance on the interpretation and use of th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 potential refinements to the spec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alidation Pilot, Phase I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ve evaluated PSIs have variable PPVs, which should be considered in selecting indicators for public reporting and pay-for-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lot-tested a mechanism for supporting ongoing validation work, which can be applied to estimate sensitivity in Phas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alidation Pilot, Phase II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idation Pilot, Phase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ding OMB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 sensitivity (false negatives) in addition to PPV (false positiv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 organizations have indicated an interest in participating in Phas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hospitals in HCUP partner States to particip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ther Validation Stud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61722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y HealthSystem Consortium – Patient Safety Indic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50840" y="164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QIs and QI Modu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QF-Approved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blic Repor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lidation Eff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QI To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indows Quality Indicators Software (WinQI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users to run AHRQ QI analysis with data they pro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users: federal govt., state govt.,hospital associations, individual hospitals, researc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enables calculation of QI rates as well as generation of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ackground on the QI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72600" y="1447920"/>
            <a:ext cx="8466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through contract with UCSF-Stanford Evidence-based Practice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xisting hospital discharge data, based on readily available data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11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a range of severity adjustment methods, including APR-DRGs and comorbidity grouping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modules: Prevention, Inpatient, Patient Safety, Pediatric and Neona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7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ventable Hospitalization Costs: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County-Level Mapping Too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9930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C mapping tool is a QI software application designed to help organization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understand geographical patterns of potentially preventable hospital admission rates for selected health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cate resources more effectively by calculating potential cost savings if admission rates are redu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in Functions of th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HC Mapping Too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-423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eation of ma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show the rates of hospital admission for selected health problems on a county-by-county basi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lculation of potential cost savin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may occur if the number of hospital admissions for selected health problems in each county is reduce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bility to place additional information about local populations onto ma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indicate the number of persons who are at greatest risk for those health problems in each count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ple Map for PQI 14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controlled Diabetes Admiss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5715000" cy="51051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267080" y="4191120"/>
            <a:ext cx="60984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5562720" y="1905120"/>
            <a:ext cx="3124080" cy="1969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 flipV="1">
            <a:off x="4876920" y="388584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5410080"/>
            <a:ext cx="2133720" cy="1219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2895480"/>
            <a:ext cx="1676520" cy="1797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Quintiles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 is the lowest 20%, or lowest rates. Red is the highest 20%, or highest ra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1066320" y="4876920"/>
            <a:ext cx="22860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cel Spreadsheet Produced by PHC, with Cost Savings Estimat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099280" cy="4647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952880" y="434340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324480" y="434340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15200" y="4343400"/>
            <a:ext cx="5335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48720" y="5105520"/>
            <a:ext cx="1143000" cy="824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Savings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72400" y="47242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029200" y="5638680"/>
            <a:ext cx="1981080" cy="1067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y Risk – Adjusted Rate is significantly higher than sta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4800600"/>
            <a:ext cx="152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248520" y="48006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486400" cy="5257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371600" y="1522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ple Map for PQI 14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pulation Data A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4724280"/>
            <a:ext cx="1828800" cy="1067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1981080"/>
            <a:ext cx="1904760" cy="204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 data broken into three groups. Stick figures superimposed on map to represent relative population siz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1752120" y="4190760"/>
            <a:ext cx="228600" cy="533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or More Information…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: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qualityindicators.ahrq.gov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I documentation and software are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support@qualityindicators.ahrq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Phone: (888) 512-6090 (voicemai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ff: 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5"/>
              </a:rPr>
              <a:t>Mamatha.Pancholi@ahrq.hhs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er Contact Info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anie Chansky, Batte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e: 703-248-165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chanskym@battelle.or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120" y="3047760"/>
            <a:ext cx="79930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 Indicator Evalu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57200" y="1219320"/>
            <a:ext cx="8305920" cy="5486400"/>
            <a:chOff x="457200" y="1219320"/>
            <a:chExt cx="8305920" cy="5486400"/>
          </a:xfrm>
        </p:grpSpPr>
        <p:sp>
          <p:nvSpPr>
            <p:cNvPr id="189" name=""/>
            <p:cNvSpPr/>
            <p:nvPr/>
          </p:nvSpPr>
          <p:spPr>
            <a:xfrm>
              <a:off x="457200" y="1447920"/>
              <a:ext cx="2666880" cy="1371600"/>
            </a:xfrm>
            <a:prstGeom prst="rect">
              <a:avLst/>
            </a:prstGeom>
            <a:solidFill>
              <a:srgbClr val="51d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00400" y="3429000"/>
              <a:ext cx="2743200" cy="1371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ANEL EVALU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" y="4876920"/>
              <a:ext cx="2666880" cy="182880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URTH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MPIRICAL ANALYS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FINED DEF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95880" y="5105520"/>
              <a:ext cx="2667240" cy="1600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URTHER REVIEW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INAL DEFINI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7280" y="1219320"/>
              <a:ext cx="2895840" cy="182880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ITIAL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MPRICAL ANALYS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ND DEFINI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7360" y="1752480"/>
              <a:ext cx="2594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ERATURE REVIE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SER DA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76720" y="1981080"/>
              <a:ext cx="2438280" cy="0"/>
            </a:xfrm>
            <a:prstGeom prst="line">
              <a:avLst/>
            </a:prstGeom>
            <a:ln w="85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6720" y="5791320"/>
              <a:ext cx="2438280" cy="0"/>
            </a:xfrm>
            <a:prstGeom prst="line">
              <a:avLst/>
            </a:prstGeom>
            <a:ln w="85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172200" y="3200400"/>
              <a:ext cx="990720" cy="762120"/>
            </a:xfrm>
            <a:prstGeom prst="line">
              <a:avLst/>
            </a:prstGeom>
            <a:ln w="85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057400" y="4114800"/>
              <a:ext cx="990720" cy="762120"/>
            </a:xfrm>
            <a:prstGeom prst="line">
              <a:avLst/>
            </a:prstGeom>
            <a:ln w="85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8839080" y="64008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5120" y="2438280"/>
            <a:ext cx="990360" cy="9907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2514600"/>
            <a:ext cx="990360" cy="990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411480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600200"/>
            <a:ext cx="2743200" cy="266688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Inpatient Q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Volu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766200" cy="96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urrent QI Mod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1600200"/>
            <a:ext cx="2895480" cy="281952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revention Q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Area Leve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voidab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Hospitalization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Other Avoidab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3809880"/>
            <a:ext cx="2971800" cy="28958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atient Safe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Q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279f"/>
                </a:solidFill>
                <a:latin typeface="Arial"/>
              </a:rPr>
              <a:t>Complica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279f"/>
                </a:solidFill>
                <a:latin typeface="Arial"/>
              </a:rPr>
              <a:t>Unexpected Death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581280" y="1600200"/>
            <a:ext cx="1828800" cy="1828800"/>
            <a:chOff x="3581280" y="1600200"/>
            <a:chExt cx="1828800" cy="1828800"/>
          </a:xfrm>
        </p:grpSpPr>
        <p:sp>
          <p:nvSpPr>
            <p:cNvPr id="208" name=""/>
            <p:cNvSpPr/>
            <p:nvPr/>
          </p:nvSpPr>
          <p:spPr>
            <a:xfrm>
              <a:off x="3581280" y="1600200"/>
              <a:ext cx="1828800" cy="182880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57600" y="198108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Pediatric QI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33520" y="4648320"/>
            <a:ext cx="1904760" cy="10666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Neonatal Q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23699E-006 L 0.22917 -0.07214 E">
                                      <p:cBhvr>
                                        <p:cTn id="6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7052E-007 L -0.03333 -0.32185 E">
                                      <p:cBhvr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7052E-007 L -0.25834 -0.07769 E">
                                      <p:cBhvr>
                                        <p:cTn id="10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evention Quality Indicato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08960" indent="-4089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riginal QI module (released 200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0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cus on quality of care for ambulatory care-sensitive cond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st of PQI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3919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es, short-term co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ated Append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es, long-term co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nic Obstructive Pulmonary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estive Heart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Birth W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1440" y="1676160"/>
            <a:ext cx="39211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l Pneumo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ary Inf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ina without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ntrolled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ult 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Extremity Amputations among Patients with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920" y="-228960"/>
            <a:ext cx="669744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patient Quality Indic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 set of QIs (released 200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cus on quality of care inside hospit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ludes measures of inpatient mortality, utilization, and volu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7:59:45Z</dcterms:created>
  <dc:creator>JDeLaMar</dc:creator>
  <dc:description/>
  <dc:language>en-US</dc:language>
  <cp:lastModifiedBy>william.hyde</cp:lastModifiedBy>
  <dcterms:modified xsi:type="dcterms:W3CDTF">2009-03-20T17:43:34Z</dcterms:modified>
  <cp:revision>100</cp:revision>
  <dc:subject/>
  <dc:title>Nine States Use AHRQ QIs for Public Hospital Reporting</dc:title>
</cp:coreProperties>
</file>