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137D6FC-F917-42AE-AA37-C15534CC2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92EAA67-A4DE-4E20-A897-40783E09D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ones could be available through HCUPnet in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ah is one of the 8 states in the “strong”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– hospital care is based on HCUP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tal charges were converted to costs using cost-to-charge ratios based on hospital accounting reports from the Centers for Medicare and Medicaid Services (CM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l Ethics Committee discussion, 8/27/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 show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CD4F-EDAA-497B-9064-7BE4C7D9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8171-3729-4153-A92F-B05A2298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6B0E-29EF-49DB-B026-7A933281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E1C2-8959-4FC4-A138-8BF4F72C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F5A-5A65-443F-B404-5CF1FE88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59BB-99C5-4DEA-84EB-B65417C3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34BB-130F-48B8-B0DB-866658CF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6CB8-68FA-408F-8259-6CED8A58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3BEE-FCD5-4C72-8FFE-93E1B7A3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4836-F408-4F08-96AE-ECE99BB3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8FAA-EDD7-446D-B592-94A9113C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D8DB-7FB7-4E68-ABA1-6548AAB7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A6FC-4F55-457D-9A16-3472B1122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800" spc="-1" strike="noStrike">
                <a:solidFill>
                  <a:srgbClr val="000000"/>
                </a:solidFill>
                <a:latin typeface="Arial"/>
              </a:rPr>
              <a:t>HCUPnet for </a:t>
            </a:r>
            <a:br>
              <a:rPr sz="4800"/>
            </a:br>
            <a:r>
              <a:rPr b="0" lang="en" sz="4800" spc="-1" strike="noStrike">
                <a:solidFill>
                  <a:srgbClr val="000000"/>
                </a:solidFill>
                <a:latin typeface="Arial"/>
              </a:rPr>
              <a:t>State Policymakers </a:t>
            </a:r>
            <a:br>
              <a:rPr sz="4800"/>
            </a:br>
            <a:r>
              <a:rPr b="0" lang="en" sz="4800" spc="-1" strike="noStrike">
                <a:solidFill>
                  <a:srgbClr val="000000"/>
                </a:solidFill>
                <a:latin typeface="Arial"/>
              </a:rPr>
              <a:t>- Utah’s Use Case</a:t>
            </a:r>
            <a:r>
              <a:rPr b="0" lang="e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2362320" cy="17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41148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05320" y="4343400"/>
            <a:ext cx="502920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u Xu, PhD, Dire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 of Public Health 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ah 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RQ State Quality Improvement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ember 6-7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6800" y="5530680"/>
            <a:ext cx="8102520" cy="298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0-1993: Established a vision, mission, priority, and health data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808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ealth Data Building Blocks for Policy Analysis, 1990-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2880" y="590400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3581280"/>
            <a:ext cx="45259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1: Use ICD data to support the Patient Safety Initi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03480" y="5232240"/>
            <a:ext cx="6765840" cy="29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3: Established Hospital Inpatient Discharge Repor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98920" y="4933800"/>
            <a:ext cx="5270400" cy="29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6: Established Ambulatory Surgery Data Repor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98920" y="4635360"/>
            <a:ext cx="5270400" cy="29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6: Established Emergency Department Data Repor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98920" y="4038480"/>
            <a:ext cx="5270400" cy="29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6: Established HMO Enrollee Satisfaction Repor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98920" y="4336920"/>
            <a:ext cx="5270400" cy="29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6: Established HMO HEDIS Performance Repor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2600" y="594360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3124080"/>
            <a:ext cx="4145040" cy="444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: Evaluate Medicaid Waiver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2705040"/>
            <a:ext cx="3763800" cy="419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4 Health Plan Pharmacy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1752480" cy="1665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562720" y="2209680"/>
            <a:ext cx="327636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5: Senate Bill 132: Consumer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1752480"/>
            <a:ext cx="30780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7: House Bill 9: Healthcare Co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(All Claims All Pati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0A0-32C6-4EC9-8467-6459D41EB6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ful Data for State Policyma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ictures from a state to the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summary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an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 all settings &amp; types of health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d to state policy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new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, short, &amp;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010280" y="5105520"/>
            <a:ext cx="1905120" cy="142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8ED1-774B-42AD-A41B-9834DCF82E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se Case 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2819520" cy="266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4079880" cy="4572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346640" y="525780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summary indicators in 3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2FBB-A327-4658-B488-7B19112250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ational-Compar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 a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Sources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r Policy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 summary indicators in the rep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used national data or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8 – AHR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MS Health Care Expenditur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CHS Hospital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CQA H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 United Health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used Utah data an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YU 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c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use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tah data and meth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x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5772240"/>
            <a:ext cx="914400" cy="68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912F-B790-4ECB-8DFB-01086D5A8D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UT_0_N_Speedo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4416480" cy="2876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267080" y="2286000"/>
            <a:ext cx="1028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838080"/>
            <a:ext cx="62485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3d3c"/>
                </a:solidFill>
                <a:latin typeface="Arial"/>
              </a:rPr>
              <a:t>Utah’s Overall Health Care Quality Performance Compared to All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666880" y="5486400"/>
            <a:ext cx="4429080" cy="252360"/>
            <a:chOff x="2666880" y="5486400"/>
            <a:chExt cx="4429080" cy="252360"/>
          </a:xfrm>
        </p:grpSpPr>
        <p:grpSp>
          <p:nvGrpSpPr>
            <p:cNvPr id="113" name=""/>
            <p:cNvGrpSpPr/>
            <p:nvPr/>
          </p:nvGrpSpPr>
          <p:grpSpPr>
            <a:xfrm>
              <a:off x="5029200" y="5486400"/>
              <a:ext cx="2066760" cy="215640"/>
              <a:chOff x="5029200" y="5486400"/>
              <a:chExt cx="2066760" cy="215640"/>
            </a:xfrm>
          </p:grpSpPr>
          <p:sp>
            <p:nvSpPr>
              <p:cNvPr id="114" name=""/>
              <p:cNvSpPr/>
              <p:nvPr/>
            </p:nvSpPr>
            <p:spPr>
              <a:xfrm flipV="1">
                <a:off x="5638680" y="5638680"/>
                <a:ext cx="800280" cy="1440"/>
              </a:xfrm>
              <a:prstGeom prst="line">
                <a:avLst/>
              </a:prstGeom>
              <a:ln w="22320">
                <a:solidFill>
                  <a:srgbClr val="28242e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029200" y="5486400"/>
                <a:ext cx="2066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d3d3c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3d3d3c"/>
                    </a:solidFill>
                    <a:latin typeface="Arial"/>
                  </a:rPr>
                  <a:t>Current</a:t>
                </a:r>
                <a:r>
                  <a:rPr b="1" lang="en-US" sz="1000" spc="-1" strike="noStrike">
                    <a:solidFill>
                      <a:srgbClr val="3d3d3c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666880" y="5486400"/>
              <a:ext cx="2057400" cy="252360"/>
              <a:chOff x="2666880" y="5486400"/>
              <a:chExt cx="2057400" cy="252360"/>
            </a:xfrm>
          </p:grpSpPr>
          <p:sp>
            <p:nvSpPr>
              <p:cNvPr id="117" name=""/>
              <p:cNvSpPr/>
              <p:nvPr/>
            </p:nvSpPr>
            <p:spPr>
              <a:xfrm>
                <a:off x="3809880" y="5639040"/>
                <a:ext cx="800280" cy="0"/>
              </a:xfrm>
              <a:prstGeom prst="line">
                <a:avLst/>
              </a:prstGeom>
              <a:ln w="22320">
                <a:solidFill>
                  <a:srgbClr val="21212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666880" y="5486400"/>
                <a:ext cx="2057400" cy="25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d3d3c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3d3d3c"/>
                    </a:solidFill>
                    <a:latin typeface="Arial"/>
                  </a:rPr>
                  <a:t>Base Li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"/>
          <p:cNvSpPr/>
          <p:nvPr/>
        </p:nvSpPr>
        <p:spPr>
          <a:xfrm>
            <a:off x="1981080" y="594360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9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0880" y="457200"/>
            <a:ext cx="19242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HQ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th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CUP Dat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4FAE-560F-49AF-B8A8-9233805114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48320" y="2971800"/>
            <a:ext cx="380880" cy="438120"/>
          </a:xfrm>
          <a:prstGeom prst="star5">
            <a:avLst/>
          </a:prstGeom>
          <a:solidFill>
            <a:srgbClr val="6c2b2c"/>
          </a:solidFill>
          <a:ln w="936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3733920"/>
            <a:ext cx="325440" cy="380880"/>
          </a:xfrm>
          <a:prstGeom prst="star5">
            <a:avLst/>
          </a:prstGeom>
          <a:solidFill>
            <a:srgbClr val="6c2b2c"/>
          </a:solidFill>
          <a:ln w="936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50080" y="761760"/>
            <a:ext cx="577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Quality Variation by Care Type and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624852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10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5772240"/>
            <a:ext cx="914400" cy="684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719320" y="5060880"/>
            <a:ext cx="1462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Very strong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16840" y="50608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54520" y="5310360"/>
            <a:ext cx="1499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above aver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67120" y="5022720"/>
            <a:ext cx="2312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Home Health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46280" y="50227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64240" y="5349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14520" y="4511520"/>
            <a:ext cx="202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On ave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50960" y="4538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67120" y="4341960"/>
            <a:ext cx="2468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Nursing Home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01800" y="434196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64240" y="4668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05680" y="3726000"/>
            <a:ext cx="1291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Strong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32560" y="37260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41240" y="3975120"/>
            <a:ext cx="2085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above ave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31680" y="40021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65320" y="3648240"/>
            <a:ext cx="169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Hospital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23840" y="36482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64240" y="39751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18280" y="3017880"/>
            <a:ext cx="1291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Strong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45160" y="30178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56000" y="3267000"/>
            <a:ext cx="2144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above averag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96840" y="3294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65680" y="2967120"/>
            <a:ext cx="1646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Chronic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85680" y="29671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64240" y="3294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96800" y="2428920"/>
            <a:ext cx="202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On ave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24289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65320" y="2271600"/>
            <a:ext cx="1398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Acute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39800" y="227160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64240" y="26002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09760" y="1760400"/>
            <a:ext cx="202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               </a:t>
            </a:r>
            <a:r>
              <a:rPr b="0" lang="en-US" sz="1700" spc="-1" strike="noStrike">
                <a:solidFill>
                  <a:srgbClr val="3d3d3c"/>
                </a:solidFill>
                <a:latin typeface="Arial"/>
              </a:rPr>
              <a:t>On ave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46200" y="17874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65320" y="1552680"/>
            <a:ext cx="2004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Preventive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49280" y="155268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64240" y="1879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27160" y="1487520"/>
            <a:ext cx="6404040" cy="0"/>
          </a:xfrm>
          <a:prstGeom prst="line">
            <a:avLst/>
          </a:prstGeom>
          <a:ln cap="sq" w="3816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2680" y="1944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7720" y="2246400"/>
            <a:ext cx="10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3760" y="254628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440" y="2860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43560" y="28353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9160" y="352908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440" y="3830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2680" y="4132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33120" y="413244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2680" y="4446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33120" y="444672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60760" y="4746600"/>
            <a:ext cx="6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7920" y="4746600"/>
            <a:ext cx="4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4760" y="5048280"/>
            <a:ext cx="13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2680" y="5349960"/>
            <a:ext cx="13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0rial Unicode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56520" y="53244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d3d3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613400" y="5062680"/>
            <a:ext cx="338040" cy="392040"/>
            <a:chOff x="4613400" y="5062680"/>
            <a:chExt cx="338040" cy="392040"/>
          </a:xfrm>
        </p:grpSpPr>
        <p:sp>
          <p:nvSpPr>
            <p:cNvPr id="179" name=""/>
            <p:cNvSpPr/>
            <p:nvPr/>
          </p:nvSpPr>
          <p:spPr>
            <a:xfrm>
              <a:off x="4613400" y="5062680"/>
              <a:ext cx="338040" cy="392040"/>
            </a:xfrm>
            <a:custGeom>
              <a:avLst/>
              <a:gdLst/>
              <a:ahLst/>
              <a:rect l="l" t="t" r="r" b="b"/>
              <a:pathLst>
                <a:path w="213" h="247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7"/>
                  </a:lnTo>
                  <a:lnTo>
                    <a:pt x="107" y="190"/>
                  </a:lnTo>
                  <a:lnTo>
                    <a:pt x="172" y="247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13400" y="5062680"/>
              <a:ext cx="338040" cy="392040"/>
            </a:xfrm>
            <a:custGeom>
              <a:avLst/>
              <a:gdLst/>
              <a:ahLst/>
              <a:rect l="l" t="t" r="r" b="b"/>
              <a:pathLst>
                <a:path w="213" h="247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7"/>
                  </a:lnTo>
                  <a:lnTo>
                    <a:pt x="107" y="190"/>
                  </a:lnTo>
                  <a:lnTo>
                    <a:pt x="172" y="247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302000" y="5062680"/>
            <a:ext cx="338040" cy="392040"/>
            <a:chOff x="4302000" y="5062680"/>
            <a:chExt cx="338040" cy="392040"/>
          </a:xfrm>
        </p:grpSpPr>
        <p:sp>
          <p:nvSpPr>
            <p:cNvPr id="182" name=""/>
            <p:cNvSpPr/>
            <p:nvPr/>
          </p:nvSpPr>
          <p:spPr>
            <a:xfrm>
              <a:off x="4302000" y="5062680"/>
              <a:ext cx="338040" cy="392040"/>
            </a:xfrm>
            <a:custGeom>
              <a:avLst/>
              <a:gdLst/>
              <a:ahLst/>
              <a:rect l="l" t="t" r="r" b="b"/>
              <a:pathLst>
                <a:path w="213" h="247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7"/>
                  </a:lnTo>
                  <a:lnTo>
                    <a:pt x="107" y="190"/>
                  </a:lnTo>
                  <a:lnTo>
                    <a:pt x="172" y="247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02000" y="5062680"/>
              <a:ext cx="338040" cy="392040"/>
            </a:xfrm>
            <a:custGeom>
              <a:avLst/>
              <a:gdLst/>
              <a:ahLst/>
              <a:rect l="l" t="t" r="r" b="b"/>
              <a:pathLst>
                <a:path w="213" h="247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7"/>
                  </a:lnTo>
                  <a:lnTo>
                    <a:pt x="107" y="190"/>
                  </a:lnTo>
                  <a:lnTo>
                    <a:pt x="172" y="247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938840" y="5062680"/>
            <a:ext cx="336600" cy="392040"/>
            <a:chOff x="4938840" y="5062680"/>
            <a:chExt cx="336600" cy="392040"/>
          </a:xfrm>
        </p:grpSpPr>
        <p:sp>
          <p:nvSpPr>
            <p:cNvPr id="185" name=""/>
            <p:cNvSpPr/>
            <p:nvPr/>
          </p:nvSpPr>
          <p:spPr>
            <a:xfrm>
              <a:off x="4938840" y="5062680"/>
              <a:ext cx="336600" cy="3920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0" y="247"/>
                  </a:lnTo>
                  <a:lnTo>
                    <a:pt x="106" y="190"/>
                  </a:lnTo>
                  <a:lnTo>
                    <a:pt x="171" y="247"/>
                  </a:lnTo>
                  <a:lnTo>
                    <a:pt x="143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38840" y="5062680"/>
              <a:ext cx="336600" cy="3920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0" y="247"/>
                  </a:lnTo>
                  <a:lnTo>
                    <a:pt x="106" y="190"/>
                  </a:lnTo>
                  <a:lnTo>
                    <a:pt x="171" y="247"/>
                  </a:lnTo>
                  <a:lnTo>
                    <a:pt x="143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249880" y="5062680"/>
            <a:ext cx="336240" cy="392040"/>
            <a:chOff x="5249880" y="5062680"/>
            <a:chExt cx="336240" cy="392040"/>
          </a:xfrm>
        </p:grpSpPr>
        <p:sp>
          <p:nvSpPr>
            <p:cNvPr id="188" name=""/>
            <p:cNvSpPr/>
            <p:nvPr/>
          </p:nvSpPr>
          <p:spPr>
            <a:xfrm>
              <a:off x="5249880" y="5062680"/>
              <a:ext cx="336240" cy="3920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0" y="247"/>
                  </a:lnTo>
                  <a:lnTo>
                    <a:pt x="106" y="190"/>
                  </a:lnTo>
                  <a:lnTo>
                    <a:pt x="171" y="247"/>
                  </a:lnTo>
                  <a:lnTo>
                    <a:pt x="143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49880" y="5062680"/>
              <a:ext cx="336240" cy="3920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0" y="247"/>
                  </a:lnTo>
                  <a:lnTo>
                    <a:pt x="106" y="190"/>
                  </a:lnTo>
                  <a:lnTo>
                    <a:pt x="171" y="247"/>
                  </a:lnTo>
                  <a:lnTo>
                    <a:pt x="143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302000" y="4440240"/>
            <a:ext cx="338040" cy="393840"/>
            <a:chOff x="4302000" y="4440240"/>
            <a:chExt cx="338040" cy="393840"/>
          </a:xfrm>
        </p:grpSpPr>
        <p:sp>
          <p:nvSpPr>
            <p:cNvPr id="191" name=""/>
            <p:cNvSpPr/>
            <p:nvPr/>
          </p:nvSpPr>
          <p:spPr>
            <a:xfrm>
              <a:off x="4302000" y="4440240"/>
              <a:ext cx="338040" cy="393840"/>
            </a:xfrm>
            <a:custGeom>
              <a:avLst/>
              <a:gdLst/>
              <a:ahLst/>
              <a:rect l="l" t="t" r="r" b="b"/>
              <a:pathLst>
                <a:path w="213" h="248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8"/>
                  </a:lnTo>
                  <a:lnTo>
                    <a:pt x="107" y="190"/>
                  </a:lnTo>
                  <a:lnTo>
                    <a:pt x="172" y="248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02000" y="4440240"/>
              <a:ext cx="338040" cy="393840"/>
            </a:xfrm>
            <a:custGeom>
              <a:avLst/>
              <a:gdLst/>
              <a:ahLst/>
              <a:rect l="l" t="t" r="r" b="b"/>
              <a:pathLst>
                <a:path w="213" h="248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8"/>
                  </a:lnTo>
                  <a:lnTo>
                    <a:pt x="107" y="190"/>
                  </a:lnTo>
                  <a:lnTo>
                    <a:pt x="172" y="248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640400" y="4440240"/>
            <a:ext cx="336240" cy="393840"/>
            <a:chOff x="4640400" y="4440240"/>
            <a:chExt cx="336240" cy="393840"/>
          </a:xfrm>
        </p:grpSpPr>
        <p:sp>
          <p:nvSpPr>
            <p:cNvPr id="194" name=""/>
            <p:cNvSpPr/>
            <p:nvPr/>
          </p:nvSpPr>
          <p:spPr>
            <a:xfrm>
              <a:off x="4640400" y="4440240"/>
              <a:ext cx="336240" cy="39384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1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3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40400" y="4440240"/>
              <a:ext cx="336240" cy="39384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1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3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309920" y="2992320"/>
            <a:ext cx="336600" cy="393840"/>
            <a:chOff x="4309920" y="2992320"/>
            <a:chExt cx="336600" cy="393840"/>
          </a:xfrm>
        </p:grpSpPr>
        <p:sp>
          <p:nvSpPr>
            <p:cNvPr id="197" name=""/>
            <p:cNvSpPr/>
            <p:nvPr/>
          </p:nvSpPr>
          <p:spPr>
            <a:xfrm>
              <a:off x="4309920" y="2992320"/>
              <a:ext cx="336600" cy="39384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7"/>
                  </a:lnTo>
                  <a:lnTo>
                    <a:pt x="40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7" y="157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09920" y="2992320"/>
              <a:ext cx="336600" cy="39384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7"/>
                  </a:lnTo>
                  <a:lnTo>
                    <a:pt x="40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7" y="157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921200" y="2971800"/>
            <a:ext cx="412560" cy="456840"/>
            <a:chOff x="4921200" y="2971800"/>
            <a:chExt cx="412560" cy="456840"/>
          </a:xfrm>
        </p:grpSpPr>
        <p:sp>
          <p:nvSpPr>
            <p:cNvPr id="200" name=""/>
            <p:cNvSpPr/>
            <p:nvPr/>
          </p:nvSpPr>
          <p:spPr>
            <a:xfrm>
              <a:off x="4921200" y="2971800"/>
              <a:ext cx="412560" cy="4568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4"/>
                  </a:lnTo>
                  <a:lnTo>
                    <a:pt x="0" y="94"/>
                  </a:lnTo>
                  <a:lnTo>
                    <a:pt x="69" y="152"/>
                  </a:lnTo>
                  <a:lnTo>
                    <a:pt x="44" y="247"/>
                  </a:lnTo>
                  <a:lnTo>
                    <a:pt x="106" y="189"/>
                  </a:lnTo>
                  <a:lnTo>
                    <a:pt x="171" y="247"/>
                  </a:lnTo>
                  <a:lnTo>
                    <a:pt x="147" y="152"/>
                  </a:lnTo>
                  <a:lnTo>
                    <a:pt x="212" y="94"/>
                  </a:lnTo>
                  <a:lnTo>
                    <a:pt x="134" y="9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21200" y="2971800"/>
              <a:ext cx="412560" cy="4568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4"/>
                  </a:lnTo>
                  <a:lnTo>
                    <a:pt x="0" y="94"/>
                  </a:lnTo>
                  <a:lnTo>
                    <a:pt x="69" y="152"/>
                  </a:lnTo>
                  <a:lnTo>
                    <a:pt x="44" y="247"/>
                  </a:lnTo>
                  <a:lnTo>
                    <a:pt x="106" y="189"/>
                  </a:lnTo>
                  <a:lnTo>
                    <a:pt x="171" y="247"/>
                  </a:lnTo>
                  <a:lnTo>
                    <a:pt x="147" y="152"/>
                  </a:lnTo>
                  <a:lnTo>
                    <a:pt x="212" y="94"/>
                  </a:lnTo>
                  <a:lnTo>
                    <a:pt x="134" y="94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302000" y="3726000"/>
            <a:ext cx="338040" cy="393480"/>
            <a:chOff x="4302000" y="3726000"/>
            <a:chExt cx="338040" cy="393480"/>
          </a:xfrm>
        </p:grpSpPr>
        <p:sp>
          <p:nvSpPr>
            <p:cNvPr id="203" name=""/>
            <p:cNvSpPr/>
            <p:nvPr/>
          </p:nvSpPr>
          <p:spPr>
            <a:xfrm>
              <a:off x="4302000" y="3726000"/>
              <a:ext cx="338040" cy="393480"/>
            </a:xfrm>
            <a:custGeom>
              <a:avLst/>
              <a:gdLst/>
              <a:ahLst/>
              <a:rect l="l" t="t" r="r" b="b"/>
              <a:pathLst>
                <a:path w="213" h="248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8"/>
                  </a:lnTo>
                  <a:lnTo>
                    <a:pt x="107" y="190"/>
                  </a:lnTo>
                  <a:lnTo>
                    <a:pt x="172" y="248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02000" y="3726000"/>
              <a:ext cx="338040" cy="393480"/>
            </a:xfrm>
            <a:custGeom>
              <a:avLst/>
              <a:gdLst/>
              <a:ahLst/>
              <a:rect l="l" t="t" r="r" b="b"/>
              <a:pathLst>
                <a:path w="213" h="248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3"/>
                  </a:lnTo>
                  <a:lnTo>
                    <a:pt x="41" y="248"/>
                  </a:lnTo>
                  <a:lnTo>
                    <a:pt x="107" y="190"/>
                  </a:lnTo>
                  <a:lnTo>
                    <a:pt x="172" y="248"/>
                  </a:lnTo>
                  <a:lnTo>
                    <a:pt x="143" y="153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648320" y="3733920"/>
            <a:ext cx="338040" cy="393480"/>
            <a:chOff x="4648320" y="3733920"/>
            <a:chExt cx="338040" cy="393480"/>
          </a:xfrm>
        </p:grpSpPr>
        <p:sp>
          <p:nvSpPr>
            <p:cNvPr id="206" name=""/>
            <p:cNvSpPr/>
            <p:nvPr/>
          </p:nvSpPr>
          <p:spPr>
            <a:xfrm>
              <a:off x="4648320" y="3733920"/>
              <a:ext cx="338040" cy="393480"/>
            </a:xfrm>
            <a:custGeom>
              <a:avLst/>
              <a:gdLst/>
              <a:ahLst/>
              <a:rect l="l" t="t" r="r" b="b"/>
              <a:pathLst>
                <a:path w="213" h="248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7"/>
                  </a:lnTo>
                  <a:lnTo>
                    <a:pt x="41" y="248"/>
                  </a:lnTo>
                  <a:lnTo>
                    <a:pt x="107" y="194"/>
                  </a:lnTo>
                  <a:lnTo>
                    <a:pt x="172" y="248"/>
                  </a:lnTo>
                  <a:lnTo>
                    <a:pt x="147" y="157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48320" y="3733920"/>
              <a:ext cx="338040" cy="393480"/>
            </a:xfrm>
            <a:custGeom>
              <a:avLst/>
              <a:gdLst/>
              <a:ahLst/>
              <a:rect l="l" t="t" r="r" b="b"/>
              <a:pathLst>
                <a:path w="213" h="248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66" y="157"/>
                  </a:lnTo>
                  <a:lnTo>
                    <a:pt x="41" y="248"/>
                  </a:lnTo>
                  <a:lnTo>
                    <a:pt x="107" y="194"/>
                  </a:lnTo>
                  <a:lnTo>
                    <a:pt x="172" y="248"/>
                  </a:lnTo>
                  <a:lnTo>
                    <a:pt x="147" y="157"/>
                  </a:lnTo>
                  <a:lnTo>
                    <a:pt x="213" y="95"/>
                  </a:lnTo>
                  <a:lnTo>
                    <a:pt x="131" y="9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43560" y="1676520"/>
            <a:ext cx="336240" cy="393480"/>
            <a:chOff x="4543560" y="1676520"/>
            <a:chExt cx="336240" cy="393480"/>
          </a:xfrm>
        </p:grpSpPr>
        <p:sp>
          <p:nvSpPr>
            <p:cNvPr id="209" name=""/>
            <p:cNvSpPr/>
            <p:nvPr/>
          </p:nvSpPr>
          <p:spPr>
            <a:xfrm>
              <a:off x="4543560" y="1676520"/>
              <a:ext cx="336240" cy="39348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9" y="153"/>
                  </a:lnTo>
                  <a:lnTo>
                    <a:pt x="44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7" y="153"/>
                  </a:lnTo>
                  <a:lnTo>
                    <a:pt x="212" y="95"/>
                  </a:lnTo>
                  <a:lnTo>
                    <a:pt x="134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43560" y="1676520"/>
              <a:ext cx="336240" cy="39348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9" y="153"/>
                  </a:lnTo>
                  <a:lnTo>
                    <a:pt x="44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7" y="153"/>
                  </a:lnTo>
                  <a:lnTo>
                    <a:pt x="212" y="95"/>
                  </a:lnTo>
                  <a:lnTo>
                    <a:pt x="134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322880" y="1676520"/>
            <a:ext cx="336600" cy="393480"/>
            <a:chOff x="4322880" y="1676520"/>
            <a:chExt cx="336600" cy="393480"/>
          </a:xfrm>
        </p:grpSpPr>
        <p:sp>
          <p:nvSpPr>
            <p:cNvPr id="212" name=""/>
            <p:cNvSpPr/>
            <p:nvPr/>
          </p:nvSpPr>
          <p:spPr>
            <a:xfrm>
              <a:off x="4322880" y="1676520"/>
              <a:ext cx="336600" cy="39348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1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7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22880" y="1676520"/>
              <a:ext cx="336600" cy="393480"/>
            </a:xfrm>
            <a:custGeom>
              <a:avLst/>
              <a:gdLst/>
              <a:ahLst/>
              <a:rect l="l" t="t" r="r" b="b"/>
              <a:pathLst>
                <a:path w="212" h="248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1" y="248"/>
                  </a:lnTo>
                  <a:lnTo>
                    <a:pt x="106" y="190"/>
                  </a:lnTo>
                  <a:lnTo>
                    <a:pt x="171" y="248"/>
                  </a:lnTo>
                  <a:lnTo>
                    <a:pt x="147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529160" y="2338560"/>
            <a:ext cx="338040" cy="392040"/>
            <a:chOff x="4529160" y="2338560"/>
            <a:chExt cx="338040" cy="392040"/>
          </a:xfrm>
        </p:grpSpPr>
        <p:sp>
          <p:nvSpPr>
            <p:cNvPr id="215" name=""/>
            <p:cNvSpPr/>
            <p:nvPr/>
          </p:nvSpPr>
          <p:spPr>
            <a:xfrm>
              <a:off x="4529160" y="2338560"/>
              <a:ext cx="338040" cy="392040"/>
            </a:xfrm>
            <a:custGeom>
              <a:avLst/>
              <a:gdLst/>
              <a:ahLst/>
              <a:rect l="l" t="t" r="r" b="b"/>
              <a:pathLst>
                <a:path w="213" h="247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70" y="153"/>
                  </a:lnTo>
                  <a:lnTo>
                    <a:pt x="45" y="247"/>
                  </a:lnTo>
                  <a:lnTo>
                    <a:pt x="107" y="190"/>
                  </a:lnTo>
                  <a:lnTo>
                    <a:pt x="172" y="247"/>
                  </a:lnTo>
                  <a:lnTo>
                    <a:pt x="147" y="153"/>
                  </a:lnTo>
                  <a:lnTo>
                    <a:pt x="213" y="95"/>
                  </a:lnTo>
                  <a:lnTo>
                    <a:pt x="135" y="9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29160" y="2338560"/>
              <a:ext cx="338040" cy="392040"/>
            </a:xfrm>
            <a:custGeom>
              <a:avLst/>
              <a:gdLst/>
              <a:ahLst/>
              <a:rect l="l" t="t" r="r" b="b"/>
              <a:pathLst>
                <a:path w="213" h="247">
                  <a:moveTo>
                    <a:pt x="107" y="0"/>
                  </a:moveTo>
                  <a:lnTo>
                    <a:pt x="82" y="95"/>
                  </a:lnTo>
                  <a:lnTo>
                    <a:pt x="0" y="95"/>
                  </a:lnTo>
                  <a:lnTo>
                    <a:pt x="70" y="153"/>
                  </a:lnTo>
                  <a:lnTo>
                    <a:pt x="45" y="247"/>
                  </a:lnTo>
                  <a:lnTo>
                    <a:pt x="107" y="190"/>
                  </a:lnTo>
                  <a:lnTo>
                    <a:pt x="172" y="247"/>
                  </a:lnTo>
                  <a:lnTo>
                    <a:pt x="147" y="153"/>
                  </a:lnTo>
                  <a:lnTo>
                    <a:pt x="213" y="95"/>
                  </a:lnTo>
                  <a:lnTo>
                    <a:pt x="135" y="9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309920" y="2338560"/>
            <a:ext cx="336600" cy="392040"/>
            <a:chOff x="4309920" y="2338560"/>
            <a:chExt cx="336600" cy="392040"/>
          </a:xfrm>
        </p:grpSpPr>
        <p:sp>
          <p:nvSpPr>
            <p:cNvPr id="218" name=""/>
            <p:cNvSpPr/>
            <p:nvPr/>
          </p:nvSpPr>
          <p:spPr>
            <a:xfrm>
              <a:off x="4309920" y="2338560"/>
              <a:ext cx="336600" cy="3920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0" y="247"/>
                  </a:lnTo>
                  <a:lnTo>
                    <a:pt x="106" y="190"/>
                  </a:lnTo>
                  <a:lnTo>
                    <a:pt x="171" y="247"/>
                  </a:lnTo>
                  <a:lnTo>
                    <a:pt x="147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6c2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09920" y="2338560"/>
              <a:ext cx="336600" cy="3920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06" y="0"/>
                  </a:moveTo>
                  <a:lnTo>
                    <a:pt x="81" y="95"/>
                  </a:lnTo>
                  <a:lnTo>
                    <a:pt x="0" y="95"/>
                  </a:lnTo>
                  <a:lnTo>
                    <a:pt x="65" y="153"/>
                  </a:lnTo>
                  <a:lnTo>
                    <a:pt x="40" y="247"/>
                  </a:lnTo>
                  <a:lnTo>
                    <a:pt x="106" y="190"/>
                  </a:lnTo>
                  <a:lnTo>
                    <a:pt x="171" y="247"/>
                  </a:lnTo>
                  <a:lnTo>
                    <a:pt x="147" y="153"/>
                  </a:lnTo>
                  <a:lnTo>
                    <a:pt x="212" y="95"/>
                  </a:lnTo>
                  <a:lnTo>
                    <a:pt x="130" y="95"/>
                  </a:lnTo>
                  <a:lnTo>
                    <a:pt x="106" y="0"/>
                  </a:lnTo>
                  <a:close/>
                </a:path>
              </a:pathLst>
            </a:custGeom>
            <a:noFill/>
            <a:ln cap="rnd" w="12600">
              <a:solidFill>
                <a:srgbClr val="3d3d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 txBox="1"/>
          <p:nvPr/>
        </p:nvSpPr>
        <p:spPr>
          <a:xfrm>
            <a:off x="7543800" y="304920"/>
            <a:ext cx="1009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HQ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th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CUP Dat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543A-D5D1-494F-8620-11DA3DC6CF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259080" y="4897440"/>
            <a:ext cx="98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59080" y="4060800"/>
            <a:ext cx="98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59080" y="2919240"/>
            <a:ext cx="986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74960" y="1724040"/>
            <a:ext cx="9129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Number of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92600" y="1925640"/>
            <a:ext cx="826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Indicat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89520" y="5530680"/>
            <a:ext cx="338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Obstetric Injuries, 3rd or 4th Degree Lacer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89520" y="5713560"/>
            <a:ext cx="3975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Cesarean Delivery; Foreign Body Left During Procedure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89520" y="5896080"/>
            <a:ext cx="9126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ath in 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13320" y="5902200"/>
            <a:ext cx="1611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; Transfusion Rea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6320" y="5578560"/>
            <a:ext cx="1118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d3d3c"/>
                </a:solidFill>
                <a:latin typeface="Arial"/>
              </a:rPr>
              <a:t>Not Applic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90520" y="5821200"/>
            <a:ext cx="1230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d3d3c"/>
                </a:solidFill>
                <a:latin typeface="Arial"/>
              </a:rPr>
              <a:t>(Too few case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89520" y="4660920"/>
            <a:ext cx="3641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Accidental Puncture or Laceration; Complications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89520" y="4843440"/>
            <a:ext cx="357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Anesthesia; Postoperative Pulmonary Embolism 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89520" y="5025960"/>
            <a:ext cx="2412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ep Vein Thrombosis; Iatrogen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74600" y="5002200"/>
            <a:ext cx="14623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Worse  th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30280" y="5221440"/>
            <a:ext cx="7509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exp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89520" y="3821040"/>
            <a:ext cx="3328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Postoperative Hip Fracture Rate; Postoperati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89520" y="4003560"/>
            <a:ext cx="1100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Hemorrhage 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91120" y="4003560"/>
            <a:ext cx="7682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Hemato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859360" y="4003560"/>
            <a:ext cx="1935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; Postoperative Respirato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89520" y="4186080"/>
            <a:ext cx="36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Failure; Postoperative Sepsis; Postoperative Wou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89520" y="4368960"/>
            <a:ext cx="8190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hisc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89520" y="2438280"/>
            <a:ext cx="698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cubi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32200" y="2438280"/>
            <a:ext cx="3137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Ulcer; Failure to Rescue; Selected Infec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89520" y="2620800"/>
            <a:ext cx="350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ue to Medical Care; Postoperative Physiologic &amp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9520" y="2803680"/>
            <a:ext cx="37303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Metabolic Derangement; Obstetric Injuries, 3rd or 4t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89520" y="2986200"/>
            <a:ext cx="1411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gree Lacer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02160" y="2986200"/>
            <a:ext cx="540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97560" y="2986200"/>
            <a:ext cx="2365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Vaginal Delivery With Instrumen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89520" y="3168720"/>
            <a:ext cx="33890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Obstetric Injuries, 3rd or 4th Degree Lacer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89520" y="3349800"/>
            <a:ext cx="3671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Vaginal Delivery Without Instrument; Birth Injuries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89520" y="3532320"/>
            <a:ext cx="75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Newborn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49280" y="3159000"/>
            <a:ext cx="9129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Better th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30280" y="3400560"/>
            <a:ext cx="75096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exp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40240" y="1724040"/>
            <a:ext cx="1230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Indicator Lab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055520" y="1724040"/>
            <a:ext cx="11192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Compared t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55520" y="1925640"/>
            <a:ext cx="1582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States with Simila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55520" y="2125800"/>
            <a:ext cx="15224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Patient Popul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90720" y="1676520"/>
            <a:ext cx="7095960" cy="2880"/>
          </a:xfrm>
          <a:prstGeom prst="line">
            <a:avLst/>
          </a:prstGeom>
          <a:ln cap="sq"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41400" y="2370240"/>
            <a:ext cx="7094520" cy="144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41400" y="3754440"/>
            <a:ext cx="7094520" cy="144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41400" y="4592520"/>
            <a:ext cx="7094520" cy="180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41400" y="5452920"/>
            <a:ext cx="7094520" cy="180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41400" y="6230880"/>
            <a:ext cx="7094520" cy="3240"/>
          </a:xfrm>
          <a:prstGeom prst="line">
            <a:avLst/>
          </a:prstGeom>
          <a:ln cap="sq"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39960" y="1657440"/>
            <a:ext cx="1800" cy="441468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035920" y="1657440"/>
            <a:ext cx="41400" cy="4667040"/>
          </a:xfrm>
          <a:prstGeom prst="line">
            <a:avLst/>
          </a:prstGeom>
          <a:ln cap="sq"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75040" y="1657440"/>
            <a:ext cx="1800" cy="457668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59080" y="5775480"/>
            <a:ext cx="39708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59080" y="4897440"/>
            <a:ext cx="98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59080" y="4060800"/>
            <a:ext cx="98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59080" y="2919240"/>
            <a:ext cx="986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4960" y="1724040"/>
            <a:ext cx="9129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Number of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92600" y="1925640"/>
            <a:ext cx="826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Indicat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948200" y="5902200"/>
            <a:ext cx="465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R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89520" y="4660920"/>
            <a:ext cx="3641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Accidental Puncture or Laceration; Complications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89520" y="4843440"/>
            <a:ext cx="357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Anesthesia; Postoperative Pulmonary Embolism 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89520" y="5025960"/>
            <a:ext cx="2412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ep Vein Thrombosis; Iatrogen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242040" y="5037120"/>
            <a:ext cx="1019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Pneumothor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89520" y="3821040"/>
            <a:ext cx="3328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Postoperative Hip Fracture Rate; Postoperati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89520" y="4003560"/>
            <a:ext cx="1100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Hemorrhage 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91120" y="4003560"/>
            <a:ext cx="7682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Hemato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859360" y="4003560"/>
            <a:ext cx="1935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; Postoperative Respirato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89520" y="4186080"/>
            <a:ext cx="366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Failure; Postoperative Sepsis; Postoperative Wou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89520" y="4368960"/>
            <a:ext cx="8190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hisc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54080" y="4302000"/>
            <a:ext cx="15033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Same as exp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89520" y="2438280"/>
            <a:ext cx="698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cubi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732200" y="2438280"/>
            <a:ext cx="3137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Ulcer; Failure to Rescue; Selected Infec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89520" y="2620800"/>
            <a:ext cx="350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ue to Medical Care; Postoperative Physiologic &amp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89520" y="2803680"/>
            <a:ext cx="37303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Metabolic Derangement; Obstetric Injuries, 3rd or 4t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89520" y="2986200"/>
            <a:ext cx="1411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Degree Lacer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402160" y="2986200"/>
            <a:ext cx="540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97560" y="2986200"/>
            <a:ext cx="2365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Vaginal Delivery With Instrumen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89520" y="3168720"/>
            <a:ext cx="33890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Obstetric Injuries, 3rd or 4th Degree Lacera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159680" y="3168720"/>
            <a:ext cx="540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89520" y="3349800"/>
            <a:ext cx="3671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Vaginal Delivery Without Instrument; Birth Injuries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89520" y="3532320"/>
            <a:ext cx="75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3d3c"/>
                </a:solidFill>
                <a:latin typeface="Arial"/>
              </a:rPr>
              <a:t>Newborn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40240" y="1724040"/>
            <a:ext cx="1230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Indicator Lab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55520" y="1724040"/>
            <a:ext cx="11192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Compared t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55520" y="1925640"/>
            <a:ext cx="1582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States with Simila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55520" y="2125800"/>
            <a:ext cx="15224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d3d3c"/>
                </a:solidFill>
                <a:latin typeface="Arial"/>
              </a:rPr>
              <a:t>Patient Popul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41400" y="2370240"/>
            <a:ext cx="7094520" cy="144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41400" y="3754440"/>
            <a:ext cx="7094520" cy="144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41400" y="4592520"/>
            <a:ext cx="7094520" cy="180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936360" y="1657440"/>
            <a:ext cx="4680" cy="4576680"/>
          </a:xfrm>
          <a:prstGeom prst="line">
            <a:avLst/>
          </a:prstGeom>
          <a:ln cap="sq"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39960" y="1657440"/>
            <a:ext cx="1800" cy="4576680"/>
          </a:xfrm>
          <a:prstGeom prst="line">
            <a:avLst/>
          </a:prstGeom>
          <a:ln w="1260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319040" y="2610000"/>
            <a:ext cx="973080" cy="365040"/>
            <a:chOff x="1319040" y="2610000"/>
            <a:chExt cx="973080" cy="365040"/>
          </a:xfrm>
        </p:grpSpPr>
        <p:grpSp>
          <p:nvGrpSpPr>
            <p:cNvPr id="307" name=""/>
            <p:cNvGrpSpPr/>
            <p:nvPr/>
          </p:nvGrpSpPr>
          <p:grpSpPr>
            <a:xfrm>
              <a:off x="1319040" y="2610000"/>
              <a:ext cx="686880" cy="365040"/>
              <a:chOff x="1319040" y="2610000"/>
              <a:chExt cx="686880" cy="365040"/>
            </a:xfrm>
          </p:grpSpPr>
          <p:sp>
            <p:nvSpPr>
              <p:cNvPr id="308" name=""/>
              <p:cNvSpPr/>
              <p:nvPr/>
            </p:nvSpPr>
            <p:spPr>
              <a:xfrm>
                <a:off x="1662480" y="2610000"/>
                <a:ext cx="343440" cy="365040"/>
              </a:xfrm>
              <a:prstGeom prst="star5">
                <a:avLst/>
              </a:prstGeom>
              <a:solidFill>
                <a:srgbClr val="6b2a2b"/>
              </a:solidFill>
              <a:ln w="9360">
                <a:solidFill>
                  <a:srgbClr val="3d3d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319040" y="2610000"/>
                <a:ext cx="343440" cy="365040"/>
              </a:xfrm>
              <a:prstGeom prst="star5">
                <a:avLst/>
              </a:prstGeom>
              <a:solidFill>
                <a:srgbClr val="6b2a2b"/>
              </a:solidFill>
              <a:ln w="9360">
                <a:solidFill>
                  <a:srgbClr val="3d3d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1948680" y="2610000"/>
              <a:ext cx="343440" cy="365040"/>
            </a:xfrm>
            <a:prstGeom prst="star5">
              <a:avLst/>
            </a:prstGeom>
            <a:solidFill>
              <a:srgbClr val="6b2a2b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407960" y="3794040"/>
            <a:ext cx="795600" cy="365040"/>
            <a:chOff x="1407960" y="3794040"/>
            <a:chExt cx="795600" cy="365040"/>
          </a:xfrm>
        </p:grpSpPr>
        <p:sp>
          <p:nvSpPr>
            <p:cNvPr id="312" name=""/>
            <p:cNvSpPr/>
            <p:nvPr/>
          </p:nvSpPr>
          <p:spPr>
            <a:xfrm>
              <a:off x="1805760" y="3794040"/>
              <a:ext cx="397800" cy="365040"/>
            </a:xfrm>
            <a:prstGeom prst="star5">
              <a:avLst/>
            </a:prstGeom>
            <a:solidFill>
              <a:srgbClr val="6b2a2b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07960" y="3794040"/>
              <a:ext cx="397800" cy="365040"/>
            </a:xfrm>
            <a:prstGeom prst="star5">
              <a:avLst/>
            </a:prstGeom>
            <a:solidFill>
              <a:srgbClr val="6b2a2b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628640" y="4614840"/>
            <a:ext cx="354240" cy="365040"/>
          </a:xfrm>
          <a:prstGeom prst="star5">
            <a:avLst/>
          </a:prstGeom>
          <a:solidFill>
            <a:srgbClr val="6b2a2b"/>
          </a:solidFill>
          <a:ln w="9360">
            <a:solidFill>
              <a:srgbClr val="3d3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38080" y="380880"/>
            <a:ext cx="73152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3d3c"/>
                </a:solidFill>
                <a:latin typeface="Arial"/>
              </a:rPr>
              <a:t>Performance Summary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3d3c"/>
                </a:solidFill>
                <a:latin typeface="Arial"/>
              </a:rPr>
              <a:t>AHRQ Patient Safety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3d3c"/>
                </a:solidFill>
                <a:latin typeface="Arial"/>
              </a:rPr>
              <a:t>Utah: 2003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05120" y="632448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11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7543800" y="457200"/>
            <a:ext cx="914400" cy="6843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685800" y="228600"/>
            <a:ext cx="990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2C28-D765-453B-A341-8055CAD87E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981080" y="2209680"/>
            <a:ext cx="5380200" cy="687240"/>
            <a:chOff x="1981080" y="2209680"/>
            <a:chExt cx="5380200" cy="687240"/>
          </a:xfrm>
        </p:grpSpPr>
        <p:grpSp>
          <p:nvGrpSpPr>
            <p:cNvPr id="320" name=""/>
            <p:cNvGrpSpPr/>
            <p:nvPr/>
          </p:nvGrpSpPr>
          <p:grpSpPr>
            <a:xfrm>
              <a:off x="1981080" y="2209680"/>
              <a:ext cx="1218960" cy="407520"/>
              <a:chOff x="1981080" y="2209680"/>
              <a:chExt cx="1218960" cy="40752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1981080" y="2209680"/>
                <a:ext cx="860400" cy="407160"/>
                <a:chOff x="1981080" y="2209680"/>
                <a:chExt cx="860400" cy="40716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411280" y="2209680"/>
                  <a:ext cx="430200" cy="407160"/>
                </a:xfrm>
                <a:prstGeom prst="star5">
                  <a:avLst/>
                </a:prstGeom>
                <a:solidFill>
                  <a:srgbClr val="6b2a2b"/>
                </a:solidFill>
                <a:ln w="9360">
                  <a:solidFill>
                    <a:srgbClr val="3d3d3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981080" y="2209680"/>
                  <a:ext cx="430200" cy="407160"/>
                </a:xfrm>
                <a:prstGeom prst="star5">
                  <a:avLst/>
                </a:prstGeom>
                <a:solidFill>
                  <a:srgbClr val="6b2a2b"/>
                </a:solidFill>
                <a:ln w="9360">
                  <a:solidFill>
                    <a:srgbClr val="3d3d3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2769840" y="2209680"/>
                <a:ext cx="430200" cy="407520"/>
              </a:xfrm>
              <a:prstGeom prst="star5">
                <a:avLst/>
              </a:prstGeom>
              <a:solidFill>
                <a:srgbClr val="6b2a2b"/>
              </a:solidFill>
              <a:ln w="9360">
                <a:solidFill>
                  <a:srgbClr val="3d3d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3268800" y="2319120"/>
              <a:ext cx="40924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= Hospital performed </a:t>
              </a:r>
              <a:r>
                <a:rPr b="0" lang="en-US" sz="1200" spc="-1" strike="noStrike" u="sng">
                  <a:solidFill>
                    <a:srgbClr val="3d3d3c"/>
                  </a:solidFill>
                  <a:uFillTx/>
                  <a:latin typeface="Arial"/>
                </a:rPr>
                <a:t>better than expected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than their pe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hospitals in the nation that treated similar patien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40120" y="2668320"/>
              <a:ext cx="1314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d3d3c"/>
                  </a:solidFill>
                  <a:latin typeface="Arial"/>
                </a:rPr>
                <a:t>In consumer repor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447920" y="3200400"/>
            <a:ext cx="6400800" cy="2286000"/>
            <a:chOff x="1447920" y="3200400"/>
            <a:chExt cx="6400800" cy="2286000"/>
          </a:xfrm>
        </p:grpSpPr>
        <p:sp>
          <p:nvSpPr>
            <p:cNvPr id="328" name=""/>
            <p:cNvSpPr/>
            <p:nvPr/>
          </p:nvSpPr>
          <p:spPr>
            <a:xfrm>
              <a:off x="6760080" y="4860000"/>
              <a:ext cx="108864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d3d3c"/>
                  </a:solidFill>
                  <a:latin typeface="Arial"/>
                </a:rPr>
                <a:t>hospit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06800" y="4860000"/>
              <a:ext cx="95328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d3d3c"/>
                  </a:solidFill>
                  <a:latin typeface="Arial"/>
                </a:rPr>
                <a:t>hospit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447920" y="4860000"/>
              <a:ext cx="435888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Obstetric Injuries, 3</a:t>
              </a:r>
              <a:r>
                <a:rPr b="0" lang="en-US" sz="1200" spc="-1" strike="noStrike" baseline="30000">
                  <a:solidFill>
                    <a:srgbClr val="3d3d3c"/>
                  </a:solidFill>
                  <a:latin typeface="Arial"/>
                </a:rPr>
                <a:t>rd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or 4</a:t>
              </a:r>
              <a:r>
                <a:rPr b="0" lang="en-US" sz="1200" spc="-1" strike="noStrike" baseline="30000">
                  <a:solidFill>
                    <a:srgbClr val="3d3d3c"/>
                  </a:solidFill>
                  <a:latin typeface="Arial"/>
                </a:rPr>
                <a:t>th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Degree Lacerations – Vaginal Delivery </a:t>
              </a:r>
              <a:r>
                <a:rPr b="0" lang="en-US" sz="1200" spc="-1" strike="noStrike" u="sng">
                  <a:solidFill>
                    <a:srgbClr val="3d3d3c"/>
                  </a:solidFill>
                  <a:uFillTx/>
                  <a:latin typeface="Arial"/>
                </a:rPr>
                <a:t>Without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Instru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60080" y="4187160"/>
              <a:ext cx="1088640" cy="67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d3d3c"/>
                  </a:solidFill>
                  <a:latin typeface="Arial"/>
                </a:rPr>
                <a:t>hospit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06800" y="4187160"/>
              <a:ext cx="953280" cy="67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d3d3c"/>
                  </a:solidFill>
                  <a:latin typeface="Arial"/>
                </a:rPr>
                <a:t>hospit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47920" y="4187160"/>
              <a:ext cx="4358880" cy="67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Obstetric Injuries, 3</a:t>
              </a:r>
              <a:r>
                <a:rPr b="0" lang="en-US" sz="1200" spc="-1" strike="noStrike" baseline="30000">
                  <a:solidFill>
                    <a:srgbClr val="3d3d3c"/>
                  </a:solidFill>
                  <a:latin typeface="Arial"/>
                </a:rPr>
                <a:t>rd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or 4</a:t>
              </a:r>
              <a:r>
                <a:rPr b="0" lang="en-US" sz="1200" spc="-1" strike="noStrike" baseline="30000">
                  <a:solidFill>
                    <a:srgbClr val="3d3d3c"/>
                  </a:solidFill>
                  <a:latin typeface="Arial"/>
                </a:rPr>
                <a:t>th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Degree Lacerations – Vaginal Delivery </a:t>
              </a:r>
              <a:r>
                <a:rPr b="0" lang="en-US" sz="1200" spc="-1" strike="noStrike" u="sng">
                  <a:solidFill>
                    <a:srgbClr val="3d3d3c"/>
                  </a:solidFill>
                  <a:uFillTx/>
                  <a:latin typeface="Arial"/>
                </a:rPr>
                <a:t>With</a:t>
              </a:r>
              <a:r>
                <a:rPr b="0" lang="en-US" sz="1200" spc="-1" strike="noStrike">
                  <a:solidFill>
                    <a:srgbClr val="3d3d3c"/>
                  </a:solidFill>
                  <a:latin typeface="Arial"/>
                </a:rPr>
                <a:t> Instru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60080" y="3811680"/>
              <a:ext cx="108864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806800" y="3811680"/>
              <a:ext cx="95328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7920" y="3811680"/>
              <a:ext cx="435888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Patient Safety Indic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47920" y="3811680"/>
              <a:ext cx="6400800" cy="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47920" y="4187160"/>
              <a:ext cx="640080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7920" y="4860000"/>
              <a:ext cx="640080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47920" y="5486400"/>
              <a:ext cx="6400800" cy="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47920" y="3811680"/>
              <a:ext cx="0" cy="167472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06800" y="3811680"/>
              <a:ext cx="0" cy="167472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60080" y="3811680"/>
              <a:ext cx="0" cy="167472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48720" y="3811680"/>
              <a:ext cx="0" cy="167472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95440" y="3200400"/>
              <a:ext cx="6305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Numbers of Three-Star Hospital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In the Consumer Reports on Obstetric Safety: 2004 - 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594360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12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269360" y="701640"/>
            <a:ext cx="66164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Public Repor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Can Reduce Performance Var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914400" cy="6843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304920" y="228600"/>
            <a:ext cx="99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4528-A929-46C0-9C35-64A52A8909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362320" y="624852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16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33520" y="5562720"/>
            <a:ext cx="914400" cy="6840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1828800" y="843120"/>
            <a:ext cx="6553080" cy="49766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04920" y="533520"/>
            <a:ext cx="1447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ne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1A12-6863-4885-9F47-245D2FF55F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981080" y="601992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23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04920" y="5943600"/>
            <a:ext cx="914400" cy="6843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6372360" cy="45784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209680" y="457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000000"/>
                </a:solidFill>
                <a:latin typeface="Arial"/>
              </a:rPr>
              <a:t>Trends of Hospital 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228600"/>
            <a:ext cx="1447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ne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AC34-5C4F-4B72-9524-6C127D1B87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ment</a:t>
            </a:r>
            <a:br>
              <a:rPr sz="4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those wh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lead,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       guide, or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            suppo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evidence-based</a:t>
            </a:r>
            <a:br>
              <a:rPr sz="4000"/>
            </a:b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                  policyma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14840" y="0"/>
            <a:ext cx="3587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E798-61D2-4370-982A-C0282D4FDC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981080" y="4952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000" spc="-1" strike="noStrike">
                <a:solidFill>
                  <a:srgbClr val="ff0000"/>
                </a:solidFill>
                <a:latin typeface="Arial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4724280"/>
            <a:ext cx="4038480" cy="129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961-DBF2-4B0F-914B-02F612DCB3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133720" y="609588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26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90920" y="4572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Use Statewide Cost-to-Charge Ratio to Estimate Total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04920" y="5791320"/>
            <a:ext cx="914400" cy="684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1828800" y="2362320"/>
            <a:ext cx="6553080" cy="34448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285000" y="1525320"/>
            <a:ext cx="4498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Increased Inpatient Total Facility Charg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Costs Adjusted by Cost-to-Charge Ratio (CC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Utah, 1997-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380880"/>
            <a:ext cx="1295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-T.A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3A03-E899-4264-A214-5CCB716E0A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6096240" cy="33451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905120" y="20574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d3d3c"/>
                </a:solidFill>
                <a:latin typeface="Arial"/>
              </a:rPr>
              <a:t>Percentage of Outpatient Emergency Department Visit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d3d3c"/>
                </a:solidFill>
                <a:latin typeface="Arial"/>
              </a:rPr>
              <a:t>Primary Care Sensitive Conditions: Utah, 2001-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624852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17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 rot="19791000">
            <a:off x="0" y="533520"/>
            <a:ext cx="18352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ed From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ne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2" name=""/>
          <p:cNvSpPr/>
          <p:nvPr/>
        </p:nvSpPr>
        <p:spPr>
          <a:xfrm>
            <a:off x="1219320" y="685800"/>
            <a:ext cx="7467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York University’s Metho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ing Access to Primary Care Through Emergent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457200" y="5791320"/>
            <a:ext cx="914400" cy="68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3B0E-3058-4B0E-904F-BCE34C62CE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1447920" y="914400"/>
            <a:ext cx="6933960" cy="5084640"/>
            <a:chOff x="1447920" y="914400"/>
            <a:chExt cx="6933960" cy="5084640"/>
          </a:xfrm>
        </p:grpSpPr>
        <p:sp>
          <p:nvSpPr>
            <p:cNvPr id="375" name=""/>
            <p:cNvSpPr/>
            <p:nvPr/>
          </p:nvSpPr>
          <p:spPr>
            <a:xfrm>
              <a:off x="1447920" y="914400"/>
              <a:ext cx="69339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d3d3c"/>
                  </a:solidFill>
                  <a:latin typeface="Arial"/>
                </a:rPr>
                <a:t>Hospitalization Rates for Ambulatory Care Sensitive Conditions by County, Utah: 1996-2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6" name="" descr=""/>
            <p:cNvPicPr/>
            <p:nvPr/>
          </p:nvPicPr>
          <p:blipFill>
            <a:blip r:embed="rId1"/>
            <a:stretch/>
          </p:blipFill>
          <p:spPr>
            <a:xfrm>
              <a:off x="2285640" y="1447560"/>
              <a:ext cx="5028840" cy="455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"/>
          <p:cNvSpPr/>
          <p:nvPr/>
        </p:nvSpPr>
        <p:spPr>
          <a:xfrm>
            <a:off x="2133720" y="632448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18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30492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York University’s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304920" y="5715000"/>
            <a:ext cx="914400" cy="6843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 rot="19791000">
            <a:off x="151920" y="533520"/>
            <a:ext cx="1911600" cy="9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ed From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ne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D84A-2F3F-4E28-96B3-4C5B274204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1523880" y="1447920"/>
            <a:ext cx="6362640" cy="4341240"/>
            <a:chOff x="1523880" y="1447920"/>
            <a:chExt cx="6362640" cy="4341240"/>
          </a:xfrm>
        </p:grpSpPr>
        <p:sp>
          <p:nvSpPr>
            <p:cNvPr id="382" name=""/>
            <p:cNvSpPr/>
            <p:nvPr/>
          </p:nvSpPr>
          <p:spPr>
            <a:xfrm>
              <a:off x="1523880" y="1447920"/>
              <a:ext cx="636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Arial"/>
                </a:rPr>
                <a:t>Utilization Rates of Hospital Inpatients, Outpatient Surgeries, or Emergency Room Visits, per 100 Population: Utah and U.S., 1999-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1"/>
            <a:stretch/>
          </p:blipFill>
          <p:spPr>
            <a:xfrm>
              <a:off x="1823400" y="2037960"/>
              <a:ext cx="5822640" cy="375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2286000" y="609588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24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457200"/>
            <a:ext cx="7467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C NCHS National Estim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Hospital Discharge 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7696080" y="380880"/>
            <a:ext cx="914400" cy="684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 rot="19791000">
            <a:off x="152280" y="456840"/>
            <a:ext cx="19116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ed From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CUPne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8" name=""/>
          <p:cNvSpPr/>
          <p:nvPr/>
        </p:nvSpPr>
        <p:spPr>
          <a:xfrm flipH="1" rot="18288600">
            <a:off x="4504680" y="3132720"/>
            <a:ext cx="1055520" cy="552600"/>
          </a:xfrm>
          <a:prstGeom prst="rightArrow">
            <a:avLst>
              <a:gd name="adj1" fmla="val 50000"/>
              <a:gd name="adj2" fmla="val 4775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2B38-0C61-4671-83F2-DEC497889E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1219320" y="1371600"/>
            <a:ext cx="7009920" cy="4190760"/>
            <a:chOff x="1219320" y="1371600"/>
            <a:chExt cx="7009920" cy="4190760"/>
          </a:xfrm>
        </p:grpSpPr>
        <p:sp>
          <p:nvSpPr>
            <p:cNvPr id="390" name=""/>
            <p:cNvSpPr/>
            <p:nvPr/>
          </p:nvSpPr>
          <p:spPr>
            <a:xfrm>
              <a:off x="1220760" y="4751280"/>
              <a:ext cx="6988680" cy="811080"/>
            </a:xfrm>
            <a:prstGeom prst="rect">
              <a:avLst/>
            </a:prstGeom>
            <a:solidFill>
              <a:srgbClr val="ecf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20760" y="3342960"/>
              <a:ext cx="6988680" cy="675720"/>
            </a:xfrm>
            <a:prstGeom prst="rect">
              <a:avLst/>
            </a:prstGeom>
            <a:solidFill>
              <a:srgbClr val="ecf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19320" y="1844640"/>
              <a:ext cx="6988680" cy="743400"/>
            </a:xfrm>
            <a:prstGeom prst="rect">
              <a:avLst/>
            </a:prstGeom>
            <a:solidFill>
              <a:srgbClr val="ecf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38400" y="4768200"/>
              <a:ext cx="690840" cy="7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22400" y="4768200"/>
              <a:ext cx="5615640" cy="7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500"/>
              </a:b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Utah faces huge challenges in </a:t>
              </a: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promotion of preventive care</a:t>
              </a: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31560" y="4768200"/>
              <a:ext cx="690840" cy="7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38400" y="4033800"/>
              <a:ext cx="69084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22400" y="4033800"/>
              <a:ext cx="561564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Public reporting</a:t>
              </a: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 on quality and safety can reduce performance variations among hospital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31560" y="4033800"/>
              <a:ext cx="69084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38400" y="3333600"/>
              <a:ext cx="6908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900"/>
              </a:b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22400" y="3466800"/>
              <a:ext cx="561564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Baseline measures of hospital </a:t>
              </a: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patient safety</a:t>
              </a: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 are established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31560" y="3333600"/>
              <a:ext cx="6908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38400" y="2599200"/>
              <a:ext cx="69084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   </a:t>
              </a: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22400" y="2599200"/>
              <a:ext cx="561564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Significant quality variations existed among types of care and care settings. Utah’s </a:t>
              </a: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nursing home care quality</a:t>
              </a: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 was weaker than hospital or home health car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31560" y="2599200"/>
              <a:ext cx="69084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38400" y="1863360"/>
              <a:ext cx="690840" cy="73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    </a:t>
              </a:r>
              <a:r>
                <a:rPr b="1" lang="en-US" sz="1200" spc="-1" strike="noStrike">
                  <a:solidFill>
                    <a:srgbClr val="3d3d3c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22400" y="1863360"/>
              <a:ext cx="5615640" cy="73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Utah’s </a:t>
              </a: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overall health care quality</a:t>
              </a: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 was ranked as “Strong” in the 2006 </a:t>
              </a:r>
              <a:br>
                <a:rPr sz="1100"/>
              </a:b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National Healthcare Quality Report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231560" y="1863360"/>
              <a:ext cx="690840" cy="73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38400" y="1371600"/>
              <a:ext cx="69084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    </a:t>
              </a:r>
              <a:r>
                <a:rPr b="0" lang="en-US" sz="1100" spc="-1" strike="noStrike">
                  <a:solidFill>
                    <a:srgbClr val="3d3d3c"/>
                  </a:solidFill>
                  <a:latin typeface="Arial"/>
                </a:rPr>
                <a:t>P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22400" y="1371600"/>
              <a:ext cx="561564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Highligh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31560" y="1371600"/>
              <a:ext cx="69084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d3d3c"/>
                  </a:solidFill>
                  <a:latin typeface="Arial"/>
                </a:rPr>
                <a:t>Tre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31560" y="1371600"/>
              <a:ext cx="6997680" cy="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31560" y="1863360"/>
              <a:ext cx="699768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31560" y="2599200"/>
              <a:ext cx="699768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31560" y="3333600"/>
              <a:ext cx="699768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1560" y="4033800"/>
              <a:ext cx="699768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31560" y="4768200"/>
              <a:ext cx="6997680" cy="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31560" y="5562360"/>
              <a:ext cx="6997680" cy="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31560" y="1371600"/>
              <a:ext cx="0" cy="419076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22400" y="1371600"/>
              <a:ext cx="0" cy="419076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38400" y="1371600"/>
              <a:ext cx="0" cy="4190760"/>
            </a:xfrm>
            <a:prstGeom prst="line">
              <a:avLst/>
            </a:prstGeom>
            <a:ln w="1260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229240" y="1371600"/>
              <a:ext cx="0" cy="4190760"/>
            </a:xfrm>
            <a:prstGeom prst="line">
              <a:avLst/>
            </a:prstGeom>
            <a:ln cap="sq" w="2844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0800000">
              <a:off x="1423800" y="4277880"/>
              <a:ext cx="256320" cy="270360"/>
            </a:xfrm>
            <a:prstGeom prst="downArrow">
              <a:avLst>
                <a:gd name="adj1" fmla="val 50000"/>
                <a:gd name="adj2" fmla="val 26369"/>
              </a:avLst>
            </a:prstGeom>
            <a:solidFill>
              <a:srgbClr val="c2e0e4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80960" y="2118600"/>
              <a:ext cx="342000" cy="180000"/>
            </a:xfrm>
            <a:prstGeom prst="rightArrow">
              <a:avLst>
                <a:gd name="adj1" fmla="val 50000"/>
                <a:gd name="adj2" fmla="val 47500"/>
              </a:avLst>
            </a:prstGeom>
            <a:solidFill>
              <a:srgbClr val="c2e0e4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23800" y="5021640"/>
              <a:ext cx="256320" cy="270360"/>
            </a:xfrm>
            <a:prstGeom prst="downArrow">
              <a:avLst>
                <a:gd name="adj1" fmla="val 50000"/>
                <a:gd name="adj2" fmla="val 26369"/>
              </a:avLst>
            </a:prstGeom>
            <a:solidFill>
              <a:srgbClr val="c2e0e4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80960" y="3601800"/>
              <a:ext cx="342000" cy="180360"/>
            </a:xfrm>
            <a:prstGeom prst="rightArrow">
              <a:avLst>
                <a:gd name="adj1" fmla="val 50000"/>
                <a:gd name="adj2" fmla="val 47405"/>
              </a:avLst>
            </a:prstGeom>
            <a:solidFill>
              <a:srgbClr val="c2e0e4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23800" y="2858400"/>
              <a:ext cx="256320" cy="270360"/>
            </a:xfrm>
            <a:prstGeom prst="downArrow">
              <a:avLst>
                <a:gd name="adj1" fmla="val 50000"/>
                <a:gd name="adj2" fmla="val 26369"/>
              </a:avLst>
            </a:prstGeom>
            <a:solidFill>
              <a:srgbClr val="c2e0e4"/>
            </a:solidFill>
            <a:ln w="9360">
              <a:solidFill>
                <a:srgbClr val="3d3d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1905120" y="586728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Page 8, “Challenges in Utah’s Health Car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6094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ah’s Self Rating on Trends of Quality and Patient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457200" y="5715000"/>
            <a:ext cx="914400" cy="68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DBF5-43E4-4A77-9E5A-275A27D588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2667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OH released the report on the same day when AHRQ released the National Quality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F36D-383F-413E-B754-1BD26D0672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 Rank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114800" y="1828800"/>
            <a:ext cx="4038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mmonwealth Fund Health System Report Card (2007), released 06/13/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766960" cy="358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609480" y="4191120"/>
          <a:ext cx="7925040" cy="1535040"/>
        </p:xfrm>
        <a:graphic>
          <a:graphicData uri="http://schemas.openxmlformats.org/drawingml/2006/table">
            <a:tbl>
              <a:tblPr/>
              <a:tblGrid>
                <a:gridCol w="1320840"/>
                <a:gridCol w="1320840"/>
                <a:gridCol w="1092240"/>
                <a:gridCol w="1549440"/>
                <a:gridCol w="1320840"/>
                <a:gridCol w="13208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dable hospital use &amp;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y l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CE29-7CA8-4450-9A35-A5B2D1329A2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undwall, Exec. Dir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the inves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indicators comparab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methods compar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data compar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n we learn from the Commonwealth Fund re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Utah Medical Ethics Committee (UMEC) had a rich discussion on August 28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Ranking Dynamic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22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17D7-4644-4871-9EA8-CC0C6C4702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tinction between outcome measures and process measures was evident in the various ranking sche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 seems to be at a point where our measure definitions are standardized but the validity of each specific measure can’t be taken for gran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MEC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7391520" y="171360"/>
            <a:ext cx="1523880" cy="114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F136-7B41-4D56-90BA-F3239E6A0A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67053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A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Evidence-based Policy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059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Sundwall, MD, Exec Dir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Department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eader in using health data for evidence-based policym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leadership principle #2 is science-based practice and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men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919920" y="228600"/>
            <a:ext cx="189396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CBCD-4622-4C10-B6CF-31F785EB40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 Home Messag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action between policymakers and analysts is the starting point for evidence-based policyma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y” with HCUPnet to explore answers for your policy ques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 HCUP for technical assistance, if HCUPnet doesn’t have the data you nee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D5D9-33E9-4823-B364-5F554F14D94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6002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u 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xu@utah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7391520" y="171360"/>
            <a:ext cx="152388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UID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Evidence-based Policyma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rk Hinckley, Robert Huefner, Leslie Francis, Stephen Kroes and other members of Utah Health Data Committee for their guidance in vision &amp; policy analysis to transform healthcare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031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38080" y="3733920"/>
            <a:ext cx="7696440" cy="2438280"/>
          </a:xfrm>
          <a:prstGeom prst="rect">
            <a:avLst/>
          </a:prstGeom>
          <a:solidFill>
            <a:srgbClr val="cfcddc"/>
          </a:solidFill>
          <a:ln w="3240">
            <a:solidFill>
              <a:srgbClr val="3d3d3c"/>
            </a:solidFill>
            <a:miter/>
          </a:ln>
          <a:effectLst>
            <a:outerShdw dist="71785" dir="2700000" blurRad="0" rotWithShape="0">
              <a:srgbClr val="9d9d9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6160" rIns="54720" tIns="54720" bIns="5472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3d3c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d3d3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d3d3c"/>
                </a:solidFill>
                <a:latin typeface="Times New Roman"/>
              </a:rPr>
              <a:t>We really are at a very exciting point in health care. Several years from now we will look back and see that the health care system that we know today has changed in sort of a revolutionary fashion.”</a:t>
            </a:r>
            <a:r>
              <a:rPr b="0" i="1" lang="en-US" sz="2400" spc="-1" strike="noStrike">
                <a:solidFill>
                  <a:srgbClr val="3d3d3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d3d3c"/>
                </a:solidFill>
                <a:latin typeface="Times New Roman"/>
              </a:rPr>
              <a:t>-Clark B. Hinckley, Chairman, Health Data Committee                                                                                  Summary at the HDC Biennial Retreat, July 11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6324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men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EB23-F75A-485D-BB22-55D23A80B0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AFF SUPPOR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the Evidence-based Policyma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22960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e Martin, Lori Brady, Keely Cofrin Allen, Lois Haggard and Barry Nangle in  Utah Center for Health Data for their efforts in developmen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ion of discuss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of th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53280" y="3352680"/>
            <a:ext cx="2706480" cy="3505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00400" y="5943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men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772E-D867-469B-AC80-01338AC36A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EDERAL SUPPOR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s’ Evidence-bas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icy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rom 3 AHRQ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CUP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tional Healthcare Quality Repor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HRQ Public Affairs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73840" y="0"/>
            <a:ext cx="2270160" cy="2971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019920" y="12952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86200" y="60199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men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4F8-A6B7-40CE-8B0F-4C0A7A843A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257800" y="2971800"/>
            <a:ext cx="2819520" cy="2668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35049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Utah Health Data Authori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6485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6-33a-1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urpose of the committee is to direct a statewide effort to </a:t>
            </a:r>
            <a:r>
              <a:rPr b="0" i="1" lang="en-US" sz="2800" spc="-1" strike="noStrike">
                <a:solidFill>
                  <a:srgbClr val="8c7f04"/>
                </a:solidFill>
                <a:latin typeface="Tahoma"/>
              </a:rPr>
              <a:t>coll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8c7f04"/>
                </a:solidFill>
                <a:latin typeface="Tahoma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800" spc="-1" strike="noStrike">
                <a:solidFill>
                  <a:srgbClr val="8c7f04"/>
                </a:solidFill>
                <a:latin typeface="Tahoma"/>
              </a:rPr>
              <a:t>distribu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ealth care data </a:t>
            </a:r>
            <a:r>
              <a:rPr b="0" i="1" lang="en-US" sz="2800" spc="-1" strike="noStrike">
                <a:solidFill>
                  <a:srgbClr val="006600"/>
                </a:solidFill>
                <a:latin typeface="Tahoma"/>
              </a:rPr>
              <a:t>to facilitate the promotion and accessibility of quality and cost-effective health c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so to facilitate interaction among those with concern for health care 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828800"/>
            <a:ext cx="838188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82F6-7042-4248-A877-22C72EEEB8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Tahoma"/>
              </a:rPr>
              <a:t>Health Data Committ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3886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00"/>
                </a:solidFill>
                <a:latin typeface="Tahoma"/>
              </a:rPr>
              <a:t>P</a:t>
            </a:r>
            <a:r>
              <a:rPr b="1" lang="en-US" sz="2500" spc="-1" strike="noStrike">
                <a:solidFill>
                  <a:srgbClr val="8c7f04"/>
                </a:solidFill>
                <a:latin typeface="Tahoma"/>
              </a:rPr>
              <a:t>urchasers/Busin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Clark Hinckley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Chair, Zions Ban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Stephen Kroes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Utah Foun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Marilyn Tang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Certified Handling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9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8c7f04"/>
                </a:solidFill>
                <a:latin typeface="Tahoma"/>
              </a:rPr>
              <a:t>P</a:t>
            </a:r>
            <a:r>
              <a:rPr b="1" lang="en-US" sz="2500" spc="-1" strike="noStrike">
                <a:solidFill>
                  <a:srgbClr val="8c7f04"/>
                </a:solidFill>
                <a:latin typeface="Tahoma"/>
              </a:rPr>
              <a:t>rovid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Kim Batema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M.D. Manti Medical Clinic and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HealthIns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Gail McGuill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R.N. Orem Community 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9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00"/>
                </a:solidFill>
                <a:latin typeface="Tahoma"/>
              </a:rPr>
              <a:t>P</a:t>
            </a:r>
            <a:r>
              <a:rPr b="1" lang="en-US" sz="2500" spc="-1" strike="noStrike">
                <a:solidFill>
                  <a:srgbClr val="8c7f04"/>
                </a:solidFill>
                <a:latin typeface="Tahoma"/>
              </a:rPr>
              <a:t>ublic Polic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Judy Buffmire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Former Legis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Robert Huefner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– Vice Chair, Univ. of Utah, Political 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Leslie Francis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Univ. of Utah, Health Eth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44792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00"/>
                </a:solidFill>
                <a:latin typeface="Tahoma"/>
              </a:rPr>
              <a:t>P</a:t>
            </a:r>
            <a:r>
              <a:rPr b="1" lang="en-US" sz="2500" spc="-1" strike="noStrike">
                <a:solidFill>
                  <a:srgbClr val="8c7f04"/>
                </a:solidFill>
                <a:latin typeface="Tahoma"/>
              </a:rPr>
              <a:t>atients/Consum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Gary Nordoff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Housing for Low Income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Terry Hav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Utah Child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91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00"/>
                </a:solidFill>
                <a:latin typeface="Tahoma"/>
              </a:rPr>
              <a:t>P</a:t>
            </a:r>
            <a:r>
              <a:rPr b="1" lang="en-US" sz="2900" spc="-1" strike="noStrike">
                <a:solidFill>
                  <a:srgbClr val="8c7f04"/>
                </a:solidFill>
                <a:latin typeface="Tahoma"/>
              </a:rPr>
              <a:t>ayers and Health Sy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David Call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Deseret Mutual Benefits 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Douglas Hasbrouck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Regence BC/BS of Ut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Greg Pouls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Intermountain Health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9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066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A0EA-05C0-4E60-B000-7D380B55B4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4:28:34Z</dcterms:created>
  <dc:creator>WXU</dc:creator>
  <dc:description/>
  <dc:language>en-US</dc:language>
  <cp:lastModifiedBy>william.hyde</cp:lastModifiedBy>
  <dcterms:modified xsi:type="dcterms:W3CDTF">2009-03-13T12:20:28Z</dcterms:modified>
  <cp:revision>258</cp:revision>
  <dc:subject/>
  <dc:title>Challenges In      Utah’s Health                         Care  </dc:title>
</cp:coreProperties>
</file>