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261857-655A-4A38-A7D7-B5545F0A3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93CD1C-8B43-4287-97D1-F38FF7FA9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ones could be available through HCUPnet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ah is one of the 8 states in the “strong”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hospital care is based on HCUP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tal charges were converted to costs using cost-to-charge ratios based on hospital accounting reports from the Centers for Medicare and Medicaid Services (CM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Ethics Committee discussion, 8/27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show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810-3976-4E96-BEB5-AC062025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49E-34A6-4CB7-AEEF-47CAA423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615-E25F-4DD4-AEE2-CF2CFDAF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48C-9807-4A26-85C2-A2D96E97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770-9821-4274-A5DB-0CF7F717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ED0-F486-4377-9E0E-E9E3387C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BB7-69E6-4D25-ABC0-B50FB087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4A6-D3B8-4EB5-9E2D-65B7D431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175-2013-43A2-A2A0-79C8E044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58F-8239-4AD3-B396-C299B657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F0D-590C-4301-875B-89725FF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772-579F-4498-8CAC-C970FF58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3A0B-3AEC-45DD-86C3-29881C7C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800" spc="-1" strike="noStrike">
                <a:solidFill>
                  <a:srgbClr val="000000"/>
                </a:solidFill>
                <a:latin typeface="Arial"/>
              </a:rPr>
              <a:t>HCUPnet for </a:t>
            </a:r>
            <a:br>
              <a:rPr sz="4800"/>
            </a:br>
            <a:r>
              <a:rPr b="0" lang="en" sz="4800" spc="-1" strike="noStrike">
                <a:solidFill>
                  <a:srgbClr val="000000"/>
                </a:solidFill>
                <a:latin typeface="Arial"/>
              </a:rPr>
              <a:t>State Policymakers </a:t>
            </a:r>
            <a:br>
              <a:rPr sz="4800"/>
            </a:br>
            <a:r>
              <a:rPr b="0" lang="en" sz="4800" spc="-1" strike="noStrike">
                <a:solidFill>
                  <a:srgbClr val="000000"/>
                </a:solidFill>
                <a:latin typeface="Arial"/>
              </a:rPr>
              <a:t>- Utah’s Use Case</a:t>
            </a:r>
            <a:r>
              <a:rPr b="0" lang="e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2362320" cy="17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4343400"/>
            <a:ext cx="50292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u Xu, PhD, Dire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Public Health 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ah 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RQ State Quality Improvement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6-7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6800" y="5530680"/>
            <a:ext cx="8102520" cy="2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0-1993: Established a vision, mission, priority, and health data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80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ealth Data Building Blocks for Policy Analysis, 1990-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2880" y="59040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3581280"/>
            <a:ext cx="4525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1: Use ICD data to support the Patient Safety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03480" y="5232240"/>
            <a:ext cx="6765840" cy="29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3: Established Hospital Inpatient Discharge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98920" y="4933800"/>
            <a:ext cx="527040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Ambulatory Surgery Data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98920" y="4635360"/>
            <a:ext cx="5270400" cy="29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Emergency Department Data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98920" y="4038480"/>
            <a:ext cx="5270400" cy="29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HMO Enrollee Satisfaction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98920" y="4336920"/>
            <a:ext cx="5270400" cy="29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HMO HEDIS Performance Repor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2600" y="59436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124080"/>
            <a:ext cx="4145040" cy="444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: Evaluate Medicaid Waiver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2705040"/>
            <a:ext cx="3763800" cy="419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4 Health Plan Pharmacy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1752480" cy="1665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562720" y="2209680"/>
            <a:ext cx="32763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: Senate Bill 132: Consumer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1752480"/>
            <a:ext cx="30780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7: House Bill 9: Healthcare C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(All Claims All Pat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D39-31C6-4A9E-88F5-378D7E7638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ful Data for State Policyma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s from a state to th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summar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a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all settings &amp; types of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d to state policy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new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, short, &amp;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10280" y="5105520"/>
            <a:ext cx="1905120" cy="14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861-F4AB-4339-A5EA-0213F42C6E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e Cas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2819520" cy="266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0798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46640" y="525780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summary indicators in 3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835-AA0A-46BA-B0AB-39B2A317A7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ational-Compa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Sources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r Policy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summary indicators in the re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used national data o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8 – AHR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MS Health Care Expenditur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CHS Hospital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CQA H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United Health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used Utah data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YU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e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tah data and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x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5772240"/>
            <a:ext cx="914400" cy="68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105-112D-48CF-91C9-120D54D371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UT_0_N_Speedo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4416480" cy="2876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67080" y="2286000"/>
            <a:ext cx="1028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838080"/>
            <a:ext cx="62485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d3c"/>
                </a:solidFill>
                <a:latin typeface="Arial"/>
              </a:rPr>
              <a:t>Utah’s Overall Health Care Quality Performance Compared to All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666880" y="5486400"/>
            <a:ext cx="4429080" cy="252360"/>
            <a:chOff x="2666880" y="5486400"/>
            <a:chExt cx="4429080" cy="252360"/>
          </a:xfrm>
        </p:grpSpPr>
        <p:grpSp>
          <p:nvGrpSpPr>
            <p:cNvPr id="113" name=""/>
            <p:cNvGrpSpPr/>
            <p:nvPr/>
          </p:nvGrpSpPr>
          <p:grpSpPr>
            <a:xfrm>
              <a:off x="5029200" y="5486400"/>
              <a:ext cx="2066760" cy="215640"/>
              <a:chOff x="5029200" y="5486400"/>
              <a:chExt cx="2066760" cy="21564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5638680" y="5638680"/>
                <a:ext cx="800280" cy="1440"/>
              </a:xfrm>
              <a:prstGeom prst="line">
                <a:avLst/>
              </a:prstGeom>
              <a:ln w="22320">
                <a:solidFill>
                  <a:srgbClr val="28242e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9200" y="5486400"/>
                <a:ext cx="2066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d3d3c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3d3d3c"/>
                    </a:solidFill>
                    <a:latin typeface="Arial"/>
                  </a:rPr>
                  <a:t>Current</a:t>
                </a:r>
                <a:r>
                  <a:rPr b="1" lang="en-US" sz="1000" spc="-1" strike="noStrike">
                    <a:solidFill>
                      <a:srgbClr val="3d3d3c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666880" y="5486400"/>
              <a:ext cx="2057400" cy="252360"/>
              <a:chOff x="2666880" y="5486400"/>
              <a:chExt cx="2057400" cy="252360"/>
            </a:xfrm>
          </p:grpSpPr>
          <p:sp>
            <p:nvSpPr>
              <p:cNvPr id="117" name=""/>
              <p:cNvSpPr/>
              <p:nvPr/>
            </p:nvSpPr>
            <p:spPr>
              <a:xfrm>
                <a:off x="3809880" y="5639040"/>
                <a:ext cx="800280" cy="0"/>
              </a:xfrm>
              <a:prstGeom prst="line">
                <a:avLst/>
              </a:prstGeom>
              <a:ln w="22320">
                <a:solidFill>
                  <a:srgbClr val="21212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66880" y="5486400"/>
                <a:ext cx="205740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d3d3c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3d3d3c"/>
                    </a:solidFill>
                    <a:latin typeface="Arial"/>
                  </a:rPr>
                  <a:t>Base Li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1981080" y="59436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9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457200"/>
            <a:ext cx="19242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HQ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CUP Dat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21A-4E87-4482-9B4A-A085F03D63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48320" y="2971800"/>
            <a:ext cx="380880" cy="438120"/>
          </a:xfrm>
          <a:prstGeom prst="star5">
            <a:avLst/>
          </a:prstGeom>
          <a:solidFill>
            <a:srgbClr val="6c2b2c"/>
          </a:solidFill>
          <a:ln w="93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3733920"/>
            <a:ext cx="325440" cy="380880"/>
          </a:xfrm>
          <a:prstGeom prst="star5">
            <a:avLst/>
          </a:prstGeom>
          <a:solidFill>
            <a:srgbClr val="6c2b2c"/>
          </a:solidFill>
          <a:ln w="93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50080" y="761760"/>
            <a:ext cx="577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Quality Variation by Care Type and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6248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0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5772240"/>
            <a:ext cx="914400" cy="684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719320" y="5060880"/>
            <a:ext cx="1462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Very strong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16840" y="50608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4520" y="5310360"/>
            <a:ext cx="1499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above aver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67120" y="5022720"/>
            <a:ext cx="231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Home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46280" y="50227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64240" y="5349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14520" y="4511520"/>
            <a:ext cx="20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On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50960" y="4538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67120" y="4341960"/>
            <a:ext cx="2468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Nursing Home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1800" y="43419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64240" y="4668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05680" y="3726000"/>
            <a:ext cx="129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Strong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32560" y="3726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41240" y="3975120"/>
            <a:ext cx="208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above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1680" y="4002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65320" y="3648240"/>
            <a:ext cx="169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Hospit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23840" y="36482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64240" y="3975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18280" y="3017880"/>
            <a:ext cx="129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Strong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45160" y="30178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56000" y="3267000"/>
            <a:ext cx="214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above averag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96840" y="329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65680" y="2967120"/>
            <a:ext cx="1646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Chronic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85680" y="2967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4240" y="329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96800" y="2428920"/>
            <a:ext cx="20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On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2428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65320" y="2271600"/>
            <a:ext cx="1398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Acute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9800" y="2271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64240" y="2600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9760" y="1760400"/>
            <a:ext cx="20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On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46200" y="1787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65320" y="1552680"/>
            <a:ext cx="200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Preventive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49280" y="155268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64240" y="1879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7160" y="1487520"/>
            <a:ext cx="6404040" cy="0"/>
          </a:xfrm>
          <a:prstGeom prst="line">
            <a:avLst/>
          </a:prstGeom>
          <a:ln cap="sq" w="381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2680" y="1944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7720" y="22464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3760" y="25462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440" y="286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3560" y="2835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9160" y="352908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440" y="3830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2680" y="4132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33120" y="41324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2680" y="4446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33120" y="444672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60760" y="4746600"/>
            <a:ext cx="6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7920" y="474660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760" y="5048280"/>
            <a:ext cx="13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2680" y="534996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56520" y="5324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13400" y="5062680"/>
            <a:ext cx="338040" cy="392040"/>
            <a:chOff x="4613400" y="5062680"/>
            <a:chExt cx="338040" cy="392040"/>
          </a:xfrm>
        </p:grpSpPr>
        <p:sp>
          <p:nvSpPr>
            <p:cNvPr id="179" name=""/>
            <p:cNvSpPr/>
            <p:nvPr/>
          </p:nvSpPr>
          <p:spPr>
            <a:xfrm>
              <a:off x="46134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34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302000" y="5062680"/>
            <a:ext cx="338040" cy="392040"/>
            <a:chOff x="4302000" y="5062680"/>
            <a:chExt cx="338040" cy="392040"/>
          </a:xfrm>
        </p:grpSpPr>
        <p:sp>
          <p:nvSpPr>
            <p:cNvPr id="182" name=""/>
            <p:cNvSpPr/>
            <p:nvPr/>
          </p:nvSpPr>
          <p:spPr>
            <a:xfrm>
              <a:off x="43020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020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938840" y="5062680"/>
            <a:ext cx="336600" cy="392040"/>
            <a:chOff x="4938840" y="5062680"/>
            <a:chExt cx="336600" cy="392040"/>
          </a:xfrm>
        </p:grpSpPr>
        <p:sp>
          <p:nvSpPr>
            <p:cNvPr id="185" name=""/>
            <p:cNvSpPr/>
            <p:nvPr/>
          </p:nvSpPr>
          <p:spPr>
            <a:xfrm>
              <a:off x="4938840" y="506268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8840" y="506268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249880" y="5062680"/>
            <a:ext cx="336240" cy="392040"/>
            <a:chOff x="5249880" y="5062680"/>
            <a:chExt cx="336240" cy="392040"/>
          </a:xfrm>
        </p:grpSpPr>
        <p:sp>
          <p:nvSpPr>
            <p:cNvPr id="188" name=""/>
            <p:cNvSpPr/>
            <p:nvPr/>
          </p:nvSpPr>
          <p:spPr>
            <a:xfrm>
              <a:off x="5249880" y="5062680"/>
              <a:ext cx="33624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49880" y="5062680"/>
              <a:ext cx="33624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302000" y="4440240"/>
            <a:ext cx="338040" cy="393840"/>
            <a:chOff x="4302000" y="4440240"/>
            <a:chExt cx="338040" cy="393840"/>
          </a:xfrm>
        </p:grpSpPr>
        <p:sp>
          <p:nvSpPr>
            <p:cNvPr id="191" name=""/>
            <p:cNvSpPr/>
            <p:nvPr/>
          </p:nvSpPr>
          <p:spPr>
            <a:xfrm>
              <a:off x="4302000" y="4440240"/>
              <a:ext cx="338040" cy="39384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02000" y="4440240"/>
              <a:ext cx="338040" cy="39384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40400" y="4440240"/>
            <a:ext cx="336240" cy="393840"/>
            <a:chOff x="4640400" y="4440240"/>
            <a:chExt cx="336240" cy="393840"/>
          </a:xfrm>
        </p:grpSpPr>
        <p:sp>
          <p:nvSpPr>
            <p:cNvPr id="194" name=""/>
            <p:cNvSpPr/>
            <p:nvPr/>
          </p:nvSpPr>
          <p:spPr>
            <a:xfrm>
              <a:off x="4640400" y="4440240"/>
              <a:ext cx="33624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0400" y="4440240"/>
              <a:ext cx="33624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309920" y="2992320"/>
            <a:ext cx="336600" cy="393840"/>
            <a:chOff x="4309920" y="2992320"/>
            <a:chExt cx="336600" cy="393840"/>
          </a:xfrm>
        </p:grpSpPr>
        <p:sp>
          <p:nvSpPr>
            <p:cNvPr id="197" name=""/>
            <p:cNvSpPr/>
            <p:nvPr/>
          </p:nvSpPr>
          <p:spPr>
            <a:xfrm>
              <a:off x="4309920" y="2992320"/>
              <a:ext cx="33660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7"/>
                  </a:lnTo>
                  <a:lnTo>
                    <a:pt x="40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7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09920" y="2992320"/>
              <a:ext cx="33660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7"/>
                  </a:lnTo>
                  <a:lnTo>
                    <a:pt x="40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7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921200" y="2971800"/>
            <a:ext cx="412560" cy="456840"/>
            <a:chOff x="4921200" y="2971800"/>
            <a:chExt cx="412560" cy="456840"/>
          </a:xfrm>
        </p:grpSpPr>
        <p:sp>
          <p:nvSpPr>
            <p:cNvPr id="200" name=""/>
            <p:cNvSpPr/>
            <p:nvPr/>
          </p:nvSpPr>
          <p:spPr>
            <a:xfrm>
              <a:off x="4921200" y="2971800"/>
              <a:ext cx="412560" cy="4568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4"/>
                  </a:lnTo>
                  <a:lnTo>
                    <a:pt x="0" y="94"/>
                  </a:lnTo>
                  <a:lnTo>
                    <a:pt x="69" y="152"/>
                  </a:lnTo>
                  <a:lnTo>
                    <a:pt x="44" y="247"/>
                  </a:lnTo>
                  <a:lnTo>
                    <a:pt x="106" y="189"/>
                  </a:lnTo>
                  <a:lnTo>
                    <a:pt x="171" y="247"/>
                  </a:lnTo>
                  <a:lnTo>
                    <a:pt x="147" y="152"/>
                  </a:lnTo>
                  <a:lnTo>
                    <a:pt x="212" y="94"/>
                  </a:lnTo>
                  <a:lnTo>
                    <a:pt x="134" y="9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21200" y="2971800"/>
              <a:ext cx="412560" cy="4568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4"/>
                  </a:lnTo>
                  <a:lnTo>
                    <a:pt x="0" y="94"/>
                  </a:lnTo>
                  <a:lnTo>
                    <a:pt x="69" y="152"/>
                  </a:lnTo>
                  <a:lnTo>
                    <a:pt x="44" y="247"/>
                  </a:lnTo>
                  <a:lnTo>
                    <a:pt x="106" y="189"/>
                  </a:lnTo>
                  <a:lnTo>
                    <a:pt x="171" y="247"/>
                  </a:lnTo>
                  <a:lnTo>
                    <a:pt x="147" y="152"/>
                  </a:lnTo>
                  <a:lnTo>
                    <a:pt x="212" y="94"/>
                  </a:lnTo>
                  <a:lnTo>
                    <a:pt x="134" y="94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302000" y="3726000"/>
            <a:ext cx="338040" cy="393480"/>
            <a:chOff x="4302000" y="3726000"/>
            <a:chExt cx="338040" cy="393480"/>
          </a:xfrm>
        </p:grpSpPr>
        <p:sp>
          <p:nvSpPr>
            <p:cNvPr id="203" name=""/>
            <p:cNvSpPr/>
            <p:nvPr/>
          </p:nvSpPr>
          <p:spPr>
            <a:xfrm>
              <a:off x="4302000" y="372600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2000" y="372600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648320" y="3733920"/>
            <a:ext cx="338040" cy="393480"/>
            <a:chOff x="4648320" y="3733920"/>
            <a:chExt cx="338040" cy="393480"/>
          </a:xfrm>
        </p:grpSpPr>
        <p:sp>
          <p:nvSpPr>
            <p:cNvPr id="206" name=""/>
            <p:cNvSpPr/>
            <p:nvPr/>
          </p:nvSpPr>
          <p:spPr>
            <a:xfrm>
              <a:off x="4648320" y="373392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7"/>
                  </a:lnTo>
                  <a:lnTo>
                    <a:pt x="41" y="248"/>
                  </a:lnTo>
                  <a:lnTo>
                    <a:pt x="107" y="194"/>
                  </a:lnTo>
                  <a:lnTo>
                    <a:pt x="172" y="248"/>
                  </a:lnTo>
                  <a:lnTo>
                    <a:pt x="147" y="157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48320" y="373392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7"/>
                  </a:lnTo>
                  <a:lnTo>
                    <a:pt x="41" y="248"/>
                  </a:lnTo>
                  <a:lnTo>
                    <a:pt x="107" y="194"/>
                  </a:lnTo>
                  <a:lnTo>
                    <a:pt x="172" y="248"/>
                  </a:lnTo>
                  <a:lnTo>
                    <a:pt x="147" y="157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43560" y="1676520"/>
            <a:ext cx="336240" cy="393480"/>
            <a:chOff x="4543560" y="1676520"/>
            <a:chExt cx="336240" cy="393480"/>
          </a:xfrm>
        </p:grpSpPr>
        <p:sp>
          <p:nvSpPr>
            <p:cNvPr id="209" name=""/>
            <p:cNvSpPr/>
            <p:nvPr/>
          </p:nvSpPr>
          <p:spPr>
            <a:xfrm>
              <a:off x="4543560" y="1676520"/>
              <a:ext cx="33624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9" y="153"/>
                  </a:lnTo>
                  <a:lnTo>
                    <a:pt x="44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4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43560" y="1676520"/>
              <a:ext cx="33624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9" y="153"/>
                  </a:lnTo>
                  <a:lnTo>
                    <a:pt x="44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4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322880" y="1676520"/>
            <a:ext cx="336600" cy="393480"/>
            <a:chOff x="4322880" y="1676520"/>
            <a:chExt cx="336600" cy="393480"/>
          </a:xfrm>
        </p:grpSpPr>
        <p:sp>
          <p:nvSpPr>
            <p:cNvPr id="212" name=""/>
            <p:cNvSpPr/>
            <p:nvPr/>
          </p:nvSpPr>
          <p:spPr>
            <a:xfrm>
              <a:off x="4322880" y="1676520"/>
              <a:ext cx="33660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22880" y="1676520"/>
              <a:ext cx="33660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29160" y="2338560"/>
            <a:ext cx="338040" cy="392040"/>
            <a:chOff x="4529160" y="2338560"/>
            <a:chExt cx="338040" cy="392040"/>
          </a:xfrm>
        </p:grpSpPr>
        <p:sp>
          <p:nvSpPr>
            <p:cNvPr id="215" name=""/>
            <p:cNvSpPr/>
            <p:nvPr/>
          </p:nvSpPr>
          <p:spPr>
            <a:xfrm>
              <a:off x="4529160" y="233856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70" y="153"/>
                  </a:lnTo>
                  <a:lnTo>
                    <a:pt x="45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7" y="153"/>
                  </a:lnTo>
                  <a:lnTo>
                    <a:pt x="213" y="95"/>
                  </a:lnTo>
                  <a:lnTo>
                    <a:pt x="135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29160" y="233856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70" y="153"/>
                  </a:lnTo>
                  <a:lnTo>
                    <a:pt x="45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7" y="153"/>
                  </a:lnTo>
                  <a:lnTo>
                    <a:pt x="213" y="95"/>
                  </a:lnTo>
                  <a:lnTo>
                    <a:pt x="135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09920" y="2338560"/>
            <a:ext cx="336600" cy="392040"/>
            <a:chOff x="4309920" y="2338560"/>
            <a:chExt cx="336600" cy="392040"/>
          </a:xfrm>
        </p:grpSpPr>
        <p:sp>
          <p:nvSpPr>
            <p:cNvPr id="218" name=""/>
            <p:cNvSpPr/>
            <p:nvPr/>
          </p:nvSpPr>
          <p:spPr>
            <a:xfrm>
              <a:off x="4309920" y="233856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09920" y="233856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7543800" y="304920"/>
            <a:ext cx="100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HQ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CUP Dat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987-A34F-4CCC-B65A-F5C65457CD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59080" y="489744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59080" y="406080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59080" y="2919240"/>
            <a:ext cx="98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74960" y="1724040"/>
            <a:ext cx="912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Number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92600" y="1925640"/>
            <a:ext cx="826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9520" y="5530680"/>
            <a:ext cx="338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Obstetric Injuries, 3rd or 4th 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89520" y="5713560"/>
            <a:ext cx="3975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Cesarean Delivery; Foreign Body Left During Procedure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89520" y="5896080"/>
            <a:ext cx="9126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ath in 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13320" y="5902200"/>
            <a:ext cx="1611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; Transfusion Rea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6320" y="5578560"/>
            <a:ext cx="1118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d3d3c"/>
                </a:solidFill>
                <a:latin typeface="Arial"/>
              </a:rPr>
              <a:t>Not Applic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90520" y="5821200"/>
            <a:ext cx="1230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d3d3c"/>
                </a:solidFill>
                <a:latin typeface="Arial"/>
              </a:rPr>
              <a:t>(Too few cas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89520" y="4660920"/>
            <a:ext cx="3641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ccidental Puncture or Laceration; Complicatio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89520" y="4843440"/>
            <a:ext cx="357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nesthesia; Postoperative Pulmonary Embolism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89520" y="5025960"/>
            <a:ext cx="2412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ep Vein Thrombosis; Iatrogen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74600" y="5002200"/>
            <a:ext cx="1462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Worse  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30280" y="5221440"/>
            <a:ext cx="750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exp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89520" y="3821040"/>
            <a:ext cx="3328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Postoperative Hip Fracture Rate; Postoperat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89520" y="4003560"/>
            <a:ext cx="1100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orrhage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91120" y="4003560"/>
            <a:ext cx="768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at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59360" y="4003560"/>
            <a:ext cx="1935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; Postoperative Respirato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89520" y="4186080"/>
            <a:ext cx="36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Failure; Postoperative Sepsis; Postoperative Wou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89520" y="4368960"/>
            <a:ext cx="819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hi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89520" y="2438280"/>
            <a:ext cx="698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cubi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32200" y="2438280"/>
            <a:ext cx="3137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Ulcer; Failure to Rescue; Selected Infec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89520" y="2620800"/>
            <a:ext cx="350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ue to Medical Care; Postoperative Physiologic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9520" y="2803680"/>
            <a:ext cx="3730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Metabolic Derangement; Obstetric Injuries, 3rd or 4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89520" y="2986200"/>
            <a:ext cx="14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02160" y="2986200"/>
            <a:ext cx="54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97560" y="2986200"/>
            <a:ext cx="2365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 Instrumen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89520" y="3168720"/>
            <a:ext cx="33890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Obstetric Injuries, 3rd or 4th 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89520" y="3349800"/>
            <a:ext cx="367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out Instrument; Birth Injuries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89520" y="3532320"/>
            <a:ext cx="75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Newborn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49280" y="3159000"/>
            <a:ext cx="912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Better 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30280" y="3400560"/>
            <a:ext cx="7509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exp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40240" y="1724040"/>
            <a:ext cx="1230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 Lab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55520" y="1724040"/>
            <a:ext cx="11192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Compared 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55520" y="1925640"/>
            <a:ext cx="1582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States with Simila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55520" y="2125800"/>
            <a:ext cx="1522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Patient Pop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1676520"/>
            <a:ext cx="7095960" cy="288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41400" y="23702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41400" y="37544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41400" y="4592520"/>
            <a:ext cx="7094520" cy="180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41400" y="5452920"/>
            <a:ext cx="7094520" cy="180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41400" y="6230880"/>
            <a:ext cx="7094520" cy="324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39960" y="1657440"/>
            <a:ext cx="1800" cy="441468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35920" y="1657440"/>
            <a:ext cx="41400" cy="466704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5040" y="1657440"/>
            <a:ext cx="1800" cy="457668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59080" y="5775480"/>
            <a:ext cx="39708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59080" y="489744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59080" y="406080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59080" y="2919240"/>
            <a:ext cx="98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4960" y="1724040"/>
            <a:ext cx="912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Number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92600" y="1925640"/>
            <a:ext cx="826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48200" y="5902200"/>
            <a:ext cx="465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R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89520" y="4660920"/>
            <a:ext cx="3641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ccidental Puncture or Laceration; Complicatio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89520" y="4843440"/>
            <a:ext cx="357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nesthesia; Postoperative Pulmonary Embolism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89520" y="5025960"/>
            <a:ext cx="2412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ep Vein Thrombosis; Iatrogen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42040" y="5037120"/>
            <a:ext cx="1019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Pneumothor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89520" y="3821040"/>
            <a:ext cx="3328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Postoperative Hip Fracture Rate; Postoperat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89520" y="4003560"/>
            <a:ext cx="1100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orrhage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91120" y="4003560"/>
            <a:ext cx="768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at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59360" y="4003560"/>
            <a:ext cx="1935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; Postoperative Respirato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89520" y="4186080"/>
            <a:ext cx="36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Failure; Postoperative Sepsis; Postoperative Wou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9520" y="4368960"/>
            <a:ext cx="819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hi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54080" y="4302000"/>
            <a:ext cx="15033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Same as exp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89520" y="2438280"/>
            <a:ext cx="698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cubi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32200" y="2438280"/>
            <a:ext cx="3137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Ulcer; Failure to Rescue; Selected Infec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89520" y="2620800"/>
            <a:ext cx="350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ue to Medical Care; Postoperative Physiologic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89520" y="2803680"/>
            <a:ext cx="3730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Metabolic Derangement; Obstetric Injuries, 3rd or 4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89520" y="2986200"/>
            <a:ext cx="14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02160" y="2986200"/>
            <a:ext cx="54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97560" y="2986200"/>
            <a:ext cx="2365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 Instrumen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89520" y="3168720"/>
            <a:ext cx="33890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Obstetric Injuries, 3rd or 4th 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59680" y="3168720"/>
            <a:ext cx="5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89520" y="3349800"/>
            <a:ext cx="367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out Instrument; Birth Injuries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89520" y="3532320"/>
            <a:ext cx="75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Newborn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40240" y="1724040"/>
            <a:ext cx="1230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 Lab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55520" y="1724040"/>
            <a:ext cx="11192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Compared 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55520" y="1925640"/>
            <a:ext cx="1582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States with Simila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55520" y="2125800"/>
            <a:ext cx="1522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Patient Pop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41400" y="23702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41400" y="37544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41400" y="4592520"/>
            <a:ext cx="7094520" cy="180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936360" y="1657440"/>
            <a:ext cx="4680" cy="457668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39960" y="1657440"/>
            <a:ext cx="1800" cy="457668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19040" y="2610000"/>
            <a:ext cx="973080" cy="365040"/>
            <a:chOff x="1319040" y="2610000"/>
            <a:chExt cx="973080" cy="365040"/>
          </a:xfrm>
        </p:grpSpPr>
        <p:grpSp>
          <p:nvGrpSpPr>
            <p:cNvPr id="307" name=""/>
            <p:cNvGrpSpPr/>
            <p:nvPr/>
          </p:nvGrpSpPr>
          <p:grpSpPr>
            <a:xfrm>
              <a:off x="1319040" y="2610000"/>
              <a:ext cx="686880" cy="365040"/>
              <a:chOff x="1319040" y="2610000"/>
              <a:chExt cx="686880" cy="365040"/>
            </a:xfrm>
          </p:grpSpPr>
          <p:sp>
            <p:nvSpPr>
              <p:cNvPr id="308" name=""/>
              <p:cNvSpPr/>
              <p:nvPr/>
            </p:nvSpPr>
            <p:spPr>
              <a:xfrm>
                <a:off x="1662480" y="2610000"/>
                <a:ext cx="343440" cy="365040"/>
              </a:xfrm>
              <a:prstGeom prst="star5">
                <a:avLst/>
              </a:prstGeom>
              <a:solidFill>
                <a:srgbClr val="6b2a2b"/>
              </a:solidFill>
              <a:ln w="9360">
                <a:solidFill>
                  <a:srgbClr val="3d3d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19040" y="2610000"/>
                <a:ext cx="343440" cy="365040"/>
              </a:xfrm>
              <a:prstGeom prst="star5">
                <a:avLst/>
              </a:prstGeom>
              <a:solidFill>
                <a:srgbClr val="6b2a2b"/>
              </a:solidFill>
              <a:ln w="9360">
                <a:solidFill>
                  <a:srgbClr val="3d3d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948680" y="2610000"/>
              <a:ext cx="343440" cy="365040"/>
            </a:xfrm>
            <a:prstGeom prst="star5">
              <a:avLst/>
            </a:prstGeom>
            <a:solidFill>
              <a:srgbClr val="6b2a2b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07960" y="3794040"/>
            <a:ext cx="795600" cy="365040"/>
            <a:chOff x="1407960" y="3794040"/>
            <a:chExt cx="795600" cy="365040"/>
          </a:xfrm>
        </p:grpSpPr>
        <p:sp>
          <p:nvSpPr>
            <p:cNvPr id="312" name=""/>
            <p:cNvSpPr/>
            <p:nvPr/>
          </p:nvSpPr>
          <p:spPr>
            <a:xfrm>
              <a:off x="1805760" y="3794040"/>
              <a:ext cx="397800" cy="365040"/>
            </a:xfrm>
            <a:prstGeom prst="star5">
              <a:avLst/>
            </a:prstGeom>
            <a:solidFill>
              <a:srgbClr val="6b2a2b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07960" y="3794040"/>
              <a:ext cx="397800" cy="365040"/>
            </a:xfrm>
            <a:prstGeom prst="star5">
              <a:avLst/>
            </a:prstGeom>
            <a:solidFill>
              <a:srgbClr val="6b2a2b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628640" y="4614840"/>
            <a:ext cx="354240" cy="365040"/>
          </a:xfrm>
          <a:prstGeom prst="star5">
            <a:avLst/>
          </a:prstGeom>
          <a:solidFill>
            <a:srgbClr val="6b2a2b"/>
          </a:solidFill>
          <a:ln w="93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380880"/>
            <a:ext cx="7315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3c"/>
                </a:solidFill>
                <a:latin typeface="Arial"/>
              </a:rPr>
              <a:t>Performance Summary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3c"/>
                </a:solidFill>
                <a:latin typeface="Arial"/>
              </a:rPr>
              <a:t>AHRQ Patient Safe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3c"/>
                </a:solidFill>
                <a:latin typeface="Arial"/>
              </a:rPr>
              <a:t>Utah: 2003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63244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1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685800" y="228600"/>
            <a:ext cx="99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756-9E0F-4455-AFD8-374B214B16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981080" y="2209680"/>
            <a:ext cx="5380200" cy="687240"/>
            <a:chOff x="1981080" y="2209680"/>
            <a:chExt cx="5380200" cy="687240"/>
          </a:xfrm>
        </p:grpSpPr>
        <p:grpSp>
          <p:nvGrpSpPr>
            <p:cNvPr id="320" name=""/>
            <p:cNvGrpSpPr/>
            <p:nvPr/>
          </p:nvGrpSpPr>
          <p:grpSpPr>
            <a:xfrm>
              <a:off x="1981080" y="2209680"/>
              <a:ext cx="1218960" cy="407520"/>
              <a:chOff x="1981080" y="2209680"/>
              <a:chExt cx="1218960" cy="4075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981080" y="2209680"/>
                <a:ext cx="860400" cy="407160"/>
                <a:chOff x="1981080" y="2209680"/>
                <a:chExt cx="860400" cy="4071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11280" y="2209680"/>
                  <a:ext cx="430200" cy="407160"/>
                </a:xfrm>
                <a:prstGeom prst="star5">
                  <a:avLst/>
                </a:prstGeom>
                <a:solidFill>
                  <a:srgbClr val="6b2a2b"/>
                </a:solidFill>
                <a:ln w="9360">
                  <a:solidFill>
                    <a:srgbClr val="3d3d3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81080" y="2209680"/>
                  <a:ext cx="430200" cy="407160"/>
                </a:xfrm>
                <a:prstGeom prst="star5">
                  <a:avLst/>
                </a:prstGeom>
                <a:solidFill>
                  <a:srgbClr val="6b2a2b"/>
                </a:solidFill>
                <a:ln w="9360">
                  <a:solidFill>
                    <a:srgbClr val="3d3d3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769840" y="2209680"/>
                <a:ext cx="430200" cy="407520"/>
              </a:xfrm>
              <a:prstGeom prst="star5">
                <a:avLst/>
              </a:prstGeom>
              <a:solidFill>
                <a:srgbClr val="6b2a2b"/>
              </a:solidFill>
              <a:ln w="9360">
                <a:solidFill>
                  <a:srgbClr val="3d3d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68800" y="2319120"/>
              <a:ext cx="40924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= Hospital performed </a:t>
              </a:r>
              <a:r>
                <a:rPr b="0" lang="en-US" sz="1200" spc="-1" strike="noStrike" u="sng">
                  <a:solidFill>
                    <a:srgbClr val="3d3d3c"/>
                  </a:solidFill>
                  <a:uFillTx/>
                  <a:latin typeface="Arial"/>
                </a:rPr>
                <a:t>better than expected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than their pe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hospitals in the nation that treated similar pati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40120" y="2668320"/>
              <a:ext cx="131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In consumer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447920" y="3200400"/>
            <a:ext cx="6400800" cy="2286000"/>
            <a:chOff x="1447920" y="3200400"/>
            <a:chExt cx="6400800" cy="2286000"/>
          </a:xfrm>
        </p:grpSpPr>
        <p:sp>
          <p:nvSpPr>
            <p:cNvPr id="328" name=""/>
            <p:cNvSpPr/>
            <p:nvPr/>
          </p:nvSpPr>
          <p:spPr>
            <a:xfrm>
              <a:off x="6760080" y="4860000"/>
              <a:ext cx="108864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06800" y="4860000"/>
              <a:ext cx="9532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7920" y="4860000"/>
              <a:ext cx="43588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Obstetric Injuries, 3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rd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or 4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th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Degree Lacerations – Vaginal Delivery </a:t>
              </a:r>
              <a:r>
                <a:rPr b="0" lang="en-US" sz="1200" spc="-1" strike="noStrike" u="sng">
                  <a:solidFill>
                    <a:srgbClr val="3d3d3c"/>
                  </a:solidFill>
                  <a:uFillTx/>
                  <a:latin typeface="Arial"/>
                </a:rPr>
                <a:t>Without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Instru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60080" y="4187160"/>
              <a:ext cx="108864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06800" y="4187160"/>
              <a:ext cx="95328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7920" y="4187160"/>
              <a:ext cx="435888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Obstetric Injuries, 3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rd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or 4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th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Degree Lacerations – Vaginal Delivery </a:t>
              </a:r>
              <a:r>
                <a:rPr b="0" lang="en-US" sz="1200" spc="-1" strike="noStrike" u="sng">
                  <a:solidFill>
                    <a:srgbClr val="3d3d3c"/>
                  </a:solidFill>
                  <a:uFillTx/>
                  <a:latin typeface="Arial"/>
                </a:rPr>
                <a:t>With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Instru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60080" y="3811680"/>
              <a:ext cx="10886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06800" y="3811680"/>
              <a:ext cx="9532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7920" y="3811680"/>
              <a:ext cx="43588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Patient Safety Indic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7920" y="3811680"/>
              <a:ext cx="640080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7920" y="4187160"/>
              <a:ext cx="640080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4860000"/>
              <a:ext cx="640080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47920" y="5486400"/>
              <a:ext cx="640080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7920" y="3811680"/>
              <a:ext cx="0" cy="167472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06800" y="3811680"/>
              <a:ext cx="0" cy="167472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60080" y="3811680"/>
              <a:ext cx="0" cy="167472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48720" y="3811680"/>
              <a:ext cx="0" cy="167472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95440" y="3200400"/>
              <a:ext cx="630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Numbers of Three-Star Hospital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In the Consumer Reports on Obstetric Safety: 2004 - 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59436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2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69360" y="701640"/>
            <a:ext cx="6616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ublic Repor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Can Reduce Performance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304920" y="228600"/>
            <a:ext cx="99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DC3-6C03-4B98-ABE9-4273CC5E96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362320" y="624852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6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33520" y="5562720"/>
            <a:ext cx="914400" cy="684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828800" y="843120"/>
            <a:ext cx="6553080" cy="4976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533520"/>
            <a:ext cx="1447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5D6-37C4-43F4-9077-18016E9BA6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981080" y="60199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23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04920" y="594360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6372360" cy="457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2096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00"/>
                </a:solidFill>
                <a:latin typeface="Arial"/>
              </a:rPr>
              <a:t>Trends of Hospital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228600"/>
            <a:ext cx="1447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AE1-F1DB-4098-ACBA-59A9E51173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</a:t>
            </a:r>
            <a:br>
              <a:rPr sz="4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hose wh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lead,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guide, or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     suppo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evidence-based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                  policy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14840" y="0"/>
            <a:ext cx="358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4FE-5A1C-4CDF-A9EE-E40101728D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981080" y="4952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ff0000"/>
                </a:solidFill>
                <a:latin typeface="Arial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724280"/>
            <a:ext cx="4038480" cy="129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DC4-2C8C-4C0A-8969-E4E99FA882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133720" y="60958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26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90920" y="4572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Use Statewide Cost-to-Charge Ratio to Estimate Tot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914400" cy="684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6553080" cy="34448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85000" y="1525320"/>
            <a:ext cx="4498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ncreased Inpatient Total Facility Charg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Costs Adjusted by Cost-to-Charge Ratio (C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Utah, 1997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380880"/>
            <a:ext cx="1295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-T.A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6F1-3A3D-4B29-A472-A3B69C90F2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6096240" cy="3345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905120" y="20574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3d3c"/>
                </a:solidFill>
                <a:latin typeface="Arial"/>
              </a:rPr>
              <a:t>Percentage of Outpatient Emergency Department Visit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3d3c"/>
                </a:solidFill>
                <a:latin typeface="Arial"/>
              </a:rPr>
              <a:t>Primary Care Sensitive Conditions: Utah, 2001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6248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7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 rot="19791000">
            <a:off x="0" y="533520"/>
            <a:ext cx="18352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ed Fro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6858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 University’s Metho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ing Access to Primary Care Through Emergent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914400" cy="68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187-10FE-475F-BD9B-7295EED729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447920" y="914400"/>
            <a:ext cx="6933960" cy="5084640"/>
            <a:chOff x="1447920" y="914400"/>
            <a:chExt cx="6933960" cy="5084640"/>
          </a:xfrm>
        </p:grpSpPr>
        <p:sp>
          <p:nvSpPr>
            <p:cNvPr id="375" name=""/>
            <p:cNvSpPr/>
            <p:nvPr/>
          </p:nvSpPr>
          <p:spPr>
            <a:xfrm>
              <a:off x="1447920" y="914400"/>
              <a:ext cx="6933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d3d3c"/>
                  </a:solidFill>
                  <a:latin typeface="Arial"/>
                </a:rPr>
                <a:t>Hospitalization Rates for Ambulatory Care Sensitive Conditions by County, Utah: 1996-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2285640" y="1447560"/>
              <a:ext cx="5028840" cy="455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"/>
          <p:cNvSpPr/>
          <p:nvPr/>
        </p:nvSpPr>
        <p:spPr>
          <a:xfrm>
            <a:off x="2133720" y="63244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8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30492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 University’s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 rot="19791000">
            <a:off x="151920" y="533520"/>
            <a:ext cx="191160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ed Fro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91D-BBAC-4F2C-83D8-B5A494087B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1523880" y="1447920"/>
            <a:ext cx="6362640" cy="4341240"/>
            <a:chOff x="1523880" y="1447920"/>
            <a:chExt cx="6362640" cy="4341240"/>
          </a:xfrm>
        </p:grpSpPr>
        <p:sp>
          <p:nvSpPr>
            <p:cNvPr id="382" name=""/>
            <p:cNvSpPr/>
            <p:nvPr/>
          </p:nvSpPr>
          <p:spPr>
            <a:xfrm>
              <a:off x="1523880" y="1447920"/>
              <a:ext cx="636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Utilization Rates of Hospital Inpatients, Outpatient Surgeries, or Emergency Room Visits, per 100 Population: Utah and U.S., 1999-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1823400" y="2037960"/>
              <a:ext cx="5822640" cy="37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2286000" y="60958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24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4572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 NCHS National Estim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Hospital Discharg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696080" y="38088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 rot="19791000">
            <a:off x="152280" y="456840"/>
            <a:ext cx="19116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ed Fro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/>
          <p:nvPr/>
        </p:nvSpPr>
        <p:spPr>
          <a:xfrm flipH="1" rot="18288600">
            <a:off x="4504680" y="3132720"/>
            <a:ext cx="1055520" cy="552600"/>
          </a:xfrm>
          <a:prstGeom prst="rightArrow">
            <a:avLst>
              <a:gd name="adj1" fmla="val 50000"/>
              <a:gd name="adj2" fmla="val 4775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34F-D34B-48EB-9F90-CF4859B54F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219320" y="1371600"/>
            <a:ext cx="7009920" cy="4190760"/>
            <a:chOff x="1219320" y="1371600"/>
            <a:chExt cx="7009920" cy="4190760"/>
          </a:xfrm>
        </p:grpSpPr>
        <p:sp>
          <p:nvSpPr>
            <p:cNvPr id="390" name=""/>
            <p:cNvSpPr/>
            <p:nvPr/>
          </p:nvSpPr>
          <p:spPr>
            <a:xfrm>
              <a:off x="1220760" y="4751280"/>
              <a:ext cx="6988680" cy="811080"/>
            </a:xfrm>
            <a:prstGeom prst="rect">
              <a:avLst/>
            </a:prstGeom>
            <a:solidFill>
              <a:srgbClr val="ecf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0760" y="3342960"/>
              <a:ext cx="6988680" cy="675720"/>
            </a:xfrm>
            <a:prstGeom prst="rect">
              <a:avLst/>
            </a:prstGeom>
            <a:solidFill>
              <a:srgbClr val="ecf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19320" y="1844640"/>
              <a:ext cx="6988680" cy="743400"/>
            </a:xfrm>
            <a:prstGeom prst="rect">
              <a:avLst/>
            </a:prstGeom>
            <a:solidFill>
              <a:srgbClr val="ecf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38400" y="4768200"/>
              <a:ext cx="6908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2400" y="4768200"/>
              <a:ext cx="56156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Utah faces huge challenges in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promotion of preventive care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31560" y="4768200"/>
              <a:ext cx="6908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38400" y="40338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22400" y="4033800"/>
              <a:ext cx="56156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Public reporting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on quality and safety can reduce performance variations among hospital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31560" y="40338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38400" y="3333600"/>
              <a:ext cx="690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22400" y="3466800"/>
              <a:ext cx="561564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Baseline measures of hospital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patient safety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are establishe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1560" y="3333600"/>
              <a:ext cx="690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38400" y="25992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22400" y="2599200"/>
              <a:ext cx="56156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Significant quality variations existed among types of care and care settings. Utah’s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nursing home care quality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was weaker than hospital or home health car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31560" y="25992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38400" y="1863360"/>
              <a:ext cx="690840" cy="7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22400" y="1863360"/>
              <a:ext cx="5615640" cy="7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Utah’s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overall health care quality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was ranked as “Strong” in the 2006 </a:t>
              </a:r>
              <a:br>
                <a:rPr sz="1100"/>
              </a:b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National Healthcare Quality Report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31560" y="1863360"/>
              <a:ext cx="690840" cy="7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8400" y="1371600"/>
              <a:ext cx="6908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P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2400" y="1371600"/>
              <a:ext cx="56156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Highligh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1560" y="1371600"/>
              <a:ext cx="6908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Tre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31560" y="1371600"/>
              <a:ext cx="699768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1560" y="186336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31560" y="25992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1560" y="33336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1560" y="40338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31560" y="47682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31560" y="5562360"/>
              <a:ext cx="699768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31560" y="1371600"/>
              <a:ext cx="0" cy="419076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22400" y="1371600"/>
              <a:ext cx="0" cy="419076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38400" y="1371600"/>
              <a:ext cx="0" cy="419076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29240" y="1371600"/>
              <a:ext cx="0" cy="419076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0800000">
              <a:off x="1423800" y="4277880"/>
              <a:ext cx="256320" cy="270360"/>
            </a:xfrm>
            <a:prstGeom prst="downArrow">
              <a:avLst>
                <a:gd name="adj1" fmla="val 50000"/>
                <a:gd name="adj2" fmla="val 26369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80960" y="2118600"/>
              <a:ext cx="342000" cy="180000"/>
            </a:xfrm>
            <a:prstGeom prst="rightArrow">
              <a:avLst>
                <a:gd name="adj1" fmla="val 50000"/>
                <a:gd name="adj2" fmla="val 47500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23800" y="5021640"/>
              <a:ext cx="256320" cy="270360"/>
            </a:xfrm>
            <a:prstGeom prst="downArrow">
              <a:avLst>
                <a:gd name="adj1" fmla="val 50000"/>
                <a:gd name="adj2" fmla="val 26369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80960" y="3601800"/>
              <a:ext cx="342000" cy="180360"/>
            </a:xfrm>
            <a:prstGeom prst="rightArrow">
              <a:avLst>
                <a:gd name="adj1" fmla="val 50000"/>
                <a:gd name="adj2" fmla="val 47405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23800" y="2858400"/>
              <a:ext cx="256320" cy="270360"/>
            </a:xfrm>
            <a:prstGeom prst="downArrow">
              <a:avLst>
                <a:gd name="adj1" fmla="val 50000"/>
                <a:gd name="adj2" fmla="val 26369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905120" y="58672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8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609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ah’s Self Rating on Trends of Quality and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571500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AAE-5CD6-4C86-8DF4-C5C6E53FA5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2667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OH released the report on the same day when AHRQ released the National Quality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997-2B80-4D38-82F8-D07CFEAAE5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Rank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114800" y="182880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monwealth Fund Health System Report Card (2007), released 06/13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66960" cy="35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609480" y="4191120"/>
          <a:ext cx="7925040" cy="153504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092240"/>
                <a:gridCol w="1549440"/>
                <a:gridCol w="1320840"/>
                <a:gridCol w="13208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able hospital use &amp;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y l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FFF-82F1-4335-B1EF-DD1BBC30D3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undwall, Exec. Dir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he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indicators compara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methods compar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data compar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we learn from the Commonwealth Fund re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Utah Medical Ethics Committee (UMEC) had a rich discussion on August 28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Ranking Dynamic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561-ADD3-4CFF-A375-CD21CB80F9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inction between outcome measures and process measures was evident in the various ranking sche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seems to be at a point where our measure definitions are standardized but the validity of each specific measure can’t be taken for gra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EC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7391520" y="171360"/>
            <a:ext cx="1523880" cy="11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7CC-97B4-47F8-B534-2D9FF5DB4A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7053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A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Evidence-based Policy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Sundwall, MD, Exec Dir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Department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der in using health data for evidence-based policy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leadership principle #2 is science-based practice an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19920" y="228600"/>
            <a:ext cx="189396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176-49C0-47AB-950B-73EDB38917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Home Messa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on between policymakers and analysts is the starting point for evidence-based policym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” with HCUPnet to explore answers for your policy ques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HCUP for technical assistance, if HCUPnet doesn’t have the data you ne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75A-0935-4EAA-8B8F-C25E541DE7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6002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u 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xu@utah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391520" y="171360"/>
            <a:ext cx="15238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UI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Evidence-based Policy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rk Hinckley, Robert Huefner, Leslie Francis, Stephen Kroes and other members of Utah Health Data Committee for their guidance in vision &amp; policy analysis to transform healthcar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03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3733920"/>
            <a:ext cx="7696440" cy="2438280"/>
          </a:xfrm>
          <a:prstGeom prst="rect">
            <a:avLst/>
          </a:prstGeom>
          <a:solidFill>
            <a:srgbClr val="cfcddc"/>
          </a:solidFill>
          <a:ln w="3240">
            <a:solidFill>
              <a:srgbClr val="3d3d3c"/>
            </a:solidFill>
            <a:miter/>
          </a:ln>
          <a:effectLst>
            <a:outerShdw dist="71785" dir="2700000" blurRad="0" rotWithShape="0">
              <a:srgbClr val="9d9d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6160" rIns="54720" tIns="54720" bIns="5472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d3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d3d3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d3d3c"/>
                </a:solidFill>
                <a:latin typeface="Times New Roman"/>
              </a:rPr>
              <a:t>We really are at a very exciting point in health care. Several years from now we will look back and see that the health care system that we know today has changed in sort of a revolutionary fashion.”</a:t>
            </a:r>
            <a:r>
              <a:rPr b="0" i="1" lang="en-US" sz="2400" spc="-1" strike="noStrike">
                <a:solidFill>
                  <a:srgbClr val="3d3d3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d3d3c"/>
                </a:solidFill>
                <a:latin typeface="Times New Roman"/>
              </a:rPr>
              <a:t>-Clark B. Hinckley, Chairman, Health Data Committee                                                                                  Summary at the HDC Biennial Retreat, July 11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6324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133-ED19-4CE7-921E-121079DEE5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AFF SUPPO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the Evidence-based Policy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Martin, Lori Brady, Keely Cofrin Allen, Lois Haggard and Barry Nangle in  Utah Center for Health Data for their efforts in develop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ion of discuss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f th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53280" y="3352680"/>
            <a:ext cx="270648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00400" y="5943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D93-3491-42BE-A925-6872CDF0BF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EDERAL SUPPO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s’ Evidence-bas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cy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rom 3 AHRQ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CUP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ional Healthcare Quality Repor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HRQ Public Affairs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73840" y="0"/>
            <a:ext cx="227016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86200" y="6019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0B2-58A4-40F9-AFC4-709D85B8FA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2819520" cy="2668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35049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Utah Health Data Author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648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6-33a-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the committee is to direct a statewide effort to </a:t>
            </a:r>
            <a:r>
              <a:rPr b="0" i="1" lang="en-US" sz="2800" spc="-1" strike="noStrike">
                <a:solidFill>
                  <a:srgbClr val="8c7f04"/>
                </a:solidFill>
                <a:latin typeface="Tahoma"/>
              </a:rPr>
              <a:t>coll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8c7f04"/>
                </a:solidFill>
                <a:latin typeface="Tahoma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8c7f04"/>
                </a:solidFill>
                <a:latin typeface="Tahoma"/>
              </a:rPr>
              <a:t>distribu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ealth care data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to facilitate the promotion and accessibility of quality and cost-effective health c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so to facilitate interaction among those with concern for health care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828800"/>
            <a:ext cx="838188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4DB-44AA-4F2E-9E9E-F23114C050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Health Data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urchasers/Busin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Clark Hinckley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Chair, Zions Ban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ephen Kroe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Utah Fou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Marilyn Tang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Certified Handl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c7f04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rovid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Kim Batema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M.D. Manti Medical Clinic and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HealthIns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Gail McGuill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R.N. Orem Community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ublic Polic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Judy Buffmire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Former Legis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Robert Huefner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– Vice Chair, Univ. of Utah, Political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Leslie Franci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Univ. of Utah, Health Eth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atients/Consum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Gary Nordoff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Housing for Low Income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Terry Hav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Utah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900" spc="-1" strike="noStrike">
                <a:solidFill>
                  <a:srgbClr val="8c7f04"/>
                </a:solidFill>
                <a:latin typeface="Tahoma"/>
              </a:rPr>
              <a:t>ayers and Health Sy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David Call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Deseret Mutual Benefits 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Douglas Hasbrouck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Regence BC/BS of Ut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Greg Pouls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Intermountain Health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84F-2C77-4945-B88A-D027729650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4:28:34Z</dcterms:created>
  <dc:creator>WXU</dc:creator>
  <dc:description/>
  <dc:language>en-US</dc:language>
  <cp:lastModifiedBy>william.hyde</cp:lastModifiedBy>
  <dcterms:modified xsi:type="dcterms:W3CDTF">2009-03-13T12:20:28Z</dcterms:modified>
  <cp:revision>258</cp:revision>
  <dc:subject/>
  <dc:title>Challenges In      Utah’s Health                         Care  </dc:title>
</cp:coreProperties>
</file>