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A8E-D385-428E-964D-111018F3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591-F2F1-4268-A3E9-D67AAC12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B690-6FBC-463F-A697-03DE2273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28C-3564-4B27-B94E-DA2BC07C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24F3-1863-4B8E-8305-E7F51243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A60-ADF6-41E7-B327-F25E1A5B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1D1-CEA2-4D67-84C3-312091EB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51B-10FF-4449-AFFB-4724CA93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F85-3C58-4CCF-B9CE-766D3333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3303-2D31-48B8-8EE8-94602008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F828-348A-4ED0-A11E-4EDB3590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98B3-3D32-4EE2-96E1-C4083DB1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208D-604E-4438-9370-084E6154F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the Maine Snapsh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36572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Healthcare Quality Improvement Workshop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You Can Use to Make a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mber 6-7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 McCarthy, Bath Iron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eviously with Maine Quality For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e Hospital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ern New England Quality Improvement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ory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stakeholder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lit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A1A-22D1-49CE-9740-BCC5A90EA5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o speed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nclusion/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ing Data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QF data site: 207.103.203.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F40-D592-471F-B915-E077F6D2D1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s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S maps for variation analy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hapter 270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C7E-906F-43C3-98CF-263F273636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e Quality 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as part of the Dirigo Health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ed with assessing the quality of healthcare in Maine and reporting information to the people of 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ed with promoting best practice in 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ed mission of providing actionable information about health care quality in easily accessib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938-ECBF-42F8-A1C9-19FA0AA85B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ing the Man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stitute of Medicine definition (STEEEP) as guid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thing, the right way, at the righ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ing Principles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of public reporting (move from Maine Medical Assessment Foundation model to public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of within state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ople of Maine as constituency rather than specific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arget not necessarily the change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stakeholder, public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F0B1-A2C2-4A3E-A142-05927B6FEC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with SAVA (using discharge data) during development of qualit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upon National Quality Forum metrics worked with Advisory Council to select metrics to be submitted by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d with Maine Health Data Organization (MHDO) re: rulemaking and micro-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ed in the Tri-partite group of Pathways to Excel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initial website with a key data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BF4-67CF-4E38-B79E-D000F3D653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 Web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small area variation analysis on procedures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data via bar charts developed in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s presented hospitals significantly different from the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data tables for drill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tart but difficult to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difficult to update new data r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e Quality Forum (MQF) site for example: www.mainequalityforum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80F-113E-4A8C-B1AF-3DC4AEBF18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isory Council advi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r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one view of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ll down from simplest to most complex (visual to raw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to include new data (Chapter 27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nis Shubert attended presentation re: new AHRQ State Snapsh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543-72C8-4EA7-B12F-33028E5895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igued by dial graphics representa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with Advisory Counc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ed out to AHRQ (Dwight) who brokered relationship with Thomson Healthcare (formerly Medstat) and Academy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ed with Thomson Health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d us with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B01-9F64-49A8-85EE-18DAE53DAA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st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QF Determined a need f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ed with Medstat (Thomson Healthc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ed with RADCo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an process of applying methodology to Maine’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HDO Epidemi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24B-8211-4212-9D93-B019D5D14C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ological Challenges Encount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“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by number of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“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by number of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by number of cases within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ress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II SAVA-GIS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6F4-807C-4AE9-B8F5-8123A915D0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7:36:25Z</dcterms:created>
  <dc:creator>cjmccarthy</dc:creator>
  <dc:description/>
  <dc:language>en-US</dc:language>
  <cp:lastModifiedBy>william.hyde</cp:lastModifiedBy>
  <dcterms:modified xsi:type="dcterms:W3CDTF">2009-03-13T12:26:45Z</dcterms:modified>
  <cp:revision>14</cp:revision>
  <dc:subject/>
  <dc:title>Creating the Maine Snapshots</dc:title>
</cp:coreProperties>
</file>