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91-A20C-4863-ABDE-43C41C29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8EB-3FFB-4905-BAFD-7F3EA3A3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92A-3E08-4798-A52E-0DDC7EDB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9F-D995-429A-AE9E-A56BBD3B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5F1-7BA7-4589-A827-0CE8BA3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3F0-FBDE-42BE-995D-0D62CB3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DEF-9758-4904-BAD1-8993E7D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82C-AE92-481E-B2D9-8F9A232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3A7-E858-4090-971E-6752A7A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091-56A9-41DC-BBDF-CE12793B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985-F8B3-442D-9B09-80EF946A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2D0-B75D-4EA0-88B7-1723086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769B-6AED-456E-AEA1-5E31EFB4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the Maine Snap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6572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Healthcare Quality Improvement Worksh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You Can Use to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6-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 McCarthy, Bath Iro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viously with Maine Quality Fo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e Hospit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New England Quality Improvement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y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lit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4DE-3D2B-4BE7-937E-A4D809F58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speed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clusion/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Data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QF data site: 207.103.20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1AA-4AF4-4235-A87F-DE4DC98D47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maps for variation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hapter 270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548-D4D8-4479-ABEA-BD42D56E0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e Quality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as part of the Dirigo Health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ed with assessing the quality of healthcare in Maine and reporting information to the people of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ed with promoting best practice in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d mission of providing actionable information about health care quality in easily accessib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39F-5773-4265-8DF4-C42283767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the Man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stitute of Medicine definition (STEEEP) as guid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thing, the right way, at the r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Principles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of public reporting (move from Maine Medical Assessment Foundation model to public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within state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of Maine as constituency rather than specific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arget not necessarily the chang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, publ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8B8-90FC-48AB-8543-723B4AE96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SAVA (using discharge data) during development of qu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upon National Quality Forum metrics worked with Advisory Council to select metrics to be submitted by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with Maine Health Data Organization (MHDO) re: rulemaking and micro-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d in the Tri-partite group of Pathways to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initial website with a key data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9F3-8CEF-496D-8D07-DBF66C7E53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small area variation analysis on procedures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data via bar charts developed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presented hospitals significantly different from th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data tables for dri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rt but difficult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update new data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e Quality Forum (MQF) site for example: www.mainequalityforum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B7B-6E65-43D0-A3F6-1C38C3BDD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y Council advi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view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ll down from simplest to most complex (visual to raw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include new data (Chapter 2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is Shubert attended presentation re: new AHRQ State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B0B-3745-4566-8536-0475CB4DB6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gued by dial graphics represent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with Advisory Coun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ed out to AHRQ (Dwight) who brokered relationship with Thomson Healthcare (formerly Medstat) and Academy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with Thomson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us with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620-AFCF-4AEC-B944-65E5AD1488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QF Determined a need f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Medstat (Thomson Healthc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ed with RADC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process of applying methodology to Maine’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HDO Epidem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9D1-7688-486B-9C4E-E772445502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ological Challenges Encount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“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by number of cases within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 SAVA-GI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B74-9DAF-45EE-973D-9B989F75F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36:25Z</dcterms:created>
  <dc:creator>cjmccarthy</dc:creator>
  <dc:description/>
  <dc:language>en-US</dc:language>
  <cp:lastModifiedBy>william.hyde</cp:lastModifiedBy>
  <dcterms:modified xsi:type="dcterms:W3CDTF">2009-03-13T12:26:45Z</dcterms:modified>
  <cp:revision>14</cp:revision>
  <dc:subject/>
  <dc:title>Creating the Maine Snapshots</dc:title>
</cp:coreProperties>
</file>