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4040" y="696600"/>
            <a:ext cx="46465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0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AA73F6-124A-4275-9C26-11269A54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Venettozzi (answer data ques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6AF1-D20C-4689-9E32-81731025D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73D5-AE2C-4B1D-A1B5-745CAF638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9CA5-0682-439A-A8DB-781861069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D306-1BC8-4CFC-BEE3-CBDBA5409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31E13-3F26-4C58-BFEA-21D04C93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1DC35-2D4D-4143-B14A-35FA7DD5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C903C-DF54-4FB4-823E-DDA563D1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0334-6CC9-4E50-AD96-520E1479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76ECB-6BEE-4C3B-B61D-47FDD118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2F662-49C6-4D24-AD12-C039418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DE77-5611-49B3-9168-C76EA189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22F3-7463-4393-96EF-7DB48F276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F3D21-40E0-4701-B801-CFE3315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61695-60ED-4174-ABA6-84F7BF88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A15F0-7A65-4CDF-822B-881CEB08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581B-9CBF-4B0A-BCA5-A1CFE043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6D3F8-633F-45AB-8CD8-C1BFC278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20116-0B63-44D7-BBE7-A137D409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84948-C493-4E74-AFD6-4CC6597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67312-C1F3-48F5-880B-C54F1FB4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7D9DF-C004-4EE6-8B76-FB2B81B7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EC195-7634-40BE-B0D9-E2856E8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4889-1E62-4E5E-89B3-6E85669C23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A3851-CD9D-41D7-BE3F-1CB30D0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54558-4F8A-4A33-A81A-FBDA58FA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E0187-EA07-4724-BFCD-66CC2EC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70520-184F-4ECF-927B-31A7970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BC9FE-28E5-454E-868D-ADD4C67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1AFA7-B3B3-4625-8221-B4CE7557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14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54200" y="106668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14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54200" y="3693600"/>
            <a:ext cx="2821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77DD6-A68C-42BC-AEC3-6B9CC288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446B-A768-43B6-A282-BE31F0CA7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A672-DCC2-458B-8737-068333711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8102-908E-4D73-BA69-32E3C7355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A18F-9688-43AB-ADDF-2ED80D366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369360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69D9-7BCF-4C26-97E8-67A125435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680"/>
            <a:ext cx="4276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763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2937-4DC7-46C1-BE76-4FCF81CD3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Cabinet for Health and Family Services</a:t>
            </a: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Slide #</a:t>
            </a:r>
            <a:fld id="{4E721918-7C5C-4004-9326-0082AFE443F1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2631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81288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E5BF-29CE-4613-AAA6-4BB5809C8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01EE-0889-412E-B22A-5A57AEB83956}" type="datetime5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E2A-7FD5-47CC-A11D-84AE30DAC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4213-19AC-48B9-8E8E-0095C345E691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FF5-7135-44C6-B541-D5EC9C099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57400" y="3733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y for Quality Improvement Effort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the Kentucky Cabinet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and Family Services (CH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6640" y="4343400"/>
            <a:ext cx="33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di Matthews,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Policy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of the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90720" y="1397160"/>
          <a:ext cx="7696080" cy="453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97160"/>
                    <a:ext cx="769608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012320" y="22860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tained from the Diabete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23720" y="984240"/>
            <a:ext cx="8128080" cy="4800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75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076960" cy="4915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Using Ideas from the Diabetes Guide + HCUP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543800" cy="4811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73320" y="201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010640" cy="4542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0720" y="15228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S Mapping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UP Dat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Mapping Software 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1080" y="15228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y-Level Quality Improvem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 flipH="1" flipV="1">
            <a:off x="4495680" y="2895480"/>
            <a:ext cx="76320" cy="763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2743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4880" y="2514600"/>
            <a:ext cx="16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uis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10080" y="2895480"/>
            <a:ext cx="76320" cy="763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867280" y="3047400"/>
            <a:ext cx="76320" cy="7596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1120" y="1828800"/>
            <a:ext cx="16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ank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5440" y="1828800"/>
            <a:ext cx="170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ex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43240" y="21337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866920" y="2057400"/>
            <a:ext cx="76212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udi Matthews et 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784872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457200" y="1328760"/>
          <a:ext cx="8229600" cy="430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28760"/>
                    <a:ext cx="82296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V="1"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9132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" y="22860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isplay Using Diabetes Guid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5320" y="5562720"/>
            <a:ext cx="35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BRFSS &amp; Diabetes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or committed to transparency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(Data &amp; Measurement) is first step to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Guide critical tool for how best to present ou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Y must take more steps to facilitate quality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des give us credibility in our QI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ct Inform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rry I couldn’t be with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udi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lmatthews@jun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9-333-8067 (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43080" y="0"/>
            <a:ext cx="8458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Policy Discussion Roundtable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s Involved in AHRQ Activities on Asth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066680"/>
            <a:ext cx="8305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 indent="-290520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arning Partnership – Disparities in Pediatric Asth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testing state-led mode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, MD, MI, NJ, OR, 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ties with State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ing institu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nning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ical assis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,  Cultural competency trai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ific 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chigan Asthma Coalitio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ed on asthma disparities ; collecting data on children’s dispa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ed asthma ROI calculator -- decision on count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egon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d GIS mapping to target high prevalence counties to reduce asthma disparities among low-income children (for telemedicine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1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hode Isl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hode Island Healthy Homes: Developed assessment tool to identify children with asthma in low-income housing (w/ housing authority) &amp; refer to community health centers and DOH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16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ntucky Legislation &amp;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law (HB 278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ecretary’s Advisory Committee on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        2006 law (HB 380) on public release of cost and qualit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Information Cente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ed March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on avoidable hospitalizations &amp; inpatien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can compare KY hospitals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http://chfs.ky.gov/ohp/healthdat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219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0" r="0" b="64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KY staff use the AHRQ Too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Diabetes Guide and Workbook helped direct staff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chronic diseases &amp; focus on diabe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most recent data in formats of the Diabete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oductive in the analysis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 data with bette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 credibility by using national measures and AHRQ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655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ntucky CHFS colle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B-92 inpatient recor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,000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ntuck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atient surgery rec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mbulatory surger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Health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FSS, Vital Statistics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id &amp; State employ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i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19051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2286000"/>
            <a:ext cx="20574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&amp; Diagn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st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UP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lity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roprietary consensus-based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: 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: 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 (JCAHO, NQF,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being used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atient Quali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Hospital Com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4000" y="411480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8098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ntucky and Health Sta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tucky: among worst health outcomes in 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death and disability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obesity preva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highest adult diabete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astern counties nearly double  national diabetes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14400" y="1523880"/>
          <a:ext cx="746748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3880"/>
                    <a:ext cx="746748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5720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tained from Diabetes Gui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Y Compared to Worst/Best-in-Class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31:11Z</dcterms:created>
  <dc:creator> KDMHMRS</dc:creator>
  <dc:description/>
  <dc:language>en-US</dc:language>
  <cp:lastModifiedBy>william.hyde</cp:lastModifiedBy>
  <dcterms:modified xsi:type="dcterms:W3CDTF">2009-03-13T12:21:27Z</dcterms:modified>
  <cp:revision>386</cp:revision>
  <dc:subject/>
  <dc:title>Welcome to the Division of Mental Retar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2507827</vt:r8>
  </property>
  <property fmtid="{D5CDD505-2E9C-101B-9397-08002B2CF9AE}" pid="3" name="_AuthorEmail">
    <vt:lpwstr>Trudi.Matthews@ky.gov</vt:lpwstr>
  </property>
  <property fmtid="{D5CDD505-2E9C-101B-9397-08002B2CF9AE}" pid="4" name="_AuthorEmailDisplayName">
    <vt:lpwstr>Matthews, Trudi   (CHFS Health Policy)</vt:lpwstr>
  </property>
  <property fmtid="{D5CDD505-2E9C-101B-9397-08002B2CF9AE}" pid="5" name="_EmailSubject">
    <vt:lpwstr>presentations for summit</vt:lpwstr>
  </property>
  <property fmtid="{D5CDD505-2E9C-101B-9397-08002B2CF9AE}" pid="6" name="_PreviousAdHocReviewCycleID">
    <vt:r8>-2072674699</vt:r8>
  </property>
  <property fmtid="{D5CDD505-2E9C-101B-9397-08002B2CF9AE}" pid="7" name="_ReviewingToolsShownOnce">
    <vt:lpwstr/>
  </property>
</Properties>
</file>