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4040" y="696600"/>
            <a:ext cx="464652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0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99F587D-B45F-41DB-A35B-7CEED528D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Venettozzi (answer data ques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C607-ED65-4D8C-8B65-70F9FD72C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B6DF-42FE-41A6-9F28-A8D7CC841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34FC-B7D8-4406-8352-D7F94F64F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E7C0-1D36-40C2-888D-B995FC43C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6053A-2C9A-464C-8950-18E5BD99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09D45-EA8A-41FF-88CF-8890448B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A0D33-313D-4F86-AC33-7C7585D8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E6A3E-24E3-46CA-A602-0394372C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0355C-2EDC-41C9-A292-3C8115C8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17424-6688-4789-AA50-D0DD72C1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4CB17-C87F-41BB-B7D1-65FBA145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4FB5-4DE0-4A00-A4CF-60E19710D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DD877-46CF-4A83-AE9C-DD4E9C5F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E15B1-6217-4E0D-B273-7C58E620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17B40-6692-4F08-A459-FB3A94C2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9ACFA-DDFC-42D4-B16E-A1841DB0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5F0C7-1E44-48F7-960B-9FA2E299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03F52-B7BB-4487-9FFF-63069A17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64ED5-EAD5-42BC-B1A4-7F5526AF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C49A3-7F66-488E-B84F-FC6D98A1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34E62-434E-40D1-91AB-6C52D32A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EA27B-2FF5-4D59-B2A5-499CFE37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A96B-A84E-469B-A2B0-EEFF0B769F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72E74-A773-4D0F-A973-FBE9A9BA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D41E7-DC40-4055-A694-18D83146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5067E-63A8-43EC-964A-9CEDC84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2E458-3254-420C-A846-78336C81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42827-1B25-44A1-B161-761CBC4D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CEF92-A185-4A00-A657-E985E808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D0DE4-E4C7-4CD0-9983-61370C42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50C4-7637-44AB-97E1-6090CA9B7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6AB0-BAB5-4F18-9581-EEB0354C6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CBCA-7FA8-4E16-858A-40D7688D6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A4F2-92A5-47AC-B1FC-0011AC53D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14036-06A5-4224-A060-58BB4C761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33CA-4E22-4273-AA37-8F0B439F1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Slide #</a:t>
            </a:r>
            <a:fld id="{9673490C-87AF-44D5-A1B0-682815B72A18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6F1A-2379-46E6-AD71-A99AC6D43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AAC8-8241-4500-BE5A-03CFF3D9BA22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DEA4-F2C0-48C6-98B4-BE745B1E6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AEA5-D5E1-43BC-926F-C4BB053D4C71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5951-4819-427B-908C-CA6A9A323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57400" y="37339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parency for Quality Improvement Effort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the Kentucky Cabinet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lth and Family Services (CHF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06640" y="4343400"/>
            <a:ext cx="33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di Matthews,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ior Policy 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of the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90720" y="1397160"/>
          <a:ext cx="7696080" cy="453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97160"/>
                    <a:ext cx="769608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012320" y="228600"/>
            <a:ext cx="71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tained from the Diabetes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305920" cy="5105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088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d Using Ideas from the Diabetes Guide + HCU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23720" y="984240"/>
            <a:ext cx="8128080" cy="4800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30720" y="15228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756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d Using Ideas from the Diabetes Guide + HCU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076960" cy="4915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d Using Ideas from the Diabetes Guide + HCU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543800" cy="4811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73320" y="20160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7010640" cy="4542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30720" y="15228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S Mapping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CUP Dat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RQ Mapping Software 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1080" y="152280"/>
            <a:ext cx="79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y-Level Quality Improvem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"/>
          <p:cNvSpPr/>
          <p:nvPr/>
        </p:nvSpPr>
        <p:spPr>
          <a:xfrm flipH="1" flipV="1">
            <a:off x="4495680" y="2895480"/>
            <a:ext cx="76320" cy="763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27432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4880" y="251460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uisv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410080" y="2895480"/>
            <a:ext cx="76320" cy="763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867280" y="3047400"/>
            <a:ext cx="76320" cy="7596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41120" y="1828800"/>
            <a:ext cx="164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ank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2057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5440" y="1828800"/>
            <a:ext cx="170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xing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943240" y="21337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866920" y="2057400"/>
            <a:ext cx="76212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udi Matthews et a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784872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57200" y="1328760"/>
          <a:ext cx="8229600" cy="430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28760"/>
                    <a:ext cx="822960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V="1">
            <a:off x="449568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9132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720" y="22860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5320" y="5562720"/>
            <a:ext cx="354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BRFSS &amp; Diabetes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or committed to transparency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cy (Data &amp; Measurement) is first step to qual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Guide critical tool for how best to present ou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Y must take more steps to facilitate quality impr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ides give us credibility in our QI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act Inform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orry I couldn’t be with yo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rudi Matth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lmatthews@jun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9-333-8067 (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43080" y="0"/>
            <a:ext cx="84582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Policy Discussion Roundtable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s Involved in AHRQ Activities on Asthm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066680"/>
            <a:ext cx="8305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0520" indent="-29052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arning Partnership – Disparities in Pediatric Asth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testing state-led mode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, MD, MI, NJ, OR, 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1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vities with State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ing institu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nning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ical assistan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.g.,  Cultural competency train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ecific Examp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1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chigan Asthma Coalition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ed on asthma disparities ; collecting data on children’s dispar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ed asthma ROI calculator -- decision on county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1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egon: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d GIS mapping to target high prevalence counties to reduce asthma disparities among low-income children (for telemedicine?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1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hode Isla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hode Island Healthy Homes: Developed assessment tool to identify children with asthma in low-income housing (w/ housing authority) &amp; refer to community health centers and DOH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ntucky Legislation &amp; Poli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 law (HB 278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ecretary’s Advisory Committee on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        2006 law (HB 380) on public release of cost and qualit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Care Information Center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nched March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on avoidable hospitalizations &amp; inpatient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can compare KY hospitals on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http://chfs.ky.gov/ohp/healthdat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219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2133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rcRect l="0" t="0" r="0" b="64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id KY staff use the AHRQ Tool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Diabetes Guide and Workbook helped direct staff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chronic diseases &amp; focus on diabe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most recent data in formats of the Diabetes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oductive in the analysis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 data with better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 credibility by using national measures and AHRQ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6553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ntucky CHFS colle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B-92 inpatient recor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,000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Kentucky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atient surgery rec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mbulatory surgery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Health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FSS, Vital Statistics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id &amp; State employ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i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1905120"/>
            <a:ext cx="75960" cy="2514600"/>
          </a:xfrm>
          <a:custGeom>
            <a:avLst/>
            <a:gdLst>
              <a:gd name="textAreaLeft" fmla="*/ 0 w 75960"/>
              <a:gd name="textAreaRight" fmla="*/ 27360 w 759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2286000"/>
            <a:ext cx="20574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 &amp; Diagn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st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UP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Meas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roprietary consensus-based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RQ: 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: Centers for Medicare and Medicai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(JCAHO, NQF,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being used 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 Quali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atient Quali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Hospital Comp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4000" y="411480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RQ Qualit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380988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ntucky and Health Stat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tucky: among worst health outcomes in 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est death and disability r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est obesity preva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th highest adult diabetes pre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astern counties nearly double  national diabetes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914400" y="1523880"/>
          <a:ext cx="746748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23880"/>
                    <a:ext cx="746748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57200" y="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tained from Diabetes Gui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Y Compared to Worst/Best-in-Class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4:31:11Z</dcterms:created>
  <dc:creator> KDMHMRS</dc:creator>
  <dc:description/>
  <dc:language>en-US</dc:language>
  <cp:lastModifiedBy>william.hyde</cp:lastModifiedBy>
  <dcterms:modified xsi:type="dcterms:W3CDTF">2009-03-13T12:21:27Z</dcterms:modified>
  <cp:revision>386</cp:revision>
  <dc:subject/>
  <dc:title>Welcome to the Division of Mental Retar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2507827</vt:r8>
  </property>
  <property fmtid="{D5CDD505-2E9C-101B-9397-08002B2CF9AE}" pid="3" name="_AuthorEmail">
    <vt:lpwstr>Trudi.Matthews@ky.gov</vt:lpwstr>
  </property>
  <property fmtid="{D5CDD505-2E9C-101B-9397-08002B2CF9AE}" pid="4" name="_AuthorEmailDisplayName">
    <vt:lpwstr>Matthews, Trudi   (CHFS Health Policy)</vt:lpwstr>
  </property>
  <property fmtid="{D5CDD505-2E9C-101B-9397-08002B2CF9AE}" pid="5" name="_EmailSubject">
    <vt:lpwstr>presentations for summit</vt:lpwstr>
  </property>
  <property fmtid="{D5CDD505-2E9C-101B-9397-08002B2CF9AE}" pid="6" name="_PreviousAdHocReviewCycleID">
    <vt:r8>-2072674699</vt:r8>
  </property>
  <property fmtid="{D5CDD505-2E9C-101B-9397-08002B2CF9AE}" pid="7" name="_ReviewingToolsShownOnce">
    <vt:lpwstr/>
  </property>
</Properties>
</file>