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10A9-83A0-45A6-BBC1-59BE30DC9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7FD4-F5F0-4675-B210-D17CDC216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7A2F-24B4-4C2C-9E68-5E1467AC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5345-7CD5-46AD-BB39-3F1302F5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6E1B-9C61-412E-91F2-3C2F0EE2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972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972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9F4F-E501-4E54-96E4-8D3648AF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8DD43-618E-480B-9AAF-856AA215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F0D27-6CDF-4FAC-BCF8-87B0B62E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0FC09-7AE9-43A0-B2D4-B33691B4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BD11B-0795-47E8-BA5F-75D4DED3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C3BDF-E15F-45D4-B4E2-AC54DA8C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FA276-1F0B-4C1A-B1BC-F14C5DB2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1BD2B-0937-47AF-A1A6-2BAC8994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20C9-851B-48F5-971D-CE6902A2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4F9F8-FBE5-4AB8-87DB-8954CB71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5B357-AD50-4842-A01E-32C6E7C0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FB5FC-5C19-4857-9EE4-74CB1F7A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907B1-9808-4BCE-92FA-224DE9F1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3972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3640" y="190512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3972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3640" y="3974760"/>
            <a:ext cx="25272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53DC6-DAC9-4C0E-92FD-71B6B69B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6D1E-1FA6-4A0C-8CFC-759FD3F8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6484-A0AD-4862-AE83-64328510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15EB-E155-413D-AF9B-1886879E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4C37-44B6-4707-946E-413AFA4D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92E0-6FD4-48D6-A536-097BB531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7720" y="397476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EAF-148C-4D7D-9C7F-23746F34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7720" y="1905120"/>
            <a:ext cx="383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74760"/>
            <a:ext cx="78487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83E7-6E8B-471B-A47A-5D83666D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84880"/>
            <a:ext cx="9144000" cy="5731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93720" y="594324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9704-DA39-4E1D-9CBD-BADF43C1857F}" type="datetime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705280" y="5955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1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92840" y="5955840"/>
            <a:ext cx="398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9890-CE23-48B2-9B95-3CC1FBC65DCE}" type="slidenum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6858000" y="6451560"/>
            <a:ext cx="1752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8538840" y="5954760"/>
            <a:ext cx="43956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1724-7E9E-4C88-A19B-20EAA6E58871}" type="slidenum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693360" y="5257440"/>
            <a:ext cx="131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7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C02E-70FF-4EF5-A5C9-3DDCF3E0F464}" type="datetime">
              <a:rPr b="0" lang="en-US" sz="1000" spc="-1" strike="noStrike">
                <a:solidFill>
                  <a:srgbClr val="77777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hyperlink" Target="http://www.ahrq.gov/" TargetMode="External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49600" y="5977080"/>
            <a:ext cx="5175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c4c8dd"/>
                </a:solidFill>
                <a:latin typeface="Arial"/>
              </a:rPr>
              <a:t>RTI International is a trade name of Research Triangle 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376440" y="5130720"/>
            <a:ext cx="1974960" cy="9162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36520" y="3832200"/>
            <a:ext cx="652320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roduction to the CDC/RTI Chronic Disease Cost Calcul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ted by: Eric Finkelstein, Ph.D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c. 7,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241720" y="1531800"/>
            <a:ext cx="2092320" cy="196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4332240" y="1521000"/>
          <a:ext cx="1928880" cy="1971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32240" y="1521000"/>
                    <a:ext cx="1928880" cy="19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6532560" y="2660760"/>
            <a:ext cx="2303640" cy="831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87200" y="2692440"/>
            <a:ext cx="1859040" cy="797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AHRQ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62080" y="5126040"/>
            <a:ext cx="1336680" cy="914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7254720" y="5200560"/>
            <a:ext cx="1490760" cy="8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D3E89-F9A8-43F9-B6E5-B933E973D0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290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Examine Medicaid Costs Separate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7240" y="1564920"/>
            <a:ext cx="838188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ximately 22% of all state spending is for Medicaid expenditures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has not examined the cost burden of chronic diseases to state Medicaid programs in a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n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ner across sta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id directors and others have been requesting this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feasible to estimate Medicaid costs using claims data, however, it is complicated, expensive and not without limi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9760" y="55641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tional Governors Association and National Association of State Budget Officers. Fiscal Survey of States, June 2007. Accessed from http://www.nasbo.org/Publications/PDFs/Fiscal%20Survey%20of%20the%20States%20June%202007.pdf November 21, 2007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BF9E-BCC2-407F-94FC-BE9CD1673C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deral, State and Total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id Spending, 1965-201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4302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5791320"/>
            <a:ext cx="876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rce: Centers for Medicare and Medicaid Services, National Health Expenditures (NHE) Amounts by Type of Expenditure and Source of Funds: Calendar Years 1965 -2015, available at: www.cms.hhs.gov/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atistics/nhe/#projec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EC94-CEFF-43D2-81A9-8EA3685154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59080" y="436320"/>
            <a:ext cx="6324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not use existing estimates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26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ing estimates are based on inconsistent data and metho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26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are often contradicto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5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population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5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data se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5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methodolog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5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ts of double coun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26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kit and estimation approach presents a transparent and evidence-based strategy for calculating cos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5662440"/>
            <a:ext cx="868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0BBA-BD7E-477F-AE8E-59074CB8EA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9160" y="3776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imation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785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ly Representative Data: Medical Expenditure Panel Survey (MEP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Representative Data: Medicaid MAX fee-for-service clai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etric (regression-based) 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4B9-DA60-4B0D-9888-62F5D3A6E3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PS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640" y="16304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ly-representative survey of the US civilian non-institutionalize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tifies annual medical spending by pay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information on health insurance status and demographic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es all medical conditions for which a participant sought treatment during the survey period and for selected chron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RQ granted access to state identifiers to quantify state-level adjustment fac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5608-97D9-444D-A447-9AC39116D8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880" y="3427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dvantages of M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47200" y="169236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ly-representative dataset with state identifi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data source for all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payments for most medical services, including Rx dru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for stratification by payer (sample-size permitt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3C0B-D4AE-4659-B558-FB008B9113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388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advantages of M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ize may be inadequate for some diseases/payers/population stratif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ling years can hel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d, 2000-2003 MEPS includes approximately 125,000 people, and 25,000 Medicaid recip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do not include institutionalized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7D06-698D-4F07-8C9D-460D5DB594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6096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—Medicaid MAX File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te Medicaid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785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e available by CMS in a uniform format across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research on Medicai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person-level eligibility records with demographic (Enrollment file) and claims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ariable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ic disease flags based on diagnosis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graphic information (e.g., age, gender, race/ethni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ths of eligibility during the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dicator for dual elig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id payments, in total and broken out by type of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2FB3-8FE6-4106-A81A-16767AD515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id MAX Files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3152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Rx cla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long-term care population (unlike MEP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source for state-specific Medicaid prevalence, demographic, and cos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large number of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for all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747F-CB16-4B42-8AE3-F243FE8586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096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id MAX Files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909440"/>
            <a:ext cx="68580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ses payments for dual elig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ses payments for non-cover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are incomplete for states with high Medicaid managed care enroll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are costly and analyses are labor and computer intens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plete coding on long-term care claims may be problematic for some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893A-BBE8-46AE-B531-FFC92B3B25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stigator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I Investig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an Ha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ic Finkelste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n Trogd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C Investigator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ne Oren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aac Nwais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rence Tang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miko Imai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uise Murph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613-A07E-4428-868D-F947851397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67960" y="24300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—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1396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MEPS to generate annual per capita disease costs for non-institutionalized popul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controls for confoun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data source for all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state-level inflators to adjust for regional price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test results using the 4 states MAX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MAX data for estimating per capita disease costs for institutionalized pop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 unit costs with prevalence data to generate State-specific total and Medicaid co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alence data can be provided by the user or estimated from th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9505-3648-40A4-AC89-8681849BAF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imation Appro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7850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ing Approach: sum payments for all events with the disease listed as the primary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either understate or overstate costs attributable to the disease of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te: does not include attributable costs when disease of interest (e.g., diabetes) is listed as a secondary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state: may include costs attributable to secondary diagn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ing primary plus secondary diagnoses results in addition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ly to result in double 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4FDD-455D-4E49-947F-9E31E1139E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371520"/>
            <a:ext cx="6096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onometr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8536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multivariate regression analysis to estimate marginal costs associated with each disease while controlling, to the extent possible, for other observable characteristics that affect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ual $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seases of interest, socio-demographic characteristics, other medical condi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s of interest: heart disease, stroke, hypertension, CHF, diabetes, c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odemographic characteristics: gender, race, age,  education,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high prevalence or high cost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C1A8-E196-4259-83A5-0610220BF1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onometr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8536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approach has several major advantages over other 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ressions control for covariates (e.g., age, gender, comorbiditi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flexibility in the mode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ppropriate calculation, avoids double-counting of costs for co-occurring disea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run model separately on total or Medicai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0FD0-2ACC-4EA4-9D2D-759EED9A7D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65200" y="353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voiding double coun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ly-used econometric models also lead to double counting of costs across diseases (Trogdon, Finkelstein and Hoerger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hen expenditures for co-occuring diseases (e.g., heart disease with cancer) are not properly allocated across the two dise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sults in inflated est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eveloped a strategy to estimate the expenditures associated with co-occuring diseases and reallocate these expenditures to the individual dis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ology forthcoming in H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Trogdon et al. (2007) Health Promotion Practice article and in the tool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– explains why our estimates are generally lower than what is in the 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05C8-6C91-4F12-A4EC-971636BD18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imation Strate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776240"/>
            <a:ext cx="807696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93840">
              <a:lnSpc>
                <a:spcPct val="7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appropriate functional form for empirical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7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 separate models for annual expenditures in five catego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85840">
              <a:lnSpc>
                <a:spcPct val="7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85840">
              <a:lnSpc>
                <a:spcPct val="7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85840">
              <a:lnSpc>
                <a:spcPct val="7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ice-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85840">
              <a:lnSpc>
                <a:spcPct val="7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85840">
              <a:lnSpc>
                <a:spcPct val="7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per capita cost for each disease and combination of dis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efficients from the model, which provide information about the relative importance of each disease on expenditures, to reallocate costs associated with co-occuring dis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2FA6-EF2B-4DDA-AEFA-3C6C1C7B883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imation Strategy co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8280" y="169704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 results to produce a national estimate of per capita costs for each dise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regional/state level adjustment factors to generate per capita costs for each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y costs by prevalence estimates (either user supplied or estimated from the model) to generate Total (Medicaid)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estimates to those generated directly from 4 states Medicaid claim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4755-64FD-4447-A2DF-9864CEBCD1B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3427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dicaid Results: Cardiovascular Disease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ual costs per person with disease attributable to the disease to Medic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stive heart failu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4,1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1,6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k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1,5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heart disea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1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: Trogdon et al. (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782B-65C5-416C-BD56-098E1402FC2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ublic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of Econometric Models to Estimate Expenditure Sh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stin G. Trogdon, Eric A. Finkelstein, Thomas J. Hoer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hcoming at Health Services Research (CDC-funded through RTI-UNC Center of Excellence in Health Promotion Econom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Economic Burden of Cardiovascular Disease for Major Insu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stin G. Trogdon, Eric A. Finkelstein, Isaac Nwaise, Florence Tangka, and Diane Oren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lth Promotion Practice 2007;8(3):234-24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A194-9A90-46DD-B9AC-5E8F80E857F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34800" y="321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reen Sho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19320" y="1596960"/>
            <a:ext cx="6553080" cy="442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F199-89C0-4111-91FB-4C2A3AAF1B0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Collabor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cy for Healthcare Research and Quality (AHR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 Association of Chronic Disease Directors (NACD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 Pharmaceutical Council (N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2F96-2013-44DA-A615-BE4857C186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13000" y="1568520"/>
            <a:ext cx="5597280" cy="453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1323-FD0F-4E99-954A-B169D476927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38480" y="1527120"/>
            <a:ext cx="4314600" cy="456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FAAF-2196-46A6-A82E-966EDB8E80E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935000" y="1576440"/>
            <a:ext cx="4770720" cy="451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BE18-50E6-44F4-B1D8-831BE4DE559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61800" y="1517760"/>
            <a:ext cx="8367840" cy="459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EFFA-D21F-48E7-93F7-C9DDF920C30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46040" y="1587600"/>
            <a:ext cx="8229600" cy="46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9C78-B78A-4AC2-AF2A-D08FF8EAF8D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68280" y="1536840"/>
            <a:ext cx="8534520" cy="46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FF32-EFC5-4E89-930A-71FBA447684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30120" y="1503360"/>
            <a:ext cx="8458200" cy="473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A9C9-82A0-41BF-BF36-74A45DDF591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2480" y="328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xt 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5280" y="17524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s on demonstration of the toolk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 discussion surrounding the question: ‘How should the estimates generated from the toolkit be used?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9824-E3AF-475C-8D57-769A81115A6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43956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are burden estimate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examine state-specific total and Medicai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description: objectives, methodology, strategy, estimation, preliminary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 sh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DBDA-938A-4F2F-8B97-715A034271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50004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ct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50336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 a consistent framework to calculate state-specific Total and Medicaid costs for persons diagnosed and/or treated for heart diseases, stroke, hypertension, congestive heart failure, diabetes, cancer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completed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thritis and major depression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ongoin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the proportion of state Total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ongoing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Medicaid costs for these disease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complete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user friendly calculator to estimate prevalence-based state-specific Total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ongoing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Medicaid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completed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st estimates for all states without having to analyze claim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 the toolkit to include indirect costs and a forecasting module</a:t>
            </a:r>
            <a:r>
              <a:rPr b="0" lang="en-US" sz="1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ongoin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seminate our methodology and results to key stakeholders</a:t>
            </a:r>
            <a:r>
              <a:rPr b="0" lang="en-US" sz="18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ongoing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9C38-E228-4A5E-B0C7-40739D2E7B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752480" y="4114800"/>
            <a:ext cx="5562720" cy="762120"/>
          </a:xfrm>
          <a:prstGeom prst="ellipse">
            <a:avLst/>
          </a:prstGeom>
          <a:solidFill>
            <a:srgbClr val="82a49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are burden estimates need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94040" y="3841920"/>
            <a:ext cx="1768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42670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Verdana"/>
              </a:rPr>
              <a:t>Burden &amp; Cost of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3276720"/>
            <a:ext cx="7010640" cy="13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ning/Forecasting   Prevention  Resource Allo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50000" y="5410080"/>
            <a:ext cx="41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6040" y="2057400"/>
            <a:ext cx="58118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Verdana"/>
              </a:rPr>
              <a:t>Public Health Policy &amp;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2743200" y="3809880"/>
            <a:ext cx="457200" cy="457200"/>
          </a:xfrm>
          <a:prstGeom prst="line">
            <a:avLst/>
          </a:prstGeom>
          <a:ln w="76320">
            <a:solidFill>
              <a:srgbClr val="82a4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893920" y="3735360"/>
            <a:ext cx="403920" cy="504720"/>
          </a:xfrm>
          <a:prstGeom prst="line">
            <a:avLst/>
          </a:prstGeom>
          <a:ln w="76320">
            <a:solidFill>
              <a:srgbClr val="82a4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25909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26161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25909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30920" y="259092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B98D-8BE8-4C2D-A71E-894ED61C59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640" y="1749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ed-based recommendations to inform policy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contai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ial solutions = prevention and control programs at the state and national levels supported by many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ocacy to increase $$ for prevention efforts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 partnership between state CDD and CMS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understanding of the burden of disease to state Medicaid program and spending bud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e-based data to support resource allocation for state bud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borate with state health departments to share strategies to prevent and control chronic diseases: implement disease management, prevention and wellness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are burden estimates needed (cont.)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03B4-C93D-438C-B1D3-D89A654A46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447480"/>
            <a:ext cx="6324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Chronic Diseas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onic diseases are leading causes of mortality and morb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 33% of adults have some form of cardiovascular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.6% of adults have diabe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 3% of population has history of c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estimates suggest that chronic diseases account for 83% of total healthcare expenditure in the general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5662440"/>
            <a:ext cx="868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3F8C-31B5-4298-8286-F6A9796730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Examine Costs at the State Leve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estimates are important because much of the prevention dollars are allocated at the stat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001"/>
              </a:spcBef>
              <a:buClr>
                <a:srgbClr val="8e9a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ect costs may also be important for resource allocation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ic Disease directors, state policy makers, and partners have been requesting this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845-F92A-4155-B150-EF98B7F991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7:50:02Z</dcterms:created>
  <dc:creator/>
  <dc:description>©  Research Triangle Institute. RTI International is a trade name of Research Triangle Institute.</dc:description>
  <dc:language>en-US</dc:language>
  <cp:lastModifiedBy>william.hyde</cp:lastModifiedBy>
  <dcterms:modified xsi:type="dcterms:W3CDTF">2009-03-13T14:18:56Z</dcterms:modified>
  <cp:revision>23</cp:revision>
  <dc:subject/>
  <dc:title>RTI ppt template</dc:title>
</cp:coreProperties>
</file>