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7033-9378-4632-8756-F2F55930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C051-A888-4150-926B-A4E2F333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C74-E794-4A3F-BE50-A852E6F9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28F-7733-4A9E-B726-5F1C3D3E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9C5-C7B1-4174-8F77-57EF2D2E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B2B-4401-4BEE-93E2-44ECEB78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B4A16-C937-43F4-9C85-1070E7EA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2458A-74AA-4A28-8E38-B86B39CB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CEB99-F824-4524-86D4-64DFDFEF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1552A-02F6-4D5E-90A2-866F8236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34746-FF3C-4CB7-A7D4-CB24BF9B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17EF0-1CA0-48D9-8CCD-1008E8DA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64344-AB33-4A59-A48F-9B962F76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66E-41AF-4FB4-8405-9C960353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2BED3-DE72-4D20-8E48-552ECC9A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72AEE-3CD7-4164-9B49-1F98099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03D5A-664F-4539-8173-C17C6719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F210-FE9D-4F8C-9CC3-8825F1A5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76AB8-4E94-466C-9701-81D1D797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913-454A-4F2B-A7CC-DEF9813B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ECF-AAE6-4936-BD5A-3ADD6A54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160-5C53-4C7A-844B-97654974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4C8-4A8F-4DBB-B65A-C766EF3B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567-4EF2-4C77-B455-21C870A8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675-699D-4505-A7F5-848345F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678-62ED-44C9-85DF-4C663BE1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9640-B135-4C75-92CF-4B9517D2C2C7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DED9-7FB2-434A-8AB3-6448EAB76432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6858000" y="645156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8538840" y="5954760"/>
            <a:ext cx="4395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C68A-275B-4176-8581-9417C612EDEB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93360" y="5257440"/>
            <a:ext cx="131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8F5D-C6A2-42CA-8E1F-AA5D6D7D418A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hyperlink" Target="http://www.ahrq.gov/" TargetMode="External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49600" y="5977080"/>
            <a:ext cx="5175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c4c8dd"/>
                </a:solidFill>
                <a:latin typeface="Arial"/>
              </a:rPr>
              <a:t>RTI International is a trade name of Research Triangle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76440" y="5130720"/>
            <a:ext cx="1974960" cy="916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6520" y="3832200"/>
            <a:ext cx="652320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the CDC/RTI Chronic Disease Cost Calc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Eric Finkelstein, Ph.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c. 7,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41720" y="1531800"/>
            <a:ext cx="2092320" cy="19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4332240" y="1521000"/>
          <a:ext cx="1928880" cy="197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32240" y="1521000"/>
                    <a:ext cx="19288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532560" y="2660760"/>
            <a:ext cx="2303640" cy="83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87200" y="2692440"/>
            <a:ext cx="1859040" cy="797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AHRQ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2080" y="5126040"/>
            <a:ext cx="133668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254720" y="5200560"/>
            <a:ext cx="1490760" cy="8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DEE69-5E58-4197-8A64-8B7DF37528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290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Examine Medicaid Costs Separat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7240" y="156492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22% of all state spending is for Medicaid expenditure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has not examined the cost burden of chronic diseases to state Medicaid programs i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ner across sta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 directors and others have been requesting this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feasible to estimate Medicaid costs using claims data, however, it is complicated, expensive and not without lim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9760" y="55641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Governors Association and National Association of State Budget Officers. Fiscal Survey of States, June 2007. Accessed from http://www.nasbo.org/Publications/PDFs/Fiscal%20Survey%20of%20the%20States%20June%202007.pdf November 21, 200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398-C211-440D-A5A4-34E31D9A21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deral, State and Tot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Spending, 1965-20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302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791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Centers for Medicare and Medicaid Services, National Health Expenditures (NHE) Amounts by Type of Expenditure and Source of Funds: Calendar Years 1965 -2015, available at: www.cms.hhs.gov/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stics/nhe/#proj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148-313F-4608-B6B7-E66E7C82B6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9080" y="43632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not use existing estimates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estimates are based on inconsistent data and meth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re often contradic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popula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ata s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methodolo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double cou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kit and estimation approach presents a transparent and evidence-based strategy for calculating co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66244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5CB-9D4F-429B-97BB-30EF8534EA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9160" y="377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785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 Representative Data: Medical Expenditure Panel Survey (M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Representative Data: Medicaid MAX fee-for-service clai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etric (regression-based)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2B5-9086-459B-A22C-B66E5F0B9F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PS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304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-representative survey of the US civilian non-institutionaliz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fies annual medical spending by p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information on health insurance status and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all medical conditions for which a participant sought treatment during the survey period and for selected chron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RQ granted access to state identifiers to quantify state-level adjustment f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DFD-C863-44FF-8558-6D054E03A2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880" y="342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vantages of M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7200" y="169236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-representative dataset with state identif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data source for all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ayments for most medical services, including Rx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or stratification by payer (sample-size permit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69B-FD70-4804-9565-78AA512C78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388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advantages of M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ize may be inadequate for some diseases/payers/population stratif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ing years can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, 2000-2003 MEPS includes approximately 125,000 people, and 25,000 Medicaid recip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o not include institutionalized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90B-9B14-409B-8AFC-227C72766E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—Medicaid MAX Fi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te Medicai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78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available by CMS in a uniform format acro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research on Medicai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erson-level eligibility records with demographic (Enrollment file) and claims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ariabl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disease flags based on diagnosis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 information (e.g., age, gender, race/ethn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s of eligibility during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cator for dual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 payments, in total and broken out by type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9FD-4695-4578-9F26-46E55BEEAC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MAX File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3152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Rx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long-term care population (unlike M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source for state-specific Medicaid prevalence, demographic, and cos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arge number of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all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000-0877-4674-9383-03CCA52951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MAX File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909440"/>
            <a:ext cx="68580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es payments for dual elig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es payments for non-cov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re incomplete for states with high Medicaid managed care enrol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re costly and analyses are labor and computer intens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coding on long-term care claims may be problematic for som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546-D2E8-40C2-98AC-E1B6E5B46A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stigato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I Investig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an H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 Finkels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 Trogd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C Investigator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ne Ore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ac Nwai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rence Tang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miko Ima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uise Murph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CC3-A43D-4740-8E72-325D90B8E1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67960" y="24300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—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1396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EPS to generate annual per capita disease costs for non-institutionalized popu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ontrols for confou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data source for al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state-level inflators to adjust for regional price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est results using the 4 states MAX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AX data for estimating per capita disease costs for institutionalized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unit costs with prevalence data to generate State-specific total and Medicaid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alence data can be provided by the user or estimated from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EDC-2C30-4E31-A63B-D45FBA7BEA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850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Approach: sum payments for all events with the disease listed as the primary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either understate or overstate costs attributable to the disease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te: does not include attributable costs when disease of interest (e.g., diabetes) is listed as a secondar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state: may include costs attributable to secondary diagn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primary plus secondary diagnoses results in addition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y to result in dou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3CB-D8DC-4528-9DA0-C7C239BC63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371520"/>
            <a:ext cx="6096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e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8536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variate regression analysis to estimate marginal costs associated with each disease while controlling, to the extent possible, for other observable characteristics that aff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$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eases of interest, socio-demographic characteristics, other medical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of interest: heart disease, stroke, hypertension, CHF, diabetes,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demographic characteristics: gender, race, age,  education,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high prevalence or high co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042-DE89-49F1-B099-C883226FF3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e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8536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pproach has several major advantages over other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ressions control for covariates (e.g., age, gender, comorbiditi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lexibility in the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ppropriate calculation, avoids double-counting of costs for co-occurring dise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un model separately on total or Medicai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978-3C90-4155-9BE4-2FEBDE78F4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65200" y="353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ing double cou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ly-used econometric models also lead to double counting of costs across diseases (Trogdon, Finkelstein and Hoerger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expenditures for co-occuring diseases (e.g., heart disease with cancer) are not properly allocated across the two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sults in inflated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veloped a strategy to estimate the expenditures associated with co-occuring diseases and reallocate these expenditures to the individual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 forthcoming in H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rogdon et al. (2007) Health Promotion Practice article and in the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– explains why our estimates are generally lower than what is in the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03B-0257-4DFF-A184-11548B6E60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76240"/>
            <a:ext cx="80769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>
              <a:lnSpc>
                <a:spcPct val="7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appropriate functional form for empiric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7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 separate models for annual expenditures in five categ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per capita cost for each disease and combination of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efficients from the model, which provide information about the relative importance of each disease on expenditures, to reallocate costs associated with co-occuring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D28-C390-47F0-81F4-E5E9AADE3C2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Strategy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8280" y="169704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results to produce a national estimate of per capita costs for each dis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gional/state level adjustment factors to generate per capita costs for eac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 costs by prevalence estimates (either user supplied or estimated from the model) to generate Total (Medicaid)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estimates to those generated directly from 4 states Medicaid claim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6AA-140F-42F2-8B81-BEB1990C71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342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dicaid Results: Cardiovascular Diseas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costs per person with disease attributable to the disease to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4,1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6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5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heart dise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Trogdon et al.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398-3C7E-478D-AC96-A13D590BC6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of Econometric Models to Estimate Expenditure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n G. Trogdon, Eric A. Finkelstein, Thomas J. Ho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hcoming at Health Services Research (CDC-funded through RTI-UNC Center of Excellence in Health Promotion Econo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conomic Burden of Cardiovascular Disease for Major Ins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n G. Trogdon, Eric A. Finkelstein, Isaac Nwaise, Florence Tangka, and Diane Ore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 Promotion Practice 2007;8(3):234-2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A92-AF16-479B-86F2-F2E248B8E8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4800" y="321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reen Sh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596960"/>
            <a:ext cx="6553080" cy="44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981-871F-4C55-9D7D-0382A04721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Collabo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cy for Healthcare Research and Quality (AH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Association of Chronic Disease Directors (NACD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Pharmaceutical Council (N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6D5-D505-43E8-8BCB-8EFA2318EC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13000" y="1568520"/>
            <a:ext cx="5597280" cy="45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D72-23AD-48F9-B3E0-B8B29F4282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38480" y="1527120"/>
            <a:ext cx="4314600" cy="456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DB3-202A-4F66-8181-9804CFEFEC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35000" y="1576440"/>
            <a:ext cx="4770720" cy="45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331-67CF-4237-85EA-5240375146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61800" y="1517760"/>
            <a:ext cx="836784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F09-55EB-4584-890A-5FC32C3191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6040" y="1587600"/>
            <a:ext cx="8229600" cy="46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5D7-F06E-489A-9AA1-238AFE12ED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68280" y="1536840"/>
            <a:ext cx="8534520" cy="46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725-05ED-4AB6-A5EC-67BC9EB51E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30120" y="1503360"/>
            <a:ext cx="8458200" cy="473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94C-658B-4E7F-A7C1-EEF838172E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2480" y="328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 on demonstration of the toolk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discussion surrounding the question: ‘How should the estimates generated from the toolkit be used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ACE-4044-40A0-AA9D-4F051C0FB8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3956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burden estimat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examine state-specific total and Medicai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description: objectives, methodology, strategy, estimation, preliminar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sh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20A-A9C5-416D-8710-98A97B64DB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0004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50336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a consistent framework to calculate state-specific Total and Medicaid costs for persons diagnosed and/or treated for heart diseases, stroke, hypertension, congestive heart failure, diabetes, cancer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hritis and major depression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proportion of state Tota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edicaid costs for these diseas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user friendly calculator to estimate prevalence-based state-specific Tota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edicai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t estimates for all states without having to analyze claim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the toolkit to include indirect costs and a forecasting module</a:t>
            </a:r>
            <a:r>
              <a:rPr b="0" lang="en-US" sz="1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seminate our methodology and results to key stakeholders</a:t>
            </a: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AEF-C3EA-4AE8-A400-73A9E70EEA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4114800"/>
            <a:ext cx="5562720" cy="762120"/>
          </a:xfrm>
          <a:prstGeom prst="ellipse">
            <a:avLst/>
          </a:prstGeom>
          <a:solidFill>
            <a:srgbClr val="82a4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are burden estimates need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4040" y="38419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4267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Burden &amp; Cost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276720"/>
            <a:ext cx="701064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/Forecasting   Prevention  Resource Al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0000" y="5410080"/>
            <a:ext cx="41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6040" y="2057400"/>
            <a:ext cx="5811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Public Health Policy &amp;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743200" y="3809880"/>
            <a:ext cx="457200" cy="457200"/>
          </a:xfrm>
          <a:prstGeom prst="line">
            <a:avLst/>
          </a:prstGeom>
          <a:ln w="76320">
            <a:solidFill>
              <a:srgbClr val="82a4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93920" y="3735360"/>
            <a:ext cx="403920" cy="504720"/>
          </a:xfrm>
          <a:prstGeom prst="line">
            <a:avLst/>
          </a:prstGeom>
          <a:ln w="76320">
            <a:solidFill>
              <a:srgbClr val="82a4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909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6161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5909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0920" y="259092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09D-E3FA-420D-B5B5-C2AC8CB328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749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d-based recommendations to inform policy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con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solutions = prevention and control programs at the state and national levels supported by many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ocacy to increase $$ for prevention efforts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partnership between state CDD and CMS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understanding of the burden of disease to state Medicaid program and spending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-based data to support resource allocation for state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e with state health departments to share strategies to prevent and control chronic diseases: implement disease management, prevention and wellness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are burden estimates needed (cont.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5D1-2314-4B28-9325-BCF442E01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44748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Chronic Disea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onic diseases are leading causes of mortality and mo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3% of adults have some form of cardiovascular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6% of adults have diabe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% of population has history of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stimates suggest that chronic diseases account for 83% of total healthcare expenditure in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66244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E94-81C7-467D-9625-C8EF6721C8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Examine Costs at the State Lev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estimates are important because much of the prevention dollars are allocated at the stat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osts may also be important for resource allocation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Disease directors, state policy makers, and partners have been requesting thi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E7A-D847-4518-9F5D-70DF89D600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7:50:02Z</dcterms:created>
  <dc:creator/>
  <dc:description>©  Research Triangle Institute. RTI International is a trade name of Research Triangle Institute.</dc:description>
  <dc:language>en-US</dc:language>
  <cp:lastModifiedBy>william.hyde</cp:lastModifiedBy>
  <dcterms:modified xsi:type="dcterms:W3CDTF">2009-03-13T14:18:56Z</dcterms:modified>
  <cp:revision>23</cp:revision>
  <dc:subject/>
  <dc:title>RTI ppt template</dc:title>
</cp:coreProperties>
</file>