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aryBeth.Farquhar@ahrq.hhs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6-7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yBeth Farquhar, RN, MSN, CA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ta Interpre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1371600"/>
            <a:ext cx="8573760" cy="5157720"/>
            <a:chOff x="228600" y="1371600"/>
            <a:chExt cx="8573760" cy="5157720"/>
          </a:xfrm>
        </p:grpSpPr>
        <p:graphicFrame>
          <p:nvGraphicFramePr>
            <p:cNvPr id="120" name=""/>
            <p:cNvGraphicFramePr/>
            <p:nvPr/>
          </p:nvGraphicFramePr>
          <p:xfrm>
            <a:off x="228600" y="1371600"/>
            <a:ext cx="8183880" cy="470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371600"/>
                      <a:ext cx="8183880" cy="470340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91320" y="4408920"/>
              <a:ext cx="1913040" cy="106704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2600" y="3506040"/>
              <a:ext cx="1913040" cy="1066680"/>
            </a:xfrm>
            <a:prstGeom prst="ellipse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3720" y="5886720"/>
              <a:ext cx="3826080" cy="642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RA rate is significantly higher than state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0160" y="4901760"/>
              <a:ext cx="3472200" cy="916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RA rate is significantly lower than state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0160" y="4080600"/>
              <a:ext cx="1204200" cy="903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3120" y="5148000"/>
              <a:ext cx="1204560" cy="902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09480" y="304920"/>
            <a:ext cx="8331120" cy="6291360"/>
            <a:chOff x="609480" y="304920"/>
            <a:chExt cx="8331120" cy="6291360"/>
          </a:xfrm>
        </p:grpSpPr>
        <p:graphicFrame>
          <p:nvGraphicFramePr>
            <p:cNvPr id="129" name=""/>
            <p:cNvGraphicFramePr/>
            <p:nvPr/>
          </p:nvGraphicFramePr>
          <p:xfrm>
            <a:off x="609480" y="1752480"/>
            <a:ext cx="8263800" cy="420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752480"/>
                      <a:ext cx="8263800" cy="4202280"/>
                    </a:xfrm>
                    <a:prstGeom prst="rect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1" name="PlaceHolder 1"/>
            <p:cNvSpPr>
              <a:spLocks noGrp="1"/>
            </p:cNvSpPr>
            <p:nvPr>
              <p:ph type="title"/>
            </p:nvPr>
          </p:nvSpPr>
          <p:spPr>
            <a:xfrm>
              <a:off x="1354680" y="304920"/>
              <a:ext cx="7247520" cy="87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b">
              <a:noAutofit/>
            </a:bodyPr>
            <a:p>
              <a:pPr indent="0" algn="ctr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 Data Interpretation</a:t>
              </a: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160" y="2438280"/>
              <a:ext cx="3386520" cy="9907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22000" y="2286000"/>
              <a:ext cx="1828800" cy="393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QI Na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3000" y="1752480"/>
              <a:ext cx="3657600" cy="130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Potential cost savings if number of admissions were reduced by specified percenta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2800" y="2971800"/>
              <a:ext cx="4334760" cy="12193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111440" y="2666880"/>
              <a:ext cx="541800" cy="381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7160" y="3429000"/>
              <a:ext cx="3996000" cy="9907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5560" y="5410080"/>
              <a:ext cx="4470480" cy="118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465120" indent="-46512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County name (all counties listed), average cost of admission for QI specified, total number of cases, and total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896480" y="4495680"/>
              <a:ext cx="27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chnical Sup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Beth Farquhar, RN, MSN, C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Advisor, Quality Indicators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yBeth.Farquhar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1-427-13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Quality Indicators (Q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66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 severity adjustment methods (APR-DRGs, comorbidity groupings and hierarchical mode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modules: Inpatient, Patient Safety, Prevention, Pediatric, and Neo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C tool is a new QI software application designed to help organization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 Functions of the PHC To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processes all Prevention QIs..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  Diabetes Short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2  Perforated Appendix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3  Diabetes Long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5  Chronic Obstructive Pulmonary Diseas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7  Hypertens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8  Congestive Heart Failur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9  Low Birth Weight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0  Dehydra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1  Bacterial Pneumoni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2  Urinary Tract Infec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3  Angina without Procedure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4  Uncontrolled Diabete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5  Adult Asthm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6  Lower-extremity Amputation Rate among Diabetic Pat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228600" y="64911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re is no longer a PQI 4 and PQI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all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rea-level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Pediatric 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159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1732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4  Asthma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5  Diabetes Short-term Complication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6  Gastroenteritis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7  Perforated Appendix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39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8  Urinary Tract Infection Admission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161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area rates it was necessary to have access to the state and county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ftware produces observed and risk-adjusted rates for all PQIs and PD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converted to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s expressed either per 100 population and per 10,000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120" y="304920"/>
            <a:ext cx="8678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Applying the Q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79440" y="1461960"/>
            <a:ext cx="6445440" cy="4557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200" y="6095880"/>
            <a:ext cx="346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 Source:  Healthcare Cost and Utilization Proje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amp; Maryland Health Services Cost and Review Commiss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8229240" cy="6315840"/>
            <a:chOff x="0" y="0"/>
            <a:chExt cx="8229240" cy="6315840"/>
          </a:xfrm>
        </p:grpSpPr>
        <p:sp>
          <p:nvSpPr>
            <p:cNvPr id="104" name=""/>
            <p:cNvSpPr/>
            <p:nvPr/>
          </p:nvSpPr>
          <p:spPr>
            <a:xfrm>
              <a:off x="334080" y="0"/>
              <a:ext cx="789516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Map Interpretation - Examp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2408400" y="1313640"/>
            <a:ext cx="5285520" cy="10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08400" y="1313640"/>
                      <a:ext cx="5285520" cy="10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200520" y="1313640"/>
              <a:ext cx="173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 of Indicator and Data Year in Map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2040" y="164160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2207880" y="2298600"/>
            <a:ext cx="5987880" cy="39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7880" y="2298600"/>
                      <a:ext cx="5987880" cy="39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0" y="2791080"/>
              <a:ext cx="2008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quintiles.  Green is the lowest 20% or the lowest rates.  Red is the highest 20% or the highest rates.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2560" y="3201480"/>
              <a:ext cx="601920" cy="1067040"/>
            </a:xfrm>
            <a:custGeom>
              <a:avLst/>
              <a:gdLst>
                <a:gd name="textAreaLeft" fmla="*/ 384480 w 601920"/>
                <a:gd name="textAreaRight" fmla="*/ 602280 w 6019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60" y="4761720"/>
              <a:ext cx="2073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mbol indicating number of covered beneficiaries, number below is average in the group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8640" y="4925520"/>
              <a:ext cx="1003320" cy="1067040"/>
            </a:xfrm>
            <a:custGeom>
              <a:avLst/>
              <a:gdLst>
                <a:gd name="textAreaLeft" fmla="*/ 641160 w 1003320"/>
                <a:gd name="textAreaRight" fmla="*/ 1003320 w 10033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6520" y="3037680"/>
              <a:ext cx="1739520" cy="192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ies with high indicator rates and higher number of beneficiar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8040" y="3940560"/>
              <a:ext cx="24084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0720" y="3940560"/>
              <a:ext cx="27432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8:07:59Z</dcterms:created>
  <dc:creator>Marybeth</dc:creator>
  <dc:description/>
  <dc:language>en-US</dc:language>
  <cp:lastModifiedBy>william.hyde</cp:lastModifiedBy>
  <dcterms:modified xsi:type="dcterms:W3CDTF">2009-03-13T12:19:55Z</dcterms:modified>
  <cp:revision>16</cp:revision>
  <dc:subject/>
  <dc:title>Quality Indicators  Mapping Tool (QIMT)</dc:title>
</cp:coreProperties>
</file>