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FFB85-E4BA-4FB0-ABE5-F401ADC093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633518-7B71-40A3-BA4B-FA850D636D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CA6749-A60C-4B28-B198-CB41130282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C83092-4B7B-40FD-AE30-B3117942D4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200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145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091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200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145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7234EC-8E05-4191-8D88-6C20D520E0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447920" y="228600"/>
            <a:ext cx="6697440" cy="406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B5833C-7E69-4CA8-AF32-4DE4062C05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200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145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091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200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145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A138C7-E774-4DDF-A419-FE2973378D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50DAF0-9A16-494F-9319-DDC30EA4E6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F22208-39DB-4B86-A797-8EF555F298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447920" y="228600"/>
            <a:ext cx="6697440" cy="406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B66780-CE8C-40DA-8022-F36BF95FA5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2FC9F7-0D1B-4E13-815B-C64E643A32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134A29-C028-4AC9-91DA-622D3D6ABF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F31615-3E9E-4C1C-B946-46FA352345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0000"/>
          </a:bodyPr>
          <a:p>
            <a:pPr marL="325440" indent="-325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7756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08000" indent="-244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247760" indent="-159840">
              <a:lnSpc>
                <a:spcPct val="90000"/>
              </a:lnSpc>
              <a:spcBef>
                <a:spcPts val="1199"/>
              </a:spcBef>
              <a:buClr>
                <a:srgbClr val="66ff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1333440"/>
            <a:ext cx="7986240" cy="19080"/>
            <a:chOff x="0" y="1333440"/>
            <a:chExt cx="7986240" cy="19080"/>
          </a:xfrm>
        </p:grpSpPr>
        <p:sp>
          <p:nvSpPr>
            <p:cNvPr id="3" name=""/>
            <p:cNvSpPr/>
            <p:nvPr/>
          </p:nvSpPr>
          <p:spPr>
            <a:xfrm>
              <a:off x="5400" y="1352520"/>
              <a:ext cx="7980840" cy="0"/>
            </a:xfrm>
            <a:prstGeom prst="line">
              <a:avLst/>
            </a:prstGeom>
            <a:ln w="50760">
              <a:solidFill>
                <a:srgbClr val="0017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1333440"/>
              <a:ext cx="7980840" cy="0"/>
            </a:xfrm>
            <a:prstGeom prst="line">
              <a:avLst/>
            </a:prstGeom>
            <a:ln w="507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5" name=""/>
          <p:cNvGraphicFramePr/>
          <p:nvPr/>
        </p:nvGraphicFramePr>
        <p:xfrm>
          <a:off x="142920" y="317520"/>
          <a:ext cx="1428840" cy="671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2920" y="317520"/>
                    <a:ext cx="1428840" cy="67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4D109-1267-4244-AE65-1C06FA140E5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09120" y="2819520"/>
            <a:ext cx="77900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0" y="3867120"/>
            <a:ext cx="7986240" cy="19080"/>
            <a:chOff x="0" y="3867120"/>
            <a:chExt cx="7986240" cy="19080"/>
          </a:xfrm>
        </p:grpSpPr>
        <p:sp>
          <p:nvSpPr>
            <p:cNvPr id="46" name=""/>
            <p:cNvSpPr/>
            <p:nvPr/>
          </p:nvSpPr>
          <p:spPr>
            <a:xfrm>
              <a:off x="5400" y="3886200"/>
              <a:ext cx="7980840" cy="0"/>
            </a:xfrm>
            <a:prstGeom prst="line">
              <a:avLst/>
            </a:prstGeom>
            <a:ln w="50760">
              <a:solidFill>
                <a:srgbClr val="0017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3867120"/>
              <a:ext cx="7980840" cy="0"/>
            </a:xfrm>
            <a:prstGeom prst="line">
              <a:avLst/>
            </a:prstGeom>
            <a:ln w="507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48" name=""/>
          <p:cNvGraphicFramePr/>
          <p:nvPr/>
        </p:nvGraphicFramePr>
        <p:xfrm>
          <a:off x="990720" y="380880"/>
          <a:ext cx="7162560" cy="1695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90720" y="380880"/>
                    <a:ext cx="7162560" cy="169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176040" algn="ctr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182520" algn="ctr">
              <a:lnSpc>
                <a:spcPct val="90000"/>
              </a:lnSpc>
              <a:spcBef>
                <a:spcPts val="751"/>
              </a:spcBef>
              <a:buClr>
                <a:srgbClr val="66ffff"/>
              </a:buClr>
              <a:buSzPct val="65000"/>
              <a:buFont typeface="Monotype Sort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68400" algn="ctr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684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684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28191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Hands-on-Training: Screen shots of the asthma care return on investment calculator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0" y="434340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inger Smith Carls, M.A., Rosanna M. Coffey, Ph.D. , Ronald J. Ozminkowski, Ph.D., Karen Ho, M.S., Mika Nagamine, Ph.D., Katheryn Rya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cember 6-7, 200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ate Healthcare Quality Improvement Workshop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ols You Can Use to Make a Differ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748CA6-D73B-4430-8DA0-18891EA3D80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6C8DF9-97E6-48BC-9F22-B2E349B2692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699FF3-4A8C-4D88-9208-251AC31666C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99840" y="228600"/>
            <a:ext cx="654516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Literature review method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aracteristics of included stud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lculation of outcome (impact of the program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aly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DE74DE-FAF7-4867-8CBB-87235AE775F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tudy Inclusion criteria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369800"/>
            <a:ext cx="8229600" cy="4740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451080" indent="-4510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udies searched (76 studies met criteria)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46800" indent="-3844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thma care quality improvement: Physician &amp; patient training—written asthma action plan, etc. (not drug efficac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46800" indent="-3844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.S. studies: 1995 thru 200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46800" indent="-3844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pulations: Children and adults under 6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46800" indent="-3844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udies: Individual interventions (not meta-analyses or editorial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46800" indent="-3844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pact period: 6+ month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46800" indent="-3844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pact: Use or cost of medical care services and productivity (not asthma knowledge or quality of lif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46800" indent="-3844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surance: All typ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699232-4EFE-4921-ADA6-8ECE1B0EFF9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Abstracting literatur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tails recor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aracteristics of studies and patients (e.g., asthma severit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seline utilization and cost by patients in the stud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pact of program on percent change in visits or days (for default valu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A5B9AE-54FE-4D43-B7D4-2A1543CF753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Included studi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370160"/>
            <a:ext cx="8229600" cy="449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6000"/>
          </a:bodyPr>
          <a:p>
            <a:pPr marL="399960" indent="-39996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2 studies report 261 pieces of inform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39520" indent="-3409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lated to service utilization and productivity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39520" indent="-3409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r children, adults or bot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39520" indent="-3409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th multiple items (e.g., on ED visits, if the study reported results separately for children and adult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99960" indent="-39996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utcomes (number of related study result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39520" indent="-3409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mergency department visits (9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39520" indent="-3409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spital stays (75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39520" indent="-3409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utpatient visits (57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39520" indent="-3409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dication costs (1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39520" indent="-3409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 of ancillary services 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39520" indent="-3409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ssed work or school days due to asthma (24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D9F324-D21A-4D7D-82EE-B1C8F8A8399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tudy characteristic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able means study had to report average visit rates, missed days, or cost (not just percent with even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useable studi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d a control group (56%); many had randomized controls (38%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volved patient self-management (85%) and regular medical management (58%); many had a written asthma action plan (40%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cused on children only (46%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cused on populations with persistent asthma (55%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56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sistent asthma = subjects met HEDIS criteria OR had 2 or more hospital or ED visits at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d mixed insurance coverage (79%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6EA408-7AA6-449D-B48F-EC17669763A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752480" y="541440"/>
            <a:ext cx="6919920" cy="77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Included studies and patients*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152280" y="1598760"/>
          <a:ext cx="8763120" cy="4346280"/>
        </p:xfrm>
        <a:graphic>
          <a:graphicData uri="http://schemas.openxmlformats.org/drawingml/2006/table">
            <a:tbl>
              <a:tblPr/>
              <a:tblGrid>
                <a:gridCol w="2013120"/>
                <a:gridCol w="915840"/>
                <a:gridCol w="773280"/>
                <a:gridCol w="869760"/>
                <a:gridCol w="860400"/>
                <a:gridCol w="782640"/>
                <a:gridCol w="947880"/>
                <a:gridCol w="838080"/>
                <a:gridCol w="762120"/>
              </a:tblGrid>
              <a:tr h="3128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79f"/>
                          </a:solidFill>
                          <a:latin typeface="Arial"/>
                        </a:rPr>
                        <a:t>Cost Component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ffff00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79f"/>
                          </a:solidFill>
                          <a:latin typeface="Arial"/>
                          <a:ea typeface="Arial"/>
                        </a:rPr>
                        <a:t>Children only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ff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79f"/>
                          </a:solidFill>
                          <a:latin typeface="Arial"/>
                          <a:ea typeface="Arial"/>
                        </a:rPr>
                        <a:t>Adults Only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ff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79f"/>
                          </a:solidFill>
                          <a:latin typeface="Arial"/>
                          <a:ea typeface="Arial"/>
                        </a:rPr>
                        <a:t>Both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ff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79f"/>
                          </a:solidFill>
                          <a:latin typeface="Arial"/>
                          <a:ea typeface="Arial"/>
                        </a:rPr>
                        <a:t>TOT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ff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6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279f"/>
                          </a:solidFill>
                          <a:latin typeface="Arial"/>
                          <a:ea typeface="Arial"/>
                        </a:rPr>
                        <a:t>Patient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279f"/>
                          </a:solidFill>
                          <a:latin typeface="Arial"/>
                          <a:ea typeface="Arial"/>
                        </a:rPr>
                        <a:t>Studi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279f"/>
                          </a:solidFill>
                          <a:latin typeface="Arial"/>
                          <a:ea typeface="Arial"/>
                        </a:rPr>
                        <a:t>Patient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279f"/>
                          </a:solidFill>
                          <a:latin typeface="Arial"/>
                          <a:ea typeface="Arial"/>
                        </a:rPr>
                        <a:t>Studi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279f"/>
                          </a:solidFill>
                          <a:latin typeface="Arial"/>
                          <a:ea typeface="Arial"/>
                        </a:rPr>
                        <a:t>Patient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279f"/>
                          </a:solidFill>
                          <a:latin typeface="Arial"/>
                          <a:ea typeface="Arial"/>
                        </a:rPr>
                        <a:t>Studi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279f"/>
                          </a:solidFill>
                          <a:latin typeface="Arial"/>
                          <a:ea typeface="Arial"/>
                        </a:rPr>
                        <a:t>Patient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279f"/>
                          </a:solidFill>
                          <a:latin typeface="Arial"/>
                          <a:ea typeface="Arial"/>
                        </a:rPr>
                        <a:t>Studi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8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ED visit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3,21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1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,81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2,73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38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Hospitalization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7,57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,16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,52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7,26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38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Outpatient visit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,22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,98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,88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9,10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issed work/ school day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,17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4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,13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edication Cos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8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0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3,58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4,36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ncillary service cos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4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otal direct cos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,72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4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,13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3,50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otal indirect cos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4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2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6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7" name=""/>
          <p:cNvSpPr/>
          <p:nvPr/>
        </p:nvSpPr>
        <p:spPr>
          <a:xfrm>
            <a:off x="304920" y="6248520"/>
            <a:ext cx="792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* Includes patients in treatment and control group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2B22B1-C41C-497B-A2B4-4191C7D4419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tudy designs 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6000"/>
          </a:bodyPr>
          <a:p>
            <a:pPr marL="306720" indent="-30672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andomized controlled trial (RCT) stud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4040" indent="-26172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andard for clinical efficac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4040" indent="-26172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re likely to be accepted by clinicians—main target of QI program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6720" indent="-30672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tatistically controlled stud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4040" indent="-26172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uch larger samples with greater precisio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4040" indent="-26172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n control for more patient and setting attributes than RCT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6720" indent="-30672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tudies without a control group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4040" indent="-26172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cluded for showing importance of the study design in measuring outcomes accuratel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4040" indent="-26172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r a preliminary benchmark that can guide a program in its early days about its success or failu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67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67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TE: Results are available for each design typ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2A63D9-146D-49DD-8232-95F921DF4E5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676520" y="228240"/>
            <a:ext cx="7315200" cy="66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teps in the ROI calculator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00200" y="4343400"/>
            <a:ext cx="1600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stimate number of </a:t>
            </a: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participan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743200" y="3048120"/>
            <a:ext cx="14479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stimate </a:t>
            </a: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baseline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utilization or missed work day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38480" y="2514600"/>
            <a:ext cx="12956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stimate </a:t>
            </a: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impact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of the asthma progra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553080" y="1447920"/>
            <a:ext cx="106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RO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410080" y="5410080"/>
            <a:ext cx="2827440" cy="981360"/>
          </a:xfrm>
          <a:prstGeom prst="ellipse">
            <a:avLst/>
          </a:prstGeom>
          <a:noFill/>
          <a:ln w="255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User choices about asthma progra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791320" y="4267080"/>
            <a:ext cx="2209680" cy="6098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Default or user dat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324480" y="4952880"/>
            <a:ext cx="914400" cy="3463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181480" y="198108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stimate </a:t>
            </a: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program cos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80880" y="52578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escribe </a:t>
            </a: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popula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685800" y="1981080"/>
            <a:ext cx="6933960" cy="3919680"/>
            <a:chOff x="685800" y="1981080"/>
            <a:chExt cx="6933960" cy="3919680"/>
          </a:xfrm>
        </p:grpSpPr>
        <p:grpSp>
          <p:nvGrpSpPr>
            <p:cNvPr id="107" name=""/>
            <p:cNvGrpSpPr/>
            <p:nvPr/>
          </p:nvGrpSpPr>
          <p:grpSpPr>
            <a:xfrm>
              <a:off x="685800" y="5117040"/>
              <a:ext cx="2311200" cy="783720"/>
              <a:chOff x="685800" y="5117040"/>
              <a:chExt cx="2311200" cy="78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685800" y="5900760"/>
                <a:ext cx="1155600" cy="0"/>
              </a:xfrm>
              <a:prstGeom prst="line">
                <a:avLst/>
              </a:prstGeom>
              <a:ln w="507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1841400" y="5117040"/>
                <a:ext cx="0" cy="783720"/>
              </a:xfrm>
              <a:prstGeom prst="line">
                <a:avLst/>
              </a:prstGeom>
              <a:ln w="507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841400" y="5117040"/>
                <a:ext cx="1155600" cy="0"/>
              </a:xfrm>
              <a:prstGeom prst="line">
                <a:avLst/>
              </a:prstGeom>
              <a:ln w="507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2997000" y="4332960"/>
              <a:ext cx="1155600" cy="783720"/>
              <a:chOff x="2997000" y="4332960"/>
              <a:chExt cx="1155600" cy="783720"/>
            </a:xfrm>
          </p:grpSpPr>
          <p:sp>
            <p:nvSpPr>
              <p:cNvPr id="112" name=""/>
              <p:cNvSpPr/>
              <p:nvPr/>
            </p:nvSpPr>
            <p:spPr>
              <a:xfrm>
                <a:off x="2997000" y="4332960"/>
                <a:ext cx="0" cy="783720"/>
              </a:xfrm>
              <a:prstGeom prst="line">
                <a:avLst/>
              </a:prstGeom>
              <a:ln w="507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997000" y="4332960"/>
                <a:ext cx="1155600" cy="0"/>
              </a:xfrm>
              <a:prstGeom prst="line">
                <a:avLst/>
              </a:prstGeom>
              <a:ln w="507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4" name=""/>
            <p:cNvGrpSpPr/>
            <p:nvPr/>
          </p:nvGrpSpPr>
          <p:grpSpPr>
            <a:xfrm>
              <a:off x="4152960" y="3548880"/>
              <a:ext cx="1155600" cy="783720"/>
              <a:chOff x="4152960" y="3548880"/>
              <a:chExt cx="1155600" cy="783720"/>
            </a:xfrm>
          </p:grpSpPr>
          <p:sp>
            <p:nvSpPr>
              <p:cNvPr id="115" name=""/>
              <p:cNvSpPr/>
              <p:nvPr/>
            </p:nvSpPr>
            <p:spPr>
              <a:xfrm>
                <a:off x="4152960" y="3548880"/>
                <a:ext cx="0" cy="783720"/>
              </a:xfrm>
              <a:prstGeom prst="line">
                <a:avLst/>
              </a:prstGeom>
              <a:ln w="507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4152960" y="3548880"/>
                <a:ext cx="1155600" cy="0"/>
              </a:xfrm>
              <a:prstGeom prst="line">
                <a:avLst/>
              </a:prstGeom>
              <a:ln w="507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5308560" y="2764800"/>
              <a:ext cx="1155600" cy="783720"/>
              <a:chOff x="5308560" y="2764800"/>
              <a:chExt cx="1155600" cy="783720"/>
            </a:xfrm>
          </p:grpSpPr>
          <p:sp>
            <p:nvSpPr>
              <p:cNvPr id="118" name=""/>
              <p:cNvSpPr/>
              <p:nvPr/>
            </p:nvSpPr>
            <p:spPr>
              <a:xfrm>
                <a:off x="5308560" y="2764800"/>
                <a:ext cx="0" cy="783720"/>
              </a:xfrm>
              <a:prstGeom prst="line">
                <a:avLst/>
              </a:prstGeom>
              <a:ln w="507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308560" y="2764800"/>
                <a:ext cx="1155600" cy="0"/>
              </a:xfrm>
              <a:prstGeom prst="line">
                <a:avLst/>
              </a:prstGeom>
              <a:ln w="507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6464160" y="1981080"/>
              <a:ext cx="1155600" cy="783720"/>
              <a:chOff x="6464160" y="1981080"/>
              <a:chExt cx="1155600" cy="783720"/>
            </a:xfrm>
          </p:grpSpPr>
          <p:sp>
            <p:nvSpPr>
              <p:cNvPr id="121" name=""/>
              <p:cNvSpPr/>
              <p:nvPr/>
            </p:nvSpPr>
            <p:spPr>
              <a:xfrm>
                <a:off x="6464160" y="1981080"/>
                <a:ext cx="0" cy="783720"/>
              </a:xfrm>
              <a:prstGeom prst="line">
                <a:avLst/>
              </a:prstGeom>
              <a:ln w="507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6464160" y="1981080"/>
                <a:ext cx="1155600" cy="0"/>
              </a:xfrm>
              <a:prstGeom prst="line">
                <a:avLst/>
              </a:prstGeom>
              <a:ln w="507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cxnSp>
        <p:nvCxnSpPr>
          <p:cNvPr id="123" name=""/>
          <p:cNvCxnSpPr>
            <a:stCxn id="102" idx="1"/>
          </p:cNvCxnSpPr>
          <p:nvPr/>
        </p:nvCxnSpPr>
        <p:spPr>
          <a:xfrm flipH="1">
            <a:off x="2057040" y="4571640"/>
            <a:ext cx="3721680" cy="10674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4" name=""/>
          <p:cNvCxnSpPr>
            <a:stCxn id="102" idx="1"/>
          </p:cNvCxnSpPr>
          <p:nvPr/>
        </p:nvCxnSpPr>
        <p:spPr>
          <a:xfrm flipH="1">
            <a:off x="3191760" y="4571640"/>
            <a:ext cx="2586600" cy="4165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102" idx="1"/>
          </p:cNvCxnSpPr>
          <p:nvPr/>
        </p:nvCxnSpPr>
        <p:spPr>
          <a:xfrm flipH="1" flipV="1">
            <a:off x="4343400" y="4114440"/>
            <a:ext cx="1435320" cy="4579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7086600" y="2819520"/>
            <a:ext cx="1735200" cy="6094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Meta-analys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27" name=""/>
          <p:cNvCxnSpPr>
            <a:stCxn id="126" idx="1"/>
          </p:cNvCxnSpPr>
          <p:nvPr/>
        </p:nvCxnSpPr>
        <p:spPr>
          <a:xfrm flipH="1">
            <a:off x="5333400" y="3123720"/>
            <a:ext cx="1740600" cy="1080"/>
          </a:xfrm>
          <a:prstGeom prst="straightConnector1">
            <a:avLst/>
          </a:prstGeom>
          <a:ln w="9360">
            <a:solidFill>
              <a:srgbClr val="ffffff"/>
            </a:solidFill>
            <a:prstDash val="lgDash"/>
            <a:miter/>
            <a:tailEnd len="med" type="triangle" w="med"/>
          </a:ln>
        </p:spPr>
      </p:cxnSp>
      <p:cxnSp>
        <p:nvCxnSpPr>
          <p:cNvPr id="128" name=""/>
          <p:cNvCxnSpPr>
            <a:stCxn id="126" idx="1"/>
          </p:cNvCxnSpPr>
          <p:nvPr/>
        </p:nvCxnSpPr>
        <p:spPr>
          <a:xfrm flipH="1" flipV="1">
            <a:off x="6476760" y="2819160"/>
            <a:ext cx="597600" cy="305280"/>
          </a:xfrm>
          <a:prstGeom prst="straightConnector1">
            <a:avLst/>
          </a:prstGeom>
          <a:ln w="9360">
            <a:solidFill>
              <a:srgbClr val="ffffff"/>
            </a:solidFill>
            <a:prstDash val="lgDash"/>
            <a:miter/>
            <a:tailEnd len="med" type="triangle" w="med"/>
          </a:ln>
        </p:spPr>
      </p:cxnSp>
      <p:cxnSp>
        <p:nvCxnSpPr>
          <p:cNvPr id="129" name=""/>
          <p:cNvCxnSpPr>
            <a:stCxn id="102" idx="1"/>
          </p:cNvCxnSpPr>
          <p:nvPr/>
        </p:nvCxnSpPr>
        <p:spPr>
          <a:xfrm flipH="1" flipV="1">
            <a:off x="5137920" y="3633480"/>
            <a:ext cx="640440" cy="938880"/>
          </a:xfrm>
          <a:prstGeom prst="straightConnector1">
            <a:avLst/>
          </a:prstGeom>
          <a:ln w="9360">
            <a:solidFill>
              <a:srgbClr val="ffffff"/>
            </a:solidFill>
            <a:prstDash val="lgDash"/>
            <a:miter/>
            <a:tailEnd len="med" type="triangle" w="med"/>
          </a:ln>
        </p:spPr>
      </p:cxnSp>
      <p:cxnSp>
        <p:nvCxnSpPr>
          <p:cNvPr id="130" name=""/>
          <p:cNvCxnSpPr/>
          <p:nvPr/>
        </p:nvCxnSpPr>
        <p:spPr>
          <a:xfrm flipV="1">
            <a:off x="6019560" y="2971800"/>
            <a:ext cx="1080" cy="1440360"/>
          </a:xfrm>
          <a:prstGeom prst="straightConnector1">
            <a:avLst/>
          </a:prstGeom>
          <a:ln w="9360">
            <a:solidFill>
              <a:srgbClr val="ffffff"/>
            </a:solidFill>
            <a:prstDash val="lgDash"/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990720" y="48769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133720" y="39625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276720" y="26668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21337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638680" y="16002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A6BE6A-E1CF-433B-81D3-35F19113855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752480" y="685440"/>
            <a:ext cx="6986880" cy="482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Program impact calculation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353440" cy="1606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1000"/>
          </a:bodyPr>
          <a:p>
            <a:pPr marL="330120" indent="-33012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ll stud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3000" indent="-28152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-post treatment comparis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0120" indent="-33012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troll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3000" indent="-28152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ost treatment-to-control comparis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3000" indent="-28152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et change pre-post, treatment-to-control comparis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0120" indent="-33012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ample calcul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533520" y="3886200"/>
          <a:ext cx="7549920" cy="2649600"/>
        </p:xfrm>
        <a:graphic>
          <a:graphicData uri="http://schemas.openxmlformats.org/drawingml/2006/table">
            <a:tbl>
              <a:tblPr/>
              <a:tblGrid>
                <a:gridCol w="2516040"/>
                <a:gridCol w="2517840"/>
                <a:gridCol w="2516040"/>
              </a:tblGrid>
              <a:tr h="3128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228600" indent="-228600"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16002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79f"/>
                          </a:solidFill>
                          <a:latin typeface="Arial"/>
                          <a:ea typeface="Times New Roman"/>
                        </a:rPr>
                        <a:t>Dat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ffff00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228600" indent="-228600"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16002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79f"/>
                          </a:solidFill>
                          <a:latin typeface="Arial"/>
                          <a:ea typeface="Times New Roman"/>
                        </a:rPr>
                        <a:t>ED visits per person per yea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ff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5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28600" indent="-228600"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16002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79f"/>
                          </a:solidFill>
                          <a:latin typeface="Arial"/>
                          <a:ea typeface="Times New Roman"/>
                        </a:rPr>
                        <a:t>Before interventio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28600" indent="-228600"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16002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79f"/>
                          </a:solidFill>
                          <a:latin typeface="Arial"/>
                          <a:ea typeface="Times New Roman"/>
                        </a:rPr>
                        <a:t>After interventio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12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indent="-228600"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16002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79f"/>
                          </a:solidFill>
                          <a:latin typeface="Arial"/>
                          <a:ea typeface="Times New Roman"/>
                        </a:rPr>
                        <a:t>Treatment Group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indent="-228600"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16002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indent="-228600"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16002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312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indent="-228600"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16002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79f"/>
                          </a:solidFill>
                          <a:latin typeface="Arial"/>
                          <a:ea typeface="Times New Roman"/>
                        </a:rPr>
                        <a:t>Control Group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indent="-228600"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16002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indent="-228600"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16002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31284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marL="228600" indent="-228600"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16002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79f"/>
                          </a:solidFill>
                          <a:latin typeface="Arial"/>
                          <a:ea typeface="Times New Roman"/>
                        </a:rPr>
                        <a:t>Calculation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ff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284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marL="228600" indent="-228600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16002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re-post treatment: (2-4) / 4*100 = -50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284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marL="228600" indent="-228600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16002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ost treatment-to-control: (2-3) / 3*100 = -33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284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marL="228600" indent="-228600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16002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Net change: [(2-4) / 4*100] - [(3-4) / 4*100] = -50% - (-25%) = -25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5F7439-C7BC-4213-8B2D-51D23789A49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Analysis of resul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37016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gression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study-result outcomes regressed on study population and design featur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ED visits, hospitalizations, outpatient visits ,missed work/school days, and medication cos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Study population, study design, sample size, length of study, and contact with the physician or pati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Average impact of each study feature on Ys, controlling for other X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ther issue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andard errors adjusted for multiple results per stud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udies weighted equally, by using inverse of number of results per study as weight on each study-result observ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cillary services not analyzed in regression context, due to the small number of stud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28F948-B16A-442E-9725-85DAE38742C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676160" y="228600"/>
            <a:ext cx="64688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Selected literature review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-360" y="16002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437040" indent="-437040">
              <a:lnSpc>
                <a:spcPct val="95000"/>
              </a:lnSpc>
              <a:spcBef>
                <a:spcPts val="1125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ernard-Bonnin, A.-C., S. Stachenko, D. Bonin, C. Charette, and E. Rousseau. 1995. “Self-management teaching programs and morbidity of pediatric asthma: A meta-analysis.”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J Allergy Clin Immunol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95(1):34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37040" indent="-437040">
              <a:lnSpc>
                <a:spcPct val="95000"/>
              </a:lnSpc>
              <a:spcBef>
                <a:spcPts val="1125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rause, D. D. 2005. “Economic Effectiveness of Disease Management Programs: A Meta-Analysis.”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isease Managemen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8(2):114-34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37040" indent="-437040">
              <a:lnSpc>
                <a:spcPct val="95000"/>
              </a:lnSpc>
              <a:spcBef>
                <a:spcPts val="1125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ee, T. A. and K. B. Weiss. 2002. “An update on the health economics of asthma and allergy.”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urrent Opinion in Allergy and Clinical Immunolog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2(3):195-200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37040" indent="-437040">
              <a:lnSpc>
                <a:spcPct val="95000"/>
              </a:lnSpc>
              <a:spcBef>
                <a:spcPts val="1125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ullivan, S. D. and K. Weiss. 2001. “Health economics of asthma and rhinitis.  II.  Assessing the value of interventions.”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urrent reviews of allergy and clinical immunolog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107(2):203-10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37040" indent="-437040">
              <a:lnSpc>
                <a:spcPct val="95000"/>
              </a:lnSpc>
              <a:spcBef>
                <a:spcPts val="1125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Shojania KG, McDonald KM, Wachter RM, Owens DK, eds. 2007. “Closing the Quality Gap: A Critical Analysis of Quality Improvement Strategies/ Vol 5: Asthma Care.” </a:t>
            </a:r>
            <a:r>
              <a:rPr b="1" i="1" lang="en-US" sz="1800" spc="-1" strike="noStrike">
                <a:solidFill>
                  <a:srgbClr val="ffff00"/>
                </a:solidFill>
                <a:latin typeface="Arial"/>
              </a:rPr>
              <a:t>Technical Review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9 (AHRQ 04(07)-0051-5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37040" indent="-437040">
              <a:lnSpc>
                <a:spcPct val="95000"/>
              </a:lnSpc>
              <a:spcBef>
                <a:spcPts val="1125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ith, J. R., M. Mugford, R. Holland, B. Candy, M. J. Noble, B. D. W. Harrison, M. Koutantji, C. Upton, and J. Smith. 2005. “A systematic review to examine the impact of psycho-educational interventions on health outcomes and costs in adults and children with difficult asthma.”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Health Technology Assessmen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9(23):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046F9D-9726-47B9-A3D2-D5ECCFE42B7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7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mographics of popul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7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dicaid (CMS 2003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7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mployer sponsored health insurance (CPS 2003-2005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560">
              <a:lnSpc>
                <a:spcPct val="7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ate employees (Employees from BLS 2003-2005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7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rge, nationwide, medical claims database (MarketScan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TM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7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evalence rat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7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tilization and costs for asthma patient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7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terature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7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mpact of asthma care progra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7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st to implement asthma care progra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124BF3-D5DE-4A85-B811-1197220A185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Exampl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sed on default values of the calculator when calculator is open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thma care program for children and adults with persistent asthma for Medicaid programs (nationwid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41E633-E2DE-4F37-9549-167567AA153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6D57E1-AE20-4C1D-89EA-F3B57EC770B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E6D66A-1B50-4213-BC41-DC0BED92017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80720" y="228600"/>
            <a:ext cx="616428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Asthma definition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534160" cy="4038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33520" indent="-53352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l Asthm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36800" indent="-45720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tient has at least one claim with asthma as a primary or secondary diagnosis during the year (ICD-9-CM code 493.xx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sistent asthma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36800" indent="-45720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ne or more of the following is true using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one yea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of data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471680" indent="-381240">
              <a:lnSpc>
                <a:spcPct val="8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D visit or inpatient admission with asthma diagnos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471680" indent="-381240">
              <a:lnSpc>
                <a:spcPct val="8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 outpatient visits and at least 2 asthma medication fill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471680" indent="-381240">
              <a:lnSpc>
                <a:spcPct val="8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 asthma medication fills, if all 4 fills for leukotrienes, then must have at least 1 claim with an asthma diagnosi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sistent asthma* with acute visi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36800" indent="-45720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t criteria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for persistent asthm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28600" y="5257800"/>
            <a:ext cx="86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Similar to HEDIS definition, differs in that only 1 year of data is used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80880" y="5883120"/>
            <a:ext cx="792504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Asthma medications include: Antiasthmatic combinations</a:t>
            </a: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 , </a:t>
            </a: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Bronchodilator combinations</a:t>
            </a: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 , </a:t>
            </a: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Inhaled anticholingerics</a:t>
            </a: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 , </a:t>
            </a: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Inhaled coricosteroids</a:t>
            </a: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 , </a:t>
            </a: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Leukotriene modifiers</a:t>
            </a: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 , </a:t>
            </a: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Long acting adrenergic bronchodilators</a:t>
            </a: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 , </a:t>
            </a: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Mast cell stabilizers</a:t>
            </a: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 , </a:t>
            </a: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Methylxanthines</a:t>
            </a: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 , </a:t>
            </a: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Short acting adrenergic bronchodilators</a:t>
            </a: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 , </a:t>
            </a: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Corticosteroid tablets or syrup (oral corticosteroid)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617FD6-D268-4CEB-9B53-C5D3032C659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0F7B89-FB69-4F32-A6B4-44B344BC825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42FDD6-D029-44F4-98A1-DA8C3A449DF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7T12:52:04Z</dcterms:created>
  <dc:creator>USER</dc:creator>
  <dc:description/>
  <dc:language>en-US</dc:language>
  <cp:lastModifiedBy>gas33997</cp:lastModifiedBy>
  <dcterms:modified xsi:type="dcterms:W3CDTF">2007-12-05T19:54:52Z</dcterms:modified>
  <cp:revision>54</cp:revision>
  <dc:subject/>
  <dc:title>Community Partnerships for Change</dc:title>
</cp:coreProperties>
</file>