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3E14-7086-4E5A-92E3-22DA9D121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A8E7-C971-4018-A654-720973947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8733-543A-44A7-9860-CCDF4DC8C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70A7-C5E3-49A9-A473-7FDC9F277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B1E5-6369-4A7B-8C67-FB38AA1A3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7CC0-0CA3-4578-A7EE-7064EAF63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FC02-4E06-4616-B2EC-B331553FD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5074-E3E9-4CC1-AD98-A99A293AE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1C32-A6A4-4B5A-BF5D-6E7E3C902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4936-8EA4-417B-8B98-8EC4F54F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93EE-03B3-402B-98A2-10F6683E3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EE7B-2210-4E6D-A94B-27E437A4D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EB2E-79D8-47D4-A983-0E8C61467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4082-6D52-499E-B9CE-03714868D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ands-on-Training: Screen shots of the asthma care return on investment calcul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nger Smith Carls, M.A., Rosanna M. Coffey, Ph.D. , Ronald J. Ozminkowski, Ph.D., Karen Ho, M.S., Mika Nagamine, Ph.D., Katheryn Ry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mber 6-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47C6-A30A-46C0-B1AE-8A7C106AA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8595-69A9-46F1-A3F9-88C8CF14F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5323-4BF6-4500-8582-E451634692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terature review metho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included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 of outcome (impact of the prog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0321-D9AB-4BC2-B888-F4A9E12DB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Inclusion criteri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698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ies searched (76 studies met criteria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quality improvement: Physician &amp; patient training—written asthma action plan, etc. (not drug effic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tudies: 1995 thru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s: Children and adults under 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: Individual interventions (not meta-analyses or editori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period: 6+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: Use or cost of medical care services and productivity (not asthma knowledge or quality of lif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: All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025D-2508-49EA-BF04-A07F08476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bstracting 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s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studies and patients (e.g., asthma seve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utilization and cost by patients in th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program on percent change in visits or days (for default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E24E-E2A0-4D88-BF45-E4E2082C02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cluded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2 studies report 261 pieces of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service utilization and produ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hildren, adults or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multiple items (e.g., on ED visits, if the study reported results separately for children and adul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comes (number of related study resul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department visits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 (7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 (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costs 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ancillary service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work or school days due to asthma (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74B6-1687-4619-8A70-86B99AAEF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characterist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able means study had to report average visit rates, missed days, or cost (not just percent with ev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useable stud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a control group (56%); many had randomized controls (3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d patient self-management (85%) and regular medical management (58%); many had a written asthma action plan (4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d on children only (4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d on populations with persistent asthma (5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sthma = subjects met HEDIS criteria OR had 2 or more hospital or ED visits at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mixed insurance coverage (7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2987-D4AA-4FE5-9A65-B714168133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541440"/>
            <a:ext cx="6919920" cy="77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cluded studies and patients*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280" y="1598760"/>
          <a:ext cx="8763120" cy="4346280"/>
        </p:xfrm>
        <a:graphic>
          <a:graphicData uri="http://schemas.openxmlformats.org/drawingml/2006/table">
            <a:tbl>
              <a:tblPr/>
              <a:tblGrid>
                <a:gridCol w="2013120"/>
                <a:gridCol w="915840"/>
                <a:gridCol w="773280"/>
                <a:gridCol w="869760"/>
                <a:gridCol w="860400"/>
                <a:gridCol w="782640"/>
                <a:gridCol w="947880"/>
                <a:gridCol w="838080"/>
                <a:gridCol w="762120"/>
              </a:tblGrid>
              <a:tr h="312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ost Compon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direct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direct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04920" y="62485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 Includes patients in treatment and control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0ABF-EFD2-48F8-9F24-38C49B228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desig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ized controlled trial (RCT)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for clinical 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likely to be accepted by clinicians—main target of QI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ly controlled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larger samples with greater preci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ontrol for more patient and setting attributes than R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ies 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d for showing importance of the study design in measuring outcomes accurat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preliminary benchmark that can guide a program in its early days about its success or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Results are available for each desig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0BA8-192D-4DF6-B454-17D2C131E4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31520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in the ROI calcul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343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number of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04812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aselin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zation or missed work 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514600"/>
            <a:ext cx="12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mpac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of the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1447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410080"/>
            <a:ext cx="2827440" cy="9813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4267080"/>
            <a:ext cx="22096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952880"/>
            <a:ext cx="914400" cy="346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9810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1981080"/>
            <a:ext cx="6933960" cy="3919680"/>
            <a:chOff x="685800" y="1981080"/>
            <a:chExt cx="6933960" cy="3919680"/>
          </a:xfrm>
        </p:grpSpPr>
        <p:grpSp>
          <p:nvGrpSpPr>
            <p:cNvPr id="107" name=""/>
            <p:cNvGrpSpPr/>
            <p:nvPr/>
          </p:nvGrpSpPr>
          <p:grpSpPr>
            <a:xfrm>
              <a:off x="685800" y="5117040"/>
              <a:ext cx="2311200" cy="783720"/>
              <a:chOff x="685800" y="5117040"/>
              <a:chExt cx="2311200" cy="78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5800" y="59007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41400" y="511704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41400" y="511704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997000" y="4332960"/>
              <a:ext cx="1155600" cy="783720"/>
              <a:chOff x="2997000" y="4332960"/>
              <a:chExt cx="1155600" cy="78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997000" y="433296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97000" y="43329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52960" y="3548880"/>
              <a:ext cx="1155600" cy="783720"/>
              <a:chOff x="4152960" y="3548880"/>
              <a:chExt cx="1155600" cy="783720"/>
            </a:xfrm>
          </p:grpSpPr>
          <p:sp>
            <p:nvSpPr>
              <p:cNvPr id="115" name=""/>
              <p:cNvSpPr/>
              <p:nvPr/>
            </p:nvSpPr>
            <p:spPr>
              <a:xfrm>
                <a:off x="4152960" y="35488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52960" y="35488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8560" y="2764800"/>
              <a:ext cx="1155600" cy="783720"/>
              <a:chOff x="5308560" y="2764800"/>
              <a:chExt cx="1155600" cy="783720"/>
            </a:xfrm>
          </p:grpSpPr>
          <p:sp>
            <p:nvSpPr>
              <p:cNvPr id="118" name=""/>
              <p:cNvSpPr/>
              <p:nvPr/>
            </p:nvSpPr>
            <p:spPr>
              <a:xfrm>
                <a:off x="5308560" y="276480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08560" y="276480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464160" y="1981080"/>
              <a:ext cx="1155600" cy="783720"/>
              <a:chOff x="6464160" y="1981080"/>
              <a:chExt cx="1155600" cy="783720"/>
            </a:xfrm>
          </p:grpSpPr>
          <p:sp>
            <p:nvSpPr>
              <p:cNvPr id="121" name=""/>
              <p:cNvSpPr/>
              <p:nvPr/>
            </p:nvSpPr>
            <p:spPr>
              <a:xfrm>
                <a:off x="6464160" y="19810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64160" y="19810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23" name=""/>
          <p:cNvCxnSpPr>
            <a:stCxn id="102" idx="1"/>
          </p:cNvCxnSpPr>
          <p:nvPr/>
        </p:nvCxnSpPr>
        <p:spPr>
          <a:xfrm flipH="1">
            <a:off x="2057040" y="4571640"/>
            <a:ext cx="3721680" cy="1067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2" idx="1"/>
          </p:cNvCxnSpPr>
          <p:nvPr/>
        </p:nvCxnSpPr>
        <p:spPr>
          <a:xfrm flipH="1">
            <a:off x="3191760" y="4571640"/>
            <a:ext cx="2586600" cy="41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2" idx="1"/>
          </p:cNvCxnSpPr>
          <p:nvPr/>
        </p:nvCxnSpPr>
        <p:spPr>
          <a:xfrm flipH="1" flipV="1">
            <a:off x="4343400" y="4114440"/>
            <a:ext cx="14353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7086600" y="2819520"/>
            <a:ext cx="1735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6" idx="1"/>
          </p:cNvCxnSpPr>
          <p:nvPr/>
        </p:nvCxnSpPr>
        <p:spPr>
          <a:xfrm flipH="1">
            <a:off x="5333400" y="3123720"/>
            <a:ext cx="1740600" cy="10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</p:cNvCxnSpPr>
          <p:nvPr/>
        </p:nvCxnSpPr>
        <p:spPr>
          <a:xfrm flipH="1" flipV="1">
            <a:off x="6476760" y="2819160"/>
            <a:ext cx="597600" cy="3052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29" name=""/>
          <p:cNvCxnSpPr>
            <a:stCxn id="102" idx="1"/>
          </p:cNvCxnSpPr>
          <p:nvPr/>
        </p:nvCxnSpPr>
        <p:spPr>
          <a:xfrm flipH="1" flipV="1">
            <a:off x="5137920" y="3633480"/>
            <a:ext cx="640440" cy="9388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>
            <a:off x="6019560" y="2971800"/>
            <a:ext cx="1080" cy="144036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9907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C192-6972-47C8-9648-82527A763C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986880" cy="4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 impact calcul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53440" cy="16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81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post treatment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81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 treatment-to-control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81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change pre-post, treatment-to-control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3886200"/>
          <a:ext cx="7549920" cy="2649600"/>
        </p:xfrm>
        <a:graphic>
          <a:graphicData uri="http://schemas.openxmlformats.org/drawingml/2006/table">
            <a:tbl>
              <a:tblPr/>
              <a:tblGrid>
                <a:gridCol w="2516040"/>
                <a:gridCol w="2517840"/>
                <a:gridCol w="2516040"/>
              </a:tblGrid>
              <a:tr h="312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ED visits per person 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Before interven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After interven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Treatment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Control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Calcul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-post treatment: (2-4) / 4*100 = -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 treatment-to-control: (2-3) / 3*100 = -3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t change: [(2-4) / 4*100] - [(3-4) / 4*100] = -50% - (-25%) = -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4F00-49E0-4C4D-9EDD-8385946F9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alysis of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tudy-result outcomes regressed on study population and design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D visits, hospitalizations, outpatient visits ,missed work/school days, and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tudy population, study design, sample size, length of study, and contact with the physician or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verage impact of each study feature on Ys, controlling for other X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errors adjusted for multiple results per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weighted equally, by using inverse of number of results per study as weight on each study-result 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services not analyzed in regression context, due to the small number of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4E76-A907-4AF7-88F1-C7CFA29D3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ected literature review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ard-Bonnin, A.-C., S. Stachenko, D. Bonin, C. Charette, and E. Rousseau. 1995. “Self-management teaching programs and morbidity of pediatric asthma: A meta-analysis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 Allergy Clin Immun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5(1):3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rause, D. D. 2005. “Economic Effectiveness of Disease Management Programs: A Meta-Analysis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(2):114-3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T. A. and K. B. Weiss. 2002. “An update on the health economics of asthma and allergy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urrent Opinion in Allergy and Clinical Immun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(3):195-2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llivan, S. D. and K. Weiss. 2001. “Health economics of asthma and rhinitis.  II.  Assessing the value of interventions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urrent reviews of allergy and clinical immun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7(2):203-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ojania KG, McDonald KM, Wachter RM, Owens DK, eds. 2007. “Closing the Quality Gap: A Critical Analysis of Quality Improvement Strategies/ Vol 5: Asthma Care.”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echnical Review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9 (AHRQ 04(07)-0051-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ith, J. R., M. Mugford, R. Holland, B. Candy, M. J. Noble, B. D. W. Harrison, M. Koutantji, C. Upton, and J. Smith. 2005. “A systematic review to examine the impact of psycho-educational interventions on health outcomes and costs in adults and children with difficult asthma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lth Technology Assess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(23)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A730-2CD0-44F2-A783-09C2F2B8DD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ographics of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id (CMS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er sponsored health insurance (CPS 2003-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employees (Employees from BLS 2003-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, nationwide, medical claims database (MarketSca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alence 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ation and costs for asthma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 of asthma care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 to implement asthma care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1B57-C00A-446B-8F48-CA1CFD663A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default values of the calculator when calculator is op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hma care program for children and adults with persistent asthma for Medicaid programs (nationw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35B4-4319-4271-AA8D-E32507F57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9ADE-8C16-4477-8557-64B7FFBC5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F1D5-B8F5-49BB-BB41-A9B40D3C18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164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thm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has at least one claim with asthma as a primary or secondary diagnosis during the year (ICD-9-CM code 493.x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sthm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r more of the following is true usi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ye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dat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1680" indent="-3812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visit or inpatient admission with asthma diag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71680" indent="-3812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outpatient visits and at least 2 asthma medication f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71680" indent="-3812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asthma medication fills, if all 4 fills for leukotrienes, then must have at least 1 claim with an asthma diagno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sthma* with acute vi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 criteri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persistent 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257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milar to HEDIS definition, differs in that only 1 year of data is used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88312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sthma medications include: Antiasthmatic combin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ronchodilator combin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haled anticholingeric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haled coricosteroid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eukotriene modifi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ng acting adrenergic bronchodilato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st cell stabiliz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thylxanthine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hort acting adrenergic bronchodilato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rticosteroid tablets or syrup (oral corticosteroid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30B1-8CE4-47A8-A6CB-84CDBECBF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0BE6-B158-48D8-A08D-C0665821C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A44E-35B1-433F-8400-FE14589EF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gas33997</cp:lastModifiedBy>
  <dcterms:modified xsi:type="dcterms:W3CDTF">2007-12-05T19:54:52Z</dcterms:modified>
  <cp:revision>54</cp:revision>
  <dc:subject/>
  <dc:title>Community Partnerships for Change</dc:title>
</cp:coreProperties>
</file>