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2F50-5879-4FEA-968F-E41464D6E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a presentation 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Academy Health Annual Research Meeti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nna Coffey, Thompson Health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wight McNeil, formerly at AHR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ie Moy, AHR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8799-2BD9-42AF-86E5-B1D21D8E1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9606-B9DA-4344-BC73-C51118B8F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5EA1-5CF2-4CBF-9678-9C303B5FE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2845-3393-4D3E-8865-A4D39FD7C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8141-9592-4810-A356-1F3B6024E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9CA7-2C9A-4BA1-BD07-4F0C3DA3A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39DC-5A43-4DEF-96E4-27F09B48A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C3C6-D97B-4663-86E8-6CBC09221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3FC1-A4EE-466E-A9C8-C3D37C7D5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D51C-2D83-4EC2-A979-F57A958E0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F153-9DE6-4DC1-9049-DC9750AA4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2EE6-FC0D-46B8-A0A7-A3BAE8B59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746E-098F-451B-BA45-8859AA6CA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E204-F0AC-44E2-9D6C-F755207D1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qualityindicators.ahrq.gov/mappingtool.htm" TargetMode="External"/><Relationship Id="rId2" Type="http://schemas.openxmlformats.org/officeDocument/2006/relationships/hyperlink" Target="http://www.qualityindicators.ahrq.gov/mappingtool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Support@qualityindicators.ahrq.gov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chanskym@battelle.org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nds-on Tool Training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ventable Hospitalization Costs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County-Level Mapping Tool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43430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Healthcare Quality Improvement Workshop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s You Can Use to Make a Dif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ember 6-7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lanie Chans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telle Centers for Public Health Research and E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Ma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529240" cy="51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70BE-5301-4021-9B60-29B905E5D6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creen 4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Map Display Options”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users to overlay population information onto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a second dataset with variables county, sex, age, and 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map with stick figures representing the relative size of the population at risk for the selected Q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FE29-998D-4779-A4D3-B13B3DA963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Ma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48640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E609-971B-41FD-8E8B-67C0AEE056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tpu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utputs are automatically placed in the folder where your dataset is lo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SV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C6DD-E4EA-4215-9862-7C5CA758C4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SV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ASCII CSV dataset is created regardless of how many QIs were se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taset is alway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mmaries.cs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E279-4787-46B9-BE7A-CA366EF953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cel Fi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Excel file is created for all PQIs selected, another Excel file is created for all PDIs se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es are alway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Q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elected PQI/PDI will have its own worksheet named after the specific QI, e.g., PQI14, PQI1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same data as CSV file, but is easier to 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CA4A-387E-4E1A-B0A2-C1A88D9288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SV &amp; Excel Files Include: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ator count of flagged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ominator count of the at-risk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d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-adjusted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error of risk-adjusted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county is significantly higher or lower than statewide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cost savings associated with a 10% reduction in flagged cases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3176-280A-4B96-A452-BA8A55816E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 maps will be created for each selected Q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es will be named after the QI, e.g.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QI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QI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opened and manipulated using any graphics program or picture vie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19AC-A464-44D5-85FF-EAB0009F8F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79930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 recommended that users move and/or rename all output files after running the PHC tool because the automatically-generated file names are not specific and files can easily be overwritte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09A5-936B-438A-A026-B8DC4210D6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Downloa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 the PHC mapping tool (SAS and Windows versions) and all technical documentation a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qualityindicators.ahrq.gov/mappingtool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1749-0148-44C1-9720-05807ED2B9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ystem Requir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ver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NT, XP, 2000, or Vist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oft .NET framework, v2 or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2003 or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S ver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S version 9 or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2003 or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currently available for Ma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06F4-92C7-4735-B386-9DDDB89B4F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technical questions of any kind while using the PHC tool, contact the QI team 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Support@qualityindicators.ahrq.gov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888-512-60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758E-893F-4FDB-8AC9-0D88387C1C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66974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y contact informa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lanie Chansky</a:t>
            </a:r>
            <a:br>
              <a:rPr sz="4000"/>
            </a:b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chanskym@battelle.org</a:t>
            </a:r>
            <a:br>
              <a:rPr sz="4000"/>
            </a:b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703-248-1659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A668-4EFB-49D4-ACA1-82781C5B64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Is Used in the Too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ion 3.1 Prevention Quality Indicators (14 - a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ion 3.1 Pediatric Quality Indicators (5 – area level on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C tool does NOT process any Inpatient Quality Indicators or Patient Safety Indic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8EA7-A809-4CB8-B662-3A2B5A7F7A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avigating the Too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C tool is fairly simple and has only 4 screens. Users navigate through these screens to use the tool. The 4 screen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 Discharge Data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QIs to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Display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5E6B-61FA-492D-8B88-59C7A87361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reen 1: “Overview”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e of the functions of the tool are accomplished using this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a shorter version of what is found in the technical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le as a resource if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FA22-65A1-4F5C-BFE2-50D19FD575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creen 2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Specify Discharge Dataset”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users to select the hospital discharge data file to be used for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state, single year (1995-20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manually select state and year from drop-down m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-screen explanation (also found in technical documentation) explains required file format and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AEB0-268B-46D7-95DB-8B9D14087D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quired Variab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variables must be present in your data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tient age in whole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day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tient age in d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x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x coded 1 for male, 2 for fem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X1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CD-9-CM primary diagn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1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CD-9-CM primary proced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C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jor diagnostic catego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G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agnosis related grou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TCO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unty of patient res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ype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mission 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ource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mission 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DC69-B17F-4690-B6F5-D50F533F6C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ptional Variab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variables are optional, but are needed if the user wants the PHC tool to calculate potential cost sav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chg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tal char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d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ate Inpatient Database hospital identifi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07F1-D0F8-42C9-8408-747296F156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creen 3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Select QIs to Process”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select any or all available QIs to be processed using the user-supplied data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QIs and PDIs are located on separate ta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last required screen. Users can submit their data and finish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6B2E-1AA2-4D96-8F9E-AC32501823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william.hyde</cp:lastModifiedBy>
  <dcterms:modified xsi:type="dcterms:W3CDTF">2009-03-13T12:23:23Z</dcterms:modified>
  <cp:revision>83</cp:revision>
  <dc:subject/>
  <dc:title>Community Partnerships for Change</dc:title>
</cp:coreProperties>
</file>