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BE34-170D-4FD9-B847-B68CD128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a presentation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Academy Health Annual Research Meet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nna Coffey, Thompson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ight McNeil, formerly at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ie Moy, AHR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7A00-CBF0-483C-8C9F-F095B4A6D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FDDF-5B3E-47A0-952A-406EAF427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5221-3E71-4926-9ABE-060B119E3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41A-E69F-4A4B-A8B0-3163F33F6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ADE6-9BE5-4ED3-AFCC-667EE247B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2AFC-F082-4631-83B6-2664EC47C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1D77-095B-42D3-96F1-804145A92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9EF0-A59D-4675-894D-6C93E0331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13B0-3523-4C15-A43D-6DC00ECC5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C6AA-8B56-4775-81D2-991DF0AFC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FD66-A882-4A3E-BDD4-D712B2878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8863-8747-4D56-AC3E-52CA549B2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8F4E-7717-496C-8B61-09D105B13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E89A-85F7-4BE4-97F1-93D60FFE4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upport@qualityindicators.ahrq.go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chanskym@battelle.org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nds-on Tool Training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Healthcare Quality Improvement Worksho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s You Can Use to Make a Dif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6-7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29240" cy="51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E4CA-4E9F-4D41-91AA-5383835CB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4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Map Display Option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overlay population information onto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a second dataset with variables county, sex, age, and 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map with stick figures representing the relative size of the population at risk for the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21CE-4697-4FAC-BFB8-AB67DF939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Ma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921B-2BBE-4FCB-B69E-0CA8F1D253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28E4-88F4-4EDE-A3AF-6E49B1357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ASCII CSV dataset is created regardless of how many QIs were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taset is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mmaries.cs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85E3-A6AA-4D2E-AE39-3A37E6BDC1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cel Fi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Excel file is created for all PQIs selected, another Excel file is created for all PDIs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are alway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elected PQI/PDI will have its own worksheet named after the specific QI, e.g., PQI14, PQI1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ame data as CSV file, but is easier to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339C-8A64-4DEC-B12A-FF84E75E4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D8EF-E10E-4347-9285-F13EAEA16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D014-48CF-48C3-92D6-0C2928CEFC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7993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recommended that users move and/or rename all output files after running the PHC tool because the automatically-generated file names are not specific and files can easily be overwritte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99BA-0B68-4754-BD25-26DDEF2951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Downloa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the PHC mapping tool (SAS and Windows versions) and all technical documentation a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2392-CB04-4D57-AE8C-1C775663CC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stem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, XP, 2000, or Vis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.NET framework, v2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 ver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 version 9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2003 or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urrently available for Ma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C0EC-1B45-428B-A992-08FDDF64D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technical questions of any kind while using the PHC tool, contact the QI team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Support@qualityindicators.ahrq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512-6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4CDD-DBC8-437D-9C9D-2AFF0A8BB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66974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y contact informa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lanie Chansky</a:t>
            </a:r>
            <a:br>
              <a:rPr sz="4000"/>
            </a:b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hanskym@battelle.org</a:t>
            </a:r>
            <a:br>
              <a:rPr sz="4000"/>
            </a:b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703-248-1659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8F21-65D7-48BA-94BF-DF5BFA2A1F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Is Used in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revention Quality Indicators (14 - 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sion 3.1 Pediatric Quality Indicators (5 – area level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does NOT process any Inpatient Quality Indicators or Patient Safety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9642-D8CC-498B-B8AF-5550B7DCA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avigating the To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C tool is fairly simple and has only 4 screens. Users navigate through these screens to use the tool. The 4 screen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Discharge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QIs to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Display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A33C-F267-465D-BD52-172D8621A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reen 1: “Overview”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of the functions of the tool are accomplished using this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a shorter version of what is found in the technical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as a resource if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C199-0C10-46CE-A24A-84FB4DC6F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2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pecify Discharge Dataset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users to select the hospital discharge data file to be used for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ate, single year (1995-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manually select state and year from drop-down m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screen explanation (also found in technical documentation) explains required file format and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FF69-38B1-4CAB-AFEF-82F7F0BC7E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2CCB-ED4D-489E-AFC2-4FDDDDF44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0518-763B-4297-94ED-9FE0B56519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reen 3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Select QIs to Process”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elect any or all available QIs to be processed using the user-supplied data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QIs and PDIs are located on separate ta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last required screen. Users can submit their data and finish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114E-9503-4E66-9237-8E25D3DBE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13T12:23:23Z</dcterms:modified>
  <cp:revision>83</cp:revision>
  <dc:subject/>
  <dc:title>Community Partnerships for Change</dc:title>
</cp:coreProperties>
</file>