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980D56-EF37-4AFB-B329-F587CACBE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2109CF-52FF-4537-AF69-3C3679B42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EFC3E-6C6F-47C7-A40A-D9DA09F70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92583-151E-49CD-B6D2-7A9373494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722E2-5EE2-4846-89B6-33A1F2157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9A857-B559-45A6-A7A7-12B85A4FB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D65E9-E4AF-413A-B622-72482749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2E35C-C86C-4171-9950-5B7D3DA1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23625-278F-4487-9942-D498B80CF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086C-6D33-446E-9DF3-009A3257F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EB98-E9FA-4B02-B8E5-1C03F6263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012C-D6B8-423A-B49A-5F4C19082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BF5B-65AA-40D8-B86C-ACE7F479C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B7B1-F70D-4CA2-8466-00BDABC73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02075-414A-485F-862A-BD3CBC1C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09D7F-5BEB-4876-8E4A-111DD9CD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9B4F1-E999-49B3-8749-D3585BC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7776B-EADF-4060-B214-B1ABFD32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A48DC-56E3-475E-9EDC-84F74087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F1EE-211F-4091-A6D6-06A2311E4B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8E577-D99A-49A0-A797-AF064DBF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B315F-73A0-45C9-9BBC-8ADACCF2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58D2D-CA35-4455-95AE-B8ACE22D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098B5-6D87-459B-A403-8FB9EBFF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C24F4-DB83-48D8-AD99-D4E74214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2B22F-4704-4DD5-A7E5-CBF2B2B4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4DFA1-F7FE-4E18-A6AA-2559EF70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5F67-FD1F-42D8-8A36-649EA4B75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B68B-6832-495F-84D3-81A5CD89E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EBEF-7B20-4334-AB2F-E1506EF3E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3FA3-F601-48BA-821D-8B7593014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6CF4-AC47-4E6A-A17A-5D1EA2A02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476D-74B8-438B-92AF-F18AAA4AC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6BD-2112-4E24-88A9-075E83847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2902-CCC8-4CAE-83F3-9565EF22E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atesnapshots.ahrq.gov/" TargetMode="External"/><Relationship Id="rId2" Type="http://schemas.openxmlformats.org/officeDocument/2006/relationships/hyperlink" Target="http://www.ahrq.gov/qual/diabqualoc.htm" TargetMode="External"/><Relationship Id="rId3" Type="http://schemas.openxmlformats.org/officeDocument/2006/relationships/hyperlink" Target="http://www.ahrq.gov/qual/diabqualoc.htm" TargetMode="External"/><Relationship Id="rId4" Type="http://schemas.openxmlformats.org/officeDocument/2006/relationships/hyperlink" Target="http://www.ahrq.gov/qual/asthmaqual.htm" TargetMode="External"/><Relationship Id="rId5" Type="http://schemas.openxmlformats.org/officeDocument/2006/relationships/hyperlink" Target="http://www.ahrq.gov/qual/asthmaqual.htm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tatesnapshots.ahrq.gov/" TargetMode="External"/><Relationship Id="rId2" Type="http://schemas.openxmlformats.org/officeDocument/2006/relationships/hyperlink" Target="http://statesnapshots.ahrq.gov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hrq.gov/qual/measurix.htm" TargetMode="External"/><Relationship Id="rId2" Type="http://schemas.openxmlformats.org/officeDocument/2006/relationships/hyperlink" Target="http://www.ahrq.gov/qual/measurix.htm" TargetMode="External"/><Relationship Id="rId3" Type="http://schemas.openxmlformats.org/officeDocument/2006/relationships/hyperlink" Target="mailto:ahrqpubs@ahrq.gov" TargetMode="External"/><Relationship Id="rId4" Type="http://schemas.openxmlformats.org/officeDocument/2006/relationships/hyperlink" Target="mailto:Jeff.Brady@ahrq.hhs.gov" TargetMode="External"/><Relationship Id="rId5" Type="http://schemas.openxmlformats.org/officeDocument/2006/relationships/hyperlink" Target="mailto:Karen.Ho@ahrq.hhs.gov" TargetMode="External"/><Relationship Id="rId6" Type="http://schemas.openxmlformats.org/officeDocument/2006/relationships/hyperlink" Target="mailto:Ernest.Moy@ahrq.hhs.gov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State Snapshots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ate-based Information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tional Healthcare Quality Repor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’s State Healthcare Quality Improvement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mber 6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Brady, MD, M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Quality Improvement and Patient Safety (CQuI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ent and Organizatio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/NHDR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tage Renal Disease (ESR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V and A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al Health and 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 Home, Home Healt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Hospice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entered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ccess to 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riority Popu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1600200"/>
            <a:ext cx="152280" cy="3962520"/>
          </a:xfrm>
          <a:custGeom>
            <a:avLst/>
            <a:gdLst>
              <a:gd name="textAreaLeft" fmla="*/ 0 w 152280"/>
              <a:gd name="textAreaRight" fmla="*/ 55080 w 1522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1600200"/>
            <a:ext cx="228600" cy="4800600"/>
          </a:xfrm>
          <a:custGeom>
            <a:avLst/>
            <a:gdLst>
              <a:gd name="textAreaLeft" fmla="*/ 0 w 228600"/>
              <a:gd name="textAreaRight" fmla="*/ 8244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8600" y="33526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Q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3880" y="37339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HD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DB7F-ECDA-49FA-94E0-63D28CBBCC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8986800">
            <a:off x="5562720" y="213300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2667200">
            <a:off x="5562360" y="388548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393400">
            <a:off x="1523880" y="37339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561200">
            <a:off x="1523520" y="21337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19960" y="1802880"/>
            <a:ext cx="1753200" cy="2486880"/>
            <a:chOff x="3819960" y="1802880"/>
            <a:chExt cx="1753200" cy="24868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 rot="20850000">
              <a:off x="4319640" y="1904760"/>
              <a:ext cx="1105920" cy="1483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 rot="729000">
              <a:off x="3962160" y="2719080"/>
              <a:ext cx="1096920" cy="14713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75" name=""/>
          <p:cNvSpPr/>
          <p:nvPr/>
        </p:nvSpPr>
        <p:spPr>
          <a:xfrm>
            <a:off x="0" y="4311720"/>
            <a:ext cx="4648320" cy="252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opulation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ME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CAH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BRF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Asthma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Immunization Surve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C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RSA – Healthy Schools Healthy Communities User Visit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HPCO – Family Evaluation of Hospice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NSDU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Census Bureau – U.S.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19160" y="4494240"/>
            <a:ext cx="3621960" cy="234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rganizational data system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HC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Hospital Comp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edicare Patient Safety Monitoring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O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Nursing Home Minimum Data 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Q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RN – 2001-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 – NP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CQA – HED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US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TE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90720"/>
            <a:ext cx="396252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ovider/facility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ESRD CPM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SHSC – Community Tracking Study Physician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990720"/>
            <a:ext cx="335268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urveillance and vital statistic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NP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HIV/AIDS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TB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SE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75160" y="20484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01BA5-D90E-469C-B936-A2D4D1E0BA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QR &amp; NHDR Not Enoug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590920"/>
            <a:ext cx="5181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ional” policymakers not only audi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e variation across States – important mess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HQR data for States spread across many tabl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9640" indent="122400">
              <a:lnSpc>
                <a:spcPct val="10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dious to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9640" indent="122400">
              <a:lnSpc>
                <a:spcPct val="10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summar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523880"/>
            <a:ext cx="7864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95160" indent="-695160"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ooks “on a shelf” do not make change h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352680" cy="19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B5C8-DD07-4C67-B7AA-0F9009A497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State-led Framework for Quality Improvement: Why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lay a strategic role -- designing, leading, and asses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isting models focus on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ate-focused model lays o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 leadership ro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4952880"/>
            <a:ext cx="251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tate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8006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50"/>
                </a:lnTo>
                <a:cubicBezTo>
                  <a:pt x="10800" y="10650"/>
                  <a:pt x="16200" y="11550"/>
                  <a:pt x="21600" y="11550"/>
                </a:cubicBezTo>
                <a:cubicBezTo>
                  <a:pt x="16200" y="11550"/>
                  <a:pt x="10800" y="12450"/>
                  <a:pt x="10800" y="133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EEB0-F872-4DFA-B5F3-B3DCF0AEDC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97280" y="4952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666240" y="1447920"/>
            <a:ext cx="4940280" cy="372960"/>
            <a:chOff x="3666240" y="1447920"/>
            <a:chExt cx="4940280" cy="372960"/>
          </a:xfrm>
        </p:grpSpPr>
        <p:sp>
          <p:nvSpPr>
            <p:cNvPr id="190" name=""/>
            <p:cNvSpPr/>
            <p:nvPr/>
          </p:nvSpPr>
          <p:spPr>
            <a:xfrm>
              <a:off x="7093800" y="1447920"/>
              <a:ext cx="151272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08"/>
                  </a:solidFill>
                  <a:latin typeface="Arial"/>
                </a:rPr>
                <a:t>Improv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666240" y="1452600"/>
              <a:ext cx="3420360" cy="368280"/>
              <a:chOff x="3666240" y="1452600"/>
              <a:chExt cx="3420360" cy="368280"/>
            </a:xfrm>
          </p:grpSpPr>
          <p:sp>
            <p:nvSpPr>
              <p:cNvPr id="192" name=""/>
              <p:cNvSpPr/>
              <p:nvPr/>
            </p:nvSpPr>
            <p:spPr>
              <a:xfrm>
                <a:off x="3666240" y="1452600"/>
                <a:ext cx="13068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208"/>
                    </a:solidFill>
                    <a:latin typeface="Arial"/>
                  </a:rPr>
                  <a:t>Leadersh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41680" y="1452600"/>
                <a:ext cx="1346760" cy="368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208"/>
                    </a:solidFill>
                    <a:latin typeface="Arial"/>
                  </a:rPr>
                  <a:t>Partnersh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952880" y="167652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05720" y="167652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5716800" y="1828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2209680"/>
            <a:ext cx="4267080" cy="4267440"/>
          </a:xfrm>
          <a:prstGeom prst="donut">
            <a:avLst>
              <a:gd name="adj" fmla="val 18712"/>
            </a:avLst>
          </a:prstGeom>
          <a:solidFill>
            <a:srgbClr val="cc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1381320" cy="13399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50040" y="4952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81080"/>
            <a:ext cx="362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vide leadersh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create a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Work in partnersh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key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Implement improve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leading partners to create interventions and assess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380880"/>
            <a:ext cx="63244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State-led Framewor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4920" y="3002040"/>
            <a:ext cx="2762280" cy="268272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095880" y="3200040"/>
            <a:ext cx="1828800" cy="121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124080"/>
            <a:ext cx="1828800" cy="1295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44000" y="3848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L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426708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onv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80760" y="42670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dju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06840" y="25146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Plan the spr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24280" y="4267080"/>
            <a:ext cx="80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pre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38120" y="48769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81320" y="54864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Mea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77480" y="34290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2040" y="31240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om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8120" y="3429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trateg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5360" y="396252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Mea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50292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520" y="4572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6360" y="4572000"/>
            <a:ext cx="8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ss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0200" y="40384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Interpr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50292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naly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057720" y="21715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1535600">
            <a:off x="8143560" y="4571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005800">
            <a:off x="4114800" y="5257800"/>
            <a:ext cx="152280" cy="76320"/>
          </a:xfrm>
          <a:prstGeom prst="triangle">
            <a:avLst>
              <a:gd name="adj" fmla="val 531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3902000">
            <a:off x="7277040" y="60192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4200600">
            <a:off x="5562360" y="3048120"/>
            <a:ext cx="152280" cy="75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6927600">
            <a:off x="6590880" y="30859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606000">
            <a:off x="5234040" y="5410080"/>
            <a:ext cx="152280" cy="75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0719800">
            <a:off x="4667040" y="4571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865000">
            <a:off x="6681240" y="548604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1535600">
            <a:off x="7324560" y="472428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034680" y="3634560"/>
            <a:ext cx="152280" cy="74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0433000">
            <a:off x="5386320" y="453384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2232200">
            <a:off x="6662160" y="455256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95880" y="441936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6320" y="3857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Pre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00680" y="365760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ta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1B9F-D1BB-4028-A6FE-FF13B60DC3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HQR/DR Derivative Products for State-led Quality Improvement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State Snapshot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from the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004 NHQR – print-format on Web for each St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005 NHQR – interactive-format on Web for each St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2006 NHQR/NHD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– refinements (e.g., full content PDF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statesnapshots.ahrq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iabetes Care Quality Improvement: Guide &amp; Workboo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www.ahrq.gov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qual/diabqualoc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thma Care Quality Improvement: Guide &amp; Workboo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http://www.ahrq.gov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qual/asthmaqual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 Care Return on Investment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k Jeff Brady (AHRQ) or Ginger Carls (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590920"/>
            <a:ext cx="685800" cy="561960"/>
          </a:xfrm>
          <a:prstGeom prst="rightArrow">
            <a:avLst>
              <a:gd name="adj1" fmla="val 50000"/>
              <a:gd name="adj2" fmla="val 3050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FAAD-4D5C-449D-A10E-1BD7CCE883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State Snapsho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State-by-State data from the NHQR and NHD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managing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334120" cy="416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4834-0ECE-4BCE-BBCD-2A7A5A264D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osite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58676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mary measures – a State’s performance compared to their region and the nation fo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vailabl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 H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3635280" cy="2157480"/>
          </a:xfrm>
          <a:prstGeom prst="rect">
            <a:avLst/>
          </a:prstGeom>
          <a:ln w="0">
            <a:noFill/>
          </a:ln>
        </p:spPr>
      </p:pic>
      <p:cxnSp>
        <p:nvCxnSpPr>
          <p:cNvPr id="246" name=""/>
          <p:cNvCxnSpPr/>
          <p:nvPr/>
        </p:nvCxnSpPr>
        <p:spPr>
          <a:xfrm>
            <a:off x="6171840" y="4343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F38E-285E-4065-8D68-06F01AB02C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80880" y="1523880"/>
            <a:ext cx="4724280" cy="3683160"/>
            <a:chOff x="380880" y="1523880"/>
            <a:chExt cx="4724280" cy="368316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80880" y="1523880"/>
              <a:ext cx="4724280" cy="36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657240" y="2514600"/>
              <a:ext cx="30492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447920" y="266760"/>
            <a:ext cx="70102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site Measures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te compared to Region or 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429000" y="2895480"/>
            <a:ext cx="4724280" cy="3683160"/>
            <a:chOff x="3429000" y="2895480"/>
            <a:chExt cx="4724280" cy="368316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3429000" y="2895480"/>
              <a:ext cx="4724280" cy="36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705360" y="3886200"/>
              <a:ext cx="30456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2A1B-0B23-42F4-8B34-6FE9B158A8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vidual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ve Strongest and Weakest Measures for a State compared to all State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Rankings for 15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inal rank on individual measures of each State’s performance out of 51 (States + D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of all measures for a State and all measures for all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6187-E4EF-4B5A-B7D0-308FF2A944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Mission and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care Quality Report (NHQ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care Disparities Report (NHD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/NHDR – Backgrou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ng Data Int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ate-led Model for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Snapshots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548640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365760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0C6F-C3C1-435B-A1B0-D01BF3ED98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Strongest &amp; Weakest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82040" cy="52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4978-FE04-4CE4-B791-0A845E7BD2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90720" y="1511280"/>
            <a:ext cx="6858000" cy="534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E8EB-D788-48C7-8FCE-1583CE9FC4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cus on Diabe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parities (by income &amp; race/ethnic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ving costs (for State government employ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447560" cy="8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883C-1679-4EB4-8F50-CAD6D2C632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 Focus on Diabetes: Dispa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516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2B7A-A3A6-43B9-BE0A-93DE305F38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676520" y="304920"/>
            <a:ext cx="71625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Lives &amp; $s – State Gov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43000" y="1447920"/>
            <a:ext cx="6781680" cy="5287680"/>
            <a:chOff x="1143000" y="1447920"/>
            <a:chExt cx="6781680" cy="528768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1143000" y="1447920"/>
              <a:ext cx="6781680" cy="52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971800" y="4343400"/>
              <a:ext cx="60948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38880" y="4495680"/>
              <a:ext cx="53352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0080" y="4724280"/>
              <a:ext cx="60984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F1AA-372D-42CF-BA05-0377F44551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 Excess $s – State Gov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14400" y="1447920"/>
            <a:ext cx="6781680" cy="5287680"/>
            <a:chOff x="914400" y="1447920"/>
            <a:chExt cx="6781680" cy="52876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914400" y="1447920"/>
              <a:ext cx="6781680" cy="52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057400" y="4038480"/>
              <a:ext cx="4572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4343400"/>
              <a:ext cx="45720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93BA-A1EA-4B00-85E0-3181BAD2B0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State Snapshots &amp;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onwealth Fund State Scoreca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76560" y="1371240"/>
            <a:ext cx="37335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F State Scoreca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ventive C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age 50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oidable Hospital Use &amp;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y Liv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0880" y="1447920"/>
            <a:ext cx="39211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HRQ State Snap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Summ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ongest and Weakest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s of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venti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ron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tings of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ursing Ho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e Heal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e by Clinical Ar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iratory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cus on Diabe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044B-DDBD-42C7-89C3-0F31CD2C6B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State Snapshots &amp;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onwealth Fund State Scoreca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1600200"/>
          <a:ext cx="7924680" cy="4876920"/>
        </p:xfrm>
        <a:graphic>
          <a:graphicData uri="http://schemas.openxmlformats.org/drawingml/2006/table">
            <a:tbl>
              <a:tblPr/>
              <a:tblGrid>
                <a:gridCol w="2082960"/>
                <a:gridCol w="2920680"/>
                <a:gridCol w="292104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AHRQ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tate Snapsho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Commonwealth Fun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tate Scorecar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Meter Most Recent + Basel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int in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arisons: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gion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te Ran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5 States f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composi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1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composi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3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2666880" y="2971800"/>
            <a:ext cx="3124440" cy="1981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6E69-5838-4CB2-ACF5-F884BCF95A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Snapsho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statesnapshots.ahrq.go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5334120" cy="4160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5029200" y="2971800"/>
            <a:ext cx="3657600" cy="2173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029200" y="2971800"/>
            <a:ext cx="365760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C503-8E8F-483B-8C13-5071F656B6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38360" y="349200"/>
            <a:ext cx="6210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QR/NHDR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962520"/>
            <a:ext cx="492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962520"/>
            <a:ext cx="4572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ahrq.gov/qual/measurix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Report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800-358-929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ahrqpubs@ahrq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 Brady,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Jeff.Brady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ng Director, National Healthcare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 Staff, NHQ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ren Ho,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Karen.Ho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 Staff, NHD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nest Moy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Ernest.Moy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QR/NHDR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41E4-3269-47DD-9B7B-1386072862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Mission and Ni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676520"/>
            <a:ext cx="4724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ion:  Improve the efficiency, effectiveness, quality, safety, and equity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lth car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ing knowledge through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ng the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ing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96252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20850000">
            <a:off x="6400800" y="2209680"/>
            <a:ext cx="1884240" cy="2438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729000">
            <a:off x="5714640" y="3580920"/>
            <a:ext cx="1943280" cy="251460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2411-C960-4C3E-8E27-CE1C772B19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45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igin of the NHQR / NHD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2820600"/>
            <a:ext cx="48434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ginning in fiscal year 2003, the Secretary, acting through the Director, shall submit to Congress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an annual report on national trends in the quality of health care provided to the American peop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track “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prevailing disparities in health care delivery as it relates to racial factors and socioeconomic factors in priority populat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920" y="1371600"/>
            <a:ext cx="479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ndated by Congre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 Healthcare Research and Quality Act (PL. 106-1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287028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C737-C78D-4F3E-A9D0-4E4E1389D5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1638360"/>
            <a:ext cx="4033800" cy="5219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34308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6 National Healthcare Quality and Disparities Repor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435480" y="1447920"/>
            <a:ext cx="4032000" cy="5219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400800" y="1752480"/>
            <a:ext cx="2362320" cy="94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eleased Jan 11,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B98D-41ED-4C18-BC5D-34DCEB5420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These Reports Useful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ional overview of healthcar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 core (211 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measures of quality in NHQ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al “biggest gap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p with information about healthcare quality in key ar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ass on where we are hea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and State trends from 1994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acon for measure alignment across public and private quality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51A2-6695-49EE-86A2-4655D5C845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the NHQR and NHD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re Related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1676520"/>
          <a:ext cx="8305560" cy="4601880"/>
        </p:xfrm>
        <a:graphic>
          <a:graphicData uri="http://schemas.openxmlformats.org/drawingml/2006/table">
            <a:tbl>
              <a:tblPr/>
              <a:tblGrid>
                <a:gridCol w="4190760"/>
                <a:gridCol w="4114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Q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D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health care in Amer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arities in health care in Americ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+ Ac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, Patient Safety, Timeliness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Centered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Equ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time &amp; Stat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time &amp; 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CFA7-E798-4BA4-9939-6D122C6533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 Typ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 / NHD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easures (NHQR-211; NHDR- 25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Measures (NHQR- 42; NHDR- 2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e Measures (1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ng Meas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Breast Cancer, 2005 &amp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 Cancer, 2006 (screening &amp; morta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&amp; Outcom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7D81-1C29-47F8-8517-5E6B559AB7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 Typ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 / NHDR (cont’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Home/Home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s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healt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bet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with illness or dis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ng with the end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AECA-54E7-4781-A9B8-AE8AB9F426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william.hyde</cp:lastModifiedBy>
  <dcterms:modified xsi:type="dcterms:W3CDTF">2009-03-13T12:18:37Z</dcterms:modified>
  <cp:revision>75</cp:revision>
  <dc:subject/>
  <dc:title>Community Partnerships for Change</dc:title>
</cp:coreProperties>
</file>