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3CDA6-2D99-4D0F-B948-7A9E98540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06F0E-8108-479B-9E3D-F9012088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A98DB-D543-414E-981F-208810483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90834-7395-4B7D-9AF0-006202795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13995-1DD5-45AB-AAEE-8F5F35561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DD2C4-684F-4467-AF7E-1974B5FD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37237-55A1-4C9E-AF97-9BB70516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054DC-9620-4653-B714-DD9BF4AA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FA627-81C9-4AE6-BE4D-7728F2E96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22D1-676A-4CB6-9B2E-767753B37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40C6-4FDC-40F3-B533-F31DB99D1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14AF-E09F-448A-953C-A21AEC315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8F0-C004-4D70-B3F4-DB9675FF9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A93-AAD4-492C-864F-3A09A3EAC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D54C9-C94F-49B8-8090-8B831FB5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D7C2-8976-489B-8D65-F04A71C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859C9-5889-4F99-A146-82CD99A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59578-2BA1-4798-9075-BDD38D69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9DAD2-5FAA-4802-812B-E4EF24D6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B245-DE11-4E59-9A29-4FCB2B372B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34382-BFF3-43E9-A82B-4EE2FDC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EBC4-5939-4DCB-A728-C9945CF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B1E91-5634-40C8-A9F6-7D8A199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9AA56-67A8-4809-A8B3-1FBE42E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1198-F2DF-4B16-8D15-25E0DD0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537B7-25B2-48CA-9D90-8577EF5A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46E2B-1592-4478-9BE1-1203FB4E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209B-3E4D-445D-821F-4A435572E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0872-0E17-49A4-8509-AB52F1FA2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68AF-47BC-43F2-92EF-50B52ADD5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00FA-CB3B-47D2-8B90-A1AF025A3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861F-AACD-462F-A62C-866554E4E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4B0F-C211-46D5-AB4D-C4C1AD963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1319-E6BC-44A5-8F28-F7367CE08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8FC-6D15-486E-A81E-7FAE05A9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www.ahrq.gov/qual/diabqualoc.htm" TargetMode="External"/><Relationship Id="rId3" Type="http://schemas.openxmlformats.org/officeDocument/2006/relationships/hyperlink" Target="http://www.ahrq.gov/qual/diabqualoc.htm" TargetMode="External"/><Relationship Id="rId4" Type="http://schemas.openxmlformats.org/officeDocument/2006/relationships/hyperlink" Target="http://www.ahrq.gov/qual/asthmaqual.htm" TargetMode="External"/><Relationship Id="rId5" Type="http://schemas.openxmlformats.org/officeDocument/2006/relationships/hyperlink" Target="http://www.ahrq.gov/qual/asthmaqual.htm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http://www.ahrq.gov/qual/measurix.htm" TargetMode="External"/><Relationship Id="rId3" Type="http://schemas.openxmlformats.org/officeDocument/2006/relationships/hyperlink" Target="mailto:ahrqpubs@ahrq.gov" TargetMode="External"/><Relationship Id="rId4" Type="http://schemas.openxmlformats.org/officeDocument/2006/relationships/hyperlink" Target="mailto:Jeff.Brady@ahrq.hhs.gov" TargetMode="External"/><Relationship Id="rId5" Type="http://schemas.openxmlformats.org/officeDocument/2006/relationships/hyperlink" Target="mailto:Karen.Ho@ahrq.hhs.gov" TargetMode="External"/><Relationship Id="rId6" Type="http://schemas.openxmlformats.org/officeDocument/2006/relationships/hyperlink" Target="mailto:Ernest.Moy@ahrq.hhs.gov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State Healthcare Quality Improvement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6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73BF-4D6A-40A8-9252-AF5F2D0AA3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19960" y="1802880"/>
            <a:ext cx="1753200" cy="2486880"/>
            <a:chOff x="3819960" y="1802880"/>
            <a:chExt cx="1753200" cy="24868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 rot="20850000">
              <a:off x="4319640" y="1904760"/>
              <a:ext cx="1105920" cy="1483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 rot="729000">
              <a:off x="3962160" y="2719080"/>
              <a:ext cx="1096920" cy="14713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175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986F9-52C2-44C8-98D4-3540CC48C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&amp; NHDR Not Enoug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590920"/>
            <a:ext cx="5181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tional” policymakers not only audi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e variation across States – important mes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95160" indent="-695160">
              <a:lnSpc>
                <a:spcPct val="100000"/>
              </a:lnSpc>
              <a:spcBef>
                <a:spcPts val="16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HQR data for States spread across many tabl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dious to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9640" indent="122400">
              <a:lnSpc>
                <a:spcPct val="10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summar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523880"/>
            <a:ext cx="7864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95160" indent="-695160"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oks “on a shelf” do not make change h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35268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F00B-76BF-4733-BC84-E763E6D4A7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State-led Framework for Quality Improvement: Why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lay a strategic role -- designing, leading, and ass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models focus on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ate-focused model lays o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 leadership ro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9528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8006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50"/>
                </a:lnTo>
                <a:cubicBezTo>
                  <a:pt x="10800" y="10650"/>
                  <a:pt x="16200" y="11550"/>
                  <a:pt x="21600" y="11550"/>
                </a:cubicBezTo>
                <a:cubicBezTo>
                  <a:pt x="16200" y="11550"/>
                  <a:pt x="10800" y="12450"/>
                  <a:pt x="10800" y="133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56BC-E755-4A6B-B2E7-C4F2D84A1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97280" y="4952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666240" y="1447920"/>
            <a:ext cx="4940280" cy="372960"/>
            <a:chOff x="3666240" y="1447920"/>
            <a:chExt cx="4940280" cy="372960"/>
          </a:xfrm>
        </p:grpSpPr>
        <p:sp>
          <p:nvSpPr>
            <p:cNvPr id="190" name=""/>
            <p:cNvSpPr/>
            <p:nvPr/>
          </p:nvSpPr>
          <p:spPr>
            <a:xfrm>
              <a:off x="7093800" y="1447920"/>
              <a:ext cx="15127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208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66240" y="1452600"/>
              <a:ext cx="3420360" cy="368280"/>
              <a:chOff x="3666240" y="1452600"/>
              <a:chExt cx="3420360" cy="368280"/>
            </a:xfrm>
          </p:grpSpPr>
          <p:sp>
            <p:nvSpPr>
              <p:cNvPr id="192" name=""/>
              <p:cNvSpPr/>
              <p:nvPr/>
            </p:nvSpPr>
            <p:spPr>
              <a:xfrm>
                <a:off x="3666240" y="1452600"/>
                <a:ext cx="13068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Lead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41680" y="1452600"/>
                <a:ext cx="134676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208"/>
                    </a:solidFill>
                    <a:latin typeface="Arial"/>
                  </a:rPr>
                  <a:t>Partnersh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52880" y="167652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05720" y="1676520"/>
                <a:ext cx="380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5716800" y="1828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2209680"/>
            <a:ext cx="4267080" cy="4267440"/>
          </a:xfrm>
          <a:prstGeom prst="donut">
            <a:avLst>
              <a:gd name="adj" fmla="val 18712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1381320" cy="13399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50040" y="4952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81080"/>
            <a:ext cx="362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vide lead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create a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Work in partnersh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key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Implement improve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leading partners to create interventions and assess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380880"/>
            <a:ext cx="6324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tate-led Framewor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4920" y="3002040"/>
            <a:ext cx="2762280" cy="268272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095880" y="3200040"/>
            <a:ext cx="182880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124080"/>
            <a:ext cx="1828800" cy="1295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44000" y="38480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26708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nv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80760" y="426708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dju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6840" y="25146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lan the sp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280" y="4267080"/>
            <a:ext cx="80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pre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38120" y="48769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Evalu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81320" y="548640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7480" y="3429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2040" y="31240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Com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8120" y="3429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rateg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360" y="396252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Mea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0292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520" y="45720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6360" y="457200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ss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0200" y="4038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Interpr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50292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057720" y="21715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535600">
            <a:off x="814356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005800">
            <a:off x="4114800" y="5257800"/>
            <a:ext cx="152280" cy="76320"/>
          </a:xfrm>
          <a:prstGeom prst="triangle">
            <a:avLst>
              <a:gd name="adj" fmla="val 531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3902000">
            <a:off x="7277040" y="60192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4200600">
            <a:off x="5562360" y="304812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6927600">
            <a:off x="6590880" y="30859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606000">
            <a:off x="5234040" y="5410080"/>
            <a:ext cx="15228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0719800">
            <a:off x="4667040" y="4571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65000">
            <a:off x="6681240" y="54860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1535600">
            <a:off x="7324560" y="47242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34680" y="3634560"/>
            <a:ext cx="152280" cy="74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0433000">
            <a:off x="5386320" y="4533840"/>
            <a:ext cx="15264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2232200">
            <a:off x="6662160" y="4552560"/>
            <a:ext cx="15228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441936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6320" y="3857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Pre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00680" y="36576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208"/>
                </a:solidFill>
                <a:latin typeface="Arial"/>
              </a:rPr>
              <a:t>Sta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F552-86A5-4216-B3DE-70C81FBA9B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DR Derivative Products for State-led Quality Improvement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State Snapshot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rom the: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4 NHQR – print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005 NHQR – interactive-format on Web for each Sta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2006 NHQR/NHD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– refinements (e.g., full content PDF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statesnapshots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iabetes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qual/diabqualo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thma Care Quality Improvement: Guide &amp; Workboo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/asthmaqua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 Care Return on Investment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2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k Jeff Brady (AHRQ) or Ginger Carls (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590920"/>
            <a:ext cx="685800" cy="561960"/>
          </a:xfrm>
          <a:prstGeom prst="rightArrow">
            <a:avLst>
              <a:gd name="adj1" fmla="val 50000"/>
              <a:gd name="adj2" fmla="val 3050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9AC9-CF36-492B-8C35-498B1508EA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State Snapsho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State-by-State data from the NHQR and NHD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managing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334120" cy="416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E4C6-8A69-409D-9CE2-EC8F2AAC3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osite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58676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asures – a State’s performance compared to their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3635280" cy="2157480"/>
          </a:xfrm>
          <a:prstGeom prst="rect">
            <a:avLst/>
          </a:prstGeom>
          <a:ln w="0">
            <a:noFill/>
          </a:ln>
        </p:spPr>
      </p:pic>
      <p:cxnSp>
        <p:nvCxnSpPr>
          <p:cNvPr id="246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682A-A7C6-4DF1-B166-AC433AD4E2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80880" y="1523880"/>
            <a:ext cx="4724280" cy="3683160"/>
            <a:chOff x="380880" y="1523880"/>
            <a:chExt cx="4724280" cy="368316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657240" y="2514600"/>
              <a:ext cx="30492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447920" y="26676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osite Measures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te compared to Region o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429000" y="2895480"/>
            <a:ext cx="4724280" cy="3683160"/>
            <a:chOff x="3429000" y="2895480"/>
            <a:chExt cx="4724280" cy="368316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3429000" y="2895480"/>
              <a:ext cx="4724280" cy="36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705360" y="3886200"/>
              <a:ext cx="30456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3F39-AE17-4CBB-AFFE-3AB633C50E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ve 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(States + D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7AB-EE72-4274-82FD-5B3655345D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Mission and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Quality Report (NHQ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care Disparities Report (NH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/NHDR –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ing Data In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te-led Model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napshots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864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657600"/>
            <a:ext cx="486000" cy="609480"/>
          </a:xfrm>
          <a:prstGeom prst="downArrow">
            <a:avLst>
              <a:gd name="adj1" fmla="val 50000"/>
              <a:gd name="adj2" fmla="val 31352"/>
            </a:avLst>
          </a:prstGeom>
          <a:solidFill>
            <a:srgbClr val="8cf4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6E5B-BD7F-4D61-9B73-021862D74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82040" cy="52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0738-2BBD-4011-A424-D55C296E5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90720" y="1511280"/>
            <a:ext cx="6858000" cy="534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C2AD-4C39-4C16-8006-134C8319B6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7D1E-9AA1-4D54-8441-CCCE68C23C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516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0CCF-A458-4BBC-B629-BCBBEF5B09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D381-4151-4D6C-8376-8E0A27AFB7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s – State Gov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1447920"/>
            <a:ext cx="6781680" cy="5287680"/>
            <a:chOff x="914400" y="1447920"/>
            <a:chExt cx="6781680" cy="52876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9144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057400" y="4038480"/>
              <a:ext cx="457200" cy="200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4343400"/>
              <a:ext cx="45720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33C7-E446-4B85-8646-45D7E7EA5E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76560" y="1371240"/>
            <a:ext cx="3733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F State Scorec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entive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ge 50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able Hospital Use &amp;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L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0880" y="1447920"/>
            <a:ext cx="3921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HRQ State Snapsh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umm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est and Weakest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e by Clinical A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310400" indent="-317880">
              <a:lnSpc>
                <a:spcPct val="7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iratory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88120" indent="-360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Diab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526C-82D9-414B-A296-EF4AB3F6FB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State Snapshots &amp;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wealth Fund State Scorec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1600200"/>
          <a:ext cx="7924680" cy="4876920"/>
        </p:xfrm>
        <a:graphic>
          <a:graphicData uri="http://schemas.openxmlformats.org/drawingml/2006/table">
            <a:tbl>
              <a:tblPr/>
              <a:tblGrid>
                <a:gridCol w="2082960"/>
                <a:gridCol w="2920680"/>
                <a:gridCol w="292104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AHRQ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napsho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Commonwealth Fun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tate Scorecar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Meter Most Recent + Baseli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 in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arisons: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e Ran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5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1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composi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buClr>
                          <a:srgbClr val="ffff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tes for 3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 meas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2666880" y="2971800"/>
            <a:ext cx="312444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0DB2-B18E-428C-A5F5-32FC08CEAA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e Snapsho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5334120" cy="4160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029200" y="2971800"/>
            <a:ext cx="3657600" cy="2173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29200" y="2971800"/>
            <a:ext cx="365760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9BEB-EF3B-4949-8B73-023332D360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/NHDR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hrq.gov/qual/measuri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Report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 Brady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Jeff.Brad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ng Director, National Healthcare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Q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ren Ho,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Karen.Ho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 Staff, NHD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nest Moy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Ernest.Moy@ahrq.hhs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299D-243E-495C-AEF8-4B1A95FA22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0850000">
            <a:off x="6400800" y="2209680"/>
            <a:ext cx="1884240" cy="2438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729000">
            <a:off x="5714640" y="3580920"/>
            <a:ext cx="1943280" cy="251460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CF9F-CEF9-4FB9-AE8D-07759C0684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45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igin of the NHQR / NHD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2820600"/>
            <a:ext cx="4843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ginning in fiscal year 2003, the Secretary, acting through the Director, shall submit to Congress 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an annual report on national trends in the quality of health care provided to the American peop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rack “</a:t>
            </a: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evailing disparities in health care delivery as it relates to racial factors and socioeconomic factors in priority population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920" y="1371600"/>
            <a:ext cx="479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ndated by Congre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 Healthcare Research and Quality Act (PL. 106-1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28702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00B0-472B-4F92-85EA-0613A6FBB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40338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6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435480" y="1447920"/>
            <a:ext cx="4032000" cy="521964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400800" y="1752480"/>
            <a:ext cx="236232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eleased Jan 1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F9E0-1CD5-41B6-B242-E653B2EBC4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These Reports Usefu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ational overview of healthca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 core (211 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measures of quality in 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al “biggest gap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p with information about healthcare quality in key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ass on where we are hea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and State trends from 1994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acon for measure alignment across public and private quality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B639-7474-4766-B759-092F6FA03D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the NHQR and NHD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e Rela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676520"/>
          <a:ext cx="8305560" cy="4601880"/>
        </p:xfrm>
        <a:graphic>
          <a:graphicData uri="http://schemas.openxmlformats.org/drawingml/2006/table">
            <a:tbl>
              <a:tblPr/>
              <a:tblGrid>
                <a:gridCol w="4190760"/>
                <a:gridCol w="4114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, Patient Safety, Timeliness,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St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time &amp;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2098-2D0B-41AE-A79F-DCC8372E6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easures (NHQR-211; NHDR- 25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Measures (NHQR- 42; NHDR- 2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s (1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ng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Breast Cancer, 2005 &amp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 Cancer, 2006 (screening &amp; mort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&amp; Outcom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9240-AB1E-4EDF-A1F1-603050E57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6 NHQR / NHDR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B52E-4502-4806-91AC-B5C8232FB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3T12:18:37Z</dcterms:modified>
  <cp:revision>75</cp:revision>
  <dc:subject/>
  <dc:title>Community Partnerships for Change</dc:title>
</cp:coreProperties>
</file>