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91A-C86E-4A43-BBA8-34CE8717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 proof of concept than a complete framework to be adop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sue - staffing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rty with comparative data using accepted data definitions and transparen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d with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ing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quate new grad h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MC challenges by very high c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data and information but now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accoun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not the public have institution specific 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2A-E8B9-4C8D-8163-5A01DFCA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81F-CBC9-482C-9CF6-AC3ADB3C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524-0BEF-4561-B08B-D80FBA8D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CC7-2D62-4B28-8324-43E00D0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2D8-6A22-48FA-A007-FC93AAB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02E-4EF2-4324-8AF4-79322955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C35-9C4D-4F2B-B1CA-AD664ED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9C-7051-4ED7-832A-17A148FE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FDD-8244-4F7D-8661-5C93F098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5A1-F22C-4AA0-9112-93F3EB1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066-5597-4E83-B5EA-619E85B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732-53F3-4D3A-8821-C161A1F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3DDF-C5F5-4E2E-B789-27491F0F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809880" y="6186600"/>
          <a:ext cx="142884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618660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207.103.203.51/" TargetMode="External"/><Relationship Id="rId3" Type="http://schemas.openxmlformats.org/officeDocument/2006/relationships/hyperlink" Target="http://www.mainequalityforum.gov/" TargetMode="Externa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6858000" y="-4800600"/>
            <a:ext cx="20373840" cy="1527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1066680"/>
            <a:ext cx="56386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832-4915-4970-B683-DA3F8492AF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Lever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“administrative” data and provider submitte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understanding of metrics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understandable by the public is a key 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target not necessarily the chang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5EF-B4FE-4A57-9C84-311831C0A2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e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 of  self-examination: Maine Medical Assessment Foundation (MMAF) and small area variation analysis (S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standing discharge da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 in “all payer”, paid claim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ed partners in Maine Health Data Organization (state) and Maine Health Information Center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rives data submission through rule making (science confused with sel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156-6166-40E3-B64B-1EDEFDBDB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Maine Snap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Small Area Variation Analysis (S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Tri-partite group of Pathways to Excellence to gain buy in of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itial website with a key data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9B2-96B3-4CDB-B653-3D205571F5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small area variation analysis on procedures and inpatient activity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data via bar charts developed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presented hospitals significantly different from th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data tables for dri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rt but difficult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update new data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F site for example www.mainequalityforum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E4F8-1495-4877-9F0A-F657B77FB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and Advisory Council concur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n’t’ Make Me Th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one view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 down from simplest to most complex (visual to raw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include new data (Chapter 270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84B-ADC4-4E4D-8229-202CDB2E10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gued by dial graphics representation used by AHRQ Quality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ed out to AHRQ (Dwight) who brokered relationship with Thomson and Academy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with Thomson (aka Medst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us with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91C-828D-424F-817E-55768FD17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etermined a need f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Med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RADC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process of applying methodology to Maine’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HDO Epidem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E1B-A58B-48EB-A607-56F1B2C847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ical Challenges Encou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number of cases within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SAVA-Geographic Information Systems (GIS)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280-F13D-4AAF-8C32-28609682A9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Hospital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New England Quality Improvemen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stakeholder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olit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1B4-67EA-4F5C-8FB2-65114C70F3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o Maine PEOPL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formation Act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is Shubert M.D.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9528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Consistent Stakeholder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previously had no information; am I not better off if I have information that provides a better that 50/50 chance of improving the outcome of my cho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show a difference unless there is a 99/100 chance that there is a substantiv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EBE-118F-4766-9FB7-C63BCEF042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o speed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clusion/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QF data site: 207.103.203.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3CC-71C5-4FF6-B55F-C48A94D8F8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maps for variat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pter 270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ADE-CCB1-4651-81B4-0E05D32FE5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e Quality Forum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207.103.20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inequalityforum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5800" y="-304920"/>
            <a:ext cx="7543800" cy="582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317-E730-4E62-8762-4F3D25DA2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237-E906-4DBD-AB57-B9762C31EC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nis.shubert@gmai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layed Time to Defibrillation After In- Hospital Cardiac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M Volume 358:9-17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3, 2008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Quality Forum with Health Dialog Analytic Solutions 2006 (unpubl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144-89EF-4DE5-A2F6-E5E40750F0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background and principles of  Maine Quality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Maine’s data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d expl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ine Hospital Quality Snapsho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470-D4C7-4FA4-8947-86D80257A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762120"/>
            <a:ext cx="761976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show less nursing care at EMMC Hours logged at Bangor hospital below level of similar ce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eg Hask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NEWS STA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ngor Daily Ne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, 10/11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on: all, Section: a, Pag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8AF-9033-4ECB-A8E0-77EB7713C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021-2176-42C9-AE8D-5F8910CBE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layed Time to Defibrillation after In-Hospital Cardiac Ar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4200480" cy="221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05120" y="1371600"/>
            <a:ext cx="5105160" cy="451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5851440"/>
            <a:ext cx="51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n, Krumholz, Nichol, Nallamothu. “Delayed Time to Defibrillation after In-Hospital Cardiac Arrest,” New England Journal of Medicine, Vol. 358, No. 1, January 3, 2008, p. 1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e Quality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s part of the Dirigo Health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, Cost and Quality Tri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ed with assessing the quality of healthcare in Maine and reporting information to the people of 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ed with promoting and public reporting of comparative use of best practices in M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sue mission of providing actionable information about health care quality in easily accessib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2A8-3B17-456D-932F-B438FADBD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the Man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OM definition (STEEEP) as guid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ing, the right way, at the right time for each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known levers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7A6-5357-4714-ACAB-88F2ED9E4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r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requires accountability and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healthcare system and MQ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of Maine as a constitu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escribing best practices and outcomes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655-FC48-4078-BE42-124815EB6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1:35:53Z</dcterms:created>
  <dc:creator>Dennis Shubert User</dc:creator>
  <dc:description/>
  <dc:language>en-US</dc:language>
  <cp:lastModifiedBy>william.hyde</cp:lastModifiedBy>
  <dcterms:modified xsi:type="dcterms:W3CDTF">2009-03-14T02:44:11Z</dcterms:modified>
  <cp:revision>23</cp:revision>
  <dc:subject/>
  <dc:title>Delayed Time to Defibrillation after In-Hospital Cardiac Arrest</dc:title>
</cp:coreProperties>
</file>