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9AD6-D94E-4882-B367-396EB269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 proof of concept than a complete framework to be adop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ssue - staffing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rty with comparative data using accepted data definitions and transparen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d with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ing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new grad h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MC challenges by very high c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data and information but now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accoun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not the public have institution specific 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3A3-AFB8-4D75-80B3-B08C6A54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A54-C1B6-4A5C-905D-0C1FEE68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9A2-EC9C-486E-B98F-5B008F42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343-97F9-4406-8A16-143CF827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242-C3B2-4018-8C2E-F6C094B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AD0-1372-4EED-B439-5AE2DCF7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E68-6E32-4BC4-B302-D458F63E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F37-BAA4-480A-9CB5-C7984B4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067-7C52-469D-9C9B-F3C33ED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DC3-6405-4290-AC4D-9944798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A63-C596-4B19-B11C-C1CE680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EE9-2344-4EF2-993A-87985339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F51-6670-46B2-9EDB-0C2041D6D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809880" y="6186600"/>
          <a:ext cx="142884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618660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207.103.203.51/" TargetMode="External"/><Relationship Id="rId3" Type="http://schemas.openxmlformats.org/officeDocument/2006/relationships/hyperlink" Target="http://www.mainequalityforum.gov/" TargetMode="Externa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6858000" y="-4800600"/>
            <a:ext cx="20373840" cy="1527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1066680"/>
            <a:ext cx="56386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ealthcare Quality Improvement Works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You Can Use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7-18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076-B977-43DA-9CD5-AA93B31ED9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Lever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“administrative” data and provider submitte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understanding of metrics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understandable by the public is a key 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target not necessarily the chang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02B-499D-457D-9BC5-7F7B16F18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e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 of  self-examination: Maine Medical Assessment Foundation (MMAF) and small area variation analysis (S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standing discharge da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 in “all payer”, paid claim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partners in Maine Health Data Organization (state) and Maine Health Information Center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drives data submission through rule making (science confused with self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D59-4FC9-44EB-8789-7CAC7C5CD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e Maine Snapsh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with Small Area Variation Analysis (S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Tri-partite group of Pathways to Excellence to gain buy in of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itial website with a key data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E30-69A4-421F-BC83-DD253E30E0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small area variation analysis on procedures and inpatient activity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data via bar charts developed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presented hospitals significantly different from th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data tables for dri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art but difficult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update new data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F site for example www.mainequalityforum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941-020D-4FD5-A39A-5BA6348ACA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and Advisory Council concur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n’t’ Make Me Th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one view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 down from simplest to most complex (visual to raw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include new data (Chapter 270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A5E-0073-441A-A90A-7C0011DCCB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gued by dial graphics representation used by AHRQ Quality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ed out to AHRQ (Dwight) who brokered relationship with Thomson and Academy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with Thomson (aka Medst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us with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2B3-2149-4F39-AF00-EB4227B9B0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Determined a need f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Me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RADC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process of applying methodology to Maine’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HDO Epidem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A74-5246-47CE-AE28-614C2F3B33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ical Challenges Encount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number of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number of cases within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SAVA-Geographic Information Systems (GIS)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190-93CB-4C5D-8DDD-03B0B95AF2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e Hospital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New England Quality Improvemen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stakeholder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litic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9DE-1EF8-477F-AF92-A049417BF5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o Maine PEOPL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formation Act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nis Shubert M.D.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9528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ealthcare Quality Improvement Works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 You Can Use to Make a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7-18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Consistent Stakehol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previously had no information; am I not better off if I have information that provides a better that 50/50 chance of improving the outcome of my cho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how a difference unless there is a 99/100 chance that there is a substantiv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10B-D8F4-458F-992F-E7A5905810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o speed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clusion/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Data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QF data site: 207.103.203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CD8-64EA-474C-A624-0927C2056C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maps for variat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pter 270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133-A376-4A68-9A7E-07D32E819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e Quality Forum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207.103.20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ainequalityforum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-304920"/>
            <a:ext cx="7543800" cy="582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44A-B3C3-4E43-B8A5-A91C659414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330-1905-41E7-907F-B388414057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nis.shubert@gmai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layed Time to Defibrillation After In- Hospital Cardiac Ar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M Volume 358:9-17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3, 2008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e Quality Forum with Health Dialog Analytic Solutions 2006 (unpubl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0E3-09F4-45CD-AF6F-88C5EF2CCA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background and principles of  Maine Quality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Maine’s data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and expl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ne Hospital Quality Snapsho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C1C-943D-440D-BA52-5997A67193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762120"/>
            <a:ext cx="761976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show less nursing care at EMMC Hours logged at Bangor hospital below level of similar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eg Hask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NEWS STA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ngor Daily Ne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, 10/11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on: all, Section: a, Pag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FD2-5F69-440C-A172-9848BA302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0A7-CE51-4D34-98D6-85DAD8AAA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ed Time to Defibrillation after In-Hospital Cardiac Ar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4200480" cy="221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05120" y="1371600"/>
            <a:ext cx="5105160" cy="451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5851440"/>
            <a:ext cx="51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n, Krumholz, Nichol, Nallamothu. “Delayed Time to Defibrillation after In-Hospital Cardiac Arrest,” New England Journal of Medicine, Vol. 358, No. 1, January 3, 2008, p. 1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e Quality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s part of the Dirigo Health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, Cost and Quality Tri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ed with assessing the quality of healthcare in Maine and reporting information to the people of M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ed with promoting and public reporting of comparative use of best practices in M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sue mission of providing actionable information about health care quality in easily accessib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5DB-1938-4002-BBDE-2196D38C57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the Man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OM definition (STEEEP) as guid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hing, the right way, at the right time for each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 known levers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BE0-2342-49E7-A286-9EF126E0A2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r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requires accountability and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healthcare system and MQ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of Maine as a constitu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escribing best practices and outcome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B02-B867-4ADE-A59A-E6FE1C34F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1:35:53Z</dcterms:created>
  <dc:creator>Dennis Shubert User</dc:creator>
  <dc:description/>
  <dc:language>en-US</dc:language>
  <cp:lastModifiedBy>william.hyde</cp:lastModifiedBy>
  <dcterms:modified xsi:type="dcterms:W3CDTF">2009-03-14T02:44:11Z</dcterms:modified>
  <cp:revision>23</cp:revision>
  <dc:subject/>
  <dc:title>Delayed Time to Defibrillation after In-Hospital Cardiac Arrest</dc:title>
</cp:coreProperties>
</file>