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1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480C-6B96-44B7-BF12-34DEE96D1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1095-A9D4-415C-9F05-70BEB37C58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F9F71-7271-48A5-8E4B-A210F014A00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D7BC2-937B-47B5-B88F-F0863F91C2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839F9-C49A-47BD-B046-76BF3927D61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688B8-B3F3-4747-BA34-A28F76130DF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300F9-348A-4D58-980D-9868A77AB37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A7A0E-3675-4A5E-B649-70907C4B8BA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1D160A-90BA-483E-AEE6-BE485D03908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74999-9B20-4E17-90F9-F10DB3AB33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A4A33-A4B0-4F76-A6B2-352F0F7060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B81083-D4B5-4C43-A308-FBA575EF6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F985-637D-48A2-ACB7-39C8EF627EC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AD4D9C-CF60-43BE-BBA0-EF4C5818D61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8C4485-186B-46AC-A277-83E820BD56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7FCEA9-841A-4E82-AA0B-8B12C614594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D74F40-4463-493B-A525-A2290BDCE02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EE6AF1-2727-4F80-993D-F1998A3BC1D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B5FAA7-4A90-4891-BDE2-BDE8825CE70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87A7AE-9A00-494B-B40E-246A24B0AF9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7F835B-0A3D-49A6-8D49-082B38181AD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8A01F1-09D8-4B81-8DA0-040D02EF2B4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586043-348D-4957-A225-C96BF9C79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E43D-0F4F-48BA-B73C-614CE38903A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11B777-3923-4570-BF17-4EC47089246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E2349-D609-4DB3-9F16-BC7F6C86C99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E2E8A-BF33-4845-BF22-286327E2D6A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90728-0341-4DBA-AC1E-BB90238795A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87D5C-A017-4379-B6F5-C20293BE290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E7000-1F3E-4AF7-8B8C-4D34A29B5BE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55436-B024-4406-983E-4F4569F529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FD6E4-A752-4920-A629-BE5CC6100B4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AE8E7-226A-45E2-94E7-3E7F01E8523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27DDB-1B85-4130-8DD0-14665D2A5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DBDB9-4528-4D1A-A424-B33C1579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1C42E-CEC9-4BA1-93AB-8B3DD4220CF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67FE5-A621-49E7-8135-6C3D833C31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7E7B4-31F4-47BE-8DD8-A43C5805731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238C1E-7D3C-440C-B79C-7FE57BBB0C1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581785-ADC3-4E8A-9CD3-62AE96B3AD1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30A280-CD7A-4712-A7A6-74655A92255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B7A60-AF87-4AA7-A645-0CD1B2253B4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85F75A-DBB8-48B5-B8C3-4E8D71D7E4B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E0A04-4911-48E2-B5D7-DD11E7CDA42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7D4B6A-CF76-42D1-8287-6B3B6E1DBA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87DA1-8624-475A-8DAA-F6510C3F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B50E92-B437-4C25-A322-656AB0C5FA0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A48C9B-F280-4865-8449-301BDAF95B3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FBB222-8C76-463A-9251-91BC6B11D8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1DCEAD-785E-4782-B9BC-33C5A9901DD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3CCA5B-4923-465B-81DD-0C570D6B848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EB78C-76C9-44A4-9477-DF6DB1011E2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7980F-1C03-4D5C-BF32-3DC5AB07FC3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330FA-3D6D-4576-B040-195C6023C76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E3AF5-A19A-44D6-9112-419ADA473D4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82A4B-3F99-491B-94A5-D32CD3116D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EB164-0184-461B-B9BE-71AC49F8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4606A-69FD-489C-B4CD-75FD0101E9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0A24D-4E00-4CC0-A6C1-252B010D378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63A59-F57A-43E3-BFF3-C4E4185A5FF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2452C-091A-4930-9A2E-5602ED55E4F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50A75-E859-4E4B-9DF7-789A5C0FBD2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B246E-E38F-4E56-B246-503D4AB4825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D707C-048C-46D2-BC24-127B3600BEC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45216-5AFC-4408-9D45-DAC4A2260D3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67FD9-0160-4B6A-8985-F16BB142A28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C5C15-02E6-4286-852B-B6D214B1E6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91496-2E50-46FE-B161-86BE586F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F8399-6696-49BA-849B-D4AEF2453BB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9D7C3-3476-4151-9A8F-3E51513989F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0629E-2155-48ED-A159-C0F4009A370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EB5BD-9E09-456C-A8F7-5510137BC0E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269B4-1D11-40A7-85E9-8D2C4D59B6C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4278E-EC62-4477-8F6F-11FECEE8FF1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EB7AD-761C-4011-801F-EF2045CB4AA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CC813-CE5F-44FC-8407-83E87EA7D7A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73FB4-4805-432B-BCCB-3DD6F31BCC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890FC-586A-4FBD-9AB3-4A6C40A7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4C3D4-409E-4B57-9237-D01DEAB3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EA2E6-05C9-4CA8-A210-2DD8FBFE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1974-BF76-46F4-A1E9-DEB86C3F1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0F0AE-C97D-4B10-A95F-16D8EFCB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2CFFC-9BF0-4F9E-8B71-E8F8F5CD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858E0-6E66-49F0-9F39-61A8460D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B2E61-D2BB-45CD-B48D-9B53F710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37356-69F3-44E3-A2FF-5ED29D15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D2E1D-3FDC-44C8-ACA2-EAC31CE2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3925A-28AF-4CBA-A900-E5E32365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FB9B8-89B4-45DD-B567-D266C53E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61F6E-1FA1-44B0-A80C-7323C00E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6E29B-54AC-446D-927D-342370F7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9DC1-0921-4739-85E6-7A57261181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EF666-68BE-4883-89F4-36BBAD3B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521D4-D3EE-48B4-B3A6-23FF7391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8CCAF-610D-492B-98AD-044F42FA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E5D15-4C31-4A57-866B-D7F557EC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CC924-0A4D-4B6E-9D3C-2CC48124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F62DE-6908-498F-827E-49F60171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EC5B8-F0A7-4E62-B3D7-C40F47A0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B2756-0B8F-4BD4-A97D-E129C7B137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924BA-5CEF-4FF5-8FDC-1305D88432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B8AC1-A373-4823-BF9A-874305F03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7992-9865-41E0-B6DC-339D87AFA6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975D6D-BC12-41CC-BD8A-93C4143613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DB3AB-7E54-4B1D-BD65-773625E90C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A82BD-B3EC-443E-844A-5BD5DE7A07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84091-81AB-4A27-AA3E-912705AEB6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B4219-C174-41B1-B2C2-347B8D089E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CCE6E-1810-4F23-9B57-2E3737DD9E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68805-D185-463F-97BB-A1ED0F8405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469E9-15A3-47C3-8124-FF3FB22983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6AC9E-EA43-4F46-AD69-1169D1D622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A2C4-CCC3-4E3A-AFE0-2091520F3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C684-35E4-4FE2-A812-EFF99A7E613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FF7C6-B558-41B2-8929-CBDC992CFCE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4DC6-2C5F-46DE-A097-C4D786300B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990D-6D46-4579-B8B6-317A6B8710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1FF5-7EB6-408F-B58A-5364F3D774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48F6C-1A0A-40FE-8FCF-4A343B323E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198C3-08F6-4C10-9C6F-68CBE535EBA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5412-EE5A-4A64-B0B6-E20B2965907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46ECF-A95A-4447-BB4B-1E6E8FE8091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F4D32-959F-4937-9F3C-D5BFB25A56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D4A2D-F0D6-4D5F-8356-DEAC0940F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FCCC-835B-42BB-AD64-AC6B40B59B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9C24F-700D-4DFC-9D5F-ECBE375A716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A4180-36A1-404C-B251-613DD2D4AA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35994-6957-4249-A2F0-BCC76CD5CF6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C6799-FD6A-42B2-AE44-498928DF45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A94B3-EE16-44D6-9400-963ACEE83F8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F9B50-D215-427C-8668-6BDFE836172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AE249-A876-4AFF-9FA8-AE1F3807BE6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17C5A-F444-48FC-9860-B7A4DEA22D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E8A83-0A51-4A7B-A6B2-6A6A59C4364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490BD-5F71-4847-8477-248810CC0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369A-CB5F-4C89-846F-0F236FE812C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C3F73-7BD1-4DA8-B937-43BC47B580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7E907-E694-47BD-8A01-05182404D8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69801-3287-468F-B326-3F73906C23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2C3854-C58D-40F8-A59F-81F8F39750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A03FA9-1336-4A50-9EFD-95114019A0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D503BA-F62B-442C-86C3-89B03783DB8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B286E2-817D-43AA-AE30-6F566079F2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4C44F7-53A7-4466-B3DF-515647E064D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6D3617-6065-49C0-8300-54BA00CF5B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6E7021-00AF-4FAB-B9B9-AAD4A71AE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0B55-8CAD-4248-BE4E-5C1B74DC35E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6E7AFC-1466-4D53-AB3A-2D896A35497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30D9A2-60F4-4AB7-B528-5169CE32A2D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B3F011-8CDF-4A9D-A81A-0062E781FC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D909FB-8BC4-4748-B46B-152717423B2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D7F7F4-882D-40E4-8629-C9EC6DCDBF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4F47B-A672-43BB-B7A2-20CB7829F3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AC700-910A-4D01-A3F4-9A415E5DF9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B8AEE-90EB-4A0A-A6CF-786A24DA063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9BCD4-E2C4-4AC1-AA6A-7CBA1605553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B815D-A3CA-400E-BBEA-667344667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114A-E0AE-4F6B-8B31-559E533C509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3046D-FB17-42EA-BFFC-0B6C5FE50ED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D58D0-22B6-48B5-869F-C6979C3C9A1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1C1A2-F34D-41D6-B67F-F4998F8B13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F8D22-F71C-48BB-83C7-D68BB33F4DA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31C1B-DD9C-4B73-B9ED-63F776DE1DB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9A701-E84C-454A-A703-541F0FF12A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93CEB-A35F-444D-8AC6-836148CE69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CB113-632D-42C1-949A-5379D48731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30A3A-7ED5-46BE-AE56-94F53AC1480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E7990-DD15-4F39-987A-31F05EE41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E542FE28-9A37-43D4-A983-5DE5EAEEF252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99DD-1420-4CAF-899A-AF2738503B0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1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ED168D00-6CA3-4028-8023-BE430580907A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19EE-0358-42A4-A081-B5DC55EDAAF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3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C82B51E6-431B-46CE-9857-B132603F4404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9501-97ED-40A3-97EE-0726499BF43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5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64597D48-E060-4C79-86AD-407452A55D89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B05D-077E-4FBE-8070-1CF5CC45671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27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FF104112-05EE-47ED-8556-90CC79A7F69E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04BD-6D76-4C06-8776-85633BBD997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6A1E5DEB-F6C0-45FC-9C66-CA3EF51414F1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1D54-ADE4-4B65-868B-8FF384C8ABD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53F0-C28C-4608-82DE-4FE47DFC2E45}" type="datetime5">
              <a:rPr b="0" lang="en-US" sz="2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0C3B-C2F5-47D3-8599-D5F45A9560E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3C53-DE24-4CEF-9E66-9E513A2B3A5E}" type="datetime5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F464-44BF-4416-AB71-BD9142AE76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9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ACD06013-F1C6-42E1-BEDF-88FEFCC29084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4DDB-8721-450B-97CB-746B60B2990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2F69DA4C-C9F2-474F-8F60-098763A676DE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4B70-9E83-41DC-A5D8-6B3A6EB82FF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3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545DD7F1-EDC2-493C-BE27-D211FEDEBCB8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A1BA-5BBD-4FA8-9866-A354D2CFF3E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5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B60A0570-8C6D-4997-B362-70CB6959CC8E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1B74-FA7B-41D3-960C-608070E91CF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7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04BE2A68-0D36-43D4-80BD-5F87954EBFFA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3E09-1A35-4B5B-863B-42F11AA9535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9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CB9E0592-B6EB-4693-84EB-21BDB9334B0E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B796-F703-4541-AFCC-904690D0222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7"/>
          <p:cNvSpPr/>
          <p:nvPr/>
        </p:nvSpPr>
        <p:spPr>
          <a:xfrm>
            <a:off x="2057400" y="37339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arency for Quality Improvement Effort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Commonwealth of Kentuc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828800" y="41911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di Matthews, 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HRQ  State Health Care Qualit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ment Worksh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enix, A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uary 17,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076960" cy="49150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3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Object 2"/>
          <p:cNvGraphicFramePr/>
          <p:nvPr/>
        </p:nvGraphicFramePr>
        <p:xfrm>
          <a:off x="914400" y="1523880"/>
          <a:ext cx="746748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23880"/>
                    <a:ext cx="746748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Text Box 3"/>
          <p:cNvSpPr/>
          <p:nvPr/>
        </p:nvSpPr>
        <p:spPr>
          <a:xfrm>
            <a:off x="457200" y="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btained from Diabetes Guide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KY Compared to Worst/Best-in-Class Stat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0" name="Object 2"/>
          <p:cNvGraphicFramePr/>
          <p:nvPr/>
        </p:nvGraphicFramePr>
        <p:xfrm>
          <a:off x="990720" y="1397160"/>
          <a:ext cx="7696080" cy="453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97160"/>
                    <a:ext cx="769608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Text Box 3"/>
          <p:cNvSpPr/>
          <p:nvPr/>
        </p:nvSpPr>
        <p:spPr>
          <a:xfrm>
            <a:off x="1041120" y="228600"/>
            <a:ext cx="67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btained from the Diabetes 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2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9DA8935E-25A0-4D5B-BD1E-0284652D3C5C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2"/>
          <a:stretch/>
        </p:blipFill>
        <p:spPr>
          <a:xfrm>
            <a:off x="423720" y="984240"/>
            <a:ext cx="8128080" cy="48006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630720" y="15228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1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189C1AFF-4046-40E6-8B75-42B611333037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543800" cy="48117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373320" y="20160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oter Placeholder 1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6CD2A07E-D034-49E7-990B-6473789A90FC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7010640" cy="45421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3"/>
          <p:cNvSpPr/>
          <p:nvPr/>
        </p:nvSpPr>
        <p:spPr>
          <a:xfrm>
            <a:off x="630720" y="15228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1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272F1B00-BAB5-4C09-AD66-2C3B3FD13554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3" name="Object 2"/>
          <p:cNvGraphicFramePr/>
          <p:nvPr/>
        </p:nvGraphicFramePr>
        <p:xfrm>
          <a:off x="457200" y="1328760"/>
          <a:ext cx="8229600" cy="430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28760"/>
                    <a:ext cx="82296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Line 3"/>
          <p:cNvSpPr/>
          <p:nvPr/>
        </p:nvSpPr>
        <p:spPr>
          <a:xfrm flipV="1"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44197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V="1">
            <a:off x="579132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630720" y="22860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95320" y="5562720"/>
            <a:ext cx="354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BRFSS &amp; Diabetes Gui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1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1CE2A998-0208-48AE-B370-225E019D22B9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1" name="Object 2"/>
          <p:cNvGraphicFramePr/>
          <p:nvPr/>
        </p:nvGraphicFramePr>
        <p:xfrm>
          <a:off x="990720" y="1679400"/>
          <a:ext cx="7619760" cy="3807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79400"/>
                    <a:ext cx="761976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Line 3"/>
          <p:cNvSpPr/>
          <p:nvPr/>
        </p:nvSpPr>
        <p:spPr>
          <a:xfrm>
            <a:off x="304920" y="31240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28600" y="28195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Line 5"/>
          <p:cNvSpPr/>
          <p:nvPr/>
        </p:nvSpPr>
        <p:spPr>
          <a:xfrm>
            <a:off x="304920" y="4114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228600" y="3733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571680" y="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Display/Estimates Using Diabetes Guid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59F042ED-ED5B-4994-B14F-A79F61A301B2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S Mapping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CUP Dat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RQ Mapping Software 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631080" y="152280"/>
            <a:ext cx="79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y-Level Quality Improvement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1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25CFB693-6FEA-4D27-95E1-D08C672DF1A0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2" name="Picture 2" descr="PQI 14 Ma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3" name="AutoShape 4"/>
          <p:cNvSpPr/>
          <p:nvPr/>
        </p:nvSpPr>
        <p:spPr>
          <a:xfrm flipH="1" flipV="1">
            <a:off x="4495680" y="2895480"/>
            <a:ext cx="76320" cy="76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Line 5"/>
          <p:cNvSpPr/>
          <p:nvPr/>
        </p:nvSpPr>
        <p:spPr>
          <a:xfrm>
            <a:off x="4267080" y="2743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3134880" y="251460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uisvil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AutoShape 7"/>
          <p:cNvSpPr/>
          <p:nvPr/>
        </p:nvSpPr>
        <p:spPr>
          <a:xfrm flipH="1" flipV="1">
            <a:off x="5410080" y="2895480"/>
            <a:ext cx="76320" cy="76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AutoShape 8"/>
          <p:cNvSpPr/>
          <p:nvPr/>
        </p:nvSpPr>
        <p:spPr>
          <a:xfrm flipH="1" flipV="1">
            <a:off x="5867280" y="3047400"/>
            <a:ext cx="76320" cy="759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3741120" y="1828800"/>
            <a:ext cx="164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ankf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Line 10"/>
          <p:cNvSpPr/>
          <p:nvPr/>
        </p:nvSpPr>
        <p:spPr>
          <a:xfrm>
            <a:off x="4952880" y="2057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6175440" y="1828800"/>
            <a:ext cx="170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xing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3"/>
          <p:cNvSpPr/>
          <p:nvPr/>
        </p:nvSpPr>
        <p:spPr>
          <a:xfrm flipH="1">
            <a:off x="5943240" y="21337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14"/>
          <p:cNvSpPr/>
          <p:nvPr/>
        </p:nvSpPr>
        <p:spPr>
          <a:xfrm flipH="1">
            <a:off x="5866920" y="2057400"/>
            <a:ext cx="76212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F6E8774F-DC33-4044-BB98-315E8AE1B578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ntucky Legislation &amp; Poli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 law (HB 278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ecretary’s Advisory Committee on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law (HB 380)        Transparency law required release of cost and qualit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 Information Center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nched March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inpatient procedure quality &amp; avoidable hospitaliz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can compare KY hospitals on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chfs.ky.gov/ohp/healthdat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572000" y="1219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4572000" y="2133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PQI 01 Ma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PQI 03 Map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PQI 15 Map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15D98748-265C-4810-BC98-099E9DF2450A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tucky leaders committed to transparency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(Data &amp; Measurement) is first step to quality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etes Guide critical tool for how best to present analyze ou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now to take more steps to facilitate quality improvement in 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uide gives us credibility in our QI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7"/>
          <p:cNvSpPr/>
          <p:nvPr/>
        </p:nvSpPr>
        <p:spPr>
          <a:xfrm>
            <a:off x="2057400" y="37339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udi L. Matthews, MA</a:t>
            </a:r>
            <a:br>
              <a:rPr sz="32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rector of Policy &amp; Public Relation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t HealthBridge, 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rmer Senior Policy Advisor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HFS Office of the Secretary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513.247.5266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matthews@healthbridge.org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13" descr="Picture of Trudi Matthews"/>
          <p:cNvPicPr/>
          <p:nvPr/>
        </p:nvPicPr>
        <p:blipFill>
          <a:blip r:embed="rId2"/>
          <a:stretch/>
        </p:blipFill>
        <p:spPr>
          <a:xfrm>
            <a:off x="4035600" y="298440"/>
            <a:ext cx="1304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rcRect l="0" t="0" r="0" b="64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C2B784B0-B319-4E34-A401-53F632C4B412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id Ky staff use the AHRQ Too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Diabetes Guide and Workbook helped CHFS front line staff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chronic diseases &amp; focus on diabe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most recent data in formats of the Diabetes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oductive in the analysis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 data with better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8CCF3532-4898-4538-9101-DB65C928F059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6553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ntucky CHFS colle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B-92 inpatient recor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,000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Kentucky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atient surgery rec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mbulatory Surgery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Health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FSS, Vital Statistics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id &amp; State employ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6248520" y="1905120"/>
            <a:ext cx="75960" cy="2514600"/>
          </a:xfrm>
          <a:custGeom>
            <a:avLst/>
            <a:gdLst>
              <a:gd name="textAreaLeft" fmla="*/ 0 w 75960"/>
              <a:gd name="textAreaRight" fmla="*/ 27360 w 759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6400800" y="2209680"/>
            <a:ext cx="27432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&amp; Diagno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st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UP Part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6858000" y="5486400"/>
            <a:ext cx="2743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ident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D38663BD-ACAA-4E9D-81F2-879D8B14FD9D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Meas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roprietary consensus-based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RQ: 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: Centers for Medicare and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AHO: Joint Commission for Accreditation of Healthcare Orga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atient Quali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 Quali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(e.g., CMS Hospital Comp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5183280" y="43434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RQ QIs (Quality Indicator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5029200" y="411480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D7E54370-B8F8-47B9-BF15-FE7EC1C0991D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on Diabe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tucky: among worst health outcomes in 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est death and disability r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est obesity preva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th highest adult diabetes pre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astern counties nearly double  national diabetes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305920" cy="5105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7563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4:31:11Z</dcterms:created>
  <dc:creator> KDMHMRS</dc:creator>
  <dc:description/>
  <dc:language>en-US</dc:language>
  <cp:lastModifiedBy>Hilary Kennedy</cp:lastModifiedBy>
  <dcterms:modified xsi:type="dcterms:W3CDTF">2008-01-09T22:08:51Z</dcterms:modified>
  <cp:revision>387</cp:revision>
  <dc:subject/>
  <dc:title>Welcome to the Division of Mental Retardation</dc:title>
</cp:coreProperties>
</file>