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2659-21E5-4EFE-BC35-80D53C76E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D284-2B67-4220-84A2-CCDE72646A5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9304A-2D15-48D2-8326-33841FCEBF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AA5D0-DB79-465C-964A-0A08321B36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3A8CC-BE36-4C98-97C0-B7D0762205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B97B5-C8F2-4E8B-8A37-963D9AF901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3F39F-9B2E-4E0B-80DE-CAD80BCA18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6135C-8DB8-44AD-B7FA-34F99E5B1D5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37862-74E5-49B3-AF95-54D614F333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BAB4A-97BD-490A-B96B-A9B3385AEB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4FB3AB-8A1D-4ED6-B231-0843EAF03E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56E3FD-1C2A-47EF-B8E2-4427E5766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9DFE-2901-4B52-A72F-135C2BDDA7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B59BEC-25DB-47D8-AAE7-3FC5664BCD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F093AC-4800-42E7-8BB5-EA5474C3FE9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A295D1-CC72-4D36-BC55-65CEF2F2D4B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5B67E3-2344-4E09-A5FF-680781138B6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568198-0C0D-4D89-9141-BA13ABE0F7E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BCF2F0-CEA8-4EE5-A6AD-9070E4566C7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F1C9D3-3722-490F-8CB6-195F8CF5789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2426C2-502B-4BEF-89A3-B41B2AC670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A7F528-CCD9-4CBE-9671-CED2E27336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4C4D0F-8FE4-4157-B5F8-74F8EA0E1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8843-DB7F-4696-A2F0-3A810A33B3B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3936B1-6309-4E97-92E0-2828D7F02D4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649DC-71AB-4532-8E47-55F6FBB227C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25690-981F-4E3E-9EE6-79B8FC16A16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089C0-1281-4275-8934-3B660E0CDAC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9A215-C8A7-40DD-A8D2-9762C257A44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833CA-3C09-441C-893D-FD268F43F3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A0528-3270-4127-87AF-DA10952150F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5A719-6CD2-414B-AF7B-B0C7435D94D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0C423-34A7-47E4-AEC8-CEA3E4697D9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259D2-E704-4F45-8CE2-7D8E75349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8E965-A246-4E56-A41F-280DEE77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47F0-4979-463A-AB15-243725E5B3F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22FDC-BA33-47B3-8DB3-91A6216EDE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2FCF2-5F12-456B-A7CD-2BE63F42B4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256538-E7E4-4301-8A75-A68B55C23D2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030F98-1274-48F0-86B2-6A436FB471B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A42FD-FC0D-4048-B065-68B83827A0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74B0A9-896E-4C45-8585-4A40BE3928B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663D3B-456E-4DB8-BAB5-C8946B4F0BF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CE1905-8257-47DD-911F-882AF9CEB14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0539D-CC05-46EC-ACB2-8F926BB27A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F3C12-5342-4CEB-AFD4-ABC678E6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E94502-751E-46AE-9F16-FDB08EA195C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777A4-AAA8-48E4-8D9F-91D4FF47169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367043-0FAA-42BD-9596-35CA524EF03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C74AB-8730-4410-8422-23EDF97EEAE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31C295-7BEB-4AB9-A2C3-D7FDE1AAACA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1606D-C979-4893-A2FB-8419FF0ECF1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D3C7F-B446-49B4-B3BC-721EBE4621D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6B14F-E797-4875-9E96-D6E36FA87BD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50CD9-BA47-4EAD-ADE5-04BD335B77C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B74A8-5B33-45ED-923A-393E77E32D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DA705-5858-4797-97E4-295EBFEB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20E87-5965-4419-B867-56D4AF47C72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D10C3-9F2F-479C-B858-F690B33A365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F3BBF-3675-4E41-88B9-1D3A867869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4A551-F6D6-407E-9AAE-B0B69DDF57A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CE445-C93C-46A4-B50F-E17EE8D9A2F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9B0B6-F62B-41DB-B717-365B4C4DED2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56EF7-40F7-40B8-8668-ED99EFB9A93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91336-25E7-412E-8BFE-D9AD4D29DCE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2912E-04E3-4613-AB86-1F68910C831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6ADA8-D02F-4960-9BC4-2C6CB4E956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FED0F-9D6F-4AFA-BD3B-86A58238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97C6E-B993-4D61-B03C-AD4A6D83109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D3151-F59B-4153-AEC7-2124F2D6A94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8CB7C-8454-4E1B-BA8C-DF4CFCF6B4D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08464-B634-4726-B944-6BE187D8C7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910F3-9BD6-45FF-B10E-DA27C53E66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0C9F4-0554-4AE3-B7ED-452E7A53CFF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B701C-F5F1-4404-B3D2-85D5FC0090A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7344D-787F-429E-B007-1479056EBF9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9D827-A6EC-48B5-8370-B0509BE7FE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8BF7A-59A4-4A47-AC60-A211CBC2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52F53-2F8C-4644-96C6-30C3847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5B1E1-1B0F-44FD-90EF-62B0F98C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17E5-4600-4387-9182-086D98A2D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0A558-B3BD-45DC-A18F-FA51EECB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349A4-24CE-43DA-9B74-2A7EB360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BB505-52C5-4153-881A-BAD487EA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8B51E-8DAC-44C6-ACC5-62CA9470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51C3A-1659-410F-B0A8-7C4414CB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C09FD-5569-4C61-9820-FDBFA0A8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78ED7-4013-4E11-9E7E-889EE6BA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4A7CF-3C90-4ED8-BE51-63979160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2671E-3A81-4F18-B28C-88CB0E1B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59BF1-42B5-4714-9485-B44DB1E5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1DC2-5C26-49CF-B63A-7DCD4B25D0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8019A-D3AD-4505-B14E-9D987A98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49215-C71A-4BEF-B586-11D05BB1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65F3B-ED39-4F01-9AD1-3557ED5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4BAB2-0A89-45C7-8159-5C5B9F14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7591D-C632-49DB-AF66-4BBA1DFA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8409C-6292-4C7E-BBCE-1E5881F7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A1DD8-3357-47D0-9DD4-5CD700AE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454AB-2878-4044-8B38-81B88F9346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D9D49-18CB-4E29-BB0C-9B89601BF1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8CB1D-8DC6-4565-8E06-D462F8F21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9EEC-D8A0-4B2F-A45D-ABCA98297D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2784A-EF8C-42DD-9BE9-95A928C605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4F20E-9E6A-4A91-B165-B149EB5D96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EFA00-0D53-4DF1-9191-6643EBB9B6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552F3-3A00-4D24-B385-7F46BF24A7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2C92E-8EE7-46D6-A8E4-AAC2D48E8E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213B3-753D-490D-BAC9-D2BEFC1FD1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96857D-2446-419D-9BC3-3062DA6CE8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AB909-D40C-4329-8584-80BF651812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15CA8-CB51-4F83-9165-60E33BCB82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9BD5-A8AF-46FA-91D1-E63EFA150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B4F3-C4CA-42AE-BFBC-A9E30D9D6E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387B-7725-457E-860E-7BD75DBA56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8513E-8BF9-4317-A991-92FF0EB53FD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EE57E-D517-42A4-B3D7-075960DC16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C899A-FD40-4CB9-AA27-23F03A6364B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6A29-1867-4D4B-AEFD-516A95B483D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95208-FC4D-4BD2-9D9D-AB917A6EE1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4637D-6A35-4EC5-A63E-CCCCF1796D4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32E7-ACA6-4CDA-A28B-308A5EDC28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B4F8A-E8A1-45B7-AD1E-C3CA95B847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90AA-0B8E-4FFD-8B9A-69DE29FED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72EE-E71E-42C3-A545-05A0E6ADC5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4D0C8-E190-4177-9435-4066FA414A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1C06E-88A7-4D0A-AA94-C1BF739E1B3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82926-BB94-402C-A132-98C21BB5FE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86076-10E3-471E-94D9-FC9B5835210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9D5CE-891A-42B1-9B5C-19EB7DF2CB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2B654-FCC9-44D1-840A-910B3B49F7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7ADE4-2F64-44C5-B676-D4CFA67FB7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DB73C-8FBC-4E1E-9B80-7D7EF02F31B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74928-FAAF-493F-B890-F818935FE6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1673A-931B-4CE9-AD2B-2FF6154FB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C324-946A-4FCB-B899-2EE8A11696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3DBE1-8D7A-4E7E-AC3B-16B87B9730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2C5FB-8569-445C-AA50-9FC376C50F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D3990-9816-457C-9838-64CB9B3161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95D50A-6DEF-4705-B2D3-5AC99B5C25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741335-BD8D-4C31-B10E-AEA8E59D72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A6EBD4-A2A4-42C3-B877-E9E9E5DA55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4E61DD-3136-4570-A8D8-0EB2F80252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7B040A-7DE5-4103-B6CD-D86EF701F3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78F23A-B23E-4EAE-9B85-DE1FFD325B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8AF3D7-29DD-49C2-B770-F73B4F32C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033C-85DB-47E9-B0CF-1E47EBE953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342565-6F4C-44D8-B084-73DFC5C0E4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CCF100-B960-43DC-BE79-3BC01AD727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5AABC6-84C8-4E4C-AEF9-24FB28EE98D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465372-1E05-49BC-9416-77C9A460FB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35386D-F946-430B-B495-E9353801B1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BD823-DE41-4939-8322-341A81CE32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217C-0E30-40B4-A08D-75B212C5B39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C583-A00F-4262-AAED-F3C75849B8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1A336-ADD0-4AAD-9EBA-5E06824B01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C72A6-FF5D-4B2C-9D64-4A44E58FC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9AB7-ED04-44E2-8204-DDF5FD70AAA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BD2AE-AA43-41DC-B4B6-3FA562A1B52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4751-57B8-439E-80B2-DECB279E74E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F0F19-2B97-4C7A-871A-C6BEE58AD6D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B0887-46C9-4684-B34E-32DB4A9F08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EC3BE-FF4B-48B8-B2E9-CE015D4F487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DEEC-F4EC-4FDD-8102-8AD148C3E7F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A373C-2207-4F03-9EC7-63A4DEC1032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A2E28-403F-45A9-9DB0-E5643597F1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DF034-8E3C-4719-AEB9-B227FA9FAC1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E90C5-9F3D-43D0-A599-C4028FE5D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F1D76E92-FE5B-4FD8-8464-27518F082EBF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F17-61E6-40CD-9478-2199D147510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1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6150C10F-D97C-42A9-B62C-F8F73C7F6921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E469-3B1F-44F1-95D7-ACF349B1044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3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37700CA3-4E1F-417F-BA65-26B7FBC214A3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32DF-9E71-482C-80F9-6B8F26F2838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5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DC8B9BED-57C3-4285-8115-62E271F85622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9FD3-4703-482A-B31A-79AAAF82FB6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27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F828DA60-9709-48B0-9610-E013E977E0BD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2B05-CB2F-4F72-9F84-4AD6FF1CFAF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E1CCA332-1B38-4DF5-9526-A1B3FA43DD56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0DD7-5782-480B-8AA8-24755A1AB80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42CF-5E30-4875-B3B1-835C6AA2DD33}" type="datetime5">
              <a:rPr b="0" lang="en-US" sz="2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DD1D-178A-4A96-B017-F83F6DFDED1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3D8C-4532-4AC7-98E7-7F1355B99C6B}" type="datetime5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3265-71B5-4621-B5AA-95340D60C4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9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7A192A6E-7D22-4B1E-990A-6CE4FEF66361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D0F3-82B6-48CE-ACA2-BCCD8024F1D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216E217F-CF95-476D-9331-D2D9CB32E22C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BA0-D9F6-4B50-8127-ACBD7C2E2C2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3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BD05A953-A0E7-4220-B3D7-49D279E3FCF4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FE2C-8DDB-43B5-AA46-2E345CB90F2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5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D5D4F329-2258-42A3-B51E-8596F9B6983F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117C-9AC8-43F5-B5D0-E27A09D7A31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7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86A1A06B-8208-4213-9105-C31CAABA34C6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8D54-95AE-48B6-A78F-D439574511D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6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8ACA4BEC-1A70-455A-A696-C8704CA14E98}" type="slidenum">
              <a:rPr b="0" lang="en-US" sz="2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5862-4F11-45DF-9AD9-CBD15DE6C2E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7"/>
          <p:cNvSpPr/>
          <p:nvPr/>
        </p:nvSpPr>
        <p:spPr>
          <a:xfrm>
            <a:off x="2057400" y="3733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y for Quality Improvement Effort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Commonwealth of Kentuc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82880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di Matthews, 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HRQ  State Health Care Qualit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ment Worksh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enix, A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 17, 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49150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3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Object 2"/>
          <p:cNvGraphicFramePr/>
          <p:nvPr/>
        </p:nvGraphicFramePr>
        <p:xfrm>
          <a:off x="914400" y="1523880"/>
          <a:ext cx="746748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23880"/>
                    <a:ext cx="746748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3"/>
          <p:cNvSpPr/>
          <p:nvPr/>
        </p:nvSpPr>
        <p:spPr>
          <a:xfrm>
            <a:off x="457200" y="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btained from Diabetes Guide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Y Compared to Worst/Best-in-Class Stat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0" name="Object 2"/>
          <p:cNvGraphicFramePr/>
          <p:nvPr/>
        </p:nvGraphicFramePr>
        <p:xfrm>
          <a:off x="990720" y="1397160"/>
          <a:ext cx="7696080" cy="453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97160"/>
                    <a:ext cx="769608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Text Box 3"/>
          <p:cNvSpPr/>
          <p:nvPr/>
        </p:nvSpPr>
        <p:spPr>
          <a:xfrm>
            <a:off x="1041120" y="228600"/>
            <a:ext cx="67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btained from the Diabetes 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2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D88D23E8-235B-4158-BD1E-31D409D4A87F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423720" y="984240"/>
            <a:ext cx="8128080" cy="48006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630720" y="15228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76AD6B3F-1E41-419A-A7C0-E5E86C46E7F5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543800" cy="48117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373320" y="20160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E25E3F97-2C29-4B0F-ABE8-DBD18FDEDA80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010640" cy="45421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3"/>
          <p:cNvSpPr/>
          <p:nvPr/>
        </p:nvSpPr>
        <p:spPr>
          <a:xfrm>
            <a:off x="630720" y="15228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68DFCF8C-914E-4DD1-86A3-EBA9E3C7CE18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3" name="Object 2"/>
          <p:cNvGraphicFramePr/>
          <p:nvPr/>
        </p:nvGraphicFramePr>
        <p:xfrm>
          <a:off x="457200" y="1328760"/>
          <a:ext cx="8229600" cy="430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28760"/>
                    <a:ext cx="82296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Line 3"/>
          <p:cNvSpPr/>
          <p:nvPr/>
        </p:nvSpPr>
        <p:spPr>
          <a:xfrm flipV="1"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44197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V="1">
            <a:off x="579132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630720" y="22860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95320" y="5562720"/>
            <a:ext cx="35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BRFSS &amp; Diabetes Gui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C59187CA-F3BB-41C8-9BC5-44B31BB7E303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31" name="Object 2"/>
          <p:cNvGraphicFramePr/>
          <p:nvPr/>
        </p:nvGraphicFramePr>
        <p:xfrm>
          <a:off x="990720" y="1679400"/>
          <a:ext cx="7619760" cy="3807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79400"/>
                    <a:ext cx="761976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Line 3"/>
          <p:cNvSpPr/>
          <p:nvPr/>
        </p:nvSpPr>
        <p:spPr>
          <a:xfrm>
            <a:off x="304920" y="3124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28600" y="28195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304920" y="4114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228600" y="3733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571680" y="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Display/Estimates Using Diabetes Guid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B788259C-8F47-4C01-A380-5456952B5A97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S Mapping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CUP Dat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Mapping Software 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631080" y="152280"/>
            <a:ext cx="79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y-Level Quality Improvemen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1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D69D3713-2B0D-42FE-96F8-EF5AFB44BE75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2" name="Picture 2" descr="PQI 14 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3" name="AutoShape 4"/>
          <p:cNvSpPr/>
          <p:nvPr/>
        </p:nvSpPr>
        <p:spPr>
          <a:xfrm flipH="1" flipV="1">
            <a:off x="4495680" y="2895480"/>
            <a:ext cx="76320" cy="76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Line 5"/>
          <p:cNvSpPr/>
          <p:nvPr/>
        </p:nvSpPr>
        <p:spPr>
          <a:xfrm>
            <a:off x="4267080" y="2743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3134880" y="251460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uisvil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AutoShape 7"/>
          <p:cNvSpPr/>
          <p:nvPr/>
        </p:nvSpPr>
        <p:spPr>
          <a:xfrm flipH="1" flipV="1">
            <a:off x="5410080" y="2895480"/>
            <a:ext cx="76320" cy="76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AutoShape 8"/>
          <p:cNvSpPr/>
          <p:nvPr/>
        </p:nvSpPr>
        <p:spPr>
          <a:xfrm flipH="1" flipV="1">
            <a:off x="5867280" y="3047400"/>
            <a:ext cx="76320" cy="759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3741120" y="1828800"/>
            <a:ext cx="164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ankf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10"/>
          <p:cNvSpPr/>
          <p:nvPr/>
        </p:nvSpPr>
        <p:spPr>
          <a:xfrm>
            <a:off x="4952880" y="2057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6175440" y="1828800"/>
            <a:ext cx="170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xing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3"/>
          <p:cNvSpPr/>
          <p:nvPr/>
        </p:nvSpPr>
        <p:spPr>
          <a:xfrm flipH="1">
            <a:off x="5943240" y="21337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14"/>
          <p:cNvSpPr/>
          <p:nvPr/>
        </p:nvSpPr>
        <p:spPr>
          <a:xfrm flipH="1">
            <a:off x="5866920" y="2057400"/>
            <a:ext cx="76212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4263522E-CB2C-43FF-9105-8413AEA52049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ntucky Legislation &amp;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law (HB 278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ecretary’s Advisory Committee on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law (HB 380)        Transparency law required release of cost and qualit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Information Center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ched March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inpatient procedure quality &amp; avoidable hospitaliz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can compare KY hospitals on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chfs.ky.gov/ohp/healthdat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572000" y="1219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457200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PQI 01 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PQI 03 Map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PQI 15 Map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49BB5A60-1B6A-4CE2-95FC-3AF1ED76AA84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tucky leaders committed to transparency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(Data &amp; Measurement) is first step to quality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s Guide critical tool for how best to present analyze ou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now to take more steps to facilitate quality improvement in 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uide gives us credibility in our QI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7"/>
          <p:cNvSpPr/>
          <p:nvPr/>
        </p:nvSpPr>
        <p:spPr>
          <a:xfrm>
            <a:off x="2057400" y="3733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udi L. Matthews, MA</a:t>
            </a:r>
            <a:br>
              <a:rPr sz="32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rector of Policy &amp; Public Relation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t HealthBridge, 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rmer Senior Policy Advisor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HFS Office of the Secretary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513.247.5266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matthews@healthbridge.org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13" descr="Picture of Trudi Matthews"/>
          <p:cNvPicPr/>
          <p:nvPr/>
        </p:nvPicPr>
        <p:blipFill>
          <a:blip r:embed="rId2"/>
          <a:stretch/>
        </p:blipFill>
        <p:spPr>
          <a:xfrm>
            <a:off x="4035600" y="298440"/>
            <a:ext cx="1304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rcRect l="0" t="0" r="0" b="64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F0FD0B60-E533-40A0-BBB0-49F8E2E21E83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Ky staff use the AHRQ Too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Diabetes Guide and Workbook helped CHFS front line staff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chronic diseases &amp; focus on diabe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most recent data in formats of the Diabetes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oductive in the analysis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 data with bette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B3677C79-A0B6-4A8F-AFF7-EF7A6A72BD2F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6553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ntucky CHFS colle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B-92 inpatient recor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,000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Kentucky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atient surgery rec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mbulatory Surgery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Health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FSS, Vital Statistics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id &amp; State employ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6248520" y="1905120"/>
            <a:ext cx="75960" cy="2514600"/>
          </a:xfrm>
          <a:custGeom>
            <a:avLst/>
            <a:gdLst>
              <a:gd name="textAreaLeft" fmla="*/ 0 w 75960"/>
              <a:gd name="textAreaRight" fmla="*/ 27360 w 759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400800" y="2209680"/>
            <a:ext cx="27432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&amp; Diagno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sta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UP Part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6858000" y="5486400"/>
            <a:ext cx="2743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-identifi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F6318569-A801-4585-A54D-5065F43BC5D1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roprietary consensus-based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RQ: 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: 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AHO: Joint Commission for Accreditation of Healthcare Orga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atient Quali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(e.g., CMS Hospital Comp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5183280" y="43434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RQ QIs (Quality Indicator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5029200" y="411480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oter Placeholder 3"/>
          <p:cNvSpPr/>
          <p:nvPr/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lide #</a:t>
            </a:r>
            <a:fld id="{5BFBEF53-B87C-4F1E-AE33-29DA1D995A98}" type="slidenum">
              <a:rPr b="0" lang="en-US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on Diabe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: among worst health outcomes in 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death and disability r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obesity preva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th highest adult diabetes 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astern counties nearly double  national diabetes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105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7563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4:31:11Z</dcterms:created>
  <dc:creator> KDMHMRS</dc:creator>
  <dc:description/>
  <dc:language>en-US</dc:language>
  <cp:lastModifiedBy>Hilary Kennedy</cp:lastModifiedBy>
  <dcterms:modified xsi:type="dcterms:W3CDTF">2008-01-09T22:08:51Z</dcterms:modified>
  <cp:revision>387</cp:revision>
  <dc:subject/>
  <dc:title>Welcome to the Division of Mental Retardation</dc:title>
</cp:coreProperties>
</file>