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lick to move the slid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4722-8A93-40F5-BA6F-FF107B92F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8B5D-0877-4D36-B367-134C3B282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11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33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89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11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33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8600" y="15696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11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33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189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11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33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18600" y="15696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611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33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189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611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33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18600" y="15696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11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33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189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11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33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8600" y="15696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601640" y="583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6213600"/>
            <a:ext cx="6845400" cy="36504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213600"/>
            <a:ext cx="365040" cy="365040"/>
          </a:xfrm>
          <a:prstGeom prst="ellipse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0" b="15608"/>
          <a:stretch/>
        </p:blipFill>
        <p:spPr>
          <a:xfrm>
            <a:off x="7415280" y="6208560"/>
            <a:ext cx="1325520" cy="37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5800" y="632880"/>
            <a:ext cx="46497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5542560" y="3264480"/>
            <a:ext cx="6867360" cy="33804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3643200" y="1699920"/>
            <a:ext cx="6867360" cy="3467160"/>
          </a:xfrm>
          <a:prstGeom prst="rect">
            <a:avLst/>
          </a:prstGeom>
          <a:gradFill rotWithShape="0">
            <a:gsLst>
              <a:gs pos="0">
                <a:srgbClr val="002a5c">
                  <a:alpha val="50196"/>
                </a:srgbClr>
              </a:gs>
              <a:gs pos="100000">
                <a:srgbClr val="0020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8640" y="4932360"/>
            <a:ext cx="4516560" cy="1508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01640" y="583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4720" y="6213600"/>
            <a:ext cx="6845400" cy="36504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6213600"/>
            <a:ext cx="365040" cy="365040"/>
          </a:xfrm>
          <a:prstGeom prst="ellipse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0" t="0" r="0" b="15608"/>
          <a:stretch/>
        </p:blipFill>
        <p:spPr>
          <a:xfrm>
            <a:off x="7415280" y="6208560"/>
            <a:ext cx="1325520" cy="37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800" y="632880"/>
            <a:ext cx="46497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542560" y="3264480"/>
            <a:ext cx="6867360" cy="33804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3643200" y="1699920"/>
            <a:ext cx="6867360" cy="3467160"/>
          </a:xfrm>
          <a:prstGeom prst="rect">
            <a:avLst/>
          </a:prstGeom>
          <a:gradFill rotWithShape="0">
            <a:gsLst>
              <a:gs pos="0">
                <a:srgbClr val="002a5c">
                  <a:alpha val="50196"/>
                </a:srgbClr>
              </a:gs>
              <a:gs pos="100000">
                <a:srgbClr val="0020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8640" y="4932360"/>
            <a:ext cx="4516560" cy="15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78000" y="1306440"/>
            <a:ext cx="464976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ssessing </a:t>
            </a:r>
            <a:br>
              <a:rPr sz="4000"/>
            </a:b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Quality of Car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5359320" y="4862520"/>
            <a:ext cx="3348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HRQ State Healthcare Quality Improvement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uary 17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1200" y="3592440"/>
            <a:ext cx="4054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honda Jas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evention Specia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Employer health coalition (EHC)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f-administered employer group based in Northwest Arkansa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warded Bridges to Excellence funding to develop pay-for-performance strategi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cked resources to conduct preliminary quality analysi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itted to making positive changes in the care received by their employee popu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Quality of care assessment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18960" y="107316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vels of assess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s of c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vider group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ividual provid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hods of assess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omina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era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Quality of care measures selected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DIS measures selected to evaluate EHC data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reast cancer screen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mprehensive diabetes car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eta-blocker treatment after a heart attack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8960" y="156960"/>
            <a:ext cx="859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Breast cancer screening—group level*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84320" y="1009800"/>
          <a:ext cx="872460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009800"/>
                    <a:ext cx="872460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78640" y="5848200"/>
            <a:ext cx="557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PCP facilities w/ largest # of women participants aged 52–69 y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Diabetes care (HbA1c)—group level*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84320" y="1009800"/>
          <a:ext cx="872460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009800"/>
                    <a:ext cx="872460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73240" y="5848200"/>
            <a:ext cx="63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PCP facilities w/ largest # of eligible diabetic participants aged 18–75 y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8600" y="-3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Overall system-level performanc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20760" y="920880"/>
          <a:ext cx="840096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20880"/>
                    <a:ext cx="840096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20080" y="5848200"/>
            <a:ext cx="67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s for # eligible who rec’d procedure / # in system eligible for 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omparison with national rates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93720" y="782640"/>
          <a:ext cx="7059600" cy="54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782640"/>
                    <a:ext cx="705960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EHC group and provider performance </a:t>
            </a:r>
            <a:endParaRPr b="1" lang="en-US" sz="36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roup and provider level results may not accurately attribute quality results to specific groups/provid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vents credited to any group/provider who treated participant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explicit PCP assignment availab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de variations at group and provider level observe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52600" y="233280"/>
            <a:ext cx="1198440" cy="598968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4320" y="2535120"/>
            <a:ext cx="6278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Creation of Quality Sub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rkansas 2005 general assembly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kansas State Employees Benefits Divi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gest employer group in the sta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ssed legislation to established the Employee Benefits Division (EBD) Quality Sub-Committee (Arkansas Code 21-5-404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view and recommend quality performance indicators for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mmend baseline performance go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mmend alignment of financial incentives to improve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ck improvements in delivery of c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6160" y="6580080"/>
            <a:ext cx="61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kleg.state.ar.us/NXT/gateway.dll?f=templates&amp;fn=default.htm&amp;vid=blr: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Arkansas center for health improvement</a:t>
            </a:r>
            <a:endParaRPr b="1" lang="en-US" sz="36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e0900"/>
                </a:solidFill>
                <a:latin typeface="Arial"/>
              </a:rPr>
              <a:t>Mission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a catalyst for improving the health of Arkansans through evidence-based research, public issue advocacy, and collaborative program developmen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e0900"/>
                </a:solidFill>
                <a:latin typeface="Arial"/>
              </a:rPr>
              <a:t>Core Value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tive, Trust, Commitment, and Innov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Arkansas employee benefits division (EBD)</a:t>
            </a:r>
            <a:endParaRPr b="1" lang="en-US" sz="36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cked data to establish baseline for improv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cked infrastructure to perform analysis on existing dat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ncy lacked resources to fulfill duties of set forth by the legis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 of obtaining by-in from appropriate stakehold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52600" y="233280"/>
            <a:ext cx="1198440" cy="598968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4320" y="2535120"/>
            <a:ext cx="6278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Use of AHRQ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HRQ state snapshots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vided access to data and information to establish baseline for tracking improvemen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tablished mechanism for obtaining by-in from all stakeholders involv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ings were as bad as we thought.  United by desire to improve the system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ed a “snapshot” of the quality of care provided by the Arkansas healthcare system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Arkansas employee benefits division (EBD)</a:t>
            </a:r>
            <a:endParaRPr b="1" lang="en-US" sz="36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ed a plan for performing analysis utilizing existing medical claims and pharmacy data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ablished relationship with ACHI to provide analytic and program development resources to develop a plan to assess and improve the quality of the care provided to the EBD enrollee population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gaged the appropriate stakeholders to develop coordinated efforts in areas related to healthcare and healthcare system qualit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52600" y="233280"/>
            <a:ext cx="1198440" cy="598968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84320" y="2535120"/>
            <a:ext cx="6278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New &amp; Future Quality Initi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EBD quality sub-committe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 a quality report to the EBD Boa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 with plan and benefits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 with the development of a “worksite wellness”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 with developing preventative care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 a consumer focused report for the purpose of making decisions around healthcare and health system utiliz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 pay-for-performance strateg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lth Risk Assess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Regional quality initiatives (RQI)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 Stakeholder Collaborative with the AR Foundation for Medical Care and the AR Departments of Health and Human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ify Performance Measure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are Data for Greater Accura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uss Incentive Opportunit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lore Models of HI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earch, Design Local Plan for Fu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lth Information Security and Privacy Collaboration (HISPC), phases 1 and 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Arkansas Governor’s taskforce on health</a:t>
            </a:r>
            <a:endParaRPr b="1" lang="en-US" sz="36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ad by the Arkansas Surgeon Gener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oe Thompson, MD, MPH – Director, ACH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ffed by the Arkansas Center for Health Improvement (ACH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rised of public and private stakeholder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sked with addressing healthcare and health related issues faced by Arkansa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ontact information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06080" y="1390680"/>
            <a:ext cx="84056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irley Ty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ssociate/Policy Specia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ansas Center for Health Improv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01 West Capitol Aven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e 300, Victory Buil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Rock, Arkansas 722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 Main Phone:  501-526-22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Phone:  501-526-225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tysonshirley@uam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CHI’s scope of work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1771560" y="1281240"/>
            <a:ext cx="3354480" cy="33541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70120" y="1281240"/>
            <a:ext cx="3354480" cy="3354120"/>
          </a:xfrm>
          <a:prstGeom prst="ellipse">
            <a:avLst/>
          </a:prstGeom>
          <a:solidFill>
            <a:srgbClr val="002a5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90800" y="19922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5c"/>
                </a:solidFill>
                <a:latin typeface="Arial"/>
              </a:rPr>
              <a:t>Health Care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0960" y="1817640"/>
            <a:ext cx="238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 Promotion/ Disease Pre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00560" y="4584600"/>
            <a:ext cx="1855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ccess to Quality Ca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ccess to quality of car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" y="1152360"/>
            <a:ext cx="7975800" cy="477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a5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2a5c"/>
                </a:solidFill>
                <a:latin typeface="Arial"/>
              </a:rPr>
              <a:t>There is no more pressing concern for the American health care system than improving the quality of care we provide. Improving quality of care not only enhances patients’ lives, </a:t>
            </a:r>
            <a:r>
              <a:rPr b="1" i="1" lang="en-US" sz="3000" spc="-1" strike="noStrike">
                <a:solidFill>
                  <a:srgbClr val="002a5c"/>
                </a:solidFill>
                <a:latin typeface="Arial"/>
              </a:rPr>
              <a:t>it saves lives</a:t>
            </a:r>
            <a:r>
              <a:rPr b="0" i="1" lang="en-US" sz="3000" spc="-1" strike="noStrike">
                <a:solidFill>
                  <a:srgbClr val="002a5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2a5c"/>
                </a:solidFill>
                <a:latin typeface="Arial"/>
              </a:rPr>
              <a:t>— </a:t>
            </a:r>
            <a:r>
              <a:rPr b="0" lang="en-US" sz="3000" spc="-1" strike="noStrike">
                <a:solidFill>
                  <a:srgbClr val="002a5c"/>
                </a:solidFill>
                <a:latin typeface="Arial"/>
              </a:rPr>
              <a:t>Tommy Thompson, Former US Secretary of Health and Huma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Measuring quality of car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" y="1152360"/>
            <a:ext cx="7975800" cy="477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a5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 anchorCtr="1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2a5c"/>
                </a:solidFill>
                <a:latin typeface="Arial"/>
              </a:rPr>
              <a:t>We now know more about the quality </a:t>
            </a:r>
            <a:br>
              <a:rPr sz="3000"/>
            </a:br>
            <a:r>
              <a:rPr b="0" i="1" lang="en-US" sz="3000" spc="-1" strike="noStrike">
                <a:solidFill>
                  <a:srgbClr val="002a5c"/>
                </a:solidFill>
                <a:latin typeface="Arial"/>
              </a:rPr>
              <a:t>of our nation’s health plans, hospitals and medical groups than we ever have, and public reporting of performance data has had the impact we intended: </a:t>
            </a:r>
            <a:br>
              <a:rPr sz="3000"/>
            </a:br>
            <a:r>
              <a:rPr b="1" i="1" lang="en-US" sz="3000" spc="-1" strike="noStrike">
                <a:solidFill>
                  <a:srgbClr val="002a5c"/>
                </a:solidFill>
                <a:latin typeface="Arial"/>
              </a:rPr>
              <a:t>it promotes continuous improvement</a:t>
            </a:r>
            <a:r>
              <a:rPr b="0" i="1" lang="en-US" sz="3000" spc="-1" strike="noStrike">
                <a:solidFill>
                  <a:srgbClr val="002a5c"/>
                </a:solidFill>
                <a:latin typeface="Arial"/>
              </a:rPr>
              <a:t>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a5c"/>
                </a:solidFill>
                <a:latin typeface="Arial"/>
              </a:rPr>
              <a:t>—</a:t>
            </a:r>
            <a:r>
              <a:rPr b="0" lang="en-US" sz="3000" spc="-1" strike="noStrike">
                <a:solidFill>
                  <a:srgbClr val="002a5c"/>
                </a:solidFill>
                <a:latin typeface="Arial"/>
              </a:rPr>
              <a:t>NCQA 2004 Annual Re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CHI’s scope of work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88" name=""/>
          <p:cNvSpPr/>
          <p:nvPr/>
        </p:nvSpPr>
        <p:spPr>
          <a:xfrm>
            <a:off x="1771560" y="1281240"/>
            <a:ext cx="3354480" cy="33541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70120" y="1281240"/>
            <a:ext cx="3354480" cy="3354120"/>
          </a:xfrm>
          <a:prstGeom prst="ellipse">
            <a:avLst/>
          </a:prstGeom>
          <a:solidFill>
            <a:srgbClr val="002a5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90800" y="19922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5c"/>
                </a:solidFill>
                <a:latin typeface="Arial"/>
              </a:rPr>
              <a:t>Health Care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0960" y="1817640"/>
            <a:ext cx="238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 Promotion/ Disease Pre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71920" y="2717640"/>
            <a:ext cx="3352680" cy="3354480"/>
          </a:xfrm>
          <a:prstGeom prst="ellipse">
            <a:avLst/>
          </a:prstGeom>
          <a:solidFill>
            <a:srgbClr val="c412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00560" y="4584600"/>
            <a:ext cx="1855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ccess to Quality Ca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Goals in health car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87760" y="1967040"/>
            <a:ext cx="3657600" cy="3657600"/>
            <a:chOff x="2687760" y="1967040"/>
            <a:chExt cx="3657600" cy="3657600"/>
          </a:xfrm>
        </p:grpSpPr>
        <p:sp>
          <p:nvSpPr>
            <p:cNvPr id="196" name=""/>
            <p:cNvSpPr/>
            <p:nvPr/>
          </p:nvSpPr>
          <p:spPr>
            <a:xfrm>
              <a:off x="2687760" y="1967040"/>
              <a:ext cx="3655800" cy="3655800"/>
            </a:xfrm>
            <a:prstGeom prst="rect">
              <a:avLst/>
            </a:prstGeom>
            <a:solidFill>
              <a:srgbClr val="7c84a8"/>
            </a:solidFill>
            <a:ln w="9360">
              <a:solidFill>
                <a:srgbClr val="002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14760" y="1968480"/>
              <a:ext cx="0" cy="3656160"/>
            </a:xfrm>
            <a:prstGeom prst="line">
              <a:avLst/>
            </a:prstGeom>
            <a:ln w="28440">
              <a:solidFill>
                <a:srgbClr val="002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9200" y="3795840"/>
              <a:ext cx="3656160" cy="0"/>
            </a:xfrm>
            <a:prstGeom prst="line">
              <a:avLst/>
            </a:prstGeom>
            <a:ln w="28440">
              <a:solidFill>
                <a:srgbClr val="002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005360" y="14749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1625400" y="35654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4200" y="2608200"/>
            <a:ext cx="1577880" cy="1008720"/>
          </a:xfrm>
          <a:prstGeom prst="rect">
            <a:avLst/>
          </a:prstGeom>
          <a:solidFill>
            <a:srgbClr val="002a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quality/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0400" y="2608200"/>
            <a:ext cx="157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quality/ hig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67160" y="1968480"/>
            <a:ext cx="0" cy="3656160"/>
          </a:xfrm>
          <a:prstGeom prst="line">
            <a:avLst/>
          </a:prstGeom>
          <a:ln w="28440">
            <a:solidFill>
              <a:srgbClr val="002a5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90640" y="1871640"/>
            <a:ext cx="3656160" cy="0"/>
          </a:xfrm>
          <a:prstGeom prst="line">
            <a:avLst/>
          </a:prstGeom>
          <a:ln w="28440">
            <a:solidFill>
              <a:srgbClr val="002a5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4280040"/>
            <a:ext cx="157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quality/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1840" y="4281480"/>
            <a:ext cx="157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quality/ hig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Barriers to assessing quality of car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incentiv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sk adjust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ck of dat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ck of clear purpo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pressure to do s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52600" y="233280"/>
            <a:ext cx="1198440" cy="598968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4320" y="2535120"/>
            <a:ext cx="6278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ACHI’s Quality-related 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1T13:36:46Z</dcterms:created>
  <dc:creator>Paula Card-Higginson</dc:creator>
  <dc:description/>
  <dc:language>en-US</dc:language>
  <cp:lastModifiedBy>Caroline Pang</cp:lastModifiedBy>
  <cp:lastPrinted>2000-09-21T15:24:46Z</cp:lastPrinted>
  <dcterms:modified xsi:type="dcterms:W3CDTF">2008-01-15T14:10:30Z</dcterms:modified>
  <cp:revision>87</cp:revision>
  <dc:subject/>
  <dc:title>No Slide Title</dc:title>
</cp:coreProperties>
</file>