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1.png" ContentType="image/png"/>
  <Override PartName="/ppt/media/image9.png" ContentType="image/png"/>
  <Override PartName="/ppt/media/image8.jpeg" ContentType="image/jpeg"/>
  <Override PartName="/ppt/media/image5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7.png" ContentType="image/png"/>
  <Override PartName="/ppt/media/image1.jpeg" ContentType="image/jpeg"/>
  <Override PartName="/ppt/media/image10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EA9A6-1BFA-4A59-80E3-56106701C7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45A5C-F1ED-4A37-AEC7-72A0F5DEEF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F17F-1B80-4ABD-8C44-C2E1D6455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8487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74760"/>
            <a:ext cx="78487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2088-C87B-4D54-9978-88D101FAF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07720" y="190512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7476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07720" y="397476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D97A-714B-4944-B586-4C8B66CB3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272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9720" y="1905120"/>
            <a:ext cx="25272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3640" y="1905120"/>
            <a:ext cx="25272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74760"/>
            <a:ext cx="25272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9720" y="3974760"/>
            <a:ext cx="25272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3640" y="3974760"/>
            <a:ext cx="25272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92B2-65E4-4FA8-B2DE-E9C868C3D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5611B7-004B-4668-AE58-6E21DE869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848720" cy="39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C58BD0-0583-45DD-AE1D-7D0F91897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8487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DCAB4F-D1E0-4C53-9C5C-280162852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8300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07720" y="1905120"/>
            <a:ext cx="38300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2C7239-2428-43A3-B722-21199E4DD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9A4337-9B05-4E8B-9049-DE7903A49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30F685-A69E-43AA-BBB1-7816E00D4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07720" y="1905120"/>
            <a:ext cx="38300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97476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A6614A-B12C-4D67-9F77-E1314DF8A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848720" cy="39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F5B8-025A-4847-BA44-F6F7E3DDF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8300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07720" y="190512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07720" y="397476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213807-7170-4D39-8E14-AD4407165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07720" y="190512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974760"/>
            <a:ext cx="78487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133790-A5A5-47E4-9EBF-FDF17B0F4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8487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974760"/>
            <a:ext cx="78487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36C128-5763-44C0-932F-1FF5AC9C8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07720" y="190512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97476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07720" y="397476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292F4A-3BE5-4941-AEB2-5A9324B68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272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39720" y="1905120"/>
            <a:ext cx="25272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3640" y="1905120"/>
            <a:ext cx="25272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974760"/>
            <a:ext cx="25272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39720" y="3974760"/>
            <a:ext cx="25272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3640" y="3974760"/>
            <a:ext cx="25272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C8C3D3-053B-4C8E-9509-71D0DCE4F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8487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8863-68C0-4325-A089-64204D55D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8300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07720" y="1905120"/>
            <a:ext cx="38300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5119-0D52-4A97-BD90-593825427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4771-94B3-46AC-82DA-AB4E58EE3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EE5B-5AF4-4237-B882-C8D067B52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07720" y="1905120"/>
            <a:ext cx="38300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7476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D424-5A4F-4E5D-BD7C-6E002638C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8300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07720" y="190512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7720" y="397476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466C-5101-4C9A-8310-704320D98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7720" y="190512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74760"/>
            <a:ext cx="78487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C5E6-22EF-4667-ADB2-3F3743C48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6284880"/>
            <a:ext cx="9144000" cy="57312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496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05120"/>
            <a:ext cx="78487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18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18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18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18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18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18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18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93720" y="5943240"/>
            <a:ext cx="1828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77777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ADD37-21F1-40F0-8958-9CDD76B58721}" type="datetime">
              <a:rPr b="0" lang="en-US" sz="1000" spc="-1" strike="noStrike">
                <a:solidFill>
                  <a:srgbClr val="777777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5705280" y="59558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1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ff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592840" y="5955840"/>
            <a:ext cx="398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77777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BF4B4-896B-4BE6-AD01-9515A58F1ACD}" type="slidenum">
              <a:rPr b="0" lang="en-US" sz="1000" spc="-1" strike="noStrike">
                <a:solidFill>
                  <a:srgbClr val="77777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4968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4"/>
          </p:nvPr>
        </p:nvSpPr>
        <p:spPr>
          <a:xfrm>
            <a:off x="6858000" y="6451560"/>
            <a:ext cx="1752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5"/>
          </p:nvPr>
        </p:nvSpPr>
        <p:spPr>
          <a:xfrm>
            <a:off x="8538840" y="5954760"/>
            <a:ext cx="439560" cy="3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77777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CA76A-CF3A-4CD6-A298-A9E50DDF457B}" type="slidenum">
              <a:rPr b="0" lang="en-US" sz="1000" spc="-1" strike="noStrike">
                <a:solidFill>
                  <a:srgbClr val="77777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6"/>
          </p:nvPr>
        </p:nvSpPr>
        <p:spPr>
          <a:xfrm>
            <a:off x="693360" y="5257440"/>
            <a:ext cx="131940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77777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5165B-9DBF-491F-9348-65DDDA906FD4}" type="datetime">
              <a:rPr b="0" lang="en-US" sz="1000" spc="-1" strike="noStrike">
                <a:solidFill>
                  <a:srgbClr val="777777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8e9ac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8e9ac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7.png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hyperlink" Target="http://www.ahrq.gov/" TargetMode="External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4968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749600" y="5977080"/>
            <a:ext cx="51750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c4c8dd"/>
                </a:solidFill>
                <a:latin typeface="Arial"/>
              </a:rPr>
              <a:t>RTI International is a trade name of Research Triangle Institu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3376440" y="5130720"/>
            <a:ext cx="1974960" cy="9162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36520" y="3832200"/>
            <a:ext cx="6523200" cy="10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troduction to the CDC/RTI Chronic Disease Cost Calculat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esented by: Eric Finkelstein, Ph.D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241720" y="1531800"/>
            <a:ext cx="2092320" cy="1962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4332240" y="1521000"/>
          <a:ext cx="1928880" cy="1971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332240" y="1521000"/>
                    <a:ext cx="1928880" cy="197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0" name="" descr=""/>
          <p:cNvPicPr/>
          <p:nvPr/>
        </p:nvPicPr>
        <p:blipFill>
          <a:blip r:embed="rId6"/>
          <a:stretch/>
        </p:blipFill>
        <p:spPr>
          <a:xfrm>
            <a:off x="6532560" y="2660760"/>
            <a:ext cx="2303640" cy="8316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7"/>
          <a:stretch/>
        </p:blipFill>
        <p:spPr>
          <a:xfrm>
            <a:off x="187200" y="2692440"/>
            <a:ext cx="1859040" cy="7970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AHRQ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262080" y="5126040"/>
            <a:ext cx="1336680" cy="9144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10"/>
          <a:stretch/>
        </p:blipFill>
        <p:spPr>
          <a:xfrm>
            <a:off x="7254720" y="5200560"/>
            <a:ext cx="1490760" cy="881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A2B138-E1A1-47A6-ADE9-B31362CDFA4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3880" y="29016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y Examine Medicaid Costs Separately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17240" y="1564920"/>
            <a:ext cx="838188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165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roximately 22% of all state spending is for Medicaid expenditures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65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earch has not examined the cost burden of chronic diseases to state Medicaid programs in a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istent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ner across stat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65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dicaid directors and others have been requesting this inform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65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feasible to estimate Medicaid costs using claims data, however, it is complicated, expensive and not without limit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09760" y="5564160"/>
            <a:ext cx="77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ational Governors Association and National Association of State Budget Officers. Fiscal Survey of States, June 2007. Accessed from http://www.nasbo.org/Publications/PDFs/Fiscal%20Survey%20of%20the%20States%20June%202007.pdf November 21, 2007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8F10-6DDD-493F-A4F4-01F56E792A4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ederal, State and Total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dicaid Spending, 1965-2014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762120" y="1523880"/>
            <a:ext cx="7619760" cy="43023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0" y="5791320"/>
            <a:ext cx="8763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Source: Centers for Medicare and Medicaid Services, National Health Expenditures (NHE) Amounts by Type of Expenditure and Source of Funds: Calendar Years 1965 -2015, available at: www.cms.hhs.gov/ </a:t>
            </a:r>
            <a:r>
              <a:rPr b="0" i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tatistics/nhe/#project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4B2E-C258-4B44-BD2A-AB5D83BF756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459080" y="436320"/>
            <a:ext cx="63244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y not use existing estimates?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26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isting estimates are based on inconsistent data and method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26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 are often contradictor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51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populations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51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data se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51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methodolog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51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ts of double counting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26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lkit and estimation approach presents a transparent and evidence-based strategy for calculating cos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5662440"/>
            <a:ext cx="86868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CED3-A3F7-4B1E-8B49-B54C6D274EF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49160" y="3776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imation Approa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77850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8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001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tionally Representative Data: Medical Expenditure Panel Survey (MEP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001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 Representative Data: Medicaid MAX fee-for-service claim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18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imation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001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onometric (regression-based) mode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8E0A-B108-4423-8A02-6641C14A982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EPS Dat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39640" y="163044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tionally-representative survey of the US civilian non-institutionalized pop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antifies annual medical spending by pay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ludes information on health insurance status and demographic character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ntifies all medical conditions for which a participant sought treatment during the survey period and for selected chronic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HRQ granted access to state identifiers to quantify state-level adjustment facto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5D5E-7C17-4EF5-81DA-00EDB547617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42880" y="34272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dvantages of MEP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47200" y="1692360"/>
            <a:ext cx="7696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tionally-representative dataset with state identifi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gle data source for all st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ludes payments for most medical services, including Rx drug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for stratification by payer (sample-size permittin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A7A6-7029-4235-8239-703697A7938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676160" y="3884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advantages of MEP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377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95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ize may be inadequate for some diseases/payers/population stratific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301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oling years can hel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301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bined, 2000-2003 MEPS includes approximately 125,000 people, and 25,000 Medicaid recipi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5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do not include institutionalized popul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2475-177C-44E8-A4C8-25B3F0CF01F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6096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—Medicaid MAX Files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te Medicaid dat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7785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de available by CMS in a uniform format across st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for research on Medicaid pop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ludes person-level eligibility records with demographic (Enrollment file) and claims dat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ariables inclu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ronic disease flags based on diagnosis c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graphic information (e.g., age, gender, race/ethnic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nths of eligibility during the y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indicator for dual eligi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dicaid payments, in total and broken out by type of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DD6B-3C7A-48EE-A7D8-BA6053602BC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23880" y="45684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dicaid MAX Files (cont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19320" y="2057040"/>
            <a:ext cx="7315200" cy="49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van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ludes Rx clai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ludes long-term care population (unlike MEP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gle source for state-specific Medicaid prevalence, demographic, and cost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ry large number of observ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for all st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4397-101A-4FBF-8B4D-796D841D9D2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0962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dicaid MAX Files (cont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19320" y="1909440"/>
            <a:ext cx="6858000" cy="49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advan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sses payments for dual eligi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sses payments for non-covered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are incomplete for states with high Medicaid managed care enroll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are costly and analyses are labor and computer intensiv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omplete coding on long-term care claims may be problematic for some analy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EC2C-0ECC-4EC8-B24F-8F68157E0B5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3880" y="60912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vestigators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100000"/>
              </a:lnSpc>
              <a:spcBef>
                <a:spcPts val="18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TI Investig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1001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san Ha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1001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ic Finkelste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1001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n Trogd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1349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C Investigators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1001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ane Orenste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1001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aac Nwais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1001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orence Tangk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1001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umiko Imai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1001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uise Murphy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A7B7-1F8F-4271-BB9D-B124CB6FED6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67960" y="24300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—Strateg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013960" cy="520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5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MEPS to generate annual per capita disease costs for non-institutionalized popul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901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controls for confoun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901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gle data source for all 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901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state-level inflators to adjust for regional price var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901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test results using the 4 states MAX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MAX data for estimating per capita disease costs for institutionalized pop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bine unit costs with prevalence data to generate State-specific total and Medicaid cos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valence data can be provided by the user or estimated from the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7F1C-0961-4E0B-8C8D-4E208F20641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23880" y="45684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imation Approach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7785000" cy="504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ounting Approach: sum payments for all events with the disease listed as the primary diagnos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either understate or overstate costs attributable to the disease of inter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8e9ac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derstate: does not include attributable costs when disease of interest (e.g., diabetes) is listed as a secondary diagno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8e9ac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verstate: may include costs attributable to secondary diagno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luding primary plus secondary diagnoses results in additional 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8e9ac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kely to result in double coun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F3D1-01E1-4034-994E-4D5BBC34E22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23880" y="371520"/>
            <a:ext cx="60962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onometric Approa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85360" cy="514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multivariate regression analysis to estimate marginal costs associated with each disease while controlling, to the extent possible, for other observable characteristics that affect co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nual $ =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iseases of interest, socio-demographic characteristics, other medical condi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eases of interest: heart disease, stroke, hypertension, CHF, diabetes, canc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iodemographic characteristics: gender, race, age,  education, inc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high prevalence or high cost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51D8-5147-4D0B-825A-0F6AA6FAEA0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23880" y="38052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onometric Approa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85360" cy="468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approach has several major advantages over other approa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ressions control for covariates (e.g., age, gender, comorbiditie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flexibility in the model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 appropriate calculation, avoids double-counting of costs for co-occurring diseas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run model separately on total or Medicaid pop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4BA4-01BA-411C-A166-85E2B175525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65200" y="3535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voiding double count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349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only-used econometric models also lead to double counting of costs across diseases (Trogdon, Finkelstein and Hoerger 200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349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curs when expenditures for co-occuring diseases (e.g., heart disease with cancer) are not properly allocated across the two diseas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sults in inflated estim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349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developed a strategy to estimate the expenditures associated with co-occuring diseases and reallocate these expenditures to the individual dise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hodology forthcoming in HS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Trogdon et al. (2007) Health Promotion Practice article and in the toolk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349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e – explains why our estimates are generally lower than what is in the liter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569F-6886-4D04-A82E-79D8E39733B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23880" y="38052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imation Strate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62120" y="1776240"/>
            <a:ext cx="807696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3840" indent="-393840">
              <a:lnSpc>
                <a:spcPct val="70000"/>
              </a:lnSpc>
              <a:spcBef>
                <a:spcPts val="1349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ermine appropriate functional form for empirical mod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3840" indent="0">
              <a:lnSpc>
                <a:spcPct val="7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3840" indent="-393840">
              <a:lnSpc>
                <a:spcPct val="70000"/>
              </a:lnSpc>
              <a:spcBef>
                <a:spcPts val="1349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imate separate models for annual expenditures in five categor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85840">
              <a:lnSpc>
                <a:spcPct val="70000"/>
              </a:lnSpc>
              <a:spcBef>
                <a:spcPts val="901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pat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85840">
              <a:lnSpc>
                <a:spcPct val="70000"/>
              </a:lnSpc>
              <a:spcBef>
                <a:spcPts val="901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at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85840">
              <a:lnSpc>
                <a:spcPct val="70000"/>
              </a:lnSpc>
              <a:spcBef>
                <a:spcPts val="901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fice-ba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85840">
              <a:lnSpc>
                <a:spcPct val="70000"/>
              </a:lnSpc>
              <a:spcBef>
                <a:spcPts val="901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85840">
              <a:lnSpc>
                <a:spcPct val="70000"/>
              </a:lnSpc>
              <a:spcBef>
                <a:spcPts val="901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3840" indent="-393840">
              <a:lnSpc>
                <a:spcPct val="90000"/>
              </a:lnSpc>
              <a:spcBef>
                <a:spcPts val="1349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culate per capita cost for each disease and combination of dise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384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3840" indent="-393840">
              <a:lnSpc>
                <a:spcPct val="90000"/>
              </a:lnSpc>
              <a:spcBef>
                <a:spcPts val="1349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he coefficients from the model, which provide information about the relative importance of each disease on expenditures, to reallocate costs associated with co-occuring dise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3840" indent="0">
              <a:lnSpc>
                <a:spcPct val="7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1A7F-A8CB-49B9-8C4E-0A35829B7162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47920" y="3805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imation Strategy con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38280" y="1697040"/>
            <a:ext cx="6705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15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bine results to produce a national estimate of per capita costs for each disea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5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regional/state level adjustment factors to generate per capita costs for each s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5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ly costs by prevalence estimates (either user supplied or estimated from the model) to generate Total (Medicaid) co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5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are estimates to those generated directly from 4 states Medicaid claims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3AFB-F7C3-49F8-A223-0CB57012B16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23880" y="34272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edicaid Results: Cardiovascular Disease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nual costs per person with disease attributable to the disease to Medica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gestive heart failur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$4,18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ertensio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$1,6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ok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$1,55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heart diseas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$1,5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: Trogdon et al. (200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C670-3916-468B-B663-357B7317A9B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ublicati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8487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se of Econometric Models to Estimate Expenditure Sha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ustin G. Trogdon, Eric A. Finkelstein, Thomas J. Hoer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hcoming at Health Services Research (CDC-funded through RTI-UNC Center of Excellence in Health Promotion Economic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Economic Burden of Cardiovascular Disease for Major Insur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ustin G. Trogdon, Eric A. Finkelstein, Isaac Nwaise, Florence Tangka, and Diane Orenste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lth Promotion Practice 2007;8(3):234-24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77E6-7C03-4832-93AD-1487EFE7307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34800" y="3218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creen Sho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1219320" y="1596960"/>
            <a:ext cx="6553080" cy="4422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DF59-AE7B-4097-8481-05BA256D638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3880" y="45684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ther Collaborato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71629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cy for Healthcare Research and Quality (AHRQ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ional Association of Chronic Disease Directors (NACD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ional Pharmaceutical Council (NP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2A7B-E4E0-4C5C-830B-39FAF3CBCE5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413000" y="1568520"/>
            <a:ext cx="5597280" cy="453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3054-D322-4F28-B05C-54CFDB39C10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2238480" y="1527120"/>
            <a:ext cx="4314600" cy="4568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C77D-C8F0-42BB-8542-41015113BC7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935000" y="1576440"/>
            <a:ext cx="4770720" cy="4519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5FDC-ABE8-422A-B555-D033C9C6278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361800" y="1517760"/>
            <a:ext cx="8367840" cy="4591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788A-A9BD-461E-971E-2DA0CE39680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446040" y="1587600"/>
            <a:ext cx="8229600" cy="4628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B1B4-1F0E-43B7-9D20-9FDA62501E6E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368280" y="1536840"/>
            <a:ext cx="8534520" cy="4628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8126-F8E2-4417-ADA9-402C6163DB2C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330120" y="1503360"/>
            <a:ext cx="8458200" cy="4732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38B5-9BBF-4AD0-A111-C995DC710EA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482480" y="3283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xt Up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295280" y="1752480"/>
            <a:ext cx="6096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nds on demonstration of the toolk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icy discussion surrounding the question: ‘How should the estimates generated from the toolkit be used?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CF3E-DBBF-4E55-915C-8A621F2B156A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71240" y="43956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vervie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761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ject Go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are burden estimates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examine state-specific total and Medicaid co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ject description: objectives, methodology, strategy, estimation, preliminary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een sh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xt Ste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7D94-F1F3-4D53-BA94-8A362B0FE32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240" y="500040"/>
            <a:ext cx="6095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ject Go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2280" y="1503360"/>
            <a:ext cx="8839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71680" indent="-571680">
              <a:lnSpc>
                <a:spcPct val="80000"/>
              </a:lnSpc>
              <a:spcBef>
                <a:spcPts val="1349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y a consistent framework to calculate state-specific Total and Medicaid costs for persons diagnosed and/or treated for heart diseases, stroke, hypertension, congestive heart failure, diabetes, cancer,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[completed]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rthritis and major depression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[ongoing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1349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culate the proportion of state Total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[ongoing]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Medicaid costs for these diseases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[completed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1349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 a user friendly calculator to estimate prevalence-based state-specific Total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[ongoing]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Medicaid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[completed]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st estimates for all states without having to analyze claims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1349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and the toolkit to include indirect costs and a forecasting module</a:t>
            </a:r>
            <a:r>
              <a:rPr b="0" lang="en-US" sz="1800" spc="-1" strike="noStrike">
                <a:solidFill>
                  <a:srgbClr val="99ff33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[ongoing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1349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seminate our methodology and results to key stakeholders</a:t>
            </a:r>
            <a:r>
              <a:rPr b="0" lang="en-US" sz="1800" spc="-1" strike="noStrike">
                <a:solidFill>
                  <a:srgbClr val="99ff33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[ongoing]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995A-10F5-41B8-A692-FD5E6D5DA3B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752480" y="4114800"/>
            <a:ext cx="5562720" cy="762120"/>
          </a:xfrm>
          <a:prstGeom prst="ellipse">
            <a:avLst/>
          </a:prstGeom>
          <a:solidFill>
            <a:srgbClr val="82a49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3880" y="38052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y are burden estimates needed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794040" y="3841920"/>
            <a:ext cx="17686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426708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Verdana"/>
              </a:rPr>
              <a:t>Burden &amp; Cost of Ill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295280" y="3276720"/>
            <a:ext cx="7010640" cy="133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ning/Forecasting   Prevention  Resource Alloc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50000" y="5410080"/>
            <a:ext cx="419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616040" y="2057400"/>
            <a:ext cx="581184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Verdana"/>
              </a:rPr>
              <a:t>Public Health Policy &amp; Deci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 flipV="1">
            <a:off x="2743200" y="3809880"/>
            <a:ext cx="457200" cy="457200"/>
          </a:xfrm>
          <a:prstGeom prst="line">
            <a:avLst/>
          </a:prstGeom>
          <a:ln w="76320">
            <a:solidFill>
              <a:srgbClr val="82a49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5893920" y="3735360"/>
            <a:ext cx="403920" cy="504720"/>
          </a:xfrm>
          <a:prstGeom prst="line">
            <a:avLst/>
          </a:prstGeom>
          <a:ln w="76320">
            <a:solidFill>
              <a:srgbClr val="82a49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905120" y="2590920"/>
            <a:ext cx="380880" cy="685800"/>
          </a:xfrm>
          <a:prstGeom prst="upArrow">
            <a:avLst>
              <a:gd name="adj1" fmla="val 50000"/>
              <a:gd name="adj2" fmla="val 45014"/>
            </a:avLst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429000" y="2616120"/>
            <a:ext cx="380880" cy="685800"/>
          </a:xfrm>
          <a:prstGeom prst="upArrow">
            <a:avLst>
              <a:gd name="adj1" fmla="val 50000"/>
              <a:gd name="adj2" fmla="val 45014"/>
            </a:avLst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105520" y="2590920"/>
            <a:ext cx="380880" cy="685800"/>
          </a:xfrm>
          <a:prstGeom prst="upArrow">
            <a:avLst>
              <a:gd name="adj1" fmla="val 50000"/>
              <a:gd name="adj2" fmla="val 45014"/>
            </a:avLst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30920" y="2590920"/>
            <a:ext cx="381240" cy="685800"/>
          </a:xfrm>
          <a:prstGeom prst="upArrow">
            <a:avLst>
              <a:gd name="adj1" fmla="val 50000"/>
              <a:gd name="adj2" fmla="val 44972"/>
            </a:avLst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2482-1620-48BF-9A0F-37C54B64CF2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539640" y="174960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349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idenced-based recommendations to inform policy dec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349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t contai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901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tential solutions = prevention and control programs at the state and national levels supported by many part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349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vocacy to increase $$ for prevention efforts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349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and partnership between state CDD and CMS dire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349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hance understanding of the burden of disease to state Medicaid program and spending budg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349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idence-based data to support resource allocation for state budg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349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laborate with state health departments to share strategies to prevent and control chronic diseases: implement disease management, prevention and wellness initia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1523880" y="30456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y are burden estimates needed (cont.)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2B01-B01B-4089-B587-F29F6DCE01F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47920" y="447480"/>
            <a:ext cx="63244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y Chronic Disease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ronic diseases are leading causes of mortality and morbid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 33% of adults have some form of cardiovascular dis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.6% of adults have diabet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 3% of population has history of canc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 estimates suggest that chronic diseases account for 83% of total healthcare expenditure in the general pop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" y="5662440"/>
            <a:ext cx="86868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5299-0E8F-4E0E-A159-CBFD24095E5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880" y="22824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y Examine Costs at the State Level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 estimates are important because much of the prevention dollars are allocated at the stat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1001"/>
              </a:spcBef>
              <a:buClr>
                <a:srgbClr val="8e9ac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irect costs may also be important for resource allocation deci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ronic Disease directors, state policy makers, and partners have been requesting this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E055-9532-4BAC-ACA0-C308975B57F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5T17:50:02Z</dcterms:created>
  <dc:creator/>
  <dc:description>©  Research Triangle Institute. RTI International is a trade name of Research Triangle Institute.</dc:description>
  <dc:language>en-US</dc:language>
  <cp:lastModifiedBy>Hilary Kennedy</cp:lastModifiedBy>
  <dcterms:modified xsi:type="dcterms:W3CDTF">2008-01-08T14:01:48Z</dcterms:modified>
  <cp:revision>22</cp:revision>
  <dc:subject/>
  <dc:title>RTI ppt template</dc:title>
</cp:coreProperties>
</file>