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BDFF-78C0-4D13-8860-75C9B8436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1EC29-20DC-4D43-86D5-BC07E5FC5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44C1-DE54-4C5A-B230-8284209CC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74760"/>
            <a:ext cx="7848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1C17-328B-4D22-9813-D727FF311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772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6E98-BD7D-4086-9477-EA94EB945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9720" y="190512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3640" y="190512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7476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9720" y="397476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3640" y="397476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26A2-E439-4555-98DA-7056B4477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EBF7C8-B065-41B8-88EA-6C0C5C5CD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BBE7FB-98C0-4E71-BF52-D1155AD38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EF33C1-7D4B-4C3C-BFDA-CD8EBCB83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8BA753-126F-4D68-B216-C91FDA95D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C503EC-749A-4944-931F-C9AC85BE5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A482CE-3303-4F05-8498-A7F0A27DD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DDD650-98FA-482D-9933-0730809D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C6FA-7E23-4F9D-AF1F-A2C7523F3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0772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CE2FCD-DF54-438F-8F90-AC4E7E59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74760"/>
            <a:ext cx="7848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F6EA31-6851-46ED-89B8-AE58B7DE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74760"/>
            <a:ext cx="7848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27922A-CF4C-4A1B-B001-E073C39DC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0772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20764D-AD4A-444E-AE56-0FA5C3A43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39720" y="190512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3640" y="190512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7476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39720" y="397476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3640" y="397476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884BC2-6351-49BB-BC71-33D867D7F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58DC-D042-43A5-B0F2-A1C35F62D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BFD3-C584-4496-AA45-568A7D6D5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A4EC-0B1B-4EFA-871B-25DFBFB59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0723-E1EC-43DB-9BCC-4400C7B70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0769-ABC2-4089-97F6-4F09693F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772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1314-8E13-44EC-BD82-92263C43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74760"/>
            <a:ext cx="7848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7A0C-6CC6-42D0-93A2-56138B22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284880"/>
            <a:ext cx="9144000" cy="57312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496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93720" y="594324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7777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8A56C-8088-40A7-BEAF-1E4257E07289}" type="datetime">
              <a:rPr b="0" lang="en-US" sz="1000" spc="-1" strike="noStrike">
                <a:solidFill>
                  <a:srgbClr val="777777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5705280" y="59558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1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92840" y="5955840"/>
            <a:ext cx="398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7777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25E14-0DD2-4F0D-B94E-49B4F16515A1}" type="slidenum">
              <a:rPr b="0" lang="en-US" sz="1000" spc="-1" strike="noStrike">
                <a:solidFill>
                  <a:srgbClr val="77777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4968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6858000" y="6451560"/>
            <a:ext cx="1752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8538840" y="5954760"/>
            <a:ext cx="43956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7777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AC93F-9B43-4560-9085-1B6A657DF59B}" type="slidenum">
              <a:rPr b="0" lang="en-US" sz="1000" spc="-1" strike="noStrike">
                <a:solidFill>
                  <a:srgbClr val="77777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6"/>
          </p:nvPr>
        </p:nvSpPr>
        <p:spPr>
          <a:xfrm>
            <a:off x="693360" y="5257440"/>
            <a:ext cx="131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7777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A6A79-B20F-4AED-AA49-33D8FBD860DE}" type="datetime">
              <a:rPr b="0" lang="en-US" sz="1000" spc="-1" strike="noStrike">
                <a:solidFill>
                  <a:srgbClr val="777777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8e9ac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hyperlink" Target="http://www.ahrq.gov/" TargetMode="External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968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749600" y="5977080"/>
            <a:ext cx="5175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c4c8dd"/>
                </a:solidFill>
                <a:latin typeface="Arial"/>
              </a:rPr>
              <a:t>RTI International is a trade name of Research Triangle Institu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376440" y="5130720"/>
            <a:ext cx="1974960" cy="9162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36520" y="3832200"/>
            <a:ext cx="652320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duction to the CDC/RTI Chronic Disease Cost Calculat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esented by: Eric Finkelstein, Ph.D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241720" y="1531800"/>
            <a:ext cx="2092320" cy="196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4332240" y="1521000"/>
          <a:ext cx="1928880" cy="1971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32240" y="1521000"/>
                    <a:ext cx="1928880" cy="19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6532560" y="2660760"/>
            <a:ext cx="2303640" cy="8316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187200" y="2692440"/>
            <a:ext cx="1859040" cy="7970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AHRQ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62080" y="5126040"/>
            <a:ext cx="1336680" cy="914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0"/>
          <a:stretch/>
        </p:blipFill>
        <p:spPr>
          <a:xfrm>
            <a:off x="7254720" y="5200560"/>
            <a:ext cx="1490760" cy="88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294824-9534-4EE9-A24F-07E4E9774CC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3880" y="29016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y Examine Medicaid Costs Separatel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17240" y="1564920"/>
            <a:ext cx="838188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65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roximately 22% of all state spending is for Medicaid expenditures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65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arch has not examined the cost burden of chronic diseases to state Medicaid programs in a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ent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ner across stat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65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caid directors and others have been requesting this 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65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feasible to estimate Medicaid costs using claims data, however, it is complicated, expensive and not without limit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9760" y="556416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tional Governors Association and National Association of State Budget Officers. Fiscal Survey of States, June 2007. Accessed from http://www.nasbo.org/Publications/PDFs/Fiscal%20Survey%20of%20the%20States%20June%202007.pdf November 21, 2007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10B7-5B0B-4BF6-8B53-02637774B2B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deral, State and Total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caid Spending, 1965-2014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619760" cy="4302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0" y="5791320"/>
            <a:ext cx="8763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ource: Centers for Medicare and Medicaid Services, National Health Expenditures (NHE) Amounts by Type of Expenditure and Source of Funds: Calendar Years 1965 -2015, available at: www.cms.hhs.gov/ 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tatistics/nhe/#projec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C768-83CC-4C37-8E03-475A348EADC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59080" y="436320"/>
            <a:ext cx="63244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y not use existing estimates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26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sting estimates are based on inconsistent data and method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26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 are often contradictor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5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population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5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data se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5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methodolog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5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ts of double count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26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lkit and estimation approach presents a transparent and evidence-based strategy for calculating cos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5662440"/>
            <a:ext cx="8686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0928-F5AD-4322-AD46-30D220CB049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49160" y="3776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imation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77850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ly Representative Data: Medical Expenditure Panel Survey (MEP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 Representative Data: Medicaid MAX fee-for-service clai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imation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onometric (regression-based) mod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18AC-2208-4D4C-ADE3-2BFD6362075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EPS Dat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9640" y="163044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ly-representative survey of the US civilian non-institutionalized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ntifies annual medical spending by pay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es information on health insurance status and demographic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ies all medical conditions for which a participant sought treatment during the survey period and for selected chronic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HRQ granted access to state identifiers to quantify state-level adjustment fact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75D1-2C3E-47D5-A7B5-735A456403A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2880" y="3427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dvantages of MEP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47200" y="169236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ly-representative dataset with state identifi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 data source for all st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es payments for most medical services, including Rx dru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for stratification by payer (sample-size permitt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D3FA-AC64-4A14-8733-EA442125DC9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6160" y="3884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advantages of MEP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ize may be inadequate for some diseases/payers/population stratific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3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oling years can hel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3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ined, 2000-2003 MEPS includes approximately 125,000 people, and 25,000 Medicaid recipi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do not include institutionalized popu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1194-2B99-4F4A-9854-3ED6BDE3F73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6096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—Medicaid MAX File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te Medicaid da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785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de available by CMS in a uniform format across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for research on Medicaid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es person-level eligibility records with demographic (Enrollment file) and claims d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ariables incl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onic disease flags based on diagnosis c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graphic information (e.g., age, gender, race/ethnic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ths of eligibility during the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indicator for dual elig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caid payments, in total and broken out by type of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A114-0075-474A-A547-CEB44812F40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880" y="45684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caid MAX Files (cont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2057040"/>
            <a:ext cx="73152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es Rx cla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es long-term care population (unlike MEP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 source for state-specific Medicaid prevalence, demographic, and cost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y large number of 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for all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E01F-3EB7-4BDD-A463-3D4349BCBEA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0962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caid MAX Files (cont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909440"/>
            <a:ext cx="68580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sses payments for dual eligi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sses payments for non-covere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are incomplete for states with high Medicaid managed care enroll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are costly and analyses are labor and computer intensi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mplete coding on long-term care claims may be problematic for some analy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E4AF-0231-4CF0-84D5-F27DA5A0A62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vestigator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I Investig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an Ha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ic Finkelste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n Trogd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1349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C Investigators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ne Orenst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aac Nwais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rence Tang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miko Imai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uise Murphy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EE9C-0AED-4B7B-918B-2379B47A98F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67960" y="24300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—Strate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013960" cy="52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MEPS to generate annual per capita disease costs for non-institutionalized popul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9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controls for confoun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9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 data source for all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9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state-level inflators to adjust for regional price var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9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test results using the 4 states MAX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MAX data for estimating per capita disease costs for institutionalized pop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ine unit costs with prevalence data to generate State-specific total and Medicaid co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alence data can be provided by the user or estimated from th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63D8-44A5-464A-91FB-9414EA36FAF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3880" y="45684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imation Approach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78500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unting Approach: sum payments for all events with the disease listed as the primary diagno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either understate or overstate costs attributable to the disease of inte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erstate: does not include attributable costs when disease of interest (e.g., diabetes) is listed as a secondary diagn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state: may include costs attributable to secondary diagno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ing primary plus secondary diagnoses results in additional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ely to result in double cou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AEEA-AB5D-40DA-9AD7-7C75F9C795D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3880" y="371520"/>
            <a:ext cx="6096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onometric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85360" cy="51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multivariate regression analysis to estimate marginal costs associated with each disease while controlling, to the extent possible, for other observable characteristics that affect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nual $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iseases of interest, socio-demographic characteristics, other medical condi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eases of interest: heart disease, stroke, hypertension, CHF, diabetes, can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iodemographic characteristics: gender, race, age,  education, in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high prevalence or high cost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65F5-ED20-4B81-8398-4F26C2FB473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onometric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85360" cy="46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approach has several major advantages over other appro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ressions control for covariates (e.g., age, gender, comorbiditie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flexibility in the model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appropriate calculation, avoids double-counting of costs for co-occurring disea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run model separately on total or Medicaid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CBAC-6E26-4625-9A24-7E83A71E81C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65200" y="3535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voiding double coun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ly-used econometric models also lead to double counting of costs across diseases (Trogdon, Finkelstein and Hoerger 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s when expenditures for co-occuring diseases (e.g., heart disease with cancer) are not properly allocated across the two disea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sults in inflated estim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developed a strategy to estimate the expenditures associated with co-occuring diseases and reallocate these expenditures to the individual dise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ology forthcoming in HS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Trogdon et al. (2007) Health Promotion Practice article and in the tool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 – explains why our estimates are generally lower than what is in the lit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A8A2-50ED-491C-B601-E41E9806F0E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imation Strate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2120" y="1776240"/>
            <a:ext cx="807696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93840">
              <a:lnSpc>
                <a:spcPct val="70000"/>
              </a:lnSpc>
              <a:spcBef>
                <a:spcPts val="1349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 appropriate functional form for empirical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3840"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>
              <a:lnSpc>
                <a:spcPct val="70000"/>
              </a:lnSpc>
              <a:spcBef>
                <a:spcPts val="1349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imate separate models for annual expenditures in five categor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85840">
              <a:lnSpc>
                <a:spcPct val="70000"/>
              </a:lnSpc>
              <a:spcBef>
                <a:spcPts val="9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85840">
              <a:lnSpc>
                <a:spcPct val="70000"/>
              </a:lnSpc>
              <a:spcBef>
                <a:spcPts val="9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85840">
              <a:lnSpc>
                <a:spcPct val="70000"/>
              </a:lnSpc>
              <a:spcBef>
                <a:spcPts val="9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ice-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85840">
              <a:lnSpc>
                <a:spcPct val="70000"/>
              </a:lnSpc>
              <a:spcBef>
                <a:spcPts val="9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85840">
              <a:lnSpc>
                <a:spcPct val="70000"/>
              </a:lnSpc>
              <a:spcBef>
                <a:spcPts val="9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>
              <a:lnSpc>
                <a:spcPct val="90000"/>
              </a:lnSpc>
              <a:spcBef>
                <a:spcPts val="1349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ate per capita cost for each disease and combination of dise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38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>
              <a:lnSpc>
                <a:spcPct val="90000"/>
              </a:lnSpc>
              <a:spcBef>
                <a:spcPts val="1349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 coefficients from the model, which provide information about the relative importance of each disease on expenditures, to reallocate costs associated with co-occuring dise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3840"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3364-D225-4E9C-B17A-187B158B72FF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imation Strategy co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38280" y="169704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ine results to produce a national estimate of per capita costs for each disea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regional/state level adjustment factors to generate per capita costs for each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y costs by prevalence estimates (either user supplied or estimated from the model) to generate Total (Medicaid)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e estimates to those generated directly from 4 states Medicaid claims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A794-8A72-4C9D-9F76-11F040264E7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3880" y="3427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edicaid Results: Cardiovascular Disease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nual costs per person with disease attributable to the disease to Medic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gestive heart failur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4,1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1,6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ok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1,5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heart disea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1,5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: Trogdon et al. (200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50F0-8E63-4A94-A59C-C629C13963A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ublic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 of Econometric Models to Estimate Expenditure Sh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ustin G. Trogdon, Eric A. Finkelstein, Thomas J. Hoer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hcoming at Health Services Research (CDC-funded through RTI-UNC Center of Excellence in Health Promotion Economic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Economic Burden of Cardiovascular Disease for Major Insur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ustin G. Trogdon, Eric A. Finkelstein, Isaac Nwaise, Florence Tangka, and Diane Orenst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lth Promotion Practice 2007;8(3):234-24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F0C6-6FE5-440F-A1A3-59F3837C365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34800" y="3218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creen Sho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219320" y="1596960"/>
            <a:ext cx="6553080" cy="4422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25E4-55EE-4BE5-BF56-6D8DA54F592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880" y="45684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Collabora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162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cy for Healthcare Research and Quality (AHR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onal Association of Chronic Disease Directors (NACD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onal Pharmaceutical Council (N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CCBC-83E3-4AF5-9DA6-E103922DBC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413000" y="1568520"/>
            <a:ext cx="5597280" cy="453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6DFE-8FDA-4AA9-99A5-6B79FB77FCF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238480" y="1527120"/>
            <a:ext cx="4314600" cy="4568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B26C-ED07-4CC3-9929-E66C6C16F27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935000" y="1576440"/>
            <a:ext cx="4770720" cy="451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513C-B175-4166-8E76-AE73E193B39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61800" y="1517760"/>
            <a:ext cx="8367840" cy="459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0EB0-D118-48F6-A9E4-27C4DDF3F70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46040" y="1587600"/>
            <a:ext cx="8229600" cy="4628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3342-6019-4A7F-82ED-A5B13DDBB77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68280" y="1536840"/>
            <a:ext cx="8534520" cy="4628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894A-B93B-4815-92E3-68D76060615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30120" y="1503360"/>
            <a:ext cx="8458200" cy="4732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B512-DD72-48AA-ABBD-FAE37D76046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82480" y="3283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xt U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95280" y="17524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s on demonstration of the toolk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cy discussion surrounding the question: ‘How should the estimates generated from the toolkit be used?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D832-B1D5-45D7-8B8B-9AF90C8A4D7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240" y="43956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61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Go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are burden estimate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examine state-specific total and Medicaid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description: objectives, methodology, strategy, estimation, preliminary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een sh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xt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9FD1-C123-41AB-B529-D6E0E1E89CB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500040"/>
            <a:ext cx="6095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ject Go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503360"/>
            <a:ext cx="8839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71680" indent="-571680">
              <a:lnSpc>
                <a:spcPct val="80000"/>
              </a:lnSpc>
              <a:spcBef>
                <a:spcPts val="1349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 a consistent framework to calculate state-specific Total and Medicaid costs for persons diagnosed and/or treated for heart diseases, stroke, hypertension, congestive heart failure, diabetes, cancer,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completed]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thritis and major depression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ongoing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349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ate the proportion of state Total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ongoing]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Medicaid costs for these diseases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completed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349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a user friendly calculator to estimate prevalence-based state-specific Total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ongoing]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Medicaid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completed]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st estimates for all states without having to analyze claims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349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and the toolkit to include indirect costs and a forecasting module</a:t>
            </a:r>
            <a:r>
              <a:rPr b="0" lang="en-US" sz="18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ongoing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349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seminate our methodology and results to key stakeholders</a:t>
            </a:r>
            <a:r>
              <a:rPr b="0" lang="en-US" sz="1800" spc="-1" strike="noStrike">
                <a:solidFill>
                  <a:srgbClr val="99ff33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ongoing]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D403-D364-4F88-BF08-4F1349F694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752480" y="4114800"/>
            <a:ext cx="5562720" cy="762120"/>
          </a:xfrm>
          <a:prstGeom prst="ellipse">
            <a:avLst/>
          </a:prstGeom>
          <a:solidFill>
            <a:srgbClr val="82a49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y are burden estimates neede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94040" y="3841920"/>
            <a:ext cx="1768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42670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Verdana"/>
              </a:rPr>
              <a:t>Burden &amp; Cost of Ill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95280" y="3276720"/>
            <a:ext cx="7010640" cy="13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ning/Forecasting   Prevention  Resource Alloc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50000" y="5410080"/>
            <a:ext cx="419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16040" y="2057400"/>
            <a:ext cx="58118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Verdana"/>
              </a:rPr>
              <a:t>Public Health Policy &amp;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2743200" y="3809880"/>
            <a:ext cx="457200" cy="457200"/>
          </a:xfrm>
          <a:prstGeom prst="line">
            <a:avLst/>
          </a:prstGeom>
          <a:ln w="76320">
            <a:solidFill>
              <a:srgbClr val="82a49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5893920" y="3735360"/>
            <a:ext cx="403920" cy="504720"/>
          </a:xfrm>
          <a:prstGeom prst="line">
            <a:avLst/>
          </a:prstGeom>
          <a:ln w="76320">
            <a:solidFill>
              <a:srgbClr val="82a49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05120" y="259092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261612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105520" y="259092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30920" y="259092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5354-6FDF-4009-97B6-4415C6CD0B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39640" y="17496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349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idenced-based recommendations to inform policy dec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349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 contai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9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tial solutions = prevention and control programs at the state and national levels supported by many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349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ocacy to increase $$ for prevention efforts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349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and partnership between state CDD and CMS dir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349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hance understanding of the burden of disease to state Medicaid program and spending budg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349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idence-based data to support resource allocation for state budg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349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aborate with state health departments to share strategies to prevent and control chronic diseases: implement disease management, prevention and wellness initia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1523880" y="30456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y are burden estimates needed (cont.)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123A-F75B-48B8-A45C-4AE9D01CB9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7920" y="447480"/>
            <a:ext cx="63244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y Chronic Diseas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ronic diseases are leading causes of mortality and morbid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 33% of adults have some form of cardiovascular dis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.6% of adults have diabe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 3% of population has history of can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estimates suggest that chronic diseases account for 83% of total healthcare expenditure in the general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5662440"/>
            <a:ext cx="8686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4AAB-4B9E-46E5-BB3F-048471EED7E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y Examine Costs at the State Leve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 estimates are important because much of the prevention dollars are allocated at the stat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rect costs may also be important for resource allocation dec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onic Disease directors, state policy makers, and partners have been requesting this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C199-9C14-467D-842F-AF696C9729B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17:50:02Z</dcterms:created>
  <dc:creator/>
  <dc:description>©  Research Triangle Institute. RTI International is a trade name of Research Triangle Institute.</dc:description>
  <dc:language>en-US</dc:language>
  <cp:lastModifiedBy>Hilary Kennedy</cp:lastModifiedBy>
  <dcterms:modified xsi:type="dcterms:W3CDTF">2008-01-08T14:01:48Z</dcterms:modified>
  <cp:revision>22</cp:revision>
  <dc:subject/>
  <dc:title>RTI ppt template</dc:title>
</cp:coreProperties>
</file>