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5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7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qualityindicators.ahrq.gov/mappingtool.htm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Support@qualityindicators.ahrq.gov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chanskym@battelle.org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ventable Hospitalization Costs: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 County-Level Mapping Tool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434304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Healthcare Quality Improvement Workshop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ols You Can Use to Make a Dif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nuary 17-18,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lanie Chansky, MA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ttelle Centers for Public Health Research and Eval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676520" y="228600"/>
            <a:ext cx="7467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ata Interpre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28600" y="1371600"/>
            <a:ext cx="8573760" cy="5157720"/>
            <a:chOff x="228600" y="1371600"/>
            <a:chExt cx="8573760" cy="5157720"/>
          </a:xfrm>
        </p:grpSpPr>
        <p:graphicFrame>
          <p:nvGraphicFramePr>
            <p:cNvPr id="119" name=""/>
            <p:cNvGraphicFramePr/>
            <p:nvPr/>
          </p:nvGraphicFramePr>
          <p:xfrm>
            <a:off x="228600" y="1371600"/>
            <a:ext cx="8183880" cy="4703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371600"/>
                      <a:ext cx="8183880" cy="4703400"/>
                    </a:xfrm>
                    <a:prstGeom prst="rect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1" name=""/>
            <p:cNvSpPr/>
            <p:nvPr/>
          </p:nvSpPr>
          <p:spPr>
            <a:xfrm>
              <a:off x="1291320" y="4408920"/>
              <a:ext cx="1913040" cy="1067040"/>
            </a:xfrm>
            <a:prstGeom prst="ellipse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92600" y="3506040"/>
              <a:ext cx="1913040" cy="1066680"/>
            </a:xfrm>
            <a:prstGeom prst="ellipse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03720" y="5886720"/>
              <a:ext cx="3826080" cy="642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Arial"/>
                </a:rPr>
                <a:t>County RA rate is significantly higher than state r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30160" y="4901760"/>
              <a:ext cx="3472200" cy="916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Arial"/>
                </a:rPr>
                <a:t>County RA rate is significantly lower than state r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30160" y="4080600"/>
              <a:ext cx="1204200" cy="9032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83120" y="5148000"/>
              <a:ext cx="1204560" cy="9028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609480" y="304920"/>
            <a:ext cx="8331120" cy="6291360"/>
            <a:chOff x="609480" y="304920"/>
            <a:chExt cx="8331120" cy="6291360"/>
          </a:xfrm>
        </p:grpSpPr>
        <p:graphicFrame>
          <p:nvGraphicFramePr>
            <p:cNvPr id="128" name=""/>
            <p:cNvGraphicFramePr/>
            <p:nvPr/>
          </p:nvGraphicFramePr>
          <p:xfrm>
            <a:off x="609480" y="1752480"/>
            <a:ext cx="8263800" cy="4202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1752480"/>
                      <a:ext cx="8263800" cy="4202280"/>
                    </a:xfrm>
                    <a:prstGeom prst="rect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30" name="PlaceHolder 1"/>
            <p:cNvSpPr>
              <a:spLocks noGrp="1"/>
            </p:cNvSpPr>
            <p:nvPr>
              <p:ph type="title"/>
            </p:nvPr>
          </p:nvSpPr>
          <p:spPr>
            <a:xfrm>
              <a:off x="1354680" y="304920"/>
              <a:ext cx="7247520" cy="87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360" rIns="90360" tIns="44280" bIns="44280" anchor="b">
              <a:noAutofit/>
            </a:bodyPr>
            <a:p>
              <a:pPr indent="0" algn="ctr">
                <a:lnSpc>
                  <a:spcPct val="9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 Data Interpretation</a:t>
              </a: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7160" y="2438280"/>
              <a:ext cx="3386520" cy="99072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22000" y="2286000"/>
              <a:ext cx="1828800" cy="393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465120" indent="-46512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QI Nam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83000" y="1752480"/>
              <a:ext cx="3657600" cy="1308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465120" indent="-46512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Potential cost savings if number of admissions were reduced by specified percenta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02800" y="2971800"/>
              <a:ext cx="4334760" cy="121932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7111440" y="2666880"/>
              <a:ext cx="541800" cy="3812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7160" y="3429000"/>
              <a:ext cx="3996000" cy="99072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15560" y="5410080"/>
              <a:ext cx="4470480" cy="1186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465120" indent="-46512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Arial"/>
                </a:rPr>
                <a:t>County name (all counties listed), average cost of admission for QI specified, total number of cases, and total cos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896480" y="4495680"/>
              <a:ext cx="27072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ere to Download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wnload the PHC mapping tool (SAS and Windows versions) and all technical documentation a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www.qualityindicators.ahrq.gov/mappingtool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echnical Suppor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have technical questions of any kind while using the PHC tool, contact the QI team 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Support@qualityindicators.ahrq.gov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888-512-60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9343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15840" y="1847880"/>
            <a:ext cx="731376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ta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lanie Chansky</a:t>
            </a:r>
            <a:br>
              <a:rPr sz="4000"/>
            </a:br>
            <a:r>
              <a:rPr b="0" lang="en-US" sz="40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chanskym@battelle.org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03-248-165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696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HRQ Quality Indicators (Q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46612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existing hospital discharge data, based on readily available data 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te severity adjustment methods (APR-DRGs, comorbidity groupings and hierarchical model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ve modules: Inpatient, Patient Safety, Prevention, Pediatric, and Neona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eventable Hospitalization Costs: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County-Level Mapping Too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9930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HC tool is a new QI software application designed to help organizations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ter understand geographical patterns of potentially preventable hospital admission rates for selected health probl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cate resources more effectively by calculating potential cost savings if admission rates are reduc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in Functions of the PHC Too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3000" indent="-4230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eation of ma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show the rates of hospital admission for selected health problems on a county-by-county basi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lculation of potential cost saving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may occur if the number of hospital admissions for selected health problems in each county is reduced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bility to place additional information about local populations onto ma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indicate the number of persons who are at greatest risk for those health problems in each county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96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t processes all Prevention QIs...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600200"/>
          <a:ext cx="8229600" cy="46893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1  Diabetes Short-term Complications Admission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2  Perforated Appendix Admission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3  Diabetes Long-term Complications Admission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5  Chronic Obstructive Pulmonary Disease Admission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7  Hypertension Admission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8  Congestive Heart Failure Admission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9  Low Birth Weight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10  Dehydration Admission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11  Bacterial Pneumonia Admission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12  Urinary Tract Infection Admission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13  Angina without Procedure Admission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14  Uncontrolled Diabetes Admission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15  Adult Asthma Admission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16  Lower-extremity Amputation Rate among Diabetic Pati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228600" y="649116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There is no longer a PQI 4 and PQI 6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nd all </a:t>
            </a: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area-level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Pediatric QI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600200"/>
          <a:ext cx="8229600" cy="15937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17320">
                <a:tc>
                  <a:txBody>
                    <a:bodyPr lIns="90000" rIns="90000" tIns="27360" bIns="2736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DI 14  Asthma Admission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273960">
                <a:tc>
                  <a:txBody>
                    <a:bodyPr lIns="90000" rIns="90000" tIns="27360" bIns="2736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DI 15  Diabetes Short-term Complications Admission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273960">
                <a:tc>
                  <a:txBody>
                    <a:bodyPr lIns="90000" rIns="90000" tIns="27360" bIns="2736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DI 16  Gastroenteritis Admission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273960">
                <a:tc>
                  <a:txBody>
                    <a:bodyPr lIns="90000" rIns="90000" tIns="27360" bIns="2736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DI 17  Perforated Appendix Admission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273960">
                <a:tc>
                  <a:txBody>
                    <a:bodyPr lIns="90000" rIns="90000" tIns="27360" bIns="2736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DI 18  Urinary Tract Infection Admission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09120" y="1523520"/>
            <a:ext cx="816156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alculate area rates it was necessary to have access to the state and county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ftware produces observed and risk-adjusted rates for all PQIs and PD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converted to r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es expressed either per 100 population and per 10,000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5120" y="304920"/>
            <a:ext cx="86788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Applying the Q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486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8229240" cy="6315840"/>
            <a:chOff x="0" y="0"/>
            <a:chExt cx="8229240" cy="6315840"/>
          </a:xfrm>
        </p:grpSpPr>
        <p:sp>
          <p:nvSpPr>
            <p:cNvPr id="103" name=""/>
            <p:cNvSpPr/>
            <p:nvPr/>
          </p:nvSpPr>
          <p:spPr>
            <a:xfrm>
              <a:off x="334080" y="0"/>
              <a:ext cx="7895160" cy="94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Map Interpretation - Examp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04" name=""/>
            <p:cNvGraphicFramePr/>
            <p:nvPr/>
          </p:nvGraphicFramePr>
          <p:xfrm>
            <a:off x="2408400" y="1313640"/>
            <a:ext cx="5285520" cy="1072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08400" y="1313640"/>
                      <a:ext cx="5285520" cy="107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"/>
            <p:cNvSpPr/>
            <p:nvPr/>
          </p:nvSpPr>
          <p:spPr>
            <a:xfrm>
              <a:off x="200520" y="1313640"/>
              <a:ext cx="173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ame of Indicator and Data Year in Map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72040" y="1641600"/>
              <a:ext cx="93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08" name=""/>
            <p:cNvGraphicFramePr/>
            <p:nvPr/>
          </p:nvGraphicFramePr>
          <p:xfrm>
            <a:off x="2207880" y="2298600"/>
            <a:ext cx="5987880" cy="3936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07880" y="2298600"/>
                      <a:ext cx="5987880" cy="393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>
              <a:off x="0" y="2791080"/>
              <a:ext cx="20084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 quintiles.  Green is the lowest 20% or the lowest rates.  Red is the highest 20% or the highest rates.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72560" y="3201480"/>
              <a:ext cx="601920" cy="1067040"/>
            </a:xfrm>
            <a:custGeom>
              <a:avLst/>
              <a:gdLst>
                <a:gd name="textAreaLeft" fmla="*/ 384480 w 601920"/>
                <a:gd name="textAreaRight" fmla="*/ 602280 w 60192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6960" y="4761720"/>
              <a:ext cx="20736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ymbol indicating number of covered beneficiaries, number below is average in the group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38640" y="4925520"/>
              <a:ext cx="1003320" cy="1067040"/>
            </a:xfrm>
            <a:custGeom>
              <a:avLst/>
              <a:gdLst>
                <a:gd name="textAreaLeft" fmla="*/ 641160 w 1003320"/>
                <a:gd name="textAreaRight" fmla="*/ 1003320 w 100332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46520" y="3037680"/>
              <a:ext cx="1739520" cy="1923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unties with high indicator rates and higher number of beneficiar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18040" y="3940560"/>
              <a:ext cx="2408400" cy="24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950720" y="3940560"/>
              <a:ext cx="2743200" cy="57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8:07:59Z</dcterms:created>
  <dc:creator>Marybeth</dc:creator>
  <dc:description/>
  <dc:language>en-US</dc:language>
  <cp:lastModifiedBy>Caroline Pang</cp:lastModifiedBy>
  <dcterms:modified xsi:type="dcterms:W3CDTF">2008-01-14T14:23:33Z</dcterms:modified>
  <cp:revision>20</cp:revision>
  <dc:subject/>
  <dc:title>Quality Indicators  Mapping Tool (QIMT)</dc:title>
</cp:coreProperties>
</file>