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AD2-4CAA-42C1-935B-564840E4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B55B-53A3-45EF-B221-47976C62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CA8D-624B-41CC-A0DB-634FB146A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B907-5003-4E9F-946B-C7099F622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B6CE-ECDF-406C-B6F1-2BE0ED8D7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E78D-4EF9-4467-A3F8-2AF2658FE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93F2-241A-4EF3-8481-2775C56B3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DE3B-E5D3-4715-882A-062BFF353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B752-DBD3-4153-8558-2B5F3C12D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65B5-BB5F-4FFA-8F8C-C0EBD5D0B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82AC-009F-423E-9AF3-2420B8A03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6C2C-5892-4D78-9EBE-83F594B53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CA57-BD67-48AC-9F8D-AF0754742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6D7F-BC25-4AA8-ACA2-A6A3EB24A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643-701D-475A-AF8B-5DA45CDE2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, M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29240" cy="51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912A-8EE8-4EDB-9D19-7CE46F7E96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4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Map Display Option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overlay population information onto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a second dataset with variables county, sex, age, and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map with stick figures representing the relative size of the population at risk for the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A534-2A93-4CBA-8FB3-155BA6B9D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38E0-513B-4AD0-BB82-E178EBEC11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354B-D951-4E3D-A8A8-25EAF15977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SCII CSV dataset is created regardless of how many QIs were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taset is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ies.cs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C563-276C-420A-BFF7-C060AB72DB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cel Fi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Excel file is created for all PQIs selected, another Excel file is created for all PDIs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are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elected PQI/PDI will have its own worksheet named after the specific QI, e.g., PQI14, PQI1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ame data as CSV file, but is easier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1C76-8DB8-4BC1-AF0D-055DD6BCA6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7672-A59E-4F04-885F-D46C7EA77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20E9-D847-42C2-9BCA-D6334F6EE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993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recommended that users move and/or rename all output files after running the PHC tool because the automatically-generated file names are not specific and files can easily be overwritt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1891-AB4E-40FD-B7AD-8CB579C235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18EF-275E-432A-9237-5E114C9E3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, XP, 2000, or Vis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.NET framework, v2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version 9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urrently available for Ma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0946-1065-4940-9D88-80F48ED083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C4B2-5809-4ECC-936C-511CC6E79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y contact information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lanie Chansky</a:t>
            </a:r>
            <a:br>
              <a:rPr sz="3600"/>
            </a:br>
            <a:r>
              <a:rPr b="1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703-248-1659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0BDD-0F7E-4DF6-88F5-121BFA4640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s Used in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revention Quality Indicators (14 - 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ediatric Quality Indicators (5 – area level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does NOT process any Inpatient Quality Indicators or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5309-146A-4897-8C0A-7BF2A0F9F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vigating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is fairly simple and has only 4 screens. Users navigate through these screens to use the tool. The 4 screen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Discharge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QIs to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play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9781-5DBB-4110-9E26-0B33469A8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reen 1: “Overview”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of the functions of the tool are accomplished using this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shorter version of what is found in the technical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as a resource if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E1AB-7071-4900-B63F-81E042BC9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2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pecify Discharge Dataset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select the hospital discharge data file to be used fo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ate, single year (1995-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manually select state and year from drop-down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screen explanation (also found in technical documentation) explains required file format and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EE7F-F3FF-405B-930D-735844412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9C25-59F6-4D32-829C-E978C9FF4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166B-E1FF-44EC-95A3-EEF46BF35B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3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elect QIs to Proces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elect any or all available QIs to be processed using the user-supplied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QIs and PDIs are located on separate t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last required screen. Users can submit their data and finish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483C-F0FF-4E7F-82D3-7550199F1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Caroline Pang</cp:lastModifiedBy>
  <dcterms:modified xsi:type="dcterms:W3CDTF">2008-01-14T14:24:07Z</dcterms:modified>
  <cp:revision>84</cp:revision>
  <dc:subject/>
  <dc:title>Community Partnerships for Change</dc:title>
</cp:coreProperties>
</file>