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28E-544E-47B4-87C0-900C70BC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a presentation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Academy Health Annual Research Mee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nna Coffey, Thompson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ight McNeil, formerly at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ie Moy,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4038-9622-4667-8828-363D90D3E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54E0-9102-43B6-AF48-ABD6029CB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FB07-2E44-4550-B18E-4F8FEFEB4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A896-236D-473E-A39D-870C086EB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D226-DB77-4685-B417-C8D35B91A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7E6D-5847-4287-81F9-2436B2F00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1C31-FCA6-454B-A586-D77DDAD60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C879-EFA9-4A12-BC9E-E26FFDADB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6D5A-CF8C-4420-B1C9-F29D881CE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1766-C49A-48D2-BA02-02252A556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7364-E8B4-4B68-879A-A30587317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1786-2A02-48DF-99FB-AFE52F5A7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B24F-158A-4080-9FC6-BBDD537C4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5068-65E8-43CE-94BF-A33FEB9C1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hyperlink" Target="http://www.qualityindicators.ahrq.gov/mappingtool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upport@qualityindicators.ahrq.go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nds-on Tool Training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, M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29240" cy="51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D5C8-2BB8-4A55-AEE3-124359F86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4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Map Display Option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overlay population information onto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a second dataset with variables county, sex, age, and 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map with stick figures representing the relative size of the population at risk for the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57A3-E0A0-485C-96DE-C64BB8536D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F3F3-9AD4-4931-BEE9-60BC1F944D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utputs are automatically placed in the folder where your dataset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V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090F-E5DA-4397-9838-303C34E830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ASCII CSV dataset is created regardless of how many QIs were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taset is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mmaries.cs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1DBC-E672-4A23-B58C-C5A200A68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cel Fi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Excel file is created for all PQIs selected, another Excel file is created for all PDIs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are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elected PQI/PDI will have its own worksheet named after the specific QI, e.g., PQI14, PQI1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ame data as CSV file, but is easier to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279E-763E-470D-B1C6-C881B474A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&amp; Excel Files Include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ator count of flagge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ominator count of the at-risk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error of 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county is significantly higher or lower than statewid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st savings associated with a 10% reduction in flagged case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1C8E-C4E3-4A26-8219-2204394A6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maps will be created for each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will be named after the QI, e.g.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opened and manipulated using any graphics program or picture vi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E21A-060B-4107-B9BF-7149D0E11F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993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 recommended that users move and/or rename all output files after running the PHC tool because the automatically-generated file names are not specific and files can easily be overwritt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04B6-13DB-4C17-9A65-60E81276FF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Downlo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the PHC mapping tool (SAS and Windows versions) and all technical documentation a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qualityindicators.ahrq.gov/mappingto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0373-2654-47F1-B225-858BAD2E54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stem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, XP, 2000, or Vis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.NET framework, v2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 version 9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currently available for Ma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266C-E725-4D50-9EA6-C141CB909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technical questions of any kind while using the PHC tool, contact the QI team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upport@qualityindicators.ahrq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512-6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053D-81B7-4B52-A491-6CE3DE31B2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y contact information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lanie Chansky</a:t>
            </a:r>
            <a:br>
              <a:rPr sz="3600"/>
            </a:br>
            <a:r>
              <a:rPr b="1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703-248-1659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DD30-6DD2-40BD-8366-BF57473650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s Used in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revention Quality Indicators (14 - 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ediatric Quality Indicators (5 – area level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does NOT process any Inpatient Quality Indicators or Patient Safety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6398-F99C-426F-9B24-50FAC03A0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vigating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is fairly simple and has only 4 screens. Users navigate through these screens to use the tool. The 4 screen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Discharge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QIs to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play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47E8-3EEB-4961-90DB-4D67521806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reen 1: “Overview”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of the functions of the tool are accomplished using this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a shorter version of what is found in the technical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as a resource if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1874-56F8-4EA5-92E8-BCEF36B14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2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pecify Discharge Dataset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select the hospital discharge data file to be used fo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ate, single year (1995-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manually select state and year from drop-down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screen explanation (also found in technical documentation) explains required file format and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4F00-D7C9-406D-819D-DD2111754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quired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variables must be present in your data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whole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day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d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diagn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C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 diagnostic categ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gnosis related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TCO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unty of patient res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yp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urc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05C0-A744-4FC8-98AE-FD02FD526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tional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variables are optional, but are needed if the user wants the PHC tool to calculate potential cost sav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chg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tal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d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e Inpatient Database hospital identif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1219-DD4C-45DB-9DA5-CC90EFBD0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3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elect QIs to Proces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elect any or all available QIs to be processed using the user-supplied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QIs and PDIs are located on separate t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last required screen. Users can submit their data and finish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F1C-A156-4F9C-81F5-61BCDE304A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Caroline Pang</cp:lastModifiedBy>
  <dcterms:modified xsi:type="dcterms:W3CDTF">2008-01-14T14:24:07Z</dcterms:modified>
  <cp:revision>84</cp:revision>
  <dc:subject/>
  <dc:title>Community Partnerships for Change</dc:title>
</cp:coreProperties>
</file>