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74F-50C2-48FC-B3AE-9A742F05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A60F-B3F3-415E-926E-64CA16984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24E0-5341-4C76-A460-07B8293C1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4EB1-1905-4766-A9FD-66EC8711C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3978-AD75-44EB-87B3-ADFAD08A9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2C32-4916-42E6-A3ED-7D13193C2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F60A-F272-4C9E-ABCB-9E675B2A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E699-4A5D-417A-B063-DD7101ACC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465A-D7C3-4B84-81FD-04F7B92BB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429A-4D6C-4C48-8448-F903B0889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C142-29D2-4AED-B475-2F2EAE0FA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524-35B3-4A19-BD23-5AE6C1E93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411C-C5F1-48AD-A371-001DB5479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5A87-3823-415C-8974-431F3C4B6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y improvement for asthma care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return-on-investment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Smith Carls, M.A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mson Healthcare (Medst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culator fea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examine how the following factors may change financial impact of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included in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benefits are cou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to describe benefits and costs from a third-party payer or society per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6A84-A7C9-4AB4-8DFF-9A7F8CCB5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culator fea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choose the research design to use in estimating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without a control gro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s a benchmark for preliminar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with a control group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expec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ue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800600"/>
            <a:ext cx="1295640" cy="990720"/>
          </a:xfrm>
          <a:prstGeom prst="rightArrow">
            <a:avLst>
              <a:gd name="adj1" fmla="val 50000"/>
              <a:gd name="adj2" fmla="val 3269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6480"/>
            <a:ext cx="6400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calculator in planning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amework of calculator may be useful for evaluating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5DB3-37F5-4669-A43F-7C0388235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in the ROI calcul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343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number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04812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ase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zation or missed work 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514600"/>
            <a:ext cx="12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f the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447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5410080"/>
            <a:ext cx="2827440" cy="9813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267080"/>
            <a:ext cx="22096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952880"/>
            <a:ext cx="914400" cy="346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1981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981080"/>
            <a:ext cx="6933960" cy="3919680"/>
            <a:chOff x="685800" y="1981080"/>
            <a:chExt cx="6933960" cy="3919680"/>
          </a:xfrm>
        </p:grpSpPr>
        <p:grpSp>
          <p:nvGrpSpPr>
            <p:cNvPr id="178" name=""/>
            <p:cNvGrpSpPr/>
            <p:nvPr/>
          </p:nvGrpSpPr>
          <p:grpSpPr>
            <a:xfrm>
              <a:off x="685800" y="5117040"/>
              <a:ext cx="2311200" cy="783720"/>
              <a:chOff x="685800" y="5117040"/>
              <a:chExt cx="2311200" cy="783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85800" y="59007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41400" y="511704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41400" y="511704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997000" y="4332960"/>
              <a:ext cx="1155600" cy="783720"/>
              <a:chOff x="2997000" y="4332960"/>
              <a:chExt cx="1155600" cy="783720"/>
            </a:xfrm>
          </p:grpSpPr>
          <p:sp>
            <p:nvSpPr>
              <p:cNvPr id="183" name=""/>
              <p:cNvSpPr/>
              <p:nvPr/>
            </p:nvSpPr>
            <p:spPr>
              <a:xfrm>
                <a:off x="2997000" y="433296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97000" y="43329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152960" y="3548880"/>
              <a:ext cx="1155600" cy="783720"/>
              <a:chOff x="4152960" y="3548880"/>
              <a:chExt cx="1155600" cy="783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152960" y="35488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960" y="35488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308560" y="2764800"/>
              <a:ext cx="1155600" cy="783720"/>
              <a:chOff x="5308560" y="2764800"/>
              <a:chExt cx="1155600" cy="783720"/>
            </a:xfrm>
          </p:grpSpPr>
          <p:sp>
            <p:nvSpPr>
              <p:cNvPr id="189" name=""/>
              <p:cNvSpPr/>
              <p:nvPr/>
            </p:nvSpPr>
            <p:spPr>
              <a:xfrm>
                <a:off x="5308560" y="276480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08560" y="276480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464160" y="1981080"/>
              <a:ext cx="1155600" cy="783720"/>
              <a:chOff x="6464160" y="1981080"/>
              <a:chExt cx="1155600" cy="783720"/>
            </a:xfrm>
          </p:grpSpPr>
          <p:sp>
            <p:nvSpPr>
              <p:cNvPr id="192" name=""/>
              <p:cNvSpPr/>
              <p:nvPr/>
            </p:nvSpPr>
            <p:spPr>
              <a:xfrm>
                <a:off x="6464160" y="19810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64160" y="19810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94" name=""/>
          <p:cNvCxnSpPr>
            <a:stCxn id="173" idx="1"/>
          </p:cNvCxnSpPr>
          <p:nvPr/>
        </p:nvCxnSpPr>
        <p:spPr>
          <a:xfrm flipH="1">
            <a:off x="2057040" y="4571640"/>
            <a:ext cx="37216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3" idx="1"/>
          </p:cNvCxnSpPr>
          <p:nvPr/>
        </p:nvCxnSpPr>
        <p:spPr>
          <a:xfrm flipH="1">
            <a:off x="3191760" y="4571640"/>
            <a:ext cx="2586600" cy="41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3" idx="1"/>
          </p:cNvCxnSpPr>
          <p:nvPr/>
        </p:nvCxnSpPr>
        <p:spPr>
          <a:xfrm flipH="1" flipV="1">
            <a:off x="4343400" y="4114440"/>
            <a:ext cx="14353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7086600" y="2819520"/>
            <a:ext cx="1735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</p:cNvCxnSpPr>
          <p:nvPr/>
        </p:nvCxnSpPr>
        <p:spPr>
          <a:xfrm flipH="1">
            <a:off x="5333400" y="3123720"/>
            <a:ext cx="1740600" cy="10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99" name=""/>
          <p:cNvCxnSpPr>
            <a:stCxn id="197" idx="1"/>
          </p:cNvCxnSpPr>
          <p:nvPr/>
        </p:nvCxnSpPr>
        <p:spPr>
          <a:xfrm flipH="1" flipV="1">
            <a:off x="6476760" y="2819160"/>
            <a:ext cx="597600" cy="3052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200" name=""/>
          <p:cNvCxnSpPr>
            <a:stCxn id="173" idx="1"/>
          </p:cNvCxnSpPr>
          <p:nvPr/>
        </p:nvCxnSpPr>
        <p:spPr>
          <a:xfrm flipH="1" flipV="1">
            <a:off x="5137920" y="3633480"/>
            <a:ext cx="640440" cy="9388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V="1">
            <a:off x="6019560" y="2971800"/>
            <a:ext cx="1080" cy="144036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6008-7BD9-4CF9-B75D-D8434596AE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4F15-5DCC-42B3-AE50-1F9C9394A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9C74-3E7E-4B10-8E94-DD832137D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24AA-9D07-49B4-A5B5-0646FAD2E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3A3E-203C-41C2-8418-87E3D0CA25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71B6-8EEA-42D3-B1A6-CB57B191F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472B-BD15-4593-927A-B004D76A53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1B7-8D1D-47DF-8EA0-4379DFC7D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470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sthma Care Return-on-Investment calcul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iss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the calculator help evaluate asthma care programs?  What does it prov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calculator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literatur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3211-7568-458F-B115-ECD65C07D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from the literature re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ings are more likely for some populations than others, depending on the component of care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for people wit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istent asth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versus all asthma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ED visits and 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savings on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hospital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r increases in medication costs (so higher sav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D6AF-B8DA-4586-A9FC-E268CA7F71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from the literature re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dica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s (versus other coverage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hospitalizations, outpatient visits,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ED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fo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versus adults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outpatient visits and asthma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ED visits, hospitalizations, and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d stud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wed lower savings than non-controlled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81280" y="5335560"/>
            <a:ext cx="1600200" cy="11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FF32-B25C-4393-94BA-56766F8CC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s from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repor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ram c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ose that did reported a wide range (7 stud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of $395 dollars per patient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of $81 for automated educational mailing to gener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of $989 per year, targeted to highest cost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905120" cy="120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18C0-B12E-4B31-9E0E-92C6528C08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s from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93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reported the impact 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hma med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(10 stud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0400" y="5638680"/>
            <a:ext cx="461880" cy="99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91120" y="5562720"/>
            <a:ext cx="87948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FAD2-9BAA-4496-9FED-BE2A321809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799308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costs due to hospital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medication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127240" cy="1349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3520" y="1447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the key drivers of RO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38080" y="5105520"/>
            <a:ext cx="1524240" cy="1184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657600" y="5181480"/>
            <a:ext cx="461880" cy="990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267080" y="5181480"/>
            <a:ext cx="879480" cy="8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30D9-2344-4E4D-AAE4-88E1F78B7E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1536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can the asthma care calculator do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9930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anc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ct of asthma care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s published evidence fro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2 stud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impact of asthma care programs on use of medical care services and produ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28600"/>
            <a:ext cx="60879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38880" y="55627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BEFF-6421-44CA-BA75-EA7AA539F5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out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im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-on-Trai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ed report available on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s methods, definitions used for the default baselin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studies included in the literature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questions, suggestions and stories about the use of the calculator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Carls (Ginger.Carls@thomson.com)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anna Coffey (Rosanna.Coffey@thomson.c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FF90-6C6D-4C27-8A3C-333D6A0E29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the Asthma Care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 makers and health plans estimate financial returns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, rather clinical and use impact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need to be translated in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 clinical evidence about impacts on utilization with separate cost data to estimate financial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55627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52880" y="56386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6200" y="5791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10A0-6776-4B8A-969C-BE4CAE7D88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: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programs typically follow NAEPP (National Asthma Education and Prevention Program)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edu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7920" y="426708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turn on Investment (ROI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114800"/>
            <a:ext cx="16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81360" y="4518000"/>
            <a:ext cx="141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1320" y="4589640"/>
            <a:ext cx="21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7960" y="511812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$1 break-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5637240"/>
            <a:ext cx="69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 Present Value (NPV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Savings – 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4040" y="609444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$0 break-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561D-E9A6-4158-8D2D-926CC8D56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ground: cost vs. qual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hat improve quality of asthma care may or may not reduce total medical ca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609840" cy="587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8800" y="4343400"/>
            <a:ext cx="685800" cy="941400"/>
          </a:xfrm>
          <a:prstGeom prst="downArrow">
            <a:avLst>
              <a:gd name="adj1" fmla="val 50000"/>
              <a:gd name="adj2" fmla="val 34318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03848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267080"/>
            <a:ext cx="609480" cy="806400"/>
          </a:xfrm>
          <a:prstGeom prst="upArrow">
            <a:avLst>
              <a:gd name="adj1" fmla="val 50000"/>
              <a:gd name="adj2" fmla="val 33077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114800"/>
            <a:ext cx="4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46224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879480" cy="88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15200" y="3809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1295640" cy="100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DD4A-C86A-40E7-9F58-B2E8D1095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ground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am evaluation metho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1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ression to the mea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k patients may get better over time, even without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successful, a program must “beat” the regression to the mea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65760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 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1148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3505320"/>
            <a:ext cx="7300800" cy="2945880"/>
            <a:chOff x="762120" y="3505320"/>
            <a:chExt cx="7300800" cy="2945880"/>
          </a:xfrm>
        </p:grpSpPr>
        <p:sp>
          <p:nvSpPr>
            <p:cNvPr id="130" name=""/>
            <p:cNvSpPr/>
            <p:nvPr/>
          </p:nvSpPr>
          <p:spPr>
            <a:xfrm>
              <a:off x="1676520" y="3505320"/>
              <a:ext cx="28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rogram coh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038480"/>
              <a:ext cx="787320" cy="1166400"/>
            </a:xfrm>
            <a:prstGeom prst="downArrow">
              <a:avLst>
                <a:gd name="adj1" fmla="val 50000"/>
                <a:gd name="adj2" fmla="val 37037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419076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4267080"/>
              <a:ext cx="304920" cy="406080"/>
            </a:xfrm>
            <a:prstGeom prst="downArrow">
              <a:avLst>
                <a:gd name="adj1" fmla="val 50000"/>
                <a:gd name="adj2" fmla="val 33294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4381200" y="3161880"/>
              <a:ext cx="533160" cy="44197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21600 h 4419720"/>
                <a:gd name="textAreaBottom" fmla="*/ 43981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"/>
                    <a:pt x="10800" y="338"/>
                  </a:cubicBezTo>
                  <a:lnTo>
                    <a:pt x="10800" y="10462"/>
                  </a:lnTo>
                  <a:cubicBezTo>
                    <a:pt x="10800" y="10631"/>
                    <a:pt x="16200" y="10800"/>
                    <a:pt x="21600" y="10800"/>
                  </a:cubicBezTo>
                  <a:cubicBezTo>
                    <a:pt x="16200" y="10800"/>
                    <a:pt x="10800" y="10969"/>
                    <a:pt x="10800" y="11138"/>
                  </a:cubicBezTo>
                  <a:lnTo>
                    <a:pt x="10800" y="21262"/>
                  </a:lnTo>
                  <a:cubicBezTo>
                    <a:pt x="10800" y="2143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59436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rue effect of program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571500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8680"/>
              <a:ext cx="685800" cy="685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62120" y="4038480"/>
              <a:ext cx="160020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91320" y="4114800"/>
              <a:ext cx="68580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952880" y="5562360"/>
              <a:ext cx="1143000" cy="88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B364-2AF1-4BB3-947D-D820A1E06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411120"/>
            <a:ext cx="69487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es the calculator work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360" y="175752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72,77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3760" y="3224160"/>
            <a:ext cx="1125720" cy="379440"/>
          </a:xfrm>
          <a:prstGeom prst="rightArrow">
            <a:avLst>
              <a:gd name="adj1" fmla="val 50000"/>
              <a:gd name="adj2" fmla="val 7417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220500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,19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7480" y="3159000"/>
            <a:ext cx="13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1880" y="3351240"/>
            <a:ext cx="40788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30560" y="32418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97640" y="316080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,45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R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5680" y="424008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visit cost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11480" y="3225960"/>
            <a:ext cx="538200" cy="431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34040" y="195732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02080" y="430704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43387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80,30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69000" y="4199040"/>
            <a:ext cx="1073160" cy="680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486400"/>
            <a:ext cx="8439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at for each component asthma-relat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are change in medical care expenditures with 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0866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BC05-2431-4451-8FEF-D6A5DC1D3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es the calculator work?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04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377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7640" indent="-377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7640" indent="-377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E785-EBD2-486A-9D7B-CD84BA467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pulation demograp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(CMS 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 sponsored health insurance (CPS 2003-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employees (BLS 2003-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rge, nationwide, medical claims database (MarketScan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alence 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zation and costs for asthma patie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terature review (52 stud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of asthma care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 to implement asthma care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ly all data used by the model can be changed by the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BF37-C953-4BCD-B853-52EBA3F26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6:30:04Z</dcterms:modified>
  <cp:revision>66</cp:revision>
  <dc:subject/>
  <dc:title>Community Partnerships for Change</dc:title>
</cp:coreProperties>
</file>