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0EC-DFFD-4A3D-A86F-CC942BCC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3D52-1F04-45E4-8B70-3E376FCC9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7CED-C0A1-4493-A7FF-433D8F311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9F45-6766-4617-8FC1-8D3172266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FF5F-5DFE-43E0-B545-BE5020C71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BA41-487C-4660-AB81-8EF80429A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1F7C-2A9F-4B09-8473-B289D405E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4F9D-0A26-4A0C-B546-D05376146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158A-4C30-426E-B93C-3EF842B44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7D30-8AEA-493D-91E9-36BAF2ACA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0C38-1264-4845-BE4A-38E0EBF82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533E-11F9-477F-A257-FD7C9007C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E840-2230-43D7-AC30-E9A513C2D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6646-859F-4750-9CB5-2CA929629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0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lity improvement for asthma care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return-on-investment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nger Smith Carls, M.A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mson Healthcare (Medst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17-18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lculator fea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examine how the following factors may change financial impact of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included in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benefits are cou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gth of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to implement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to describe benefits and costs from a third-party payer or society persp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7C51-0438-4FFB-8735-FED596B07B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lculator feat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lity to choose the research design to use in estimating s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without a control gro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s a benchmark for preliminar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with a control group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expec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ue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800600"/>
            <a:ext cx="1295640" cy="990720"/>
          </a:xfrm>
          <a:prstGeom prst="rightArrow">
            <a:avLst>
              <a:gd name="adj1" fmla="val 50000"/>
              <a:gd name="adj2" fmla="val 3269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416480"/>
            <a:ext cx="6400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calculator in planning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amework of calculator may be useful for evaluating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F3B5-E956-4C14-8A01-3B9A3E6A50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7057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in the ROI calcul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3434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number of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3048120"/>
            <a:ext cx="14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aselin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zation or missed work 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514600"/>
            <a:ext cx="12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mpac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of the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1447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5410080"/>
            <a:ext cx="2827440" cy="9813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267080"/>
            <a:ext cx="22096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4952880"/>
            <a:ext cx="914400" cy="346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19810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5257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5800" y="1981080"/>
            <a:ext cx="6933960" cy="3919680"/>
            <a:chOff x="685800" y="1981080"/>
            <a:chExt cx="6933960" cy="3919680"/>
          </a:xfrm>
        </p:grpSpPr>
        <p:grpSp>
          <p:nvGrpSpPr>
            <p:cNvPr id="178" name=""/>
            <p:cNvGrpSpPr/>
            <p:nvPr/>
          </p:nvGrpSpPr>
          <p:grpSpPr>
            <a:xfrm>
              <a:off x="685800" y="5117040"/>
              <a:ext cx="2311200" cy="783720"/>
              <a:chOff x="685800" y="5117040"/>
              <a:chExt cx="2311200" cy="783720"/>
            </a:xfrm>
          </p:grpSpPr>
          <p:sp>
            <p:nvSpPr>
              <p:cNvPr id="179" name=""/>
              <p:cNvSpPr/>
              <p:nvPr/>
            </p:nvSpPr>
            <p:spPr>
              <a:xfrm>
                <a:off x="685800" y="59007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41400" y="511704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841400" y="511704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997000" y="4332960"/>
              <a:ext cx="1155600" cy="783720"/>
              <a:chOff x="2997000" y="4332960"/>
              <a:chExt cx="1155600" cy="783720"/>
            </a:xfrm>
          </p:grpSpPr>
          <p:sp>
            <p:nvSpPr>
              <p:cNvPr id="183" name=""/>
              <p:cNvSpPr/>
              <p:nvPr/>
            </p:nvSpPr>
            <p:spPr>
              <a:xfrm>
                <a:off x="2997000" y="433296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97000" y="43329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152960" y="3548880"/>
              <a:ext cx="1155600" cy="783720"/>
              <a:chOff x="4152960" y="3548880"/>
              <a:chExt cx="1155600" cy="783720"/>
            </a:xfrm>
          </p:grpSpPr>
          <p:sp>
            <p:nvSpPr>
              <p:cNvPr id="186" name=""/>
              <p:cNvSpPr/>
              <p:nvPr/>
            </p:nvSpPr>
            <p:spPr>
              <a:xfrm>
                <a:off x="4152960" y="35488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52960" y="35488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308560" y="2764800"/>
              <a:ext cx="1155600" cy="783720"/>
              <a:chOff x="5308560" y="2764800"/>
              <a:chExt cx="1155600" cy="783720"/>
            </a:xfrm>
          </p:grpSpPr>
          <p:sp>
            <p:nvSpPr>
              <p:cNvPr id="189" name=""/>
              <p:cNvSpPr/>
              <p:nvPr/>
            </p:nvSpPr>
            <p:spPr>
              <a:xfrm>
                <a:off x="5308560" y="276480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08560" y="276480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464160" y="1981080"/>
              <a:ext cx="1155600" cy="783720"/>
              <a:chOff x="6464160" y="1981080"/>
              <a:chExt cx="1155600" cy="783720"/>
            </a:xfrm>
          </p:grpSpPr>
          <p:sp>
            <p:nvSpPr>
              <p:cNvPr id="192" name=""/>
              <p:cNvSpPr/>
              <p:nvPr/>
            </p:nvSpPr>
            <p:spPr>
              <a:xfrm>
                <a:off x="6464160" y="19810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64160" y="19810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94" name=""/>
          <p:cNvCxnSpPr>
            <a:stCxn id="173" idx="1"/>
          </p:cNvCxnSpPr>
          <p:nvPr/>
        </p:nvCxnSpPr>
        <p:spPr>
          <a:xfrm flipH="1">
            <a:off x="2057040" y="4571640"/>
            <a:ext cx="3721680" cy="1067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73" idx="1"/>
          </p:cNvCxnSpPr>
          <p:nvPr/>
        </p:nvCxnSpPr>
        <p:spPr>
          <a:xfrm flipH="1">
            <a:off x="3191760" y="4571640"/>
            <a:ext cx="2586600" cy="41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73" idx="1"/>
          </p:cNvCxnSpPr>
          <p:nvPr/>
        </p:nvCxnSpPr>
        <p:spPr>
          <a:xfrm flipH="1" flipV="1">
            <a:off x="4343400" y="4114440"/>
            <a:ext cx="14353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7086600" y="2819520"/>
            <a:ext cx="1735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7" idx="1"/>
          </p:cNvCxnSpPr>
          <p:nvPr/>
        </p:nvCxnSpPr>
        <p:spPr>
          <a:xfrm flipH="1">
            <a:off x="5333400" y="3123720"/>
            <a:ext cx="1740600" cy="10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99" name=""/>
          <p:cNvCxnSpPr>
            <a:stCxn id="197" idx="1"/>
          </p:cNvCxnSpPr>
          <p:nvPr/>
        </p:nvCxnSpPr>
        <p:spPr>
          <a:xfrm flipH="1" flipV="1">
            <a:off x="6476760" y="2819160"/>
            <a:ext cx="597600" cy="3052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200" name=""/>
          <p:cNvCxnSpPr>
            <a:stCxn id="173" idx="1"/>
          </p:cNvCxnSpPr>
          <p:nvPr/>
        </p:nvCxnSpPr>
        <p:spPr>
          <a:xfrm flipH="1" flipV="1">
            <a:off x="5137920" y="3633480"/>
            <a:ext cx="640440" cy="9388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V="1">
            <a:off x="6019560" y="2971800"/>
            <a:ext cx="1080" cy="144036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99072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0A9B-8976-43B3-A1C7-281B0666D9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AD9B-4B34-4B2F-94D4-774097D034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35A0-2277-4FCE-869F-BA5F7D866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915C-4362-410D-915E-AB08AA15E0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E355-2910-4BF9-A162-49BE40CC17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0FA6-62D4-40FC-98D4-6AE8037DDB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5A7A-A33E-4F12-854A-DFCA461D48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A441-6388-4F35-9219-A73F2FEFA0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47000" cy="41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sthma Care Return-on-Investment calcul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issu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the calculator help evaluate asthma care programs?  What does it provi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calculator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literatur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5437-D6B4-4EDF-A8A9-238B2D6CA7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 from the literature review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ings are more likely for some populations than others, depending on the component of care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for people wit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sistent asth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versus all asthma) h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avings on ED visits and 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savings on missed work/school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savings on hospital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r increases in medication costs (so higher sav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6618-9665-409B-928D-FBC1B58069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705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 from the literature review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dicai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s (versus other coverage) h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avings on hospitalizations, outpatient visits, missed work/school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savings on ED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for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ild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versus adults) h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avings on outpatient visits and asthma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savings on ED visits, hospitalizations, and missed work/school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d stud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owed lower savings than non-controlled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581280" y="5335560"/>
            <a:ext cx="1600200" cy="11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47B3-8DBC-4377-B372-EC16E20CE7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s from 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udies report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gram c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ose that did reported a wide range (7 stud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of $395 dollars per patient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of $81 for automated educational mailing to gener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of $989 per year, targeted to highest cost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905120" cy="120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CB61-0C00-46D5-8E4B-9026713B3E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s from 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93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udies reported the impact 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hma medic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(10 stud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0400" y="5638680"/>
            <a:ext cx="461880" cy="99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191120" y="5562720"/>
            <a:ext cx="87948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376D-FD92-44D8-A68E-CCC6A704A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7993080" cy="111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costs due to hospital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medication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to implement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2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72200" y="5029200"/>
            <a:ext cx="2127240" cy="1349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33520" y="1447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the key drivers of RO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38080" y="5105520"/>
            <a:ext cx="1524240" cy="1184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657600" y="5181480"/>
            <a:ext cx="461880" cy="990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4267080" y="5181480"/>
            <a:ext cx="879480" cy="8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56D5-0077-4B0C-9853-BC62631EEB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15364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can the asthma care calculator do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9930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ec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nanc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act of asthma care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s published evidence fro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2 stud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impact of asthma care programs on use of medical care services and produ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28600"/>
            <a:ext cx="60879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238880" y="55627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7769-8C18-46D1-9566-29B39DE6FE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out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im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s-on-Trai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ed report available on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s methods, definitions used for the default baselin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studies included in the literature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questions, suggestions and stories about the use of the calculator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nger Carls (Ginger.Carls@thomson.com)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sanna Coffey (Rosanna.Coffey@thomson.c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F158-1005-4523-B4E1-818C908D8E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the Asthma Care ROI Calculato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state policy makers and health plans estimate financial returns asthma quality improvement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evelop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tudies don’t address financial impact, rather clinical and use impact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or use impacts need to be translated into costs or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re estimates genera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 clinical evidence about impacts on utilization with separate cost data to estimate financial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14600" y="55627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52880" y="56386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86200" y="5791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697E-8AC1-44EC-80B2-653C16C99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: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programs typically follow NAEPP (National Asthma Education and Prevention Program)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edu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7920" y="4267080"/>
            <a:ext cx="39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turn on Investment (ROI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4114800"/>
            <a:ext cx="16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81360" y="4518000"/>
            <a:ext cx="141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1320" y="4589640"/>
            <a:ext cx="21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7960" y="511812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$1 break-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5637240"/>
            <a:ext cx="69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 Present Value (NPV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Savings – Program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34040" y="609444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= $0 break-e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1782-0EB0-4C87-9328-51B1F92A4E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ckground: cost vs. qual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that improve quality of asthma care may or may not reduce total medical car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609840" cy="587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28800" y="4343400"/>
            <a:ext cx="685800" cy="941400"/>
          </a:xfrm>
          <a:prstGeom prst="downArrow">
            <a:avLst>
              <a:gd name="adj1" fmla="val 50000"/>
              <a:gd name="adj2" fmla="val 34318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038480"/>
            <a:ext cx="6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267080"/>
            <a:ext cx="609480" cy="806400"/>
          </a:xfrm>
          <a:prstGeom prst="upArrow">
            <a:avLst>
              <a:gd name="adj1" fmla="val 50000"/>
              <a:gd name="adj2" fmla="val 33077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114800"/>
            <a:ext cx="4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462240" cy="99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879480" cy="88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15200" y="3809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1295640" cy="100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841F-A750-4AC4-98FB-5EED429A2E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ckground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am evaluation metho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16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ression to the mea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ck patients may get better over time, even without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successful, a program must “beat” the regression to the mean b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65760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 Co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1148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3505320"/>
            <a:ext cx="7300800" cy="2945880"/>
            <a:chOff x="762120" y="3505320"/>
            <a:chExt cx="7300800" cy="2945880"/>
          </a:xfrm>
        </p:grpSpPr>
        <p:sp>
          <p:nvSpPr>
            <p:cNvPr id="130" name=""/>
            <p:cNvSpPr/>
            <p:nvPr/>
          </p:nvSpPr>
          <p:spPr>
            <a:xfrm>
              <a:off x="1676520" y="3505320"/>
              <a:ext cx="286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rogram coh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4600" y="4038480"/>
              <a:ext cx="787320" cy="1166400"/>
            </a:xfrm>
            <a:prstGeom prst="downArrow">
              <a:avLst>
                <a:gd name="adj1" fmla="val 50000"/>
                <a:gd name="adj2" fmla="val 37037"/>
              </a:avLst>
            </a:prstGeom>
            <a:solidFill>
              <a:srgbClr val="fafd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419076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60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4267080"/>
              <a:ext cx="304920" cy="406080"/>
            </a:xfrm>
            <a:prstGeom prst="downArrow">
              <a:avLst>
                <a:gd name="adj1" fmla="val 50000"/>
                <a:gd name="adj2" fmla="val 33294"/>
              </a:avLst>
            </a:prstGeom>
            <a:solidFill>
              <a:srgbClr val="fafd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4381200" y="3161880"/>
              <a:ext cx="533160" cy="441972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21600 h 4419720"/>
                <a:gd name="textAreaBottom" fmla="*/ 43981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"/>
                    <a:pt x="10800" y="338"/>
                  </a:cubicBezTo>
                  <a:lnTo>
                    <a:pt x="10800" y="10462"/>
                  </a:lnTo>
                  <a:cubicBezTo>
                    <a:pt x="10800" y="10631"/>
                    <a:pt x="16200" y="10800"/>
                    <a:pt x="21600" y="10800"/>
                  </a:cubicBezTo>
                  <a:cubicBezTo>
                    <a:pt x="16200" y="10800"/>
                    <a:pt x="10800" y="10969"/>
                    <a:pt x="10800" y="11138"/>
                  </a:cubicBezTo>
                  <a:lnTo>
                    <a:pt x="10800" y="21262"/>
                  </a:lnTo>
                  <a:cubicBezTo>
                    <a:pt x="10800" y="2143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59436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rue effect of program 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571500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40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8680"/>
              <a:ext cx="685800" cy="685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62120" y="4038480"/>
              <a:ext cx="1600200" cy="12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791320" y="4114800"/>
              <a:ext cx="685800" cy="53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4952880" y="5562360"/>
              <a:ext cx="1143000" cy="88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D88E-9BCE-405B-9BD6-8114280161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411120"/>
            <a:ext cx="69487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es the calculator work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3360" y="1757520"/>
            <a:ext cx="354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72,77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cipants who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D visits per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33760" y="3224160"/>
            <a:ext cx="1125720" cy="379440"/>
          </a:xfrm>
          <a:prstGeom prst="rightArrow">
            <a:avLst>
              <a:gd name="adj1" fmla="val 50000"/>
              <a:gd name="adj2" fmla="val 7417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7640" y="220500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,19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nual visits to 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7480" y="3159000"/>
            <a:ext cx="13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thma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1880" y="3351240"/>
            <a:ext cx="407880" cy="266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30560" y="32418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97640" y="316080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5,45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isits to ER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5680" y="424008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visit costs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11480" y="3225960"/>
            <a:ext cx="538200" cy="431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334040" y="195732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02080" y="430704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7240" y="433872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$480,30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69000" y="4199040"/>
            <a:ext cx="1073160" cy="680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486400"/>
            <a:ext cx="8439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peat for each component asthma-relate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pare change in medical care expenditures with program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086600" y="1447920"/>
            <a:ext cx="1017720" cy="7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8E3A-88B4-460C-BE08-2A32F9958F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0866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es the calculator work? 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8404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377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7640" indent="-377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-related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departm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7640" indent="-377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ity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9760" indent="-330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school or work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48FB-8610-4086-BC1B-3C7CF277A8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pulation demograph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id (CMS 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r sponsored health insurance (CPS 2003-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employees (BLS 2003-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rge, nationwide, medical claims database (MarketScan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T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alence 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zation and costs for asthma patie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terature review (52 stud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act of asthma care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t to implement asthma care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ly all data used by the model can be changed by the 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D7FA-08AE-4D21-BA3F-5378346455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Hilary Kennedy</cp:lastModifiedBy>
  <dcterms:modified xsi:type="dcterms:W3CDTF">2008-01-08T16:30:04Z</dcterms:modified>
  <cp:revision>66</cp:revision>
  <dc:subject/>
  <dc:title>Community Partnerships for Change</dc:title>
</cp:coreProperties>
</file>