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244E-577F-4B8B-BBF2-3AA03053E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8EF6-2C96-4CEA-9F9B-79066260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F443-E7A6-4275-985D-0716422DD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B371-CEB8-460A-AEF6-22F4AE1B1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CF8E-51BF-414E-B21F-958DA4231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59CE-DAB4-4FE2-9EDC-F36DBAA64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303A-CACD-4ED6-8DAF-99C02EE64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76BA-8E73-4BDE-A627-084E24E2D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3543-D002-4AAB-8DA2-271966E1A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052-728B-464C-ABA2-67D9EB619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A5ED-67A8-4B22-A071-58B10C703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19B3-5162-4120-ADE1-FE2E6911D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30E4-2E59-466C-9F86-32D708DCF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nds-on-Training: Potential uses of the Asthma Care ROI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nger Smith Carls, M.A., Rosanna M. Coffey, Ph.D. , Ronald J. Ozminkowski, Ph.D., Karen Ho, M.S., Mika Nagamine, Ph.D., Katheryn Ry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64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C642-C8B2-40F4-87B2-05FB1D3ACB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nning Exampl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calculator to estimate impact of program on Medicaid budg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orecast budget impact of proposed asthma car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tained from Medicaid clai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thma prevalence rates (from Medicaid clai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tilization of medical care services (from Medicaid clai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tained from pilot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 in utilization rates, but impact on medications and ancillary services not avail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year planning horiz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 costs $100 a year for each person that particip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i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of Medical care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 of program on medical costs and ancillary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FB91-5B1D-437D-B6D9-A784B4ADB7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ning 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nges to each page of the calc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 (Arizona this examp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 to adjust age, gender and race since using own prevalence r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ults and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rity – persistent asth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number eligible based on own data (10,0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icipation rate (6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cost perspective to program /plan (exclude patient paym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 visits for asthma: 0.5 per year per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pital stays for asthma: 0.1 per year per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atient (office visits) for asthma: .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gram Impact from pilot study  (used a control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0182-7F04-4C60-955C-063FB21A2E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24C5-FC6F-4798-93E0-3715BD252F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F830-2BEC-4BBC-A399-03F74B12A4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valuation Example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 calculator to guide or compa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lan evaluation of asthma intervention and monitor impact before and after evaluation fin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 comprehensive evalu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l components captured? (Inpatient, emergency, outpatient, medication, ancillary te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ime horizon of expected program costs and retur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uture benefits and costs evaluated on a discounted (equalized) time horiz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productivity gains assigned financial retur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nitor impact of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results without a control group – compare to studies without a control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d results in – compare to controlled stud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studies that evaluated same type of inter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164-0C19-480C-B37D-DEC7E5B0B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6:30:35Z</dcterms:modified>
  <cp:revision>67</cp:revision>
  <dc:subject/>
  <dc:title>Community Partnerships for Change</dc:title>
</cp:coreProperties>
</file>