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1F27-0BCB-410F-9878-85287F0ED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E422-E28D-49F4-BE8B-2A14F78C8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BA35-C306-4D26-8529-940C78670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D271-A795-4EB2-BFF9-B32466CAB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B66B-14F2-43D6-87A5-1A7383101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3253-2811-4E66-B0E2-0A815F82B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2884-44D7-4CA8-955B-72EB6C15C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177F-4C3F-40B3-8DC5-2C564E348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0FDE-8CC2-41A6-9032-83F69BBF6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9002-777E-4297-A684-BEF940446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E8E0-4D9E-4F66-BD65-EE7139F98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7458-225A-4DD0-AE89-C1FCB4E02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FFEA-E637-49A6-88D4-D17342B47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nds-on-Training: Potential uses of the Asthma Care ROI calculato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nger Smith Carls, M.A., Rosanna M. Coffey, Ph.D. , Ronald J. Ozminkowski, Ph.D., Karen Ho, M.S., Mika Nagamine, Ph.D., Katheryn Ry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7-18,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Healthcare Quality Improvement Workshop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s You Can Use to Make a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644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AFA6-1BAB-46BD-B98B-3D593C430C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lanning Example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calculator to estimate impact of program on Medicaid budge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orecast budget impact of proposed asthma car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ta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tained from Medicaid clai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thma prevalence rates (from Medicaid clai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tilization of medical care services (from Medicaid clai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tained from pilot stu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nge in utilization rates, but impact on medications and ancillary services not avail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 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year planning horiz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 costs $100 a year for each person that particip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issing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 of Medical care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 of program on medical costs and ancillary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A95F-375D-4268-B04A-0E7454FB7E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nning Examp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nges to each page of the calcul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dic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e (Arizona this examp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need to adjust age, gender and race since using own prevalence r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ticip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ults and Childr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rity – persistent asth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nge number eligible based on own data (10,00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ticipation rate (60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sel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nge cost perspective to program /plan (exclude patient paymen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D visits for asthma: 0.5 per year per pat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spital stays for asthma: 0.1 per year per pat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patient (office visits) for asthma: .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gram Impact from pilot study  (used a control grou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4227-C260-4C89-A6CC-B13D36B38F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8FCF-56B0-4D8F-9291-54BD51BBFD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EEBB-0F30-42C7-8161-2EA34DC010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valuation Example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e calculator to guide or compa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lan evaluation of asthma intervention and monitor impact before and after evaluation finish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lnSpc>
                <a:spcPct val="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n comprehensive evalu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all components captured? (Inpatient, emergency, outpatient, medication, ancillary tes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ime horizon of expected program costs and retur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future benefits and costs evaluated on a discounted (equalized) time horiz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productivity gains assigned financial retur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lnSpc>
                <a:spcPct val="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nitor impact of 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results without a control group – compare to studies without a control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d results in – compare to controlled stud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studies that evaluated same type of inter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12FA-82E5-4019-BC94-1B3C08C64A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Hilary Kennedy</cp:lastModifiedBy>
  <dcterms:modified xsi:type="dcterms:W3CDTF">2008-01-08T16:30:35Z</dcterms:modified>
  <cp:revision>67</cp:revision>
  <dc:subject/>
  <dc:title>Community Partnerships for Change</dc:title>
</cp:coreProperties>
</file>