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1.png" ContentType="image/png"/>
  <Override PartName="/ppt/media/image6.wmf" ContentType="image/x-wmf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5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6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7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E8D1C3-F164-4A2E-83CB-C1ACA6EFA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4B706B-4ED3-4A2C-A54F-DA63BCC4B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89EF1D-A367-46D2-8E30-5B9DAF589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897C11-5BC5-4711-9B61-BEFD833E4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5E2A8E-3A34-47BF-BE2B-60A2B43A4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65B92C-D8B3-4FF2-B340-9C729547C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AEAA8E-D595-4436-874F-3A509F1D8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43DDF1-5C58-492B-87EA-AE01FF87D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9FF17C-9F3A-41D2-8595-48BA581DE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B13455-2BE8-4D07-AEF0-14C08338C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A49EE9-30FE-4EED-9E22-E1F1E5D35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6CA84-F404-493E-BAFA-1A1A446177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7F01D-DE43-4B2A-98DE-8063CC380B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E0C84-EEA0-49DE-92F1-80CEBBDDAE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8E30A-5DB7-4980-870C-735F5C71E2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D7CED-A054-4243-B8C3-80BF4CE115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06A99-7962-477F-BD6B-11067A0E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F8372-41FD-4C35-A23F-C6034A1A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4EEFE-4F52-4B4B-BA0B-B03B7183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155E5-8B94-4278-8F56-BAA219D1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7503A-67AD-46A5-8414-50094E3F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30BFB-1593-4AAE-B491-1EA9B3D5341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C958F-87F1-4269-8CCA-AC1B761D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BE752-2A0A-4F7D-B96C-75C96F9A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C0136-F0C9-496A-B28B-F2897119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F6139-0D85-449B-B44E-81DD4FB3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1D0C0-F89F-4382-B94C-3F469506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2A12E-C9A5-4124-B2E7-1FF711F8B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F8334-CDF4-4B6C-A75E-2F55F3442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51188-CFCD-4CF0-B928-C5C063CB66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30BA8-77CC-46A0-BFE0-C86DD16614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9A18B-7797-4FC6-A778-B7E558AF5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32EBD-13AF-4BB5-BA32-643392AFE9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83490-3E51-42DC-BBD0-A71322AC0E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B0DF0-ADEB-4A31-8F5B-B9DC89B090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BBD7-2299-466D-A8AB-B9B52EA90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6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8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1B0A-2A7A-4D42-A421-496198247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tatesnapshots.ahrq.gov/" TargetMode="External"/><Relationship Id="rId2" Type="http://schemas.openxmlformats.org/officeDocument/2006/relationships/hyperlink" Target="http://www.ahrq.gov/qual/diabqualoc.htm" TargetMode="External"/><Relationship Id="rId3" Type="http://schemas.openxmlformats.org/officeDocument/2006/relationships/hyperlink" Target="http://www.ahrq.gov/qual/diabqualoc.htm" TargetMode="External"/><Relationship Id="rId4" Type="http://schemas.openxmlformats.org/officeDocument/2006/relationships/hyperlink" Target="http://www.ahrq.gov/qual/asthmaqual.htm" TargetMode="External"/><Relationship Id="rId5" Type="http://schemas.openxmlformats.org/officeDocument/2006/relationships/hyperlink" Target="http://www.ahrq.gov/qual/asthmaqual.htm" TargetMode="External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statesnapshots.ahrq.gov/" TargetMode="External"/><Relationship Id="rId2" Type="http://schemas.openxmlformats.org/officeDocument/2006/relationships/hyperlink" Target="http://statesnapshots.ahrq.gov/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ahrq.gov/qual/measurix.htm" TargetMode="External"/><Relationship Id="rId2" Type="http://schemas.openxmlformats.org/officeDocument/2006/relationships/hyperlink" Target="http://www.ahrq.gov/qual/measurix.htm" TargetMode="External"/><Relationship Id="rId3" Type="http://schemas.openxmlformats.org/officeDocument/2006/relationships/hyperlink" Target="mailto:ahrqpubs@ahrq.gov" TargetMode="External"/><Relationship Id="rId4" Type="http://schemas.openxmlformats.org/officeDocument/2006/relationships/hyperlink" Target="mailto:Jeff.Brady@ahrq.hhs.gov" TargetMode="External"/><Relationship Id="rId5" Type="http://schemas.openxmlformats.org/officeDocument/2006/relationships/hyperlink" Target="mailto:Karen.Ho@ahrq.hhs.gov" TargetMode="External"/><Relationship Id="rId6" Type="http://schemas.openxmlformats.org/officeDocument/2006/relationships/hyperlink" Target="mailto:Ernest.Moy@ahrq.hhs.gov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State Snapshots: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tate-based Information </a:t>
            </a:r>
            <a:br>
              <a:rPr sz="3000"/>
            </a:b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rom the </a:t>
            </a:r>
            <a:br>
              <a:rPr sz="3000"/>
            </a:b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tional Healthcare Quality Repor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0" y="43434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 Healthcare Quality Improvement Worksh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nuary 17,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ffrey Brady, MD, MP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er for Quality Improvement and Patient Safety (CQuI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tent and Organization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006 NHQR/NHDR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fective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c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bet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Stage Renal Disease (ESRD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rt Disea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V and AID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ernal and Child Healt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ntal Health and 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rsing Home, Home Health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Hospice C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 Safe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li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 Centered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Access to Health Ca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Priority Popula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1600200"/>
            <a:ext cx="152280" cy="3962520"/>
          </a:xfrm>
          <a:custGeom>
            <a:avLst/>
            <a:gdLst>
              <a:gd name="textAreaLeft" fmla="*/ 0 w 152280"/>
              <a:gd name="textAreaRight" fmla="*/ 55080 w 15228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81680" y="1600200"/>
            <a:ext cx="228600" cy="4800600"/>
          </a:xfrm>
          <a:custGeom>
            <a:avLst/>
            <a:gdLst>
              <a:gd name="textAreaLeft" fmla="*/ 0 w 228600"/>
              <a:gd name="textAreaRight" fmla="*/ 82440 w 228600"/>
              <a:gd name="textAreaTop" fmla="*/ 124920 h 4800600"/>
              <a:gd name="textAreaBottom" fmla="*/ 467568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18600" y="33526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HQ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13880" y="373392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NHD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730E6-3AEC-4628-B579-8C342B1A3B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 rot="8986800">
            <a:off x="5562720" y="2133000"/>
            <a:ext cx="2209680" cy="677880"/>
          </a:xfrm>
          <a:prstGeom prst="rightArrow">
            <a:avLst>
              <a:gd name="adj1" fmla="val 50000"/>
              <a:gd name="adj2" fmla="val 814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2667200">
            <a:off x="5562360" y="3885480"/>
            <a:ext cx="2209680" cy="677880"/>
          </a:xfrm>
          <a:prstGeom prst="rightArrow">
            <a:avLst>
              <a:gd name="adj1" fmla="val 50000"/>
              <a:gd name="adj2" fmla="val 814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20393400">
            <a:off x="1523880" y="3733920"/>
            <a:ext cx="2210040" cy="677880"/>
          </a:xfrm>
          <a:prstGeom prst="rightArrow">
            <a:avLst>
              <a:gd name="adj1" fmla="val 50000"/>
              <a:gd name="adj2" fmla="val 815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561200">
            <a:off x="1523520" y="2133720"/>
            <a:ext cx="2210040" cy="677880"/>
          </a:xfrm>
          <a:prstGeom prst="rightArrow">
            <a:avLst>
              <a:gd name="adj1" fmla="val 50000"/>
              <a:gd name="adj2" fmla="val 815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819960" y="1802880"/>
            <a:ext cx="1753200" cy="2486880"/>
            <a:chOff x="3819960" y="1802880"/>
            <a:chExt cx="1753200" cy="248688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 rot="20850000">
              <a:off x="4319640" y="1904760"/>
              <a:ext cx="1105920" cy="1483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174" name="" descr=""/>
            <p:cNvPicPr/>
            <p:nvPr/>
          </p:nvPicPr>
          <p:blipFill>
            <a:blip r:embed="rId2"/>
            <a:stretch/>
          </p:blipFill>
          <p:spPr>
            <a:xfrm rot="729000">
              <a:off x="3962160" y="2719080"/>
              <a:ext cx="1096920" cy="14713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sp>
        <p:nvSpPr>
          <p:cNvPr id="175" name=""/>
          <p:cNvSpPr/>
          <p:nvPr/>
        </p:nvSpPr>
        <p:spPr>
          <a:xfrm>
            <a:off x="0" y="4311720"/>
            <a:ext cx="4648320" cy="2527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Population sample surve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HRQ – ME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HRQ – CAH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 – BRF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ational Asthma Surv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HA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H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ational Immunization Surve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MS – MCB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RSA – Healthy Schools Healthy Communities User Visit Surv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HPCO – Family Evaluation of Hospice C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HSA – NSDU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Census Bureau – U.S. Cens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19160" y="4494240"/>
            <a:ext cx="3621960" cy="2345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Organizational data system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HRQ – HC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MS – Hospital Comp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MS – Medicare Patient Safety Monitoring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MS – O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MS – Nursing Home Minimum Data S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MS – Q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RN – 2001-20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S – NPI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CQA – HED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H – US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HSA – TED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990720"/>
            <a:ext cx="3962520" cy="124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Provider/facility sample surve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AM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HAM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H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MS – ESRD CPM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SHSC – Community Tracking Study Physician Surv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990720"/>
            <a:ext cx="3352680" cy="124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Surveillance and vital statistic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 – NPC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 – HIV/AIDS Surveillance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 – TB Surveillance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V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H – SE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75160" y="204840"/>
            <a:ext cx="277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24436-3519-49E3-BC84-A6984ACC60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6400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HQR &amp; NHDR Not Enough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2590920"/>
            <a:ext cx="5181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95160" indent="-695160">
              <a:lnSpc>
                <a:spcPct val="100000"/>
              </a:lnSpc>
              <a:spcBef>
                <a:spcPts val="16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tional” policymakers not only audie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95160" indent="-695160">
              <a:lnSpc>
                <a:spcPct val="100000"/>
              </a:lnSpc>
              <a:spcBef>
                <a:spcPts val="16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actice variation across States – important messa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95160" indent="-695160">
              <a:lnSpc>
                <a:spcPct val="100000"/>
              </a:lnSpc>
              <a:spcBef>
                <a:spcPts val="16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HQR data for States spread across many tabl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09640" indent="122400">
              <a:lnSpc>
                <a:spcPct val="100000"/>
              </a:lnSpc>
              <a:spcBef>
                <a:spcPts val="326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dious to ac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09640" indent="122400">
              <a:lnSpc>
                <a:spcPct val="100000"/>
              </a:lnSpc>
              <a:spcBef>
                <a:spcPts val="326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fficult to summariz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1523880"/>
            <a:ext cx="78645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95160" indent="-695160">
              <a:spcBef>
                <a:spcPts val="187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ooks “on a shelf” do not make change happ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257800" y="2438280"/>
            <a:ext cx="3352680" cy="197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85BBF-EFEE-421C-9975-23BFA536A0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6974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 State-led Framework for Quality Improvement: Why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79930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ates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play a strategic role -- designing, leading, and assess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isting models focus on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provid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state-focused model lays out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 leadership rol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e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4952880"/>
            <a:ext cx="2514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State 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95680" y="4800600"/>
            <a:ext cx="228600" cy="685800"/>
          </a:xfrm>
          <a:custGeom>
            <a:avLst/>
            <a:gdLst>
              <a:gd name="textAreaLeft" fmla="*/ 0 w 228600"/>
              <a:gd name="textAreaRight" fmla="*/ 8244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750"/>
                </a:lnTo>
                <a:cubicBezTo>
                  <a:pt x="10800" y="10650"/>
                  <a:pt x="16200" y="11550"/>
                  <a:pt x="21600" y="11550"/>
                </a:cubicBezTo>
                <a:cubicBezTo>
                  <a:pt x="16200" y="11550"/>
                  <a:pt x="10800" y="12450"/>
                  <a:pt x="10800" y="1335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121DD-55CB-4D38-91B4-5071A662D1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897280" y="495288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666240" y="1447920"/>
            <a:ext cx="4940280" cy="372960"/>
            <a:chOff x="3666240" y="1447920"/>
            <a:chExt cx="4940280" cy="372960"/>
          </a:xfrm>
        </p:grpSpPr>
        <p:sp>
          <p:nvSpPr>
            <p:cNvPr id="190" name=""/>
            <p:cNvSpPr/>
            <p:nvPr/>
          </p:nvSpPr>
          <p:spPr>
            <a:xfrm>
              <a:off x="7093800" y="1447920"/>
              <a:ext cx="1512720" cy="368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208"/>
                  </a:solidFill>
                  <a:latin typeface="Arial"/>
                </a:rPr>
                <a:t>Improve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3666240" y="1452600"/>
              <a:ext cx="3420360" cy="368280"/>
              <a:chOff x="3666240" y="1452600"/>
              <a:chExt cx="3420360" cy="368280"/>
            </a:xfrm>
          </p:grpSpPr>
          <p:sp>
            <p:nvSpPr>
              <p:cNvPr id="192" name=""/>
              <p:cNvSpPr/>
              <p:nvPr/>
            </p:nvSpPr>
            <p:spPr>
              <a:xfrm>
                <a:off x="3666240" y="1452600"/>
                <a:ext cx="1306800" cy="368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208"/>
                    </a:solidFill>
                    <a:latin typeface="Arial"/>
                  </a:rPr>
                  <a:t>Leadershi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341680" y="1452600"/>
                <a:ext cx="1346760" cy="368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208"/>
                    </a:solidFill>
                    <a:latin typeface="Arial"/>
                  </a:rPr>
                  <a:t>Partnershi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952880" y="1676520"/>
                <a:ext cx="381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705720" y="1676520"/>
                <a:ext cx="380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5716800" y="18288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2209680"/>
            <a:ext cx="4267080" cy="4267440"/>
          </a:xfrm>
          <a:prstGeom prst="donut">
            <a:avLst>
              <a:gd name="adj" fmla="val 18712"/>
            </a:avLst>
          </a:prstGeom>
          <a:solidFill>
            <a:srgbClr val="ccff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10080" y="3657600"/>
            <a:ext cx="1381320" cy="133992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150040" y="49528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1981080"/>
            <a:ext cx="36259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vide leadershi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create a vi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Work in partnershi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 key stak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Arial"/>
              </a:rPr>
              <a:t>Implement improvem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leading partners to create interventions and assess imp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380880"/>
            <a:ext cx="632448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State-led Framework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14920" y="3002040"/>
            <a:ext cx="2762280" cy="2682720"/>
          </a:xfrm>
          <a:prstGeom prst="donut">
            <a:avLst>
              <a:gd name="adj" fmla="val 25000"/>
            </a:avLst>
          </a:prstGeom>
          <a:solidFill>
            <a:srgbClr val="cce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095880" y="3200040"/>
            <a:ext cx="1828800" cy="12193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3124080"/>
            <a:ext cx="1828800" cy="1295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44000" y="38480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Le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248520" y="4267080"/>
            <a:ext cx="8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Conve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80760" y="426708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Adju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06840" y="2514600"/>
            <a:ext cx="14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Plan the spre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424280" y="4267080"/>
            <a:ext cx="805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Sprea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chan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38120" y="4876920"/>
            <a:ext cx="87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Evalu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781320" y="548640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Meas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77480" y="342900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Desig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92040" y="31240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Comm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28120" y="342900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Strategiz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05360" y="396252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Meas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48520" y="50292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Te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95520" y="457200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Sup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56360" y="4572000"/>
            <a:ext cx="85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Ass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0200" y="4038480"/>
            <a:ext cx="8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Interpr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81480" y="502920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Analyz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6057720" y="2171520"/>
            <a:ext cx="152280" cy="76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1535600">
            <a:off x="8143560" y="4571640"/>
            <a:ext cx="152280" cy="76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20005800">
            <a:off x="4114800" y="5257800"/>
            <a:ext cx="152280" cy="76320"/>
          </a:xfrm>
          <a:prstGeom prst="triangle">
            <a:avLst>
              <a:gd name="adj" fmla="val 531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3902000">
            <a:off x="7277040" y="6019200"/>
            <a:ext cx="152280" cy="76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4200600">
            <a:off x="5562360" y="3048120"/>
            <a:ext cx="152280" cy="759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6927600">
            <a:off x="6590880" y="3085920"/>
            <a:ext cx="152280" cy="76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8606000">
            <a:off x="5234040" y="5410080"/>
            <a:ext cx="152280" cy="759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20719800">
            <a:off x="4667040" y="4571640"/>
            <a:ext cx="152280" cy="76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4865000">
            <a:off x="6681240" y="5486040"/>
            <a:ext cx="152640" cy="76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1535600">
            <a:off x="7324560" y="4724280"/>
            <a:ext cx="152640" cy="76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6034680" y="3634560"/>
            <a:ext cx="152280" cy="74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20433000">
            <a:off x="5386320" y="4533840"/>
            <a:ext cx="152640" cy="76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2232200">
            <a:off x="6662160" y="4552560"/>
            <a:ext cx="152280" cy="76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095880" y="441936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06320" y="385776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Pre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00680" y="3657600"/>
            <a:ext cx="5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Staf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EFD89-D341-4557-9865-A5AE70F71C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7053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HQR/DR Derivative Products for State-led Quality Improvement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1600200"/>
            <a:ext cx="86868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90520" indent="-290520">
              <a:lnSpc>
                <a:spcPct val="80000"/>
              </a:lnSpc>
              <a:spcBef>
                <a:spcPts val="938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Arial"/>
              </a:rPr>
              <a:t>State Snapshots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from the: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22400">
              <a:lnSpc>
                <a:spcPct val="80000"/>
              </a:lnSpc>
              <a:spcBef>
                <a:spcPts val="788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2004 NHQR – print-format on Web for each Stat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22400">
              <a:lnSpc>
                <a:spcPct val="80000"/>
              </a:lnSpc>
              <a:spcBef>
                <a:spcPts val="788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2005 NHQR – interactive-format on Web for each Stat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22400">
              <a:lnSpc>
                <a:spcPct val="80000"/>
              </a:lnSpc>
              <a:spcBef>
                <a:spcPts val="788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Arial"/>
              </a:rPr>
              <a:t>2006 NHQR/NHDR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– refinements (e.g., full content PDF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2240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statesnapshots.ahrq.g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2240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938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iabetes Care Quality Improvement: Guide &amp; Workbook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2240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http://www.ahrq.gov/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3"/>
              </a:rPr>
              <a:t>qual/diabqualoc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938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sthma Care Quality Improvement: Guide &amp; Workbook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2240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4"/>
              </a:rPr>
              <a:t>http://www.ahrq.gov/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5"/>
              </a:rPr>
              <a:t>qual/asthmaqual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thma Care Return on Investment Calcul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224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k Jeff Brady (AHRQ) or Ginger Carls (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2280" y="2590920"/>
            <a:ext cx="685800" cy="561960"/>
          </a:xfrm>
          <a:prstGeom prst="rightArrow">
            <a:avLst>
              <a:gd name="adj1" fmla="val 50000"/>
              <a:gd name="adj2" fmla="val 30509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6FC2E-6A35-4E40-A9CE-AACF15F10A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4674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State Snapshot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3505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1080" indent="-45108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ine State-by-State data from the NHQR and NHD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96800" indent="-33876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site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96800" indent="-33876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96800" indent="-33876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 on managing diabe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657600" y="1905120"/>
            <a:ext cx="5334120" cy="416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7937E-21FF-4470-AC77-F04225A0F2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ample Questions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or the State Snapshot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5280" indent="-39528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Arizona’s healthcare quality overall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oes this compare to other stat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wid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all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52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which areas is Arizona’s healthcare performance the Best?  Worst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52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percentage of Arizonans receive recommended colorectal cancer screening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52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percentage of diabetic patients in Arizona receive recommended monitoring (HbA1c)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isparities exist in HbA1c testing according to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om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ce/ethnicit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098960" y="2322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443DB-98EE-401D-8112-73D6FB5551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ample Questions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or the State Snapshot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5280" indent="-39528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What is Arizona’s healthcare quality overall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How does this compare to other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66"/>
                </a:solidFill>
                <a:latin typeface="Arial"/>
              </a:rPr>
              <a:t>nationwid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66"/>
                </a:solidFill>
                <a:latin typeface="Arial"/>
              </a:rPr>
              <a:t>regionall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52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In which areas is Arizona’s healthcare performance the best?  worst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52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What percentage of Arizonans receive recommended colorectal cancer screening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52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What percentage of diabetic patients in Arizona receive recommended monitoring (HbA1c)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What disparities exist in HbA1c testing according to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66"/>
                </a:solidFill>
                <a:latin typeface="Arial"/>
              </a:rPr>
              <a:t>incom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66"/>
                </a:solidFill>
                <a:latin typeface="Arial"/>
              </a:rPr>
              <a:t>race/ethnicit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520" y="2413080"/>
            <a:ext cx="41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verall Health Care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12760" y="3657600"/>
            <a:ext cx="50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trongest and Weakest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94920" y="4724280"/>
            <a:ext cx="75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l Measures Tabl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re by Clinical Are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23960" y="6248520"/>
            <a:ext cx="51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Focus on Diabet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Quali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ispar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FF2F5-5DA0-457A-84C0-D1F68ACF7F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0102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 Snapshot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posite Measur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58676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mmary measures – a State’s performance compared to their region and the nation for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Available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s of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enti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u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ron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tings of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pi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bulato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rsing Hom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 Healt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648320" y="3581280"/>
            <a:ext cx="3635280" cy="2157480"/>
          </a:xfrm>
          <a:prstGeom prst="rect">
            <a:avLst/>
          </a:prstGeom>
          <a:ln w="0">
            <a:noFill/>
          </a:ln>
        </p:spPr>
      </p:pic>
      <p:cxnSp>
        <p:nvCxnSpPr>
          <p:cNvPr id="255" name=""/>
          <p:cNvCxnSpPr/>
          <p:nvPr/>
        </p:nvCxnSpPr>
        <p:spPr>
          <a:xfrm>
            <a:off x="6171840" y="43430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7417B-9302-44A5-A63C-005D827BF7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7680" indent="-4276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RQ Mission and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Healthcare Quality Report (NHQ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Healthcare Disparities Report (NHD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QR/NHDR – Backgrou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lating Data Into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ate-led Model for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Snapshots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5486400"/>
            <a:ext cx="486000" cy="609480"/>
          </a:xfrm>
          <a:prstGeom prst="downArrow">
            <a:avLst>
              <a:gd name="adj1" fmla="val 50000"/>
              <a:gd name="adj2" fmla="val 31352"/>
            </a:avLst>
          </a:prstGeom>
          <a:solidFill>
            <a:srgbClr val="8cf4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3657600"/>
            <a:ext cx="486000" cy="609480"/>
          </a:xfrm>
          <a:prstGeom prst="downArrow">
            <a:avLst>
              <a:gd name="adj1" fmla="val 50000"/>
              <a:gd name="adj2" fmla="val 31352"/>
            </a:avLst>
          </a:prstGeom>
          <a:solidFill>
            <a:srgbClr val="8cf4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ACB81-DA42-42D4-8065-3781C25C37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80880" y="1523880"/>
            <a:ext cx="4724280" cy="3683160"/>
            <a:chOff x="380880" y="1523880"/>
            <a:chExt cx="4724280" cy="3683160"/>
          </a:xfrm>
        </p:grpSpPr>
        <p:pic>
          <p:nvPicPr>
            <p:cNvPr id="257" name="" descr=""/>
            <p:cNvPicPr/>
            <p:nvPr/>
          </p:nvPicPr>
          <p:blipFill>
            <a:blip r:embed="rId1"/>
            <a:stretch/>
          </p:blipFill>
          <p:spPr>
            <a:xfrm>
              <a:off x="380880" y="1523880"/>
              <a:ext cx="4724280" cy="368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3657240" y="2514600"/>
              <a:ext cx="304920" cy="2286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1447920" y="266760"/>
            <a:ext cx="70102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posite Measures: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ate compared to Region or 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429000" y="2895480"/>
            <a:ext cx="4724280" cy="3683160"/>
            <a:chOff x="3429000" y="2895480"/>
            <a:chExt cx="4724280" cy="3683160"/>
          </a:xfrm>
        </p:grpSpPr>
        <p:pic>
          <p:nvPicPr>
            <p:cNvPr id="261" name="" descr=""/>
            <p:cNvPicPr/>
            <p:nvPr/>
          </p:nvPicPr>
          <p:blipFill>
            <a:blip r:embed="rId2"/>
            <a:stretch/>
          </p:blipFill>
          <p:spPr>
            <a:xfrm>
              <a:off x="3429000" y="2895480"/>
              <a:ext cx="4724280" cy="368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705360" y="3886200"/>
              <a:ext cx="304560" cy="2286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7D0A1-EE7E-44F9-820D-8714237071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 Snapshot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dividual Measur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ve Strongest and Weakest Measures for a State compared to all States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e Rankings for 15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dinal rank on individual measures of each State’s performance out of 51 (States + D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 of all measures for a State and all measures for all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9CD72-264E-42FC-A067-CD679297C5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82880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 Snapshot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 Strongest &amp; Weakest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782040" cy="528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BFA28-5899-44F0-A502-15B927E4E0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 Snapshot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dividual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90720" y="1511280"/>
            <a:ext cx="6858000" cy="534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3083D-1D61-41A9-A029-4075D657D8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 Snapshot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ocus on Diabet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9930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 of care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come of care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parities (by income &amp; race/ethnici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aving costs (for State government employe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477120" y="2209680"/>
            <a:ext cx="1447560" cy="85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68513-9F0E-4A12-B2D6-69A6A3B317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napshot Focus on Diabetes: Dispar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629400" cy="5167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5E7AA-E7D5-407E-9A3E-188A5CCDACF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676520" y="304920"/>
            <a:ext cx="716256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napshots Focus on Diabetes: Lives &amp; $s – State Govt Employ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143000" y="1447920"/>
            <a:ext cx="6781680" cy="5287680"/>
            <a:chOff x="1143000" y="1447920"/>
            <a:chExt cx="6781680" cy="5287680"/>
          </a:xfrm>
        </p:grpSpPr>
        <p:pic>
          <p:nvPicPr>
            <p:cNvPr id="276" name="" descr=""/>
            <p:cNvPicPr/>
            <p:nvPr/>
          </p:nvPicPr>
          <p:blipFill>
            <a:blip r:embed="rId1"/>
            <a:stretch/>
          </p:blipFill>
          <p:spPr>
            <a:xfrm>
              <a:off x="1143000" y="1447920"/>
              <a:ext cx="6781680" cy="52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2971800" y="4343400"/>
              <a:ext cx="609480" cy="15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38880" y="4495680"/>
              <a:ext cx="533520" cy="152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10080" y="4724280"/>
              <a:ext cx="609840" cy="152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15E19-2083-41E5-8DB3-84A8310FEA7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447920" y="228600"/>
            <a:ext cx="72388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napshots Focus on Diabetes:  Excess $s – State Govt Employ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914400" y="1447920"/>
            <a:ext cx="6781680" cy="5287680"/>
            <a:chOff x="914400" y="1447920"/>
            <a:chExt cx="6781680" cy="5287680"/>
          </a:xfrm>
        </p:grpSpPr>
        <p:pic>
          <p:nvPicPr>
            <p:cNvPr id="282" name="" descr=""/>
            <p:cNvPicPr/>
            <p:nvPr/>
          </p:nvPicPr>
          <p:blipFill>
            <a:blip r:embed="rId1"/>
            <a:stretch/>
          </p:blipFill>
          <p:spPr>
            <a:xfrm>
              <a:off x="914400" y="1447920"/>
              <a:ext cx="6781680" cy="52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2057400" y="4038480"/>
              <a:ext cx="457200" cy="200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057400" y="4343400"/>
              <a:ext cx="457200" cy="15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B2163-ED20-4C7A-BC50-180B9D97CB9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543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HRQ State Snapshots &amp;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monwealth Fund State Scoreca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876560" y="1371240"/>
            <a:ext cx="37335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F State Scorecar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eral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ventive Car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age 50+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voidable Hospital Use &amp; Co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qu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lthy Liv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80880" y="1447920"/>
            <a:ext cx="39211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300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HRQ State Snapsh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-360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te Summa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-360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ongest and Weakest Measu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-360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es of C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ventiv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u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ron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-360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ttings of C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spit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mbulato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ursing Hom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me Healt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-360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e by Clinical Are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nce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abet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eart Diseas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ternal and Child Healt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piratory Disea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-360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cus on Diabe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21BED-9E41-4AC5-B169-912C3602269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HRQ State Snapshots &amp;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monwealth Fund State Scoreca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685800" y="1600200"/>
          <a:ext cx="7924680" cy="4876920"/>
        </p:xfrm>
        <a:graphic>
          <a:graphicData uri="http://schemas.openxmlformats.org/drawingml/2006/table">
            <a:tbl>
              <a:tblPr/>
              <a:tblGrid>
                <a:gridCol w="2082960"/>
                <a:gridCol w="2920680"/>
                <a:gridCol w="2921040"/>
              </a:tblGrid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AHRQ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State Snapsho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Commonwealth Fun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State Scorecar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t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9 measur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 measu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en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 Meter Most Recent + Baselin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int in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mparisons: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egional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7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ate Rank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buClr>
                          <a:srgbClr val="ffff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p 5 States fo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composi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buClr>
                          <a:srgbClr val="ffff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States for 1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vidual measu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buClr>
                          <a:srgbClr val="ffff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States fo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composi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buClr>
                          <a:srgbClr val="ffff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States for 3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vidual measu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>
            <a:off x="2666880" y="2971800"/>
            <a:ext cx="3124440" cy="1981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0B454-7C14-41F3-B00A-C64248505AB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HRQ Mission and Nich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676520"/>
            <a:ext cx="47246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sion:  Improve the efficiency, effectiveness, quality, safety, and equity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ealth care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ch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ing knowledge through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seminating the evi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ing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ilitating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3962520"/>
            <a:ext cx="304920" cy="1752480"/>
          </a:xfrm>
          <a:custGeom>
            <a:avLst/>
            <a:gdLst>
              <a:gd name="textAreaLeft" fmla="*/ 0 w 304920"/>
              <a:gd name="textAreaRight" fmla="*/ 110160 w 3049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 rot="20850000">
            <a:off x="6400800" y="2209680"/>
            <a:ext cx="1884240" cy="2438640"/>
          </a:xfrm>
          <a:prstGeom prst="rect">
            <a:avLst/>
          </a:prstGeom>
          <a:ln w="9360">
            <a:solidFill>
              <a:srgbClr val="00279f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729000">
            <a:off x="5714640" y="3580920"/>
            <a:ext cx="1943280" cy="2514600"/>
          </a:xfrm>
          <a:prstGeom prst="rect">
            <a:avLst/>
          </a:prstGeom>
          <a:ln w="9360">
            <a:solidFill>
              <a:srgbClr val="00279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51195-DBB7-4C2B-93C0-CC7FBBA857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te Snapsho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6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statesnapshots.ahrq.go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609480" y="2362320"/>
            <a:ext cx="5334120" cy="4160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5029200" y="2971800"/>
            <a:ext cx="3657600" cy="21733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5029200" y="2971800"/>
            <a:ext cx="3657600" cy="2209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D9A30-68FD-41F3-BB63-34597221181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638360" y="349200"/>
            <a:ext cx="62103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HQR/NHDR Resour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962520"/>
            <a:ext cx="4927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0" y="3962520"/>
            <a:ext cx="4572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8080" y="1600200"/>
            <a:ext cx="7543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www.ahrq.gov/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qual/measurix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est Reports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800-358-929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3"/>
              </a:rPr>
              <a:t>ahrqpubs@ahrq.g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ff Brady, </a:t>
            </a:r>
            <a:r>
              <a:rPr b="0" lang="en-US" sz="1600" spc="-1" strike="noStrike" u="sng">
                <a:solidFill>
                  <a:srgbClr val="fafd00"/>
                </a:solidFill>
                <a:uFillTx/>
                <a:latin typeface="Arial"/>
                <a:hlinkClick r:id="rId4"/>
              </a:rPr>
              <a:t>Jeff.Brady@ahrq.hhs.go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ng Director, National Healthcare Repo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ad Staff, NHQ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ren Ho, </a:t>
            </a:r>
            <a:r>
              <a:rPr b="0" lang="en-US" sz="1600" spc="-1" strike="noStrike" u="sng">
                <a:solidFill>
                  <a:srgbClr val="fafd00"/>
                </a:solidFill>
                <a:uFillTx/>
                <a:latin typeface="Arial"/>
                <a:hlinkClick r:id="rId5"/>
              </a:rPr>
              <a:t>Karen.Ho@ahrq.hhs.go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ad Staff, NHD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nest Moy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afd00"/>
                </a:solidFill>
                <a:uFillTx/>
                <a:latin typeface="Arial"/>
                <a:hlinkClick r:id="rId6"/>
              </a:rPr>
              <a:t>Ernest.Moy@ahrq.hhs.go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QR/NHDR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A7B1B-C198-47E3-A0E4-82DB57153E0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1452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rigin of the NHQR / NHDR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2820600"/>
            <a:ext cx="48434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3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eginning in fiscal year 2003, the Secretary, acting through the Director, shall submit to Congress </a:t>
            </a: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an annual report on national trends in the quality of health care provided to the American peopl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3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o track “</a:t>
            </a: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prevailing disparities in health care delivery as it relates to racial factors and socioeconomic factors in priority population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5920" y="1371600"/>
            <a:ext cx="4795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ndated by Congre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n Healthcare Research and Quality Act (PL. 106-12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2870280" cy="4343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598CD-B438-4595-BD30-DD8AA094C2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38080" y="1638360"/>
            <a:ext cx="4033800" cy="5219640"/>
          </a:xfrm>
          <a:prstGeom prst="rect">
            <a:avLst/>
          </a:prstGeom>
          <a:ln w="9360">
            <a:solidFill>
              <a:srgbClr val="00279f"/>
            </a:solidFill>
            <a:miter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520" y="34308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006 National Healthcare Quality and Disparities Repor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435480" y="1447920"/>
            <a:ext cx="4032000" cy="5219640"/>
          </a:xfrm>
          <a:prstGeom prst="rect">
            <a:avLst/>
          </a:prstGeom>
          <a:ln w="9360">
            <a:solidFill>
              <a:srgbClr val="00279f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400800" y="1752480"/>
            <a:ext cx="2362320" cy="94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Released Jan 11,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914F8-E3AB-4743-9E3A-BA5A0D1D5C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y Are These Reports Useful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320760" indent="-320760">
              <a:lnSpc>
                <a:spcPct val="7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ational overview of healthcare 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3560" indent="-27360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 core (211 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measures of quality in NHQ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3560" indent="-27360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eal “biggest gap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7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ap with information about healthcare quality in key are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7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ass on where we are head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3560" indent="-27360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nds (National and State) from 1994 for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7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eacon for measure alignment across public and private quality initi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76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13BE1-CDDA-442E-A69F-73F1EDFF7AE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ow the NHQR and NHDR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re Related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33520" y="1676520"/>
          <a:ext cx="8305560" cy="4601880"/>
        </p:xfrm>
        <a:graphic>
          <a:graphicData uri="http://schemas.openxmlformats.org/drawingml/2006/table">
            <a:tbl>
              <a:tblPr/>
              <a:tblGrid>
                <a:gridCol w="4190760"/>
                <a:gridCol w="411480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HQ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HD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of health care in Amer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arities in health care in America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+ Acce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veness, Patient Safety, Timeliness,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ient Centeredne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Equ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tion across time &amp; State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tion across time &amp; populat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F7910-E959-47AD-B6C2-46183B62E0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asure Types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006 NHQR / NHDR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easures (NHQR-211; NHDR- 250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Measures (NHQR- 42; NHDR- 22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site Measures (13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ng Measur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, Breast Cancer, 2005 &amp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n Cancer, 2006 (screening &amp; mortali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 &amp; Outcome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1FE60-0114-47F6-8122-ED7DF942F4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asure Types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006 NHQR / NHDR (cont’d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ing of C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pit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bulato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rsing Home/Home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ges of C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ying health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ting bett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ing with illness or dis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ng with the end of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030CC-02D6-4204-9FD6-34FA256827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2:52:04Z</dcterms:created>
  <dc:creator>USER</dc:creator>
  <dc:description/>
  <dc:language>en-US</dc:language>
  <cp:lastModifiedBy>william.hyde</cp:lastModifiedBy>
  <dcterms:modified xsi:type="dcterms:W3CDTF">2009-03-14T02:45:12Z</dcterms:modified>
  <cp:revision>90</cp:revision>
  <dc:subject/>
  <dc:title>Community Partnerships for Change</dc:title>
</cp:coreProperties>
</file>