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png" ContentType="image/png"/>
  <Override PartName="/ppt/media/image6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5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7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83FCFF-EAB3-4750-AB0C-5E0D86C1A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8D7A33-0F9D-4191-AD95-6103EC98C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74C491-BF64-4168-80A1-E7E0D7496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A9149A-32A8-45F6-94C9-7FA1AA176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1B3E19-DB83-4D03-A402-2E43A2B5B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0A0CFC-D7DA-4402-81A3-EBAD681F1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CC3FEF-5318-40AB-84F1-82C7B2197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6D36E1-443D-4008-82A2-A9ECAC4C6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C4F0D5-2DE6-4079-9BED-839328D4C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09635D-EEFF-442A-8706-97830DC18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D04621-F3DB-4313-AD51-CA05FFB52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28D94-A2BB-4998-91C2-F62B61D50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CEA47-1DC8-41B4-9725-38DBA8A61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8B181-021E-418C-A05B-04FC8E449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73B2-770E-4C97-91DF-C50937D64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D2F7-8B38-450B-9054-59CE8027E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15098-D06E-4EA7-80E0-00D5A0BA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9F9C3-9206-4EEB-8388-1916EDD9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31BCB-4B3A-440B-9034-ADC7542E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8EE95-3AB1-4CF0-8990-DEF159CD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0DB04-071A-4685-8A71-F71F853B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D86A4-E94A-4869-9500-F8790D28C7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69866-7C30-4FEF-9D78-7626CCB3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7CD6D-E4C8-4ECA-87CE-E4ABF78B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3ACEC-AED5-4CC7-AB2D-B0548A6C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183EB-BFE9-4188-B58F-E7111D5F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68B8D-7BB7-4703-8A3D-4B060C7C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5A250-E131-4511-9722-D48800D7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478EA-4D99-4A87-8B2D-44FEB476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9EF0-69B0-45C8-93A8-C4FA42813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3FD4-808A-40DC-BC57-264E2997A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E931-C1BE-492D-BC22-4AB79BC49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7CF8-FC0F-47CA-9472-4633F1AEF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DE8B-E953-4621-AD29-EC452E9CF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DA5F-91AE-4430-9844-AFB021B5C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5B1A-5550-4399-B679-4A39C1044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A393-07FC-4BCB-9DD2-6C1E6CA83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tatesnapshots.ahrq.gov/" TargetMode="External"/><Relationship Id="rId2" Type="http://schemas.openxmlformats.org/officeDocument/2006/relationships/hyperlink" Target="http://www.ahrq.gov/qual/diabqualoc.htm" TargetMode="External"/><Relationship Id="rId3" Type="http://schemas.openxmlformats.org/officeDocument/2006/relationships/hyperlink" Target="http://www.ahrq.gov/qual/diabqualoc.htm" TargetMode="External"/><Relationship Id="rId4" Type="http://schemas.openxmlformats.org/officeDocument/2006/relationships/hyperlink" Target="http://www.ahrq.gov/qual/asthmaqual.htm" TargetMode="External"/><Relationship Id="rId5" Type="http://schemas.openxmlformats.org/officeDocument/2006/relationships/hyperlink" Target="http://www.ahrq.gov/qual/asthmaqual.htm" TargetMode="Externa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tatesnapshots.ahrq.gov/" TargetMode="External"/><Relationship Id="rId2" Type="http://schemas.openxmlformats.org/officeDocument/2006/relationships/hyperlink" Target="http://statesnapshots.ahrq.gov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ahrq.gov/qual/measurix.htm" TargetMode="External"/><Relationship Id="rId2" Type="http://schemas.openxmlformats.org/officeDocument/2006/relationships/hyperlink" Target="http://www.ahrq.gov/qual/measurix.htm" TargetMode="External"/><Relationship Id="rId3" Type="http://schemas.openxmlformats.org/officeDocument/2006/relationships/hyperlink" Target="mailto:ahrqpubs@ahrq.gov" TargetMode="External"/><Relationship Id="rId4" Type="http://schemas.openxmlformats.org/officeDocument/2006/relationships/hyperlink" Target="mailto:Jeff.Brady@ahrq.hhs.gov" TargetMode="External"/><Relationship Id="rId5" Type="http://schemas.openxmlformats.org/officeDocument/2006/relationships/hyperlink" Target="mailto:Karen.Ho@ahrq.hhs.gov" TargetMode="External"/><Relationship Id="rId6" Type="http://schemas.openxmlformats.org/officeDocument/2006/relationships/hyperlink" Target="mailto:Ernest.Moy@ahrq.hhs.gov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State Snapshots: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ate-based Information 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rom the 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tional Healthcare Quality Repor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Healthcare Quality Improvement 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uary 17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ffrey Brady, MD, MP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er for Quality Improvement and Patient Safety (CQuI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tent and Organization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6 NHQR/NHDR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ive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c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be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tage Renal Disease (ESR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rt Disea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V and AI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nal and Child Heal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tal Health and 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rsing Home, Home Health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Hospice 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li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Centered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ccess to Health C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Priority Popul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1600200"/>
            <a:ext cx="152280" cy="3962520"/>
          </a:xfrm>
          <a:custGeom>
            <a:avLst/>
            <a:gdLst>
              <a:gd name="textAreaLeft" fmla="*/ 0 w 152280"/>
              <a:gd name="textAreaRight" fmla="*/ 55080 w 15228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1600200"/>
            <a:ext cx="228600" cy="4800600"/>
          </a:xfrm>
          <a:custGeom>
            <a:avLst/>
            <a:gdLst>
              <a:gd name="textAreaLeft" fmla="*/ 0 w 228600"/>
              <a:gd name="textAreaRight" fmla="*/ 82440 w 22860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8600" y="33526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HQ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13880" y="373392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HD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9F06-3A0D-43C6-8171-AD0F125693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 rot="8986800">
            <a:off x="5562720" y="2133000"/>
            <a:ext cx="2209680" cy="677880"/>
          </a:xfrm>
          <a:prstGeom prst="rightArrow">
            <a:avLst>
              <a:gd name="adj1" fmla="val 50000"/>
              <a:gd name="adj2" fmla="val 814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2667200">
            <a:off x="5562360" y="3885480"/>
            <a:ext cx="2209680" cy="677880"/>
          </a:xfrm>
          <a:prstGeom prst="rightArrow">
            <a:avLst>
              <a:gd name="adj1" fmla="val 50000"/>
              <a:gd name="adj2" fmla="val 814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393400">
            <a:off x="1523880" y="3733920"/>
            <a:ext cx="2210040" cy="677880"/>
          </a:xfrm>
          <a:prstGeom prst="rightArrow">
            <a:avLst>
              <a:gd name="adj1" fmla="val 50000"/>
              <a:gd name="adj2" fmla="val 815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561200">
            <a:off x="1523520" y="2133720"/>
            <a:ext cx="2210040" cy="677880"/>
          </a:xfrm>
          <a:prstGeom prst="rightArrow">
            <a:avLst>
              <a:gd name="adj1" fmla="val 50000"/>
              <a:gd name="adj2" fmla="val 815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819960" y="1802880"/>
            <a:ext cx="1753200" cy="2486880"/>
            <a:chOff x="3819960" y="1802880"/>
            <a:chExt cx="1753200" cy="248688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 rot="20850000">
              <a:off x="4319640" y="1904760"/>
              <a:ext cx="1105920" cy="1483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 rot="729000">
              <a:off x="3962160" y="2719080"/>
              <a:ext cx="1096920" cy="14713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175" name=""/>
          <p:cNvSpPr/>
          <p:nvPr/>
        </p:nvSpPr>
        <p:spPr>
          <a:xfrm>
            <a:off x="0" y="4311720"/>
            <a:ext cx="4648320" cy="252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opulation sample surve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HRQ – ME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HRQ – CAH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BRF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ational Asthma Surv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ational Immunization Surve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MC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RSA – Healthy Schools Healthy Communities User Visit Surv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HPCO – Family Evaluation of Hospice 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HSA – NSDU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Census Bureau – U.S. Cens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19160" y="4494240"/>
            <a:ext cx="3621960" cy="234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Organizational data system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HRQ – HC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Hospital Comp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Medicare Patient Safety Monitoring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O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Nursing Home Minimum Data S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Q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RN – 2001-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S – NP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CQA – HED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H – US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HSA – TED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90720"/>
            <a:ext cx="3962520" cy="124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rovider/facility sample surve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AM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AM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ESRD CPM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SHSC – Community Tracking Study Physician Surv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990720"/>
            <a:ext cx="3352680" cy="124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urveillance and vital statistic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NPC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HIV/AIDS Surveillanc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TB Surveillanc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V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H – SE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75160" y="204840"/>
            <a:ext cx="27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44F4E-F389-4C86-9A99-4DEA10DF4D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6400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HQR &amp; NHDR Not Enough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2590920"/>
            <a:ext cx="5181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95160" indent="-695160"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tional” policymakers not only audie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95160" indent="-695160"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actice variation across States – important mess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95160" indent="-695160"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HQR data for States spread across many tabl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9640" indent="122400">
              <a:lnSpc>
                <a:spcPct val="100000"/>
              </a:lnSpc>
              <a:spcBef>
                <a:spcPts val="326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dious to ac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9640" indent="122400">
              <a:lnSpc>
                <a:spcPct val="100000"/>
              </a:lnSpc>
              <a:spcBef>
                <a:spcPts val="326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icult to summari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523880"/>
            <a:ext cx="78645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95160" indent="-695160">
              <a:spcBef>
                <a:spcPts val="187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ooks “on a shelf” do not make change h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352680" cy="19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C8561-C01A-4921-A424-F9EACA0B37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State-led Framework for Quality Improvement: Why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te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lay a strategic role -- designing, leading, and asses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isting models focus on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provid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state-focused model lays ou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 leadership ro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e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4952880"/>
            <a:ext cx="2514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State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480060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50"/>
                </a:lnTo>
                <a:cubicBezTo>
                  <a:pt x="10800" y="10650"/>
                  <a:pt x="16200" y="11550"/>
                  <a:pt x="21600" y="11550"/>
                </a:cubicBezTo>
                <a:cubicBezTo>
                  <a:pt x="16200" y="11550"/>
                  <a:pt x="10800" y="12450"/>
                  <a:pt x="10800" y="133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0AAE-CD15-4B85-903E-A3BD5629D1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897280" y="49528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666240" y="1447920"/>
            <a:ext cx="4940280" cy="372960"/>
            <a:chOff x="3666240" y="1447920"/>
            <a:chExt cx="4940280" cy="372960"/>
          </a:xfrm>
        </p:grpSpPr>
        <p:sp>
          <p:nvSpPr>
            <p:cNvPr id="190" name=""/>
            <p:cNvSpPr/>
            <p:nvPr/>
          </p:nvSpPr>
          <p:spPr>
            <a:xfrm>
              <a:off x="7093800" y="1447920"/>
              <a:ext cx="1512720" cy="368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208"/>
                  </a:solidFill>
                  <a:latin typeface="Arial"/>
                </a:rPr>
                <a:t>Improve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666240" y="1452600"/>
              <a:ext cx="3420360" cy="368280"/>
              <a:chOff x="3666240" y="1452600"/>
              <a:chExt cx="3420360" cy="368280"/>
            </a:xfrm>
          </p:grpSpPr>
          <p:sp>
            <p:nvSpPr>
              <p:cNvPr id="192" name=""/>
              <p:cNvSpPr/>
              <p:nvPr/>
            </p:nvSpPr>
            <p:spPr>
              <a:xfrm>
                <a:off x="3666240" y="1452600"/>
                <a:ext cx="1306800" cy="368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208"/>
                    </a:solidFill>
                    <a:latin typeface="Arial"/>
                  </a:rPr>
                  <a:t>Leadersh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341680" y="1452600"/>
                <a:ext cx="1346760" cy="368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208"/>
                    </a:solidFill>
                    <a:latin typeface="Arial"/>
                  </a:rPr>
                  <a:t>Partnersh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952880" y="1676520"/>
                <a:ext cx="38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05720" y="167652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5716800" y="1828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2209680"/>
            <a:ext cx="4267080" cy="4267440"/>
          </a:xfrm>
          <a:prstGeom prst="donut">
            <a:avLst>
              <a:gd name="adj" fmla="val 18712"/>
            </a:avLst>
          </a:prstGeom>
          <a:solidFill>
            <a:srgbClr val="ccff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3657600"/>
            <a:ext cx="1381320" cy="133992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150040" y="49528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981080"/>
            <a:ext cx="3625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vide leadersh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create a 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Work in partnersh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key stak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Implement improvem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leading partners to create interventions and assess imp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380880"/>
            <a:ext cx="63244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State-led Framework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14920" y="3002040"/>
            <a:ext cx="2762280" cy="268272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095880" y="3200040"/>
            <a:ext cx="1828800" cy="1219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124080"/>
            <a:ext cx="1828800" cy="1295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44000" y="3848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Le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48520" y="426708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Conve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80760" y="426708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Adju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06840" y="251460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Plan the spre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24280" y="4267080"/>
            <a:ext cx="80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Sprea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38120" y="487692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Evalu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81320" y="548640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Meas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77480" y="342900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2040" y="31240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Comm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28120" y="342900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Strategiz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05360" y="396252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Meas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50292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Te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5520" y="45720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56360" y="4572000"/>
            <a:ext cx="85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Ass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0200" y="4038480"/>
            <a:ext cx="8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Interpr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50292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Analyz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6057720" y="217152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1535600">
            <a:off x="8143560" y="457164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20005800">
            <a:off x="4114800" y="5257800"/>
            <a:ext cx="152280" cy="76320"/>
          </a:xfrm>
          <a:prstGeom prst="triangle">
            <a:avLst>
              <a:gd name="adj" fmla="val 531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3902000">
            <a:off x="7277040" y="601920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4200600">
            <a:off x="5562360" y="3048120"/>
            <a:ext cx="152280" cy="75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6927600">
            <a:off x="6590880" y="308592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606000">
            <a:off x="5234040" y="5410080"/>
            <a:ext cx="152280" cy="75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20719800">
            <a:off x="4667040" y="457164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4865000">
            <a:off x="6681240" y="5486040"/>
            <a:ext cx="15264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1535600">
            <a:off x="7324560" y="4724280"/>
            <a:ext cx="15264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6034680" y="3634560"/>
            <a:ext cx="152280" cy="74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20433000">
            <a:off x="5386320" y="4533840"/>
            <a:ext cx="15264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2232200">
            <a:off x="6662160" y="455256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095880" y="441936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06320" y="385776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Pre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00680" y="3657600"/>
            <a:ext cx="5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Staf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11C1-BD2B-45CC-BDAC-B8F3FA37E4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053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HQR/DR Derivative Products for State-led Quality Improvement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90520" indent="-290520">
              <a:lnSpc>
                <a:spcPct val="8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Arial"/>
              </a:rPr>
              <a:t>State Snapshots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from the: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004 NHQR – print-format on Web for each Sta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005 NHQR – interactive-format on Web for each Sta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2006 NHQR/NHD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– refinements (e.g., full content PDF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statesnapshots.ahrq.g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iabetes Care Quality Improvement: Guide &amp; Workbook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http://www.ahrq.gov/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qual/diabqualoc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sthma Care Quality Improvement: Guide &amp; Workbook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http://www.ahrq.gov/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5"/>
              </a:rPr>
              <a:t>qual/asthmaqual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hma Care Return on Investment Calcu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k Jeff Brady (AHRQ) or Ginger Carls (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2590920"/>
            <a:ext cx="685800" cy="561960"/>
          </a:xfrm>
          <a:prstGeom prst="rightArrow">
            <a:avLst>
              <a:gd name="adj1" fmla="val 50000"/>
              <a:gd name="adj2" fmla="val 3050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81FE-949F-408F-96F7-FD243538CF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State Snapsho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3505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1080" indent="-451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State-by-State data from the NHQR and NHD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96800" indent="-3387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t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96800" indent="-3387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96800" indent="-3387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managing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5334120" cy="416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7076-5C45-4128-BAA8-4830193FAC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ple Question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r the State Snapsho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rizona’s healthcare quality overall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es this compare to other stat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wid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al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which areas is Arizona’s healthcare performance the Best?  Worst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percentage of Arizonans receive recommended colorectal cancer screening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percentage of diabetic patients in Arizona receive recommended monitoring (HbA1c)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isparities exist in HbA1c testing according to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om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ce/ethnicit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098960" y="2322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DE94-44F0-4CAF-8707-88D2D232B0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ple Question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r the State Snapsho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What is Arizona’s healthcare quality overall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How does this compare to other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66"/>
                </a:solidFill>
                <a:latin typeface="Arial"/>
              </a:rPr>
              <a:t>nationwid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66"/>
                </a:solidFill>
                <a:latin typeface="Arial"/>
              </a:rPr>
              <a:t>regional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In which areas is Arizona’s healthcare performance the best?  worst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What percentage of Arizonans receive recommended colorectal cancer screening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What percentage of diabetic patients in Arizona receive recommended monitoring (HbA1c)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What disparities exist in HbA1c testing according to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66"/>
                </a:solidFill>
                <a:latin typeface="Arial"/>
              </a:rPr>
              <a:t>incom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66"/>
                </a:solidFill>
                <a:latin typeface="Arial"/>
              </a:rPr>
              <a:t>race/ethnicit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520" y="241308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verall Health Care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12760" y="3657600"/>
            <a:ext cx="50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rongest and Weakes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94920" y="4724280"/>
            <a:ext cx="75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l Measures Tab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re by Clinical Are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23960" y="6248520"/>
            <a:ext cx="51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ocus on Diabet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Qu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ispar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59C0-3B5F-42CC-A7DF-6D89716099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osite Meas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58676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mmary measures – a State’s performance compared to their region and the nation fo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vailabl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of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on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ings of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bulato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rsing H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648320" y="3581280"/>
            <a:ext cx="3635280" cy="2157480"/>
          </a:xfrm>
          <a:prstGeom prst="rect">
            <a:avLst/>
          </a:prstGeom>
          <a:ln w="0">
            <a:noFill/>
          </a:ln>
        </p:spPr>
      </p:pic>
      <p:cxnSp>
        <p:nvCxnSpPr>
          <p:cNvPr id="255" name=""/>
          <p:cNvCxnSpPr/>
          <p:nvPr/>
        </p:nvCxnSpPr>
        <p:spPr>
          <a:xfrm>
            <a:off x="6171840" y="43430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9E73-346E-4A6C-8CBF-A08FE08B1F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Mission and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Healthcare Quality Report (NHQ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Healthcare Disparities Report (NHD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QR/NHDR – Backgrou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ing Data Into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ate-led Model for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Snapshots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5486400"/>
            <a:ext cx="486000" cy="609480"/>
          </a:xfrm>
          <a:prstGeom prst="downArrow">
            <a:avLst>
              <a:gd name="adj1" fmla="val 50000"/>
              <a:gd name="adj2" fmla="val 31352"/>
            </a:avLst>
          </a:prstGeom>
          <a:solidFill>
            <a:srgbClr val="8cf4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3657600"/>
            <a:ext cx="486000" cy="609480"/>
          </a:xfrm>
          <a:prstGeom prst="downArrow">
            <a:avLst>
              <a:gd name="adj1" fmla="val 50000"/>
              <a:gd name="adj2" fmla="val 31352"/>
            </a:avLst>
          </a:prstGeom>
          <a:solidFill>
            <a:srgbClr val="8cf4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98A7-6144-4D88-A87D-1118ED8289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80880" y="1523880"/>
            <a:ext cx="4724280" cy="3683160"/>
            <a:chOff x="380880" y="1523880"/>
            <a:chExt cx="4724280" cy="3683160"/>
          </a:xfrm>
        </p:grpSpPr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>
              <a:off x="380880" y="1523880"/>
              <a:ext cx="4724280" cy="368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3657240" y="2514600"/>
              <a:ext cx="304920" cy="228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447920" y="266760"/>
            <a:ext cx="70102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osite Measures: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ate compared to Region or 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429000" y="2895480"/>
            <a:ext cx="4724280" cy="3683160"/>
            <a:chOff x="3429000" y="2895480"/>
            <a:chExt cx="4724280" cy="3683160"/>
          </a:xfrm>
        </p:grpSpPr>
        <p:pic>
          <p:nvPicPr>
            <p:cNvPr id="261" name="" descr=""/>
            <p:cNvPicPr/>
            <p:nvPr/>
          </p:nvPicPr>
          <p:blipFill>
            <a:blip r:embed="rId2"/>
            <a:stretch/>
          </p:blipFill>
          <p:spPr>
            <a:xfrm>
              <a:off x="3429000" y="2895480"/>
              <a:ext cx="4724280" cy="368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705360" y="3886200"/>
              <a:ext cx="304560" cy="228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2928-7D26-45CE-9F66-4121951E73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dividual Meas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ve Strongest and Weakest Measures for a State compared to all States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 Rankings for 15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dinal rank on individual measures of each State’s performance out of 51 (States + D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 of all measures for a State and all measures for all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33FF-DD45-448F-8597-F2B73AEB20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82880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 Strongest &amp; Weakest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782040" cy="528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56F7-023B-4AD0-B0C3-82C7780183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dividual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90720" y="1511280"/>
            <a:ext cx="6858000" cy="534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8568-7261-4099-9F2D-74FDA5430A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cus on Diabet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of car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 of car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parities (by income &amp; race/ethnic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ving costs (for State government employe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477120" y="2209680"/>
            <a:ext cx="1447560" cy="85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8A5B-4C97-4D17-AA34-CC77C90BE5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pshot Focus on Diabetes: Dispa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629400" cy="516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B884-2D2D-4796-BB13-15C3BF037C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676520" y="304920"/>
            <a:ext cx="716256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pshots Focus on Diabetes: Lives &amp; $s – State Govt Employ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143000" y="1447920"/>
            <a:ext cx="6781680" cy="5287680"/>
            <a:chOff x="1143000" y="1447920"/>
            <a:chExt cx="6781680" cy="528768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1143000" y="1447920"/>
              <a:ext cx="6781680" cy="52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2971800" y="4343400"/>
              <a:ext cx="609480" cy="15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8880" y="4495680"/>
              <a:ext cx="53352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4724280"/>
              <a:ext cx="60984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5199-1D82-48B8-8EE9-21DB847E5F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447920" y="228600"/>
            <a:ext cx="72388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pshots Focus on Diabetes:  Excess $s – State Govt Employ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14400" y="1447920"/>
            <a:ext cx="6781680" cy="5287680"/>
            <a:chOff x="914400" y="1447920"/>
            <a:chExt cx="6781680" cy="5287680"/>
          </a:xfrm>
        </p:grpSpPr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914400" y="1447920"/>
              <a:ext cx="6781680" cy="52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057400" y="4038480"/>
              <a:ext cx="457200" cy="200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57400" y="4343400"/>
              <a:ext cx="457200" cy="15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B58F-F4AA-4134-BEEA-EC09452661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HRQ State Snapshots &amp;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monwealth Fund State Scoreca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76560" y="1371240"/>
            <a:ext cx="37335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F State Scorecar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al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ventive Ca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age 50+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oidable Hospital Use &amp; Co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lthy Liv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0880" y="1447920"/>
            <a:ext cx="39211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HRQ State Snapsh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 Summ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ongest and Weakest Measu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es of 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ventiv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u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ron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tings of 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spit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mbulato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ursing Hom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me Healt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e by Clinical Are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nce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abet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art Diseas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ternal and Child Healt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piratory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cus on Diabe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6480-63A0-46DE-9E3B-7A3836DDB0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HRQ State Snapshots &amp;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monwealth Fund State Scoreca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85800" y="1600200"/>
          <a:ext cx="7924680" cy="4876920"/>
        </p:xfrm>
        <a:graphic>
          <a:graphicData uri="http://schemas.openxmlformats.org/drawingml/2006/table">
            <a:tbl>
              <a:tblPr/>
              <a:tblGrid>
                <a:gridCol w="2082960"/>
                <a:gridCol w="2920680"/>
                <a:gridCol w="2921040"/>
              </a:tblGrid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AHRQ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tate Snapsho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Commonwealth Fun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tate Scorecar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t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 measu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measu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 Meter Most Recent + Baselin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int in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arisons: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giona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ate Rank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buClr>
                          <a:srgbClr val="ffff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 5 States f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composi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buClr>
                          <a:srgbClr val="ffff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tates for 1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vidual measu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buClr>
                          <a:srgbClr val="ffff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tates f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composi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buClr>
                          <a:srgbClr val="ffff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tates for 3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vidual measu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2666880" y="2971800"/>
            <a:ext cx="3124440" cy="1981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621A-1820-46C6-90CF-FEE2D3EA5C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HRQ Mission and Nic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676520"/>
            <a:ext cx="47246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sion:  Improve the efficiency, effectiveness, quality, safety, and equity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alth car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ch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ing knowledge through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seminating the 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ing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3962520"/>
            <a:ext cx="304920" cy="1752480"/>
          </a:xfrm>
          <a:custGeom>
            <a:avLst/>
            <a:gdLst>
              <a:gd name="textAreaLeft" fmla="*/ 0 w 304920"/>
              <a:gd name="textAreaRight" fmla="*/ 11016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rot="20850000">
            <a:off x="6400800" y="2209680"/>
            <a:ext cx="1884240" cy="2438640"/>
          </a:xfrm>
          <a:prstGeom prst="rect">
            <a:avLst/>
          </a:prstGeom>
          <a:ln w="9360">
            <a:solidFill>
              <a:srgbClr val="00279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729000">
            <a:off x="5714640" y="3580920"/>
            <a:ext cx="1943280" cy="2514600"/>
          </a:xfrm>
          <a:prstGeom prst="rect">
            <a:avLst/>
          </a:prstGeom>
          <a:ln w="9360">
            <a:solidFill>
              <a:srgbClr val="00279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4A3A1-253A-436E-B380-EF2191B408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te Snapsho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statesnapshots.ahrq.go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609480" y="2362320"/>
            <a:ext cx="5334120" cy="4160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5029200" y="2971800"/>
            <a:ext cx="3657600" cy="21733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029200" y="2971800"/>
            <a:ext cx="365760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F1B0-1DC1-4066-A906-071860949C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38360" y="349200"/>
            <a:ext cx="6210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HQR/NHDR Resou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962520"/>
            <a:ext cx="4927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3962520"/>
            <a:ext cx="4572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1600200"/>
            <a:ext cx="7543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ahrq.gov/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qual/measurix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 Report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800-358-929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ahrqpubs@ahrq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ff Brady, 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Jeff.Brady@ahrq.hhs.g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ng Director, National Healthcare Re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d Staff, NHQ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ren Ho, 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Arial"/>
                <a:hlinkClick r:id="rId5"/>
              </a:rPr>
              <a:t>Karen.Ho@ahrq.hhs.g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d Staff, NHD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nest Moy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Arial"/>
                <a:hlinkClick r:id="rId6"/>
              </a:rPr>
              <a:t>Ernest.Moy@ahrq.hhs.g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QR/NHDR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F854-D92F-41A5-A362-28BF68B8C39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145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igin of the NHQR / NHD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2820600"/>
            <a:ext cx="48434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ginning in fiscal year 2003, the Secretary, acting through the Director, shall submit to Congress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an annual report on national trends in the quality of health care provided to the American peopl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track “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prevailing disparities in health care delivery as it relates to racial factors and socioeconomic factors in priority population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5920" y="1371600"/>
            <a:ext cx="479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ndated by Congre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 Healthcare Research and Quality Act (PL. 106-12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2870280" cy="4343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B164-9BD6-40E3-A754-B583FB7D9E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080" y="1638360"/>
            <a:ext cx="4033800" cy="5219640"/>
          </a:xfrm>
          <a:prstGeom prst="rect">
            <a:avLst/>
          </a:prstGeom>
          <a:ln w="9360">
            <a:solidFill>
              <a:srgbClr val="00279f"/>
            </a:solidFill>
            <a:miter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34308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006 National Healthcare Quality and Disparities Repor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435480" y="1447920"/>
            <a:ext cx="4032000" cy="5219640"/>
          </a:xfrm>
          <a:prstGeom prst="rect">
            <a:avLst/>
          </a:prstGeom>
          <a:ln w="9360">
            <a:solidFill>
              <a:srgbClr val="00279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400800" y="1752480"/>
            <a:ext cx="2362320" cy="94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Released Jan 11,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4767-7ED7-44FE-A987-7663D1726A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Are These Reports Useful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ational overview of healthcare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 core (211 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measures of quality in NHQ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eal “biggest gap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p with information about healthcare quality in key are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ass on where we are head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nds (National and State) from 1994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eacon for measure alignment across public and private quality initi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B36E0-DC69-4E7C-9784-33CAFBFE6A1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the NHQR and NHDR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re Related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3520" y="1676520"/>
          <a:ext cx="8305560" cy="4601880"/>
        </p:xfrm>
        <a:graphic>
          <a:graphicData uri="http://schemas.openxmlformats.org/drawingml/2006/table">
            <a:tbl>
              <a:tblPr/>
              <a:tblGrid>
                <a:gridCol w="4190760"/>
                <a:gridCol w="41148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Q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D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of health care in Amer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arities in health care in Americ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+ Acc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ness, Patient Safety, Timeliness,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 Centeredn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Equ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tion across time &amp; State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tion across time &amp; popul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E7D3-A01E-4E00-AACB-C47B6AA6E7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asure Type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6 NHQR / NHD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easures (NHQR-211; NHDR- 250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Measures (NHQR- 42; NHDR- 22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ite Measures (13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ng Measu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Breast Cancer, 2005 &amp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 Cancer, 2006 (screening &amp; morta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&amp; Outcom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B374-7DF6-40E4-9663-D8F3DB3704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asure Type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6 NHQR / NHDR (cont’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 of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ulat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rsing Home/Home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ges of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ying healt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ting bet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ing with illness or dis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ng with the end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D4B7-4DA9-4BE6-8A78-FE28458043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william.hyde</cp:lastModifiedBy>
  <dcterms:modified xsi:type="dcterms:W3CDTF">2009-03-14T02:45:12Z</dcterms:modified>
  <cp:revision>90</cp:revision>
  <dc:subject/>
  <dc:title>Community Partnerships for Change</dc:title>
</cp:coreProperties>
</file>