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1C1C5-D2A5-4764-AF83-56A2962009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apted from a presentation at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06 Academy Health Annual Research Meeting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sanna Coffey, Thompson Healthc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wight McNeil, formerly at AHRQ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nie Moy, AHRQ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6B795-9716-46D4-8637-CA21AF32FC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257B6-385A-439D-8BEA-739ECE3515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012675-B662-4DA5-A3FD-C8BA9B3F2A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30FBFC-3725-4249-ADDA-429EFD8CD6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200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145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091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200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145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89A75-384A-464B-9DA5-A39729BC56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447920" y="228600"/>
            <a:ext cx="6697440" cy="406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D541BF-7E11-4FC0-AF46-882C8798047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200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145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091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200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145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B36CC7-B32B-4334-824A-0564DF4AD8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89752D-017C-4C7D-8D32-98590ED8B1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AD9230-2F2B-4F15-87F2-B2ECB1ABCD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447920" y="228600"/>
            <a:ext cx="6697440" cy="406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EE8CD8-67DA-4366-BA43-1F171AE217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2E10C4-21B0-4D33-A38B-13F147309B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DE5193-EC91-4CDE-92BB-533E065A13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653AE2-E5CE-403C-8E7A-853880F59F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0000"/>
          </a:bodyPr>
          <a:p>
            <a:pPr marL="325440" indent="-325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7756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08000" indent="-244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247760" indent="-159840">
              <a:lnSpc>
                <a:spcPct val="90000"/>
              </a:lnSpc>
              <a:spcBef>
                <a:spcPts val="1199"/>
              </a:spcBef>
              <a:buClr>
                <a:srgbClr val="66ff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1333440"/>
            <a:ext cx="7986240" cy="19080"/>
            <a:chOff x="0" y="1333440"/>
            <a:chExt cx="7986240" cy="19080"/>
          </a:xfrm>
        </p:grpSpPr>
        <p:sp>
          <p:nvSpPr>
            <p:cNvPr id="3" name=""/>
            <p:cNvSpPr/>
            <p:nvPr/>
          </p:nvSpPr>
          <p:spPr>
            <a:xfrm>
              <a:off x="5400" y="1352520"/>
              <a:ext cx="7980840" cy="0"/>
            </a:xfrm>
            <a:prstGeom prst="line">
              <a:avLst/>
            </a:prstGeom>
            <a:ln w="50760">
              <a:solidFill>
                <a:srgbClr val="0017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1333440"/>
              <a:ext cx="7980840" cy="0"/>
            </a:xfrm>
            <a:prstGeom prst="line">
              <a:avLst/>
            </a:prstGeom>
            <a:ln w="507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5" name=""/>
          <p:cNvGraphicFramePr/>
          <p:nvPr/>
        </p:nvGraphicFramePr>
        <p:xfrm>
          <a:off x="142920" y="317520"/>
          <a:ext cx="1428840" cy="671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2920" y="317520"/>
                    <a:ext cx="1428840" cy="67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D777D-A049-4711-B48E-9DA3743DF4D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09120" y="2819520"/>
            <a:ext cx="77900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0" y="3867120"/>
            <a:ext cx="7986240" cy="19080"/>
            <a:chOff x="0" y="3867120"/>
            <a:chExt cx="7986240" cy="19080"/>
          </a:xfrm>
        </p:grpSpPr>
        <p:sp>
          <p:nvSpPr>
            <p:cNvPr id="46" name=""/>
            <p:cNvSpPr/>
            <p:nvPr/>
          </p:nvSpPr>
          <p:spPr>
            <a:xfrm>
              <a:off x="5400" y="3886200"/>
              <a:ext cx="7980840" cy="0"/>
            </a:xfrm>
            <a:prstGeom prst="line">
              <a:avLst/>
            </a:prstGeom>
            <a:ln w="50760">
              <a:solidFill>
                <a:srgbClr val="0017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3867120"/>
              <a:ext cx="7980840" cy="0"/>
            </a:xfrm>
            <a:prstGeom prst="line">
              <a:avLst/>
            </a:prstGeom>
            <a:ln w="507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48" name=""/>
          <p:cNvGraphicFramePr/>
          <p:nvPr/>
        </p:nvGraphicFramePr>
        <p:xfrm>
          <a:off x="990720" y="380880"/>
          <a:ext cx="7162560" cy="1695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90720" y="380880"/>
                    <a:ext cx="7162560" cy="169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176040" algn="ctr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182520" algn="ctr">
              <a:lnSpc>
                <a:spcPct val="90000"/>
              </a:lnSpc>
              <a:spcBef>
                <a:spcPts val="751"/>
              </a:spcBef>
              <a:buClr>
                <a:srgbClr val="66ffff"/>
              </a:buClr>
              <a:buSzPct val="65000"/>
              <a:buFont typeface="Monotype Sort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68400" algn="ctr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684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684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207.103.203.51/summary/metric.aspx?ProvID=200031&amp;compGroup=All&amp;level=0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207.103.203.51/summary/metric.aspx?ProvID=200031&amp;compGroup=All&amp;level=1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28191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Hands-on Tool Training: 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tate Snapshots 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0" y="4343040"/>
            <a:ext cx="9144000" cy="2057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7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Healthcare Quality Improvement Workshop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ols You Can Use to Make a Differe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anuary 17-18, 200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rguerite Barrett, M.Sc.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omson Healthcar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(Medsta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669780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MQF Web Site - Consistency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7993080" cy="190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7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istency of performance meter on 8 clinical and 2 nursing measures reported by most Maine hospita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7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ks measures as in the best/lowest 10% of all hospita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" descr="Overall healthcare quality performance meter for Cary Medical Center in the most recent and preceding data years compared to all Maine hospitals.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133720" y="3505320"/>
            <a:ext cx="464796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11D4C4-BD5E-415C-8C3A-E1A688F1DEB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Overview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8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te Snapsho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te-level measures from NHQ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chnical challeng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ine Quality Foru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spital-level measu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chnical challenges scaling the State Snapshot application to the hospital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C636B4-837B-4791-9831-2A7AE1DD2FD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Technical Challenges of the NHQR State Snapshot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-60948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iven the wide range of state-level measures in the NHQR, how do we summarize the informatio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do we present the material to a general audienc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do we build a web environment that is easily updated as material change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C28CE7-7611-44A0-ADE3-11250230731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How do we summarize the NHQR measures?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799308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7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cide which NHQR measures belong with each composit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70000"/>
              </a:lnSpc>
              <a:spcBef>
                <a:spcPts val="1250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verall, type of care, setting of care, care by clinical are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70000"/>
              </a:lnSpc>
              <a:spcBef>
                <a:spcPts val="1500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assify state performance for each meas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7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lculate all-state and regional averag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70000"/>
              </a:lnSpc>
              <a:spcBef>
                <a:spcPts val="1250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termine if the state is statistically better than average, average, and worse than averag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70000"/>
              </a:lnSpc>
              <a:spcBef>
                <a:spcPts val="1500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core state across measures in a composi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7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 point for each NHQR measure that was better than average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7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0.5 point for each NHQR measure that was at average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7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0 points for each NHQR measure that was worse than average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7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m points and divide by the number of measur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BCB0D3-91DA-46B6-9D5E-8A3623970EC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How do we present the material?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426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osite-specific inform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raphic “speedometers” to display current and baseline score for all-state and regional comparis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st performing states t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asure-specific inform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ta tables “behind” composite speedometer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rongest/weakest measu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nking table on selected measu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0ECFD7-C55F-4B28-B5CF-13F306E695A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How do we build a web environment </a:t>
            </a:r>
            <a:br>
              <a:rPr sz="2800"/>
            </a:b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at is easily updated?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b pages are data driven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XML files contain measure titles, composite names, state-level data, and information on associated graphic fil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mplate web page displays appropriate content based on selection of state and composite measu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xt and graphic updates are made by updating XML fil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13194C-E082-400B-B684-6373F8FCD5C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Technical Challenges of the MQF Web Site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799308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460440" indent="-460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porting by hospital has unique challeng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66240" indent="-39240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mall N (hospital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66240" indent="-39240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mall n (case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0440" indent="-460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tistical test within an individual measure – not 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0440" indent="-460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tistical test for difference within composite – only possible for some composi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04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EA2502-62D6-4790-BA8C-A91357A6804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MQF Web Site – Clinical 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5720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IO Clinical Measu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osites for heart disease, pneumonia, preventing infec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tistical test (logistic regression) for difference within compos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Overall heart disease care performance meter for Cary Medical Center in the most recent and preceding data years compared to all Maine hospitals.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562720" y="1523880"/>
            <a:ext cx="2971800" cy="256248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562720" y="4343400"/>
            <a:ext cx="304776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465120" indent="-465120"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spital X is an Avera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erformer in Overall Hear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sease Ca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1EF703-8CFC-4727-AAB7-C97024DE9A9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MQF Web Site - Nursing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7993080" cy="2057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ursing Da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 statistical test for differen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ta tables with rates for the hospital and the average of similar hospita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B453A4-0E07-437E-A4E0-302138684AE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7T12:52:04Z</dcterms:created>
  <dc:creator>USER</dc:creator>
  <dc:description/>
  <dc:language>en-US</dc:language>
  <cp:lastModifiedBy>Hilary Kennedy</cp:lastModifiedBy>
  <dcterms:modified xsi:type="dcterms:W3CDTF">2008-01-08T13:43:41Z</dcterms:modified>
  <cp:revision>67</cp:revision>
  <dc:subject/>
  <dc:title>Community Partnerships for Change</dc:title>
</cp:coreProperties>
</file>