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6A07-8FD9-4A69-8672-0ED066973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a presentation 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Academy Health Annual Research Meeti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nna Coffey, Thompson Health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wight McNeil, formerly at AHR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ie Moy, AHR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1EF6-38F8-425C-AB13-B11CC2436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87DE-8966-4493-BF08-BE9D08EBF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361D-746B-417A-B7FC-43579DD0A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9F6B-A1B8-455B-8839-1BBD6646D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C8AA-39F0-457D-93D7-D46DFD703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F981-3B15-42E2-8F4E-C9DEE22F5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36D1-75C5-4E72-B167-46C28A040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55EE-2AD1-4DC2-A48B-CF0224F0B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0ACE-0844-41D5-8500-91EB9335F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A15B-490D-4335-AF16-149DB4E61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CB54-3A5D-4B62-B779-8930EBE8A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F083-B625-40BD-B1A6-CCA6F397F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70EF-C398-4D37-9506-570AAFC10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0667-9681-4ECF-AA38-12579FE0A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207.103.203.51/summary/metric.aspx?ProvID=200031&amp;compGroup=All&amp;level=0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207.103.203.51/summary/metric.aspx?ProvID=200031&amp;compGroup=All&amp;level=1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nds-on Tool Training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e Snapsho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43430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Healthcare Quality Improvement Workshop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s You Can Use to Make a Dif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nuary 17-18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uerite Barrett, M.Sc.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omson Healthc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Medst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QF Web Site - Consisten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ency of performance meter on 8 clinical and 2 nursing measures reported by most Maine hospi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ks measures as in the best/lowest 10% of all hospi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Overall healthcare quality performance meter for Cary Medical Center in the most recent and preceding data years compared to all Maine hospital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505320"/>
            <a:ext cx="464796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1407-90CB-4830-9BCD-92752412B5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Snapsh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-level measures from NHQ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e Quality Fo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-level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challenges scaling the State Snapshot application to the hospit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540E-814D-41EC-AB65-3F74757F4A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chnical Challenges of the NHQR State Snapsho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the wide range of state-level measures in the NHQR, how do we summarize the inform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present the material to a general audi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build a web environment that is easily updated as material chang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79F1-B4DF-49C0-9900-8232EEF22A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do we summarize the NHQR measure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e which NHQR measures belong with each composi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all, type of care, setting of care, care by clinical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 state performance for each m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all-state and regional aver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if the state is statistically better than average, average, and worse than aver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re state across measures in a compo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point for each NHQR measure that was better than averag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 point for each NHQR measure that was at averag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points for each NHQR measure that was worse than averag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 points and divide by the number of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7F96-1911-44C4-9631-E879AF56E1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do we present the material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site-specific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ic “speedometers” to display current and baseline score for all-state and regional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performing states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-specific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ables “behind” composite speedome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est/weake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king table on selected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061A-3B45-4CEA-BE69-185821E02F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do we build a web environment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at is easily updated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s are data driv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ML files contain measure titles, composite names, state-level data, and information on associated graphic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late web page displays appropriate content based on selection of state and composite mea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 and graphic updates are made by updating XML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316B-ABEC-4924-A745-B5530AB9D3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chnical Challenges of the MQF Web Sit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ing by hospital has unique 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N (hospital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n (case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al test within an individual measure – not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al test for difference within composite – only possible for some com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B789-287D-4A42-8ABC-51C6650F15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QF Web Site – Clinical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IO Clinical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sites for heart disease, pneumonia, preventing in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test (logistic regression) for difference within compo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Overall heart disease care performance meter for Cary Medical Center in the most recent and preceding data years compared to all Maine hospital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1523880"/>
            <a:ext cx="2971800" cy="2562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562720" y="4343400"/>
            <a:ext cx="3047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spital X is an A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ormer in Overall He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ease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2AFB-DB75-4410-9691-82F547BF69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QF Web Site - Nurs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9930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tatistical test for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tables with rates for the hospital and the average of similar hospi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3DDB-9850-477B-9738-E6C2297742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Hilary Kennedy</cp:lastModifiedBy>
  <dcterms:modified xsi:type="dcterms:W3CDTF">2008-01-08T13:43:41Z</dcterms:modified>
  <cp:revision>67</cp:revision>
  <dc:subject/>
  <dc:title>Community Partnerships for Change</dc:title>
</cp:coreProperties>
</file>