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9.png" ContentType="image/png"/>
  <Override PartName="/ppt/media/image12.png" ContentType="image/png"/>
  <Override PartName="/ppt/media/image11.wmf" ContentType="image/x-wmf"/>
  <Override PartName="/ppt/media/image7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png" ContentType="image/png"/>
  <Override PartName="/ppt/media/image14.wmf" ContentType="image/x-wmf"/>
  <Override PartName="/ppt/media/image6.png" ContentType="image/pn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5C917F5-2577-4F42-9AFA-7E5E6CF56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C717ABB-63FA-4239-86A4-05FCAE71D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 ones could be available through HCUPnet in the fu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tah is one of the 8 states in the “strong” categ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 – hospital care is based on HCUP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s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tal charges were converted to costs using cost-to-charge ratios based on hospital accounting reports from the Centers for Medicare and Medicaid Services (CM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l Ethics Committee discussion, 8/27/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3 show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E9F5-D391-48A4-81E4-FADCA15CF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5346-9B64-426D-A9EC-66CAFF93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763D-31FF-4908-A7B2-ED9A83D6B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47FE-D71F-4B09-86BD-3D1F25263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5F83-9ECA-48B9-8F48-BD298B50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648A-4F94-447C-AB33-8F6A3B15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0DED-361B-47DF-9DD0-9A51D528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CC82-8DE8-4A0F-9558-8C34F057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64AE-5259-4D73-8BD2-0F836180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6E73-BA85-4460-8838-192BC13D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9234-BF12-4B47-8413-C245F8CE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C9EC-A28E-4070-BC2F-CDEDD5AD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3C1E-BF30-4B6F-90C5-CE6C38A81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800" spc="-1" strike="noStrike">
                <a:solidFill>
                  <a:srgbClr val="000000"/>
                </a:solidFill>
                <a:latin typeface="Arial"/>
              </a:rPr>
              <a:t>HCUPnet for </a:t>
            </a:r>
            <a:br>
              <a:rPr sz="4800"/>
            </a:br>
            <a:r>
              <a:rPr b="0" lang="en" sz="4800" spc="-1" strike="noStrike">
                <a:solidFill>
                  <a:srgbClr val="000000"/>
                </a:solidFill>
                <a:latin typeface="Arial"/>
              </a:rPr>
              <a:t>State Policymakers </a:t>
            </a:r>
            <a:br>
              <a:rPr sz="4800"/>
            </a:br>
            <a:r>
              <a:rPr b="0" lang="en" sz="4800" spc="-1" strike="noStrike">
                <a:solidFill>
                  <a:srgbClr val="000000"/>
                </a:solidFill>
                <a:latin typeface="Arial"/>
              </a:rPr>
              <a:t>- Utah’s Use Case</a:t>
            </a:r>
            <a:r>
              <a:rPr b="0" lang="e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4114800"/>
            <a:ext cx="2362320" cy="17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41148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505320" y="4343400"/>
            <a:ext cx="5029200" cy="21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ely Cofrin Allen, Ph.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ice of Health Care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ah 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HRQ State Quality Improvement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uary 17-18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6800" y="5530680"/>
            <a:ext cx="8102520" cy="298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90-1993: Established a vision, mission, priority, and health data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38088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ealth Data Building Blocks for Policy Analysis, 1990-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2880" y="5904000"/>
            <a:ext cx="5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3581280"/>
            <a:ext cx="452592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1: Use ICD data to support the Patient Safety Initi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03480" y="5232240"/>
            <a:ext cx="6765840" cy="298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93: Established Hospital Inpatient Discharge Reporting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98920" y="4933800"/>
            <a:ext cx="5270400" cy="298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96: Established Ambulatory Surgery Data Reporting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98920" y="4635360"/>
            <a:ext cx="5270400" cy="298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96: Established Emergency Department Data Reporting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98920" y="4038480"/>
            <a:ext cx="5270400" cy="298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96: Established HMO Enrollee Satisfaction Reporting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98920" y="4336920"/>
            <a:ext cx="5270400" cy="298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96: Established HMO HEDIS Performance Report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82600" y="5943600"/>
            <a:ext cx="5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24280" y="3124080"/>
            <a:ext cx="4145040" cy="4446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: Evaluate Medicaid Waiver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05520" y="2705040"/>
            <a:ext cx="3763800" cy="4190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4 Health Plan Pharmacy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1752480" cy="1665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562720" y="2209680"/>
            <a:ext cx="327636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5: Senate Bill 132: Consumer Re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91320" y="1752480"/>
            <a:ext cx="30780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7: House Bill 9: Healthcare Co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 (All Claims All Patien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A279-4E7C-4FA3-A431-A2245572B4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ful Data for State Policymak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pictures from a state to the 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ative summary 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ank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er all settings &amp; types of health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d to state policy pri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new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, short, &amp; pi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010280" y="5105520"/>
            <a:ext cx="1905120" cy="14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1282-C841-4059-8C26-950439168E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se Case Exam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2819520" cy="2668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52280" y="1676520"/>
            <a:ext cx="4079880" cy="4572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346640" y="5257800"/>
            <a:ext cx="467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 summary indicators in 3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F430-30D4-49C2-B5BA-81E99E6B61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National-Compar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ta a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Sources 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or Policy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 summary indicators in the repor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 used national data or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8 – AHR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MS Health Care Expenditur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-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CHS Hospital Surv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-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CQA HE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- United Health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used Utah data and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YU metho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cc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used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Utah data and meth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x 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4920" y="5772240"/>
            <a:ext cx="914400" cy="68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753C-B533-47E6-851F-2569CE0633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UT_0_N_Speedo" descr=""/>
          <p:cNvPicPr/>
          <p:nvPr/>
        </p:nvPicPr>
        <p:blipFill>
          <a:blip r:embed="rId1"/>
          <a:stretch/>
        </p:blipFill>
        <p:spPr>
          <a:xfrm>
            <a:off x="2590920" y="2514600"/>
            <a:ext cx="4416480" cy="2876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267080" y="2286000"/>
            <a:ext cx="10288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38280" y="838080"/>
            <a:ext cx="624852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d3d3c"/>
                </a:solidFill>
                <a:latin typeface="Arial"/>
              </a:rPr>
              <a:t>Utah’s Overall Health Care Quality Performance Compared to All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666880" y="5486400"/>
            <a:ext cx="4429080" cy="252360"/>
            <a:chOff x="2666880" y="5486400"/>
            <a:chExt cx="4429080" cy="252360"/>
          </a:xfrm>
        </p:grpSpPr>
        <p:grpSp>
          <p:nvGrpSpPr>
            <p:cNvPr id="113" name=""/>
            <p:cNvGrpSpPr/>
            <p:nvPr/>
          </p:nvGrpSpPr>
          <p:grpSpPr>
            <a:xfrm>
              <a:off x="5029200" y="5486400"/>
              <a:ext cx="2066760" cy="215640"/>
              <a:chOff x="5029200" y="5486400"/>
              <a:chExt cx="2066760" cy="215640"/>
            </a:xfrm>
          </p:grpSpPr>
          <p:sp>
            <p:nvSpPr>
              <p:cNvPr id="114" name=""/>
              <p:cNvSpPr/>
              <p:nvPr/>
            </p:nvSpPr>
            <p:spPr>
              <a:xfrm flipV="1">
                <a:off x="5638680" y="5638680"/>
                <a:ext cx="800280" cy="1440"/>
              </a:xfrm>
              <a:prstGeom prst="line">
                <a:avLst/>
              </a:prstGeom>
              <a:ln w="22320">
                <a:solidFill>
                  <a:srgbClr val="28242e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029200" y="5486400"/>
                <a:ext cx="2066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d3d3c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3d3d3c"/>
                    </a:solidFill>
                    <a:latin typeface="Arial"/>
                  </a:rPr>
                  <a:t>Current</a:t>
                </a:r>
                <a:r>
                  <a:rPr b="1" lang="en-US" sz="1000" spc="-1" strike="noStrike">
                    <a:solidFill>
                      <a:srgbClr val="3d3d3c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2666880" y="5486400"/>
              <a:ext cx="2057400" cy="252360"/>
              <a:chOff x="2666880" y="5486400"/>
              <a:chExt cx="2057400" cy="252360"/>
            </a:xfrm>
          </p:grpSpPr>
          <p:sp>
            <p:nvSpPr>
              <p:cNvPr id="117" name=""/>
              <p:cNvSpPr/>
              <p:nvPr/>
            </p:nvSpPr>
            <p:spPr>
              <a:xfrm>
                <a:off x="3809880" y="5639040"/>
                <a:ext cx="800280" cy="0"/>
              </a:xfrm>
              <a:prstGeom prst="line">
                <a:avLst/>
              </a:prstGeom>
              <a:ln w="22320">
                <a:solidFill>
                  <a:srgbClr val="21212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666880" y="5486400"/>
                <a:ext cx="2057400" cy="25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d3d3c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3d3d3c"/>
                    </a:solidFill>
                    <a:latin typeface="Arial"/>
                  </a:rPr>
                  <a:t>Base Lin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"/>
          <p:cNvSpPr/>
          <p:nvPr/>
        </p:nvSpPr>
        <p:spPr>
          <a:xfrm>
            <a:off x="1981080" y="5943600"/>
            <a:ext cx="57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Page 9, “Challenges in Utah’s Health Car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80880" y="457200"/>
            <a:ext cx="192420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HQR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ith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CUP Dat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A8CC-FC84-4B14-B757-170285FDE2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648320" y="2971800"/>
            <a:ext cx="380880" cy="438120"/>
          </a:xfrm>
          <a:prstGeom prst="star5">
            <a:avLst/>
          </a:prstGeom>
          <a:solidFill>
            <a:srgbClr val="6c2b2c"/>
          </a:solidFill>
          <a:ln w="936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32360" y="3733920"/>
            <a:ext cx="325440" cy="380880"/>
          </a:xfrm>
          <a:prstGeom prst="star5">
            <a:avLst/>
          </a:prstGeom>
          <a:solidFill>
            <a:srgbClr val="6c2b2c"/>
          </a:solidFill>
          <a:ln w="936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50080" y="761760"/>
            <a:ext cx="5775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Quality Variation by Care Type and S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57400" y="6248520"/>
            <a:ext cx="57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Page 10, “Challenges in Utah’s Health Car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04920" y="5772240"/>
            <a:ext cx="914400" cy="684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719320" y="5060880"/>
            <a:ext cx="1462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Very strong/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16840" y="506088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54520" y="5310360"/>
            <a:ext cx="1499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      </a:t>
            </a: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above aver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67120" y="5022720"/>
            <a:ext cx="2312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d3d3c"/>
                </a:solidFill>
                <a:latin typeface="Arial"/>
              </a:rPr>
              <a:t>Home Health 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46280" y="502272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64240" y="53499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14520" y="4511520"/>
            <a:ext cx="2021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               </a:t>
            </a: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On aver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50960" y="45385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67120" y="4341960"/>
            <a:ext cx="2468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d3d3c"/>
                </a:solidFill>
                <a:latin typeface="Arial"/>
              </a:rPr>
              <a:t>Nursing Home 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01800" y="434196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64240" y="46688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05680" y="3726000"/>
            <a:ext cx="1291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          </a:t>
            </a: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Strong/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532560" y="372600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41240" y="3975120"/>
            <a:ext cx="2085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           </a:t>
            </a: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above aver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231680" y="40021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65320" y="3648240"/>
            <a:ext cx="169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Hospital 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23840" y="364824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64240" y="39751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18280" y="3017880"/>
            <a:ext cx="1291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          </a:t>
            </a: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Strong/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45160" y="301788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56000" y="3267000"/>
            <a:ext cx="2144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           </a:t>
            </a: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above averag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96840" y="32940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65680" y="2967120"/>
            <a:ext cx="1646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d3d3c"/>
                </a:solidFill>
                <a:latin typeface="Arial"/>
              </a:rPr>
              <a:t>Chronic 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85680" y="296712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64240" y="32940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96800" y="2428920"/>
            <a:ext cx="2021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               </a:t>
            </a: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On aver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934320" y="242892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65320" y="2271600"/>
            <a:ext cx="1398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d3d3c"/>
                </a:solidFill>
                <a:latin typeface="Arial"/>
              </a:rPr>
              <a:t>Acute 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39800" y="227160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64240" y="26002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09760" y="1760400"/>
            <a:ext cx="2021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               </a:t>
            </a: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On aver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946200" y="17874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65320" y="1552680"/>
            <a:ext cx="2004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d3d3c"/>
                </a:solidFill>
                <a:latin typeface="Arial"/>
              </a:rPr>
              <a:t>Preventive 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49280" y="155268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64240" y="18795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27160" y="1487520"/>
            <a:ext cx="6404040" cy="0"/>
          </a:xfrm>
          <a:prstGeom prst="line">
            <a:avLst/>
          </a:prstGeom>
          <a:ln cap="sq" w="3816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32680" y="1944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0rial Unicode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37720" y="2246400"/>
            <a:ext cx="10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0rial Unicode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33760" y="254628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0rial Unicode MS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8440" y="2860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0rial Unicode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43560" y="28353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9160" y="3529080"/>
            <a:ext cx="98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0rial Unicode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38440" y="3830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0rial Unicode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32680" y="41324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0rial Unicode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33120" y="4132440"/>
            <a:ext cx="46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0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32680" y="4446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0rial Unicode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33120" y="4446720"/>
            <a:ext cx="46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0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60760" y="4746600"/>
            <a:ext cx="6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0rial Unicode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7920" y="4746600"/>
            <a:ext cx="46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0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24760" y="5048280"/>
            <a:ext cx="136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0rial Unicode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32680" y="5349960"/>
            <a:ext cx="13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0rial Unicode MS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56520" y="53244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613400" y="5062680"/>
            <a:ext cx="338040" cy="392040"/>
            <a:chOff x="4613400" y="5062680"/>
            <a:chExt cx="338040" cy="392040"/>
          </a:xfrm>
        </p:grpSpPr>
        <p:sp>
          <p:nvSpPr>
            <p:cNvPr id="179" name=""/>
            <p:cNvSpPr/>
            <p:nvPr/>
          </p:nvSpPr>
          <p:spPr>
            <a:xfrm>
              <a:off x="4613400" y="5062680"/>
              <a:ext cx="338040" cy="392040"/>
            </a:xfrm>
            <a:custGeom>
              <a:avLst/>
              <a:gdLst/>
              <a:ahLst/>
              <a:rect l="l" t="t" r="r" b="b"/>
              <a:pathLst>
                <a:path w="213" h="247">
                  <a:moveTo>
                    <a:pt x="107" y="0"/>
                  </a:moveTo>
                  <a:lnTo>
                    <a:pt x="82" y="95"/>
                  </a:lnTo>
                  <a:lnTo>
                    <a:pt x="0" y="95"/>
                  </a:lnTo>
                  <a:lnTo>
                    <a:pt x="66" y="153"/>
                  </a:lnTo>
                  <a:lnTo>
                    <a:pt x="41" y="247"/>
                  </a:lnTo>
                  <a:lnTo>
                    <a:pt x="107" y="190"/>
                  </a:lnTo>
                  <a:lnTo>
                    <a:pt x="172" y="247"/>
                  </a:lnTo>
                  <a:lnTo>
                    <a:pt x="143" y="153"/>
                  </a:lnTo>
                  <a:lnTo>
                    <a:pt x="213" y="95"/>
                  </a:lnTo>
                  <a:lnTo>
                    <a:pt x="131" y="95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6c2b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13400" y="5062680"/>
              <a:ext cx="338040" cy="392040"/>
            </a:xfrm>
            <a:custGeom>
              <a:avLst/>
              <a:gdLst/>
              <a:ahLst/>
              <a:rect l="l" t="t" r="r" b="b"/>
              <a:pathLst>
                <a:path w="213" h="247">
                  <a:moveTo>
                    <a:pt x="107" y="0"/>
                  </a:moveTo>
                  <a:lnTo>
                    <a:pt x="82" y="95"/>
                  </a:lnTo>
                  <a:lnTo>
                    <a:pt x="0" y="95"/>
                  </a:lnTo>
                  <a:lnTo>
                    <a:pt x="66" y="153"/>
                  </a:lnTo>
                  <a:lnTo>
                    <a:pt x="41" y="247"/>
                  </a:lnTo>
                  <a:lnTo>
                    <a:pt x="107" y="190"/>
                  </a:lnTo>
                  <a:lnTo>
                    <a:pt x="172" y="247"/>
                  </a:lnTo>
                  <a:lnTo>
                    <a:pt x="143" y="153"/>
                  </a:lnTo>
                  <a:lnTo>
                    <a:pt x="213" y="95"/>
                  </a:lnTo>
                  <a:lnTo>
                    <a:pt x="131" y="95"/>
                  </a:lnTo>
                  <a:lnTo>
                    <a:pt x="107" y="0"/>
                  </a:lnTo>
                  <a:close/>
                </a:path>
              </a:pathLst>
            </a:custGeom>
            <a:noFill/>
            <a:ln cap="rnd" w="12600">
              <a:solidFill>
                <a:srgbClr val="3d3d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302000" y="5062680"/>
            <a:ext cx="338040" cy="392040"/>
            <a:chOff x="4302000" y="5062680"/>
            <a:chExt cx="338040" cy="392040"/>
          </a:xfrm>
        </p:grpSpPr>
        <p:sp>
          <p:nvSpPr>
            <p:cNvPr id="182" name=""/>
            <p:cNvSpPr/>
            <p:nvPr/>
          </p:nvSpPr>
          <p:spPr>
            <a:xfrm>
              <a:off x="4302000" y="5062680"/>
              <a:ext cx="338040" cy="392040"/>
            </a:xfrm>
            <a:custGeom>
              <a:avLst/>
              <a:gdLst/>
              <a:ahLst/>
              <a:rect l="l" t="t" r="r" b="b"/>
              <a:pathLst>
                <a:path w="213" h="247">
                  <a:moveTo>
                    <a:pt x="107" y="0"/>
                  </a:moveTo>
                  <a:lnTo>
                    <a:pt x="82" y="95"/>
                  </a:lnTo>
                  <a:lnTo>
                    <a:pt x="0" y="95"/>
                  </a:lnTo>
                  <a:lnTo>
                    <a:pt x="66" y="153"/>
                  </a:lnTo>
                  <a:lnTo>
                    <a:pt x="41" y="247"/>
                  </a:lnTo>
                  <a:lnTo>
                    <a:pt x="107" y="190"/>
                  </a:lnTo>
                  <a:lnTo>
                    <a:pt x="172" y="247"/>
                  </a:lnTo>
                  <a:lnTo>
                    <a:pt x="143" y="153"/>
                  </a:lnTo>
                  <a:lnTo>
                    <a:pt x="213" y="95"/>
                  </a:lnTo>
                  <a:lnTo>
                    <a:pt x="131" y="95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6c2b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02000" y="5062680"/>
              <a:ext cx="338040" cy="392040"/>
            </a:xfrm>
            <a:custGeom>
              <a:avLst/>
              <a:gdLst/>
              <a:ahLst/>
              <a:rect l="l" t="t" r="r" b="b"/>
              <a:pathLst>
                <a:path w="213" h="247">
                  <a:moveTo>
                    <a:pt x="107" y="0"/>
                  </a:moveTo>
                  <a:lnTo>
                    <a:pt x="82" y="95"/>
                  </a:lnTo>
                  <a:lnTo>
                    <a:pt x="0" y="95"/>
                  </a:lnTo>
                  <a:lnTo>
                    <a:pt x="66" y="153"/>
                  </a:lnTo>
                  <a:lnTo>
                    <a:pt x="41" y="247"/>
                  </a:lnTo>
                  <a:lnTo>
                    <a:pt x="107" y="190"/>
                  </a:lnTo>
                  <a:lnTo>
                    <a:pt x="172" y="247"/>
                  </a:lnTo>
                  <a:lnTo>
                    <a:pt x="143" y="153"/>
                  </a:lnTo>
                  <a:lnTo>
                    <a:pt x="213" y="95"/>
                  </a:lnTo>
                  <a:lnTo>
                    <a:pt x="131" y="95"/>
                  </a:lnTo>
                  <a:lnTo>
                    <a:pt x="107" y="0"/>
                  </a:lnTo>
                  <a:close/>
                </a:path>
              </a:pathLst>
            </a:custGeom>
            <a:noFill/>
            <a:ln cap="rnd" w="12600">
              <a:solidFill>
                <a:srgbClr val="3d3d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4938840" y="5062680"/>
            <a:ext cx="336600" cy="392040"/>
            <a:chOff x="4938840" y="5062680"/>
            <a:chExt cx="336600" cy="392040"/>
          </a:xfrm>
        </p:grpSpPr>
        <p:sp>
          <p:nvSpPr>
            <p:cNvPr id="185" name=""/>
            <p:cNvSpPr/>
            <p:nvPr/>
          </p:nvSpPr>
          <p:spPr>
            <a:xfrm>
              <a:off x="4938840" y="5062680"/>
              <a:ext cx="336600" cy="392040"/>
            </a:xfrm>
            <a:custGeom>
              <a:avLst/>
              <a:gdLst/>
              <a:ahLst/>
              <a:rect l="l" t="t" r="r" b="b"/>
              <a:pathLst>
                <a:path w="212" h="247">
                  <a:moveTo>
                    <a:pt x="106" y="0"/>
                  </a:moveTo>
                  <a:lnTo>
                    <a:pt x="81" y="95"/>
                  </a:lnTo>
                  <a:lnTo>
                    <a:pt x="0" y="95"/>
                  </a:lnTo>
                  <a:lnTo>
                    <a:pt x="65" y="153"/>
                  </a:lnTo>
                  <a:lnTo>
                    <a:pt x="40" y="247"/>
                  </a:lnTo>
                  <a:lnTo>
                    <a:pt x="106" y="190"/>
                  </a:lnTo>
                  <a:lnTo>
                    <a:pt x="171" y="247"/>
                  </a:lnTo>
                  <a:lnTo>
                    <a:pt x="143" y="153"/>
                  </a:lnTo>
                  <a:lnTo>
                    <a:pt x="212" y="95"/>
                  </a:lnTo>
                  <a:lnTo>
                    <a:pt x="130" y="9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6c2b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938840" y="5062680"/>
              <a:ext cx="336600" cy="392040"/>
            </a:xfrm>
            <a:custGeom>
              <a:avLst/>
              <a:gdLst/>
              <a:ahLst/>
              <a:rect l="l" t="t" r="r" b="b"/>
              <a:pathLst>
                <a:path w="212" h="247">
                  <a:moveTo>
                    <a:pt x="106" y="0"/>
                  </a:moveTo>
                  <a:lnTo>
                    <a:pt x="81" y="95"/>
                  </a:lnTo>
                  <a:lnTo>
                    <a:pt x="0" y="95"/>
                  </a:lnTo>
                  <a:lnTo>
                    <a:pt x="65" y="153"/>
                  </a:lnTo>
                  <a:lnTo>
                    <a:pt x="40" y="247"/>
                  </a:lnTo>
                  <a:lnTo>
                    <a:pt x="106" y="190"/>
                  </a:lnTo>
                  <a:lnTo>
                    <a:pt x="171" y="247"/>
                  </a:lnTo>
                  <a:lnTo>
                    <a:pt x="143" y="153"/>
                  </a:lnTo>
                  <a:lnTo>
                    <a:pt x="212" y="95"/>
                  </a:lnTo>
                  <a:lnTo>
                    <a:pt x="130" y="95"/>
                  </a:lnTo>
                  <a:lnTo>
                    <a:pt x="106" y="0"/>
                  </a:lnTo>
                  <a:close/>
                </a:path>
              </a:pathLst>
            </a:custGeom>
            <a:noFill/>
            <a:ln cap="rnd" w="12600">
              <a:solidFill>
                <a:srgbClr val="3d3d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5249880" y="5062680"/>
            <a:ext cx="336240" cy="392040"/>
            <a:chOff x="5249880" y="5062680"/>
            <a:chExt cx="336240" cy="392040"/>
          </a:xfrm>
        </p:grpSpPr>
        <p:sp>
          <p:nvSpPr>
            <p:cNvPr id="188" name=""/>
            <p:cNvSpPr/>
            <p:nvPr/>
          </p:nvSpPr>
          <p:spPr>
            <a:xfrm>
              <a:off x="5249880" y="5062680"/>
              <a:ext cx="336240" cy="392040"/>
            </a:xfrm>
            <a:custGeom>
              <a:avLst/>
              <a:gdLst/>
              <a:ahLst/>
              <a:rect l="l" t="t" r="r" b="b"/>
              <a:pathLst>
                <a:path w="212" h="247">
                  <a:moveTo>
                    <a:pt x="106" y="0"/>
                  </a:moveTo>
                  <a:lnTo>
                    <a:pt x="81" y="95"/>
                  </a:lnTo>
                  <a:lnTo>
                    <a:pt x="0" y="95"/>
                  </a:lnTo>
                  <a:lnTo>
                    <a:pt x="65" y="153"/>
                  </a:lnTo>
                  <a:lnTo>
                    <a:pt x="40" y="247"/>
                  </a:lnTo>
                  <a:lnTo>
                    <a:pt x="106" y="190"/>
                  </a:lnTo>
                  <a:lnTo>
                    <a:pt x="171" y="247"/>
                  </a:lnTo>
                  <a:lnTo>
                    <a:pt x="143" y="153"/>
                  </a:lnTo>
                  <a:lnTo>
                    <a:pt x="212" y="95"/>
                  </a:lnTo>
                  <a:lnTo>
                    <a:pt x="130" y="9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6c2b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49880" y="5062680"/>
              <a:ext cx="336240" cy="392040"/>
            </a:xfrm>
            <a:custGeom>
              <a:avLst/>
              <a:gdLst/>
              <a:ahLst/>
              <a:rect l="l" t="t" r="r" b="b"/>
              <a:pathLst>
                <a:path w="212" h="247">
                  <a:moveTo>
                    <a:pt x="106" y="0"/>
                  </a:moveTo>
                  <a:lnTo>
                    <a:pt x="81" y="95"/>
                  </a:lnTo>
                  <a:lnTo>
                    <a:pt x="0" y="95"/>
                  </a:lnTo>
                  <a:lnTo>
                    <a:pt x="65" y="153"/>
                  </a:lnTo>
                  <a:lnTo>
                    <a:pt x="40" y="247"/>
                  </a:lnTo>
                  <a:lnTo>
                    <a:pt x="106" y="190"/>
                  </a:lnTo>
                  <a:lnTo>
                    <a:pt x="171" y="247"/>
                  </a:lnTo>
                  <a:lnTo>
                    <a:pt x="143" y="153"/>
                  </a:lnTo>
                  <a:lnTo>
                    <a:pt x="212" y="95"/>
                  </a:lnTo>
                  <a:lnTo>
                    <a:pt x="130" y="95"/>
                  </a:lnTo>
                  <a:lnTo>
                    <a:pt x="106" y="0"/>
                  </a:lnTo>
                  <a:close/>
                </a:path>
              </a:pathLst>
            </a:custGeom>
            <a:noFill/>
            <a:ln cap="rnd" w="12600">
              <a:solidFill>
                <a:srgbClr val="3d3d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302000" y="4440240"/>
            <a:ext cx="338040" cy="393840"/>
            <a:chOff x="4302000" y="4440240"/>
            <a:chExt cx="338040" cy="393840"/>
          </a:xfrm>
        </p:grpSpPr>
        <p:sp>
          <p:nvSpPr>
            <p:cNvPr id="191" name=""/>
            <p:cNvSpPr/>
            <p:nvPr/>
          </p:nvSpPr>
          <p:spPr>
            <a:xfrm>
              <a:off x="4302000" y="4440240"/>
              <a:ext cx="338040" cy="393840"/>
            </a:xfrm>
            <a:custGeom>
              <a:avLst/>
              <a:gdLst/>
              <a:ahLst/>
              <a:rect l="l" t="t" r="r" b="b"/>
              <a:pathLst>
                <a:path w="213" h="248">
                  <a:moveTo>
                    <a:pt x="107" y="0"/>
                  </a:moveTo>
                  <a:lnTo>
                    <a:pt x="82" y="95"/>
                  </a:lnTo>
                  <a:lnTo>
                    <a:pt x="0" y="95"/>
                  </a:lnTo>
                  <a:lnTo>
                    <a:pt x="66" y="153"/>
                  </a:lnTo>
                  <a:lnTo>
                    <a:pt x="41" y="248"/>
                  </a:lnTo>
                  <a:lnTo>
                    <a:pt x="107" y="190"/>
                  </a:lnTo>
                  <a:lnTo>
                    <a:pt x="172" y="248"/>
                  </a:lnTo>
                  <a:lnTo>
                    <a:pt x="143" y="153"/>
                  </a:lnTo>
                  <a:lnTo>
                    <a:pt x="213" y="95"/>
                  </a:lnTo>
                  <a:lnTo>
                    <a:pt x="131" y="95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6c2b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302000" y="4440240"/>
              <a:ext cx="338040" cy="393840"/>
            </a:xfrm>
            <a:custGeom>
              <a:avLst/>
              <a:gdLst/>
              <a:ahLst/>
              <a:rect l="l" t="t" r="r" b="b"/>
              <a:pathLst>
                <a:path w="213" h="248">
                  <a:moveTo>
                    <a:pt x="107" y="0"/>
                  </a:moveTo>
                  <a:lnTo>
                    <a:pt x="82" y="95"/>
                  </a:lnTo>
                  <a:lnTo>
                    <a:pt x="0" y="95"/>
                  </a:lnTo>
                  <a:lnTo>
                    <a:pt x="66" y="153"/>
                  </a:lnTo>
                  <a:lnTo>
                    <a:pt x="41" y="248"/>
                  </a:lnTo>
                  <a:lnTo>
                    <a:pt x="107" y="190"/>
                  </a:lnTo>
                  <a:lnTo>
                    <a:pt x="172" y="248"/>
                  </a:lnTo>
                  <a:lnTo>
                    <a:pt x="143" y="153"/>
                  </a:lnTo>
                  <a:lnTo>
                    <a:pt x="213" y="95"/>
                  </a:lnTo>
                  <a:lnTo>
                    <a:pt x="131" y="95"/>
                  </a:lnTo>
                  <a:lnTo>
                    <a:pt x="107" y="0"/>
                  </a:lnTo>
                  <a:close/>
                </a:path>
              </a:pathLst>
            </a:custGeom>
            <a:noFill/>
            <a:ln cap="rnd" w="12600">
              <a:solidFill>
                <a:srgbClr val="3d3d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640400" y="4440240"/>
            <a:ext cx="336240" cy="393840"/>
            <a:chOff x="4640400" y="4440240"/>
            <a:chExt cx="336240" cy="393840"/>
          </a:xfrm>
        </p:grpSpPr>
        <p:sp>
          <p:nvSpPr>
            <p:cNvPr id="194" name=""/>
            <p:cNvSpPr/>
            <p:nvPr/>
          </p:nvSpPr>
          <p:spPr>
            <a:xfrm>
              <a:off x="4640400" y="4440240"/>
              <a:ext cx="336240" cy="393840"/>
            </a:xfrm>
            <a:custGeom>
              <a:avLst/>
              <a:gdLst/>
              <a:ahLst/>
              <a:rect l="l" t="t" r="r" b="b"/>
              <a:pathLst>
                <a:path w="212" h="248">
                  <a:moveTo>
                    <a:pt x="106" y="0"/>
                  </a:moveTo>
                  <a:lnTo>
                    <a:pt x="81" y="95"/>
                  </a:lnTo>
                  <a:lnTo>
                    <a:pt x="0" y="95"/>
                  </a:lnTo>
                  <a:lnTo>
                    <a:pt x="65" y="153"/>
                  </a:lnTo>
                  <a:lnTo>
                    <a:pt x="41" y="248"/>
                  </a:lnTo>
                  <a:lnTo>
                    <a:pt x="106" y="190"/>
                  </a:lnTo>
                  <a:lnTo>
                    <a:pt x="171" y="248"/>
                  </a:lnTo>
                  <a:lnTo>
                    <a:pt x="143" y="153"/>
                  </a:lnTo>
                  <a:lnTo>
                    <a:pt x="212" y="95"/>
                  </a:lnTo>
                  <a:lnTo>
                    <a:pt x="130" y="9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6c2b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640400" y="4440240"/>
              <a:ext cx="336240" cy="393840"/>
            </a:xfrm>
            <a:custGeom>
              <a:avLst/>
              <a:gdLst/>
              <a:ahLst/>
              <a:rect l="l" t="t" r="r" b="b"/>
              <a:pathLst>
                <a:path w="212" h="248">
                  <a:moveTo>
                    <a:pt x="106" y="0"/>
                  </a:moveTo>
                  <a:lnTo>
                    <a:pt x="81" y="95"/>
                  </a:lnTo>
                  <a:lnTo>
                    <a:pt x="0" y="95"/>
                  </a:lnTo>
                  <a:lnTo>
                    <a:pt x="65" y="153"/>
                  </a:lnTo>
                  <a:lnTo>
                    <a:pt x="41" y="248"/>
                  </a:lnTo>
                  <a:lnTo>
                    <a:pt x="106" y="190"/>
                  </a:lnTo>
                  <a:lnTo>
                    <a:pt x="171" y="248"/>
                  </a:lnTo>
                  <a:lnTo>
                    <a:pt x="143" y="153"/>
                  </a:lnTo>
                  <a:lnTo>
                    <a:pt x="212" y="95"/>
                  </a:lnTo>
                  <a:lnTo>
                    <a:pt x="130" y="95"/>
                  </a:lnTo>
                  <a:lnTo>
                    <a:pt x="106" y="0"/>
                  </a:lnTo>
                  <a:close/>
                </a:path>
              </a:pathLst>
            </a:custGeom>
            <a:noFill/>
            <a:ln cap="rnd" w="12600">
              <a:solidFill>
                <a:srgbClr val="3d3d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4309920" y="2992320"/>
            <a:ext cx="336600" cy="393840"/>
            <a:chOff x="4309920" y="2992320"/>
            <a:chExt cx="336600" cy="393840"/>
          </a:xfrm>
        </p:grpSpPr>
        <p:sp>
          <p:nvSpPr>
            <p:cNvPr id="197" name=""/>
            <p:cNvSpPr/>
            <p:nvPr/>
          </p:nvSpPr>
          <p:spPr>
            <a:xfrm>
              <a:off x="4309920" y="2992320"/>
              <a:ext cx="336600" cy="393840"/>
            </a:xfrm>
            <a:custGeom>
              <a:avLst/>
              <a:gdLst/>
              <a:ahLst/>
              <a:rect l="l" t="t" r="r" b="b"/>
              <a:pathLst>
                <a:path w="212" h="248">
                  <a:moveTo>
                    <a:pt x="106" y="0"/>
                  </a:moveTo>
                  <a:lnTo>
                    <a:pt x="81" y="95"/>
                  </a:lnTo>
                  <a:lnTo>
                    <a:pt x="0" y="95"/>
                  </a:lnTo>
                  <a:lnTo>
                    <a:pt x="65" y="157"/>
                  </a:lnTo>
                  <a:lnTo>
                    <a:pt x="40" y="248"/>
                  </a:lnTo>
                  <a:lnTo>
                    <a:pt x="106" y="190"/>
                  </a:lnTo>
                  <a:lnTo>
                    <a:pt x="171" y="248"/>
                  </a:lnTo>
                  <a:lnTo>
                    <a:pt x="147" y="157"/>
                  </a:lnTo>
                  <a:lnTo>
                    <a:pt x="212" y="95"/>
                  </a:lnTo>
                  <a:lnTo>
                    <a:pt x="130" y="9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6c2b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309920" y="2992320"/>
              <a:ext cx="336600" cy="393840"/>
            </a:xfrm>
            <a:custGeom>
              <a:avLst/>
              <a:gdLst/>
              <a:ahLst/>
              <a:rect l="l" t="t" r="r" b="b"/>
              <a:pathLst>
                <a:path w="212" h="248">
                  <a:moveTo>
                    <a:pt x="106" y="0"/>
                  </a:moveTo>
                  <a:lnTo>
                    <a:pt x="81" y="95"/>
                  </a:lnTo>
                  <a:lnTo>
                    <a:pt x="0" y="95"/>
                  </a:lnTo>
                  <a:lnTo>
                    <a:pt x="65" y="157"/>
                  </a:lnTo>
                  <a:lnTo>
                    <a:pt x="40" y="248"/>
                  </a:lnTo>
                  <a:lnTo>
                    <a:pt x="106" y="190"/>
                  </a:lnTo>
                  <a:lnTo>
                    <a:pt x="171" y="248"/>
                  </a:lnTo>
                  <a:lnTo>
                    <a:pt x="147" y="157"/>
                  </a:lnTo>
                  <a:lnTo>
                    <a:pt x="212" y="95"/>
                  </a:lnTo>
                  <a:lnTo>
                    <a:pt x="130" y="95"/>
                  </a:lnTo>
                  <a:lnTo>
                    <a:pt x="106" y="0"/>
                  </a:lnTo>
                  <a:close/>
                </a:path>
              </a:pathLst>
            </a:custGeom>
            <a:noFill/>
            <a:ln cap="rnd" w="12600">
              <a:solidFill>
                <a:srgbClr val="3d3d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4921200" y="2971800"/>
            <a:ext cx="412560" cy="456840"/>
            <a:chOff x="4921200" y="2971800"/>
            <a:chExt cx="412560" cy="456840"/>
          </a:xfrm>
        </p:grpSpPr>
        <p:sp>
          <p:nvSpPr>
            <p:cNvPr id="200" name=""/>
            <p:cNvSpPr/>
            <p:nvPr/>
          </p:nvSpPr>
          <p:spPr>
            <a:xfrm>
              <a:off x="4921200" y="2971800"/>
              <a:ext cx="412560" cy="456840"/>
            </a:xfrm>
            <a:custGeom>
              <a:avLst/>
              <a:gdLst/>
              <a:ahLst/>
              <a:rect l="l" t="t" r="r" b="b"/>
              <a:pathLst>
                <a:path w="212" h="247">
                  <a:moveTo>
                    <a:pt x="106" y="0"/>
                  </a:moveTo>
                  <a:lnTo>
                    <a:pt x="81" y="94"/>
                  </a:lnTo>
                  <a:lnTo>
                    <a:pt x="0" y="94"/>
                  </a:lnTo>
                  <a:lnTo>
                    <a:pt x="69" y="152"/>
                  </a:lnTo>
                  <a:lnTo>
                    <a:pt x="44" y="247"/>
                  </a:lnTo>
                  <a:lnTo>
                    <a:pt x="106" y="189"/>
                  </a:lnTo>
                  <a:lnTo>
                    <a:pt x="171" y="247"/>
                  </a:lnTo>
                  <a:lnTo>
                    <a:pt x="147" y="152"/>
                  </a:lnTo>
                  <a:lnTo>
                    <a:pt x="212" y="94"/>
                  </a:lnTo>
                  <a:lnTo>
                    <a:pt x="134" y="94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6c2b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921200" y="2971800"/>
              <a:ext cx="412560" cy="456840"/>
            </a:xfrm>
            <a:custGeom>
              <a:avLst/>
              <a:gdLst/>
              <a:ahLst/>
              <a:rect l="l" t="t" r="r" b="b"/>
              <a:pathLst>
                <a:path w="212" h="247">
                  <a:moveTo>
                    <a:pt x="106" y="0"/>
                  </a:moveTo>
                  <a:lnTo>
                    <a:pt x="81" y="94"/>
                  </a:lnTo>
                  <a:lnTo>
                    <a:pt x="0" y="94"/>
                  </a:lnTo>
                  <a:lnTo>
                    <a:pt x="69" y="152"/>
                  </a:lnTo>
                  <a:lnTo>
                    <a:pt x="44" y="247"/>
                  </a:lnTo>
                  <a:lnTo>
                    <a:pt x="106" y="189"/>
                  </a:lnTo>
                  <a:lnTo>
                    <a:pt x="171" y="247"/>
                  </a:lnTo>
                  <a:lnTo>
                    <a:pt x="147" y="152"/>
                  </a:lnTo>
                  <a:lnTo>
                    <a:pt x="212" y="94"/>
                  </a:lnTo>
                  <a:lnTo>
                    <a:pt x="134" y="94"/>
                  </a:lnTo>
                  <a:lnTo>
                    <a:pt x="106" y="0"/>
                  </a:lnTo>
                  <a:close/>
                </a:path>
              </a:pathLst>
            </a:custGeom>
            <a:noFill/>
            <a:ln cap="rnd" w="12600">
              <a:solidFill>
                <a:srgbClr val="3d3d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4302000" y="3726000"/>
            <a:ext cx="338040" cy="393480"/>
            <a:chOff x="4302000" y="3726000"/>
            <a:chExt cx="338040" cy="393480"/>
          </a:xfrm>
        </p:grpSpPr>
        <p:sp>
          <p:nvSpPr>
            <p:cNvPr id="203" name=""/>
            <p:cNvSpPr/>
            <p:nvPr/>
          </p:nvSpPr>
          <p:spPr>
            <a:xfrm>
              <a:off x="4302000" y="3726000"/>
              <a:ext cx="338040" cy="393480"/>
            </a:xfrm>
            <a:custGeom>
              <a:avLst/>
              <a:gdLst/>
              <a:ahLst/>
              <a:rect l="l" t="t" r="r" b="b"/>
              <a:pathLst>
                <a:path w="213" h="248">
                  <a:moveTo>
                    <a:pt x="107" y="0"/>
                  </a:moveTo>
                  <a:lnTo>
                    <a:pt x="82" y="95"/>
                  </a:lnTo>
                  <a:lnTo>
                    <a:pt x="0" y="95"/>
                  </a:lnTo>
                  <a:lnTo>
                    <a:pt x="66" y="153"/>
                  </a:lnTo>
                  <a:lnTo>
                    <a:pt x="41" y="248"/>
                  </a:lnTo>
                  <a:lnTo>
                    <a:pt x="107" y="190"/>
                  </a:lnTo>
                  <a:lnTo>
                    <a:pt x="172" y="248"/>
                  </a:lnTo>
                  <a:lnTo>
                    <a:pt x="143" y="153"/>
                  </a:lnTo>
                  <a:lnTo>
                    <a:pt x="213" y="95"/>
                  </a:lnTo>
                  <a:lnTo>
                    <a:pt x="131" y="95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6c2b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02000" y="3726000"/>
              <a:ext cx="338040" cy="393480"/>
            </a:xfrm>
            <a:custGeom>
              <a:avLst/>
              <a:gdLst/>
              <a:ahLst/>
              <a:rect l="l" t="t" r="r" b="b"/>
              <a:pathLst>
                <a:path w="213" h="248">
                  <a:moveTo>
                    <a:pt x="107" y="0"/>
                  </a:moveTo>
                  <a:lnTo>
                    <a:pt x="82" y="95"/>
                  </a:lnTo>
                  <a:lnTo>
                    <a:pt x="0" y="95"/>
                  </a:lnTo>
                  <a:lnTo>
                    <a:pt x="66" y="153"/>
                  </a:lnTo>
                  <a:lnTo>
                    <a:pt x="41" y="248"/>
                  </a:lnTo>
                  <a:lnTo>
                    <a:pt x="107" y="190"/>
                  </a:lnTo>
                  <a:lnTo>
                    <a:pt x="172" y="248"/>
                  </a:lnTo>
                  <a:lnTo>
                    <a:pt x="143" y="153"/>
                  </a:lnTo>
                  <a:lnTo>
                    <a:pt x="213" y="95"/>
                  </a:lnTo>
                  <a:lnTo>
                    <a:pt x="131" y="95"/>
                  </a:lnTo>
                  <a:lnTo>
                    <a:pt x="107" y="0"/>
                  </a:lnTo>
                  <a:close/>
                </a:path>
              </a:pathLst>
            </a:custGeom>
            <a:noFill/>
            <a:ln cap="rnd" w="12600">
              <a:solidFill>
                <a:srgbClr val="3d3d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4648320" y="3733920"/>
            <a:ext cx="338040" cy="393480"/>
            <a:chOff x="4648320" y="3733920"/>
            <a:chExt cx="338040" cy="393480"/>
          </a:xfrm>
        </p:grpSpPr>
        <p:sp>
          <p:nvSpPr>
            <p:cNvPr id="206" name=""/>
            <p:cNvSpPr/>
            <p:nvPr/>
          </p:nvSpPr>
          <p:spPr>
            <a:xfrm>
              <a:off x="4648320" y="3733920"/>
              <a:ext cx="338040" cy="393480"/>
            </a:xfrm>
            <a:custGeom>
              <a:avLst/>
              <a:gdLst/>
              <a:ahLst/>
              <a:rect l="l" t="t" r="r" b="b"/>
              <a:pathLst>
                <a:path w="213" h="248">
                  <a:moveTo>
                    <a:pt x="107" y="0"/>
                  </a:moveTo>
                  <a:lnTo>
                    <a:pt x="82" y="95"/>
                  </a:lnTo>
                  <a:lnTo>
                    <a:pt x="0" y="95"/>
                  </a:lnTo>
                  <a:lnTo>
                    <a:pt x="66" y="157"/>
                  </a:lnTo>
                  <a:lnTo>
                    <a:pt x="41" y="248"/>
                  </a:lnTo>
                  <a:lnTo>
                    <a:pt x="107" y="194"/>
                  </a:lnTo>
                  <a:lnTo>
                    <a:pt x="172" y="248"/>
                  </a:lnTo>
                  <a:lnTo>
                    <a:pt x="147" y="157"/>
                  </a:lnTo>
                  <a:lnTo>
                    <a:pt x="213" y="95"/>
                  </a:lnTo>
                  <a:lnTo>
                    <a:pt x="131" y="95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6c2b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648320" y="3733920"/>
              <a:ext cx="338040" cy="393480"/>
            </a:xfrm>
            <a:custGeom>
              <a:avLst/>
              <a:gdLst/>
              <a:ahLst/>
              <a:rect l="l" t="t" r="r" b="b"/>
              <a:pathLst>
                <a:path w="213" h="248">
                  <a:moveTo>
                    <a:pt x="107" y="0"/>
                  </a:moveTo>
                  <a:lnTo>
                    <a:pt x="82" y="95"/>
                  </a:lnTo>
                  <a:lnTo>
                    <a:pt x="0" y="95"/>
                  </a:lnTo>
                  <a:lnTo>
                    <a:pt x="66" y="157"/>
                  </a:lnTo>
                  <a:lnTo>
                    <a:pt x="41" y="248"/>
                  </a:lnTo>
                  <a:lnTo>
                    <a:pt x="107" y="194"/>
                  </a:lnTo>
                  <a:lnTo>
                    <a:pt x="172" y="248"/>
                  </a:lnTo>
                  <a:lnTo>
                    <a:pt x="147" y="157"/>
                  </a:lnTo>
                  <a:lnTo>
                    <a:pt x="213" y="95"/>
                  </a:lnTo>
                  <a:lnTo>
                    <a:pt x="131" y="95"/>
                  </a:lnTo>
                  <a:lnTo>
                    <a:pt x="107" y="0"/>
                  </a:lnTo>
                  <a:close/>
                </a:path>
              </a:pathLst>
            </a:custGeom>
            <a:noFill/>
            <a:ln cap="rnd" w="12600">
              <a:solidFill>
                <a:srgbClr val="3d3d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543560" y="1676520"/>
            <a:ext cx="336240" cy="393480"/>
            <a:chOff x="4543560" y="1676520"/>
            <a:chExt cx="336240" cy="393480"/>
          </a:xfrm>
        </p:grpSpPr>
        <p:sp>
          <p:nvSpPr>
            <p:cNvPr id="209" name=""/>
            <p:cNvSpPr/>
            <p:nvPr/>
          </p:nvSpPr>
          <p:spPr>
            <a:xfrm>
              <a:off x="4543560" y="1676520"/>
              <a:ext cx="336240" cy="393480"/>
            </a:xfrm>
            <a:custGeom>
              <a:avLst/>
              <a:gdLst/>
              <a:ahLst/>
              <a:rect l="l" t="t" r="r" b="b"/>
              <a:pathLst>
                <a:path w="212" h="248">
                  <a:moveTo>
                    <a:pt x="106" y="0"/>
                  </a:moveTo>
                  <a:lnTo>
                    <a:pt x="81" y="95"/>
                  </a:lnTo>
                  <a:lnTo>
                    <a:pt x="0" y="95"/>
                  </a:lnTo>
                  <a:lnTo>
                    <a:pt x="69" y="153"/>
                  </a:lnTo>
                  <a:lnTo>
                    <a:pt x="44" y="248"/>
                  </a:lnTo>
                  <a:lnTo>
                    <a:pt x="106" y="190"/>
                  </a:lnTo>
                  <a:lnTo>
                    <a:pt x="171" y="248"/>
                  </a:lnTo>
                  <a:lnTo>
                    <a:pt x="147" y="153"/>
                  </a:lnTo>
                  <a:lnTo>
                    <a:pt x="212" y="95"/>
                  </a:lnTo>
                  <a:lnTo>
                    <a:pt x="134" y="9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6c2b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543560" y="1676520"/>
              <a:ext cx="336240" cy="393480"/>
            </a:xfrm>
            <a:custGeom>
              <a:avLst/>
              <a:gdLst/>
              <a:ahLst/>
              <a:rect l="l" t="t" r="r" b="b"/>
              <a:pathLst>
                <a:path w="212" h="248">
                  <a:moveTo>
                    <a:pt x="106" y="0"/>
                  </a:moveTo>
                  <a:lnTo>
                    <a:pt x="81" y="95"/>
                  </a:lnTo>
                  <a:lnTo>
                    <a:pt x="0" y="95"/>
                  </a:lnTo>
                  <a:lnTo>
                    <a:pt x="69" y="153"/>
                  </a:lnTo>
                  <a:lnTo>
                    <a:pt x="44" y="248"/>
                  </a:lnTo>
                  <a:lnTo>
                    <a:pt x="106" y="190"/>
                  </a:lnTo>
                  <a:lnTo>
                    <a:pt x="171" y="248"/>
                  </a:lnTo>
                  <a:lnTo>
                    <a:pt x="147" y="153"/>
                  </a:lnTo>
                  <a:lnTo>
                    <a:pt x="212" y="95"/>
                  </a:lnTo>
                  <a:lnTo>
                    <a:pt x="134" y="95"/>
                  </a:lnTo>
                  <a:lnTo>
                    <a:pt x="106" y="0"/>
                  </a:lnTo>
                  <a:close/>
                </a:path>
              </a:pathLst>
            </a:custGeom>
            <a:noFill/>
            <a:ln cap="rnd" w="12600">
              <a:solidFill>
                <a:srgbClr val="3d3d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4322880" y="1676520"/>
            <a:ext cx="336600" cy="393480"/>
            <a:chOff x="4322880" y="1676520"/>
            <a:chExt cx="336600" cy="393480"/>
          </a:xfrm>
        </p:grpSpPr>
        <p:sp>
          <p:nvSpPr>
            <p:cNvPr id="212" name=""/>
            <p:cNvSpPr/>
            <p:nvPr/>
          </p:nvSpPr>
          <p:spPr>
            <a:xfrm>
              <a:off x="4322880" y="1676520"/>
              <a:ext cx="336600" cy="393480"/>
            </a:xfrm>
            <a:custGeom>
              <a:avLst/>
              <a:gdLst/>
              <a:ahLst/>
              <a:rect l="l" t="t" r="r" b="b"/>
              <a:pathLst>
                <a:path w="212" h="248">
                  <a:moveTo>
                    <a:pt x="106" y="0"/>
                  </a:moveTo>
                  <a:lnTo>
                    <a:pt x="81" y="95"/>
                  </a:lnTo>
                  <a:lnTo>
                    <a:pt x="0" y="95"/>
                  </a:lnTo>
                  <a:lnTo>
                    <a:pt x="65" y="153"/>
                  </a:lnTo>
                  <a:lnTo>
                    <a:pt x="41" y="248"/>
                  </a:lnTo>
                  <a:lnTo>
                    <a:pt x="106" y="190"/>
                  </a:lnTo>
                  <a:lnTo>
                    <a:pt x="171" y="248"/>
                  </a:lnTo>
                  <a:lnTo>
                    <a:pt x="147" y="153"/>
                  </a:lnTo>
                  <a:lnTo>
                    <a:pt x="212" y="95"/>
                  </a:lnTo>
                  <a:lnTo>
                    <a:pt x="130" y="9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6c2b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22880" y="1676520"/>
              <a:ext cx="336600" cy="393480"/>
            </a:xfrm>
            <a:custGeom>
              <a:avLst/>
              <a:gdLst/>
              <a:ahLst/>
              <a:rect l="l" t="t" r="r" b="b"/>
              <a:pathLst>
                <a:path w="212" h="248">
                  <a:moveTo>
                    <a:pt x="106" y="0"/>
                  </a:moveTo>
                  <a:lnTo>
                    <a:pt x="81" y="95"/>
                  </a:lnTo>
                  <a:lnTo>
                    <a:pt x="0" y="95"/>
                  </a:lnTo>
                  <a:lnTo>
                    <a:pt x="65" y="153"/>
                  </a:lnTo>
                  <a:lnTo>
                    <a:pt x="41" y="248"/>
                  </a:lnTo>
                  <a:lnTo>
                    <a:pt x="106" y="190"/>
                  </a:lnTo>
                  <a:lnTo>
                    <a:pt x="171" y="248"/>
                  </a:lnTo>
                  <a:lnTo>
                    <a:pt x="147" y="153"/>
                  </a:lnTo>
                  <a:lnTo>
                    <a:pt x="212" y="95"/>
                  </a:lnTo>
                  <a:lnTo>
                    <a:pt x="130" y="95"/>
                  </a:lnTo>
                  <a:lnTo>
                    <a:pt x="106" y="0"/>
                  </a:lnTo>
                  <a:close/>
                </a:path>
              </a:pathLst>
            </a:custGeom>
            <a:noFill/>
            <a:ln cap="rnd" w="12600">
              <a:solidFill>
                <a:srgbClr val="3d3d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4529160" y="2338560"/>
            <a:ext cx="338040" cy="392040"/>
            <a:chOff x="4529160" y="2338560"/>
            <a:chExt cx="338040" cy="392040"/>
          </a:xfrm>
        </p:grpSpPr>
        <p:sp>
          <p:nvSpPr>
            <p:cNvPr id="215" name=""/>
            <p:cNvSpPr/>
            <p:nvPr/>
          </p:nvSpPr>
          <p:spPr>
            <a:xfrm>
              <a:off x="4529160" y="2338560"/>
              <a:ext cx="338040" cy="392040"/>
            </a:xfrm>
            <a:custGeom>
              <a:avLst/>
              <a:gdLst/>
              <a:ahLst/>
              <a:rect l="l" t="t" r="r" b="b"/>
              <a:pathLst>
                <a:path w="213" h="247">
                  <a:moveTo>
                    <a:pt x="107" y="0"/>
                  </a:moveTo>
                  <a:lnTo>
                    <a:pt x="82" y="95"/>
                  </a:lnTo>
                  <a:lnTo>
                    <a:pt x="0" y="95"/>
                  </a:lnTo>
                  <a:lnTo>
                    <a:pt x="70" y="153"/>
                  </a:lnTo>
                  <a:lnTo>
                    <a:pt x="45" y="247"/>
                  </a:lnTo>
                  <a:lnTo>
                    <a:pt x="107" y="190"/>
                  </a:lnTo>
                  <a:lnTo>
                    <a:pt x="172" y="247"/>
                  </a:lnTo>
                  <a:lnTo>
                    <a:pt x="147" y="153"/>
                  </a:lnTo>
                  <a:lnTo>
                    <a:pt x="213" y="95"/>
                  </a:lnTo>
                  <a:lnTo>
                    <a:pt x="135" y="95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6c2b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29160" y="2338560"/>
              <a:ext cx="338040" cy="392040"/>
            </a:xfrm>
            <a:custGeom>
              <a:avLst/>
              <a:gdLst/>
              <a:ahLst/>
              <a:rect l="l" t="t" r="r" b="b"/>
              <a:pathLst>
                <a:path w="213" h="247">
                  <a:moveTo>
                    <a:pt x="107" y="0"/>
                  </a:moveTo>
                  <a:lnTo>
                    <a:pt x="82" y="95"/>
                  </a:lnTo>
                  <a:lnTo>
                    <a:pt x="0" y="95"/>
                  </a:lnTo>
                  <a:lnTo>
                    <a:pt x="70" y="153"/>
                  </a:lnTo>
                  <a:lnTo>
                    <a:pt x="45" y="247"/>
                  </a:lnTo>
                  <a:lnTo>
                    <a:pt x="107" y="190"/>
                  </a:lnTo>
                  <a:lnTo>
                    <a:pt x="172" y="247"/>
                  </a:lnTo>
                  <a:lnTo>
                    <a:pt x="147" y="153"/>
                  </a:lnTo>
                  <a:lnTo>
                    <a:pt x="213" y="95"/>
                  </a:lnTo>
                  <a:lnTo>
                    <a:pt x="135" y="95"/>
                  </a:lnTo>
                  <a:lnTo>
                    <a:pt x="107" y="0"/>
                  </a:lnTo>
                  <a:close/>
                </a:path>
              </a:pathLst>
            </a:custGeom>
            <a:noFill/>
            <a:ln cap="rnd" w="12600">
              <a:solidFill>
                <a:srgbClr val="3d3d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4309920" y="2338560"/>
            <a:ext cx="336600" cy="392040"/>
            <a:chOff x="4309920" y="2338560"/>
            <a:chExt cx="336600" cy="392040"/>
          </a:xfrm>
        </p:grpSpPr>
        <p:sp>
          <p:nvSpPr>
            <p:cNvPr id="218" name=""/>
            <p:cNvSpPr/>
            <p:nvPr/>
          </p:nvSpPr>
          <p:spPr>
            <a:xfrm>
              <a:off x="4309920" y="2338560"/>
              <a:ext cx="336600" cy="392040"/>
            </a:xfrm>
            <a:custGeom>
              <a:avLst/>
              <a:gdLst/>
              <a:ahLst/>
              <a:rect l="l" t="t" r="r" b="b"/>
              <a:pathLst>
                <a:path w="212" h="247">
                  <a:moveTo>
                    <a:pt x="106" y="0"/>
                  </a:moveTo>
                  <a:lnTo>
                    <a:pt x="81" y="95"/>
                  </a:lnTo>
                  <a:lnTo>
                    <a:pt x="0" y="95"/>
                  </a:lnTo>
                  <a:lnTo>
                    <a:pt x="65" y="153"/>
                  </a:lnTo>
                  <a:lnTo>
                    <a:pt x="40" y="247"/>
                  </a:lnTo>
                  <a:lnTo>
                    <a:pt x="106" y="190"/>
                  </a:lnTo>
                  <a:lnTo>
                    <a:pt x="171" y="247"/>
                  </a:lnTo>
                  <a:lnTo>
                    <a:pt x="147" y="153"/>
                  </a:lnTo>
                  <a:lnTo>
                    <a:pt x="212" y="95"/>
                  </a:lnTo>
                  <a:lnTo>
                    <a:pt x="130" y="9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6c2b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09920" y="2338560"/>
              <a:ext cx="336600" cy="392040"/>
            </a:xfrm>
            <a:custGeom>
              <a:avLst/>
              <a:gdLst/>
              <a:ahLst/>
              <a:rect l="l" t="t" r="r" b="b"/>
              <a:pathLst>
                <a:path w="212" h="247">
                  <a:moveTo>
                    <a:pt x="106" y="0"/>
                  </a:moveTo>
                  <a:lnTo>
                    <a:pt x="81" y="95"/>
                  </a:lnTo>
                  <a:lnTo>
                    <a:pt x="0" y="95"/>
                  </a:lnTo>
                  <a:lnTo>
                    <a:pt x="65" y="153"/>
                  </a:lnTo>
                  <a:lnTo>
                    <a:pt x="40" y="247"/>
                  </a:lnTo>
                  <a:lnTo>
                    <a:pt x="106" y="190"/>
                  </a:lnTo>
                  <a:lnTo>
                    <a:pt x="171" y="247"/>
                  </a:lnTo>
                  <a:lnTo>
                    <a:pt x="147" y="153"/>
                  </a:lnTo>
                  <a:lnTo>
                    <a:pt x="212" y="95"/>
                  </a:lnTo>
                  <a:lnTo>
                    <a:pt x="130" y="95"/>
                  </a:lnTo>
                  <a:lnTo>
                    <a:pt x="106" y="0"/>
                  </a:lnTo>
                  <a:close/>
                </a:path>
              </a:pathLst>
            </a:custGeom>
            <a:noFill/>
            <a:ln cap="rnd" w="12600">
              <a:solidFill>
                <a:srgbClr val="3d3d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 txBox="1"/>
          <p:nvPr/>
        </p:nvSpPr>
        <p:spPr>
          <a:xfrm>
            <a:off x="7543800" y="304920"/>
            <a:ext cx="1009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HQR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ith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CUP Dat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C331-51F0-4E0E-81C2-C07B1EFD42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259080" y="4897440"/>
            <a:ext cx="98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59080" y="4060800"/>
            <a:ext cx="98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59080" y="2919240"/>
            <a:ext cx="9864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74960" y="1724040"/>
            <a:ext cx="9129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Number of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892600" y="1925640"/>
            <a:ext cx="826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Indicato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89520" y="5530680"/>
            <a:ext cx="3389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Obstetric Injuries, 3rd or 4th Degree Lacera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89520" y="5713560"/>
            <a:ext cx="39751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Cesarean Delivery; Foreign Body Left During Procedure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89520" y="5896080"/>
            <a:ext cx="91260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Death in L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413320" y="5902200"/>
            <a:ext cx="1611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; Transfusion Reac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46320" y="5578560"/>
            <a:ext cx="11188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d3d3c"/>
                </a:solidFill>
                <a:latin typeface="Arial"/>
              </a:rPr>
              <a:t>Not Applicab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90520" y="5821200"/>
            <a:ext cx="12304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d3d3c"/>
                </a:solidFill>
                <a:latin typeface="Arial"/>
              </a:rPr>
              <a:t>(Too few case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89520" y="4660920"/>
            <a:ext cx="36417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Accidental Puncture or Laceration; Complications 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89520" y="4843440"/>
            <a:ext cx="357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Anesthesia; Postoperative Pulmonary Embolism 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89520" y="5025960"/>
            <a:ext cx="2412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Deep Vein Thrombosis; Iatrogenic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74600" y="5002200"/>
            <a:ext cx="14623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Worse  th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30280" y="5221440"/>
            <a:ext cx="7509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expect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89520" y="3821040"/>
            <a:ext cx="3328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Postoperative Hip Fracture Rate; Postoperati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89520" y="4003560"/>
            <a:ext cx="11001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Hemorrhage 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091120" y="4003560"/>
            <a:ext cx="7682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Hemato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859360" y="4003560"/>
            <a:ext cx="1935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; Postoperative Respirator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989520" y="4186080"/>
            <a:ext cx="3666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Failure; Postoperative Sepsis; Postoperative Woun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89520" y="4368960"/>
            <a:ext cx="8190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Dehisc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89520" y="2438280"/>
            <a:ext cx="698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Decubit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32200" y="2438280"/>
            <a:ext cx="31370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Ulcer; Failure to Rescue; Selected Infec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89520" y="2620800"/>
            <a:ext cx="350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Due to Medical Care; Postoperative Physiologic &amp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89520" y="2803680"/>
            <a:ext cx="37303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Metabolic Derangement; Obstetric Injuries, 3rd or 4th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89520" y="2986200"/>
            <a:ext cx="14112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Degree Lacera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402160" y="2986200"/>
            <a:ext cx="540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497560" y="2986200"/>
            <a:ext cx="23652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Vaginal Delivery With Instrumen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89520" y="3168720"/>
            <a:ext cx="338904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Obstetric Injuries, 3rd or 4th Degree Lacera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989520" y="3349800"/>
            <a:ext cx="36716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Vaginal Delivery Without Instrument; Birth Injuries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89520" y="3532320"/>
            <a:ext cx="758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Newborn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349280" y="3159000"/>
            <a:ext cx="9129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Better th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430280" y="3400560"/>
            <a:ext cx="75096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expect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40240" y="1724040"/>
            <a:ext cx="12304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Indicator Lab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055520" y="1724040"/>
            <a:ext cx="11192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Compared to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55520" y="1925640"/>
            <a:ext cx="1582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States with Simila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055520" y="2125800"/>
            <a:ext cx="15224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Patient Popul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90720" y="1676520"/>
            <a:ext cx="7095960" cy="2880"/>
          </a:xfrm>
          <a:prstGeom prst="line">
            <a:avLst/>
          </a:prstGeom>
          <a:ln cap="sq" w="1260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41400" y="2370240"/>
            <a:ext cx="7094520" cy="1440"/>
          </a:xfrm>
          <a:prstGeom prst="line">
            <a:avLst/>
          </a:prstGeom>
          <a:ln w="1260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41400" y="3754440"/>
            <a:ext cx="7094520" cy="1440"/>
          </a:xfrm>
          <a:prstGeom prst="line">
            <a:avLst/>
          </a:prstGeom>
          <a:ln w="1260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41400" y="4592520"/>
            <a:ext cx="7094520" cy="1800"/>
          </a:xfrm>
          <a:prstGeom prst="line">
            <a:avLst/>
          </a:prstGeom>
          <a:ln w="1260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41400" y="5452920"/>
            <a:ext cx="7094520" cy="1800"/>
          </a:xfrm>
          <a:prstGeom prst="line">
            <a:avLst/>
          </a:prstGeom>
          <a:ln w="1260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41400" y="6230880"/>
            <a:ext cx="7094520" cy="3240"/>
          </a:xfrm>
          <a:prstGeom prst="line">
            <a:avLst/>
          </a:prstGeom>
          <a:ln cap="sq" w="1260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739960" y="1657440"/>
            <a:ext cx="1800" cy="4414680"/>
          </a:xfrm>
          <a:prstGeom prst="line">
            <a:avLst/>
          </a:prstGeom>
          <a:ln w="1260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035920" y="1657440"/>
            <a:ext cx="41400" cy="4667040"/>
          </a:xfrm>
          <a:prstGeom prst="line">
            <a:avLst/>
          </a:prstGeom>
          <a:ln cap="sq" w="1260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75040" y="1657440"/>
            <a:ext cx="1800" cy="4576680"/>
          </a:xfrm>
          <a:prstGeom prst="line">
            <a:avLst/>
          </a:prstGeom>
          <a:ln w="1260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59080" y="5775480"/>
            <a:ext cx="39708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259080" y="4897440"/>
            <a:ext cx="98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59080" y="4060800"/>
            <a:ext cx="98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59080" y="2919240"/>
            <a:ext cx="9864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874960" y="1724040"/>
            <a:ext cx="9129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Number of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892600" y="1925640"/>
            <a:ext cx="826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Indicato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948200" y="5902200"/>
            <a:ext cx="4651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DR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89520" y="4660920"/>
            <a:ext cx="36417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Accidental Puncture or Laceration; Complications 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989520" y="4843440"/>
            <a:ext cx="357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Anesthesia; Postoperative Pulmonary Embolism 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989520" y="5025960"/>
            <a:ext cx="2412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Deep Vein Thrombosis; Iatrogenic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242040" y="5037120"/>
            <a:ext cx="10191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Pneumothora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89520" y="3821040"/>
            <a:ext cx="3328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Postoperative Hip Fracture Rate; Postoperati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89520" y="4003560"/>
            <a:ext cx="11001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Hemorrhage 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091120" y="4003560"/>
            <a:ext cx="7682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Hemato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859360" y="4003560"/>
            <a:ext cx="1935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; Postoperative Respirator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989520" y="4186080"/>
            <a:ext cx="3666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Failure; Postoperative Sepsis; Postoperative Woun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89520" y="4368960"/>
            <a:ext cx="8190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Dehisc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054080" y="4302000"/>
            <a:ext cx="15033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Same as expect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989520" y="2438280"/>
            <a:ext cx="698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Decubit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732200" y="2438280"/>
            <a:ext cx="31370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Ulcer; Failure to Rescue; Selected Infec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89520" y="2620800"/>
            <a:ext cx="350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Due to Medical Care; Postoperative Physiologic &amp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989520" y="2803680"/>
            <a:ext cx="37303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Metabolic Derangement; Obstetric Injuries, 3rd or 4th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989520" y="2986200"/>
            <a:ext cx="14112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Degree Lacera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402160" y="2986200"/>
            <a:ext cx="540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97560" y="2986200"/>
            <a:ext cx="23652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Vaginal Delivery With Instrumen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89520" y="3168720"/>
            <a:ext cx="338904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Obstetric Injuries, 3rd or 4th Degree Lacera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159680" y="3168720"/>
            <a:ext cx="5400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89520" y="3349800"/>
            <a:ext cx="36716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Vaginal Delivery Without Instrument; Birth Injuries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989520" y="3532320"/>
            <a:ext cx="758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Newborn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340240" y="1724040"/>
            <a:ext cx="12304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Indicator Lab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055520" y="1724040"/>
            <a:ext cx="11192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Compared to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55520" y="1925640"/>
            <a:ext cx="1582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States with Simila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55520" y="2125800"/>
            <a:ext cx="15224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Patient Popul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41400" y="2370240"/>
            <a:ext cx="7094520" cy="1440"/>
          </a:xfrm>
          <a:prstGeom prst="line">
            <a:avLst/>
          </a:prstGeom>
          <a:ln w="1260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41400" y="3754440"/>
            <a:ext cx="7094520" cy="1440"/>
          </a:xfrm>
          <a:prstGeom prst="line">
            <a:avLst/>
          </a:prstGeom>
          <a:ln w="1260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41400" y="4592520"/>
            <a:ext cx="7094520" cy="1800"/>
          </a:xfrm>
          <a:prstGeom prst="line">
            <a:avLst/>
          </a:prstGeom>
          <a:ln w="1260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936360" y="1657440"/>
            <a:ext cx="4680" cy="4576680"/>
          </a:xfrm>
          <a:prstGeom prst="line">
            <a:avLst/>
          </a:prstGeom>
          <a:ln cap="sq" w="1260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739960" y="1657440"/>
            <a:ext cx="1800" cy="4576680"/>
          </a:xfrm>
          <a:prstGeom prst="line">
            <a:avLst/>
          </a:prstGeom>
          <a:ln w="1260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319040" y="2610000"/>
            <a:ext cx="973080" cy="365040"/>
            <a:chOff x="1319040" y="2610000"/>
            <a:chExt cx="973080" cy="365040"/>
          </a:xfrm>
        </p:grpSpPr>
        <p:grpSp>
          <p:nvGrpSpPr>
            <p:cNvPr id="307" name=""/>
            <p:cNvGrpSpPr/>
            <p:nvPr/>
          </p:nvGrpSpPr>
          <p:grpSpPr>
            <a:xfrm>
              <a:off x="1319040" y="2610000"/>
              <a:ext cx="686880" cy="365040"/>
              <a:chOff x="1319040" y="2610000"/>
              <a:chExt cx="686880" cy="365040"/>
            </a:xfrm>
          </p:grpSpPr>
          <p:sp>
            <p:nvSpPr>
              <p:cNvPr id="308" name=""/>
              <p:cNvSpPr/>
              <p:nvPr/>
            </p:nvSpPr>
            <p:spPr>
              <a:xfrm>
                <a:off x="1662480" y="2610000"/>
                <a:ext cx="343440" cy="365040"/>
              </a:xfrm>
              <a:prstGeom prst="star5">
                <a:avLst/>
              </a:prstGeom>
              <a:solidFill>
                <a:srgbClr val="6b2a2b"/>
              </a:solidFill>
              <a:ln w="9360">
                <a:solidFill>
                  <a:srgbClr val="3d3d3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319040" y="2610000"/>
                <a:ext cx="343440" cy="365040"/>
              </a:xfrm>
              <a:prstGeom prst="star5">
                <a:avLst/>
              </a:prstGeom>
              <a:solidFill>
                <a:srgbClr val="6b2a2b"/>
              </a:solidFill>
              <a:ln w="9360">
                <a:solidFill>
                  <a:srgbClr val="3d3d3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1948680" y="2610000"/>
              <a:ext cx="343440" cy="365040"/>
            </a:xfrm>
            <a:prstGeom prst="star5">
              <a:avLst/>
            </a:prstGeom>
            <a:solidFill>
              <a:srgbClr val="6b2a2b"/>
            </a:solidFill>
            <a:ln w="936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1407960" y="3794040"/>
            <a:ext cx="795600" cy="365040"/>
            <a:chOff x="1407960" y="3794040"/>
            <a:chExt cx="795600" cy="365040"/>
          </a:xfrm>
        </p:grpSpPr>
        <p:sp>
          <p:nvSpPr>
            <p:cNvPr id="312" name=""/>
            <p:cNvSpPr/>
            <p:nvPr/>
          </p:nvSpPr>
          <p:spPr>
            <a:xfrm>
              <a:off x="1805760" y="3794040"/>
              <a:ext cx="397800" cy="365040"/>
            </a:xfrm>
            <a:prstGeom prst="star5">
              <a:avLst/>
            </a:prstGeom>
            <a:solidFill>
              <a:srgbClr val="6b2a2b"/>
            </a:solidFill>
            <a:ln w="936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407960" y="3794040"/>
              <a:ext cx="397800" cy="365040"/>
            </a:xfrm>
            <a:prstGeom prst="star5">
              <a:avLst/>
            </a:prstGeom>
            <a:solidFill>
              <a:srgbClr val="6b2a2b"/>
            </a:solidFill>
            <a:ln w="936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1628640" y="4614840"/>
            <a:ext cx="354240" cy="365040"/>
          </a:xfrm>
          <a:prstGeom prst="star5">
            <a:avLst/>
          </a:prstGeom>
          <a:solidFill>
            <a:srgbClr val="6b2a2b"/>
          </a:solidFill>
          <a:ln w="936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38080" y="380880"/>
            <a:ext cx="73152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d3d3c"/>
                </a:solidFill>
                <a:latin typeface="Arial"/>
              </a:rPr>
              <a:t>Performance Summary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d3d3c"/>
                </a:solidFill>
                <a:latin typeface="Arial"/>
              </a:rPr>
              <a:t>AHRQ Patient Safety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d3d3c"/>
                </a:solidFill>
                <a:latin typeface="Arial"/>
              </a:rPr>
              <a:t>Utah: 2003-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905120" y="6324480"/>
            <a:ext cx="57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Page 11, “Challenges in Utah’s Health Car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7543800" y="457200"/>
            <a:ext cx="914400" cy="6843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685800" y="228600"/>
            <a:ext cx="990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CUP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AE39-642D-418C-BA19-50CDCC7D42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1981080" y="2209680"/>
            <a:ext cx="5380200" cy="687240"/>
            <a:chOff x="1981080" y="2209680"/>
            <a:chExt cx="5380200" cy="687240"/>
          </a:xfrm>
        </p:grpSpPr>
        <p:grpSp>
          <p:nvGrpSpPr>
            <p:cNvPr id="320" name=""/>
            <p:cNvGrpSpPr/>
            <p:nvPr/>
          </p:nvGrpSpPr>
          <p:grpSpPr>
            <a:xfrm>
              <a:off x="1981080" y="2209680"/>
              <a:ext cx="1218960" cy="407520"/>
              <a:chOff x="1981080" y="2209680"/>
              <a:chExt cx="1218960" cy="40752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1981080" y="2209680"/>
                <a:ext cx="860400" cy="407160"/>
                <a:chOff x="1981080" y="2209680"/>
                <a:chExt cx="860400" cy="40716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2411280" y="2209680"/>
                  <a:ext cx="430200" cy="407160"/>
                </a:xfrm>
                <a:prstGeom prst="star5">
                  <a:avLst/>
                </a:prstGeom>
                <a:solidFill>
                  <a:srgbClr val="6b2a2b"/>
                </a:solidFill>
                <a:ln w="9360">
                  <a:solidFill>
                    <a:srgbClr val="3d3d3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981080" y="2209680"/>
                  <a:ext cx="430200" cy="407160"/>
                </a:xfrm>
                <a:prstGeom prst="star5">
                  <a:avLst/>
                </a:prstGeom>
                <a:solidFill>
                  <a:srgbClr val="6b2a2b"/>
                </a:solidFill>
                <a:ln w="9360">
                  <a:solidFill>
                    <a:srgbClr val="3d3d3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4" name=""/>
              <p:cNvSpPr/>
              <p:nvPr/>
            </p:nvSpPr>
            <p:spPr>
              <a:xfrm>
                <a:off x="2769840" y="2209680"/>
                <a:ext cx="430200" cy="407520"/>
              </a:xfrm>
              <a:prstGeom prst="star5">
                <a:avLst/>
              </a:prstGeom>
              <a:solidFill>
                <a:srgbClr val="6b2a2b"/>
              </a:solidFill>
              <a:ln w="9360">
                <a:solidFill>
                  <a:srgbClr val="3d3d3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3268800" y="2319120"/>
              <a:ext cx="409248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d3d3c"/>
                  </a:solidFill>
                  <a:latin typeface="Arial"/>
                </a:rPr>
                <a:t>= Hospital performed </a:t>
              </a:r>
              <a:r>
                <a:rPr b="0" lang="en-US" sz="1200" spc="-1" strike="noStrike" u="sng">
                  <a:solidFill>
                    <a:srgbClr val="3d3d3c"/>
                  </a:solidFill>
                  <a:uFillTx/>
                  <a:latin typeface="Arial"/>
                </a:rPr>
                <a:t>better than expected</a:t>
              </a:r>
              <a:r>
                <a:rPr b="0" lang="en-US" sz="1200" spc="-1" strike="noStrike">
                  <a:solidFill>
                    <a:srgbClr val="3d3d3c"/>
                  </a:solidFill>
                  <a:latin typeface="Arial"/>
                </a:rPr>
                <a:t> than their pee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d3d3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3d3d3c"/>
                  </a:solidFill>
                  <a:latin typeface="Arial"/>
                </a:rPr>
                <a:t>hospitals in the nation that treated similar patient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040120" y="2668320"/>
              <a:ext cx="1314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d3d3c"/>
                  </a:solidFill>
                  <a:latin typeface="Arial"/>
                </a:rPr>
                <a:t>In consumer repor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1447920" y="3200400"/>
            <a:ext cx="6400800" cy="2286000"/>
            <a:chOff x="1447920" y="3200400"/>
            <a:chExt cx="6400800" cy="2286000"/>
          </a:xfrm>
        </p:grpSpPr>
        <p:sp>
          <p:nvSpPr>
            <p:cNvPr id="328" name=""/>
            <p:cNvSpPr/>
            <p:nvPr/>
          </p:nvSpPr>
          <p:spPr>
            <a:xfrm>
              <a:off x="6760080" y="4860000"/>
              <a:ext cx="1088640" cy="62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d3d3c"/>
                  </a:solidFill>
                  <a:latin typeface="Arial"/>
                </a:rPr>
                <a:t>1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d3d3c"/>
                  </a:solidFill>
                  <a:latin typeface="Arial"/>
                </a:rPr>
                <a:t>hospita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806800" y="4860000"/>
              <a:ext cx="953280" cy="62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d3d3c"/>
                  </a:solidFill>
                  <a:latin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d3d3c"/>
                  </a:solidFill>
                  <a:latin typeface="Arial"/>
                </a:rPr>
                <a:t>hospita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447920" y="4860000"/>
              <a:ext cx="4358880" cy="62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d3d3c"/>
                  </a:solidFill>
                  <a:latin typeface="Arial"/>
                </a:rPr>
                <a:t>Obstetric Injuries, 3</a:t>
              </a:r>
              <a:r>
                <a:rPr b="0" lang="en-US" sz="1200" spc="-1" strike="noStrike" baseline="30000">
                  <a:solidFill>
                    <a:srgbClr val="3d3d3c"/>
                  </a:solidFill>
                  <a:latin typeface="Arial"/>
                </a:rPr>
                <a:t>rd</a:t>
              </a:r>
              <a:r>
                <a:rPr b="0" lang="en-US" sz="1200" spc="-1" strike="noStrike">
                  <a:solidFill>
                    <a:srgbClr val="3d3d3c"/>
                  </a:solidFill>
                  <a:latin typeface="Arial"/>
                </a:rPr>
                <a:t> or 4</a:t>
              </a:r>
              <a:r>
                <a:rPr b="0" lang="en-US" sz="1200" spc="-1" strike="noStrike" baseline="30000">
                  <a:solidFill>
                    <a:srgbClr val="3d3d3c"/>
                  </a:solidFill>
                  <a:latin typeface="Arial"/>
                </a:rPr>
                <a:t>th</a:t>
              </a:r>
              <a:r>
                <a:rPr b="0" lang="en-US" sz="1200" spc="-1" strike="noStrike">
                  <a:solidFill>
                    <a:srgbClr val="3d3d3c"/>
                  </a:solidFill>
                  <a:latin typeface="Arial"/>
                </a:rPr>
                <a:t> Degree Lacerations – Vaginal Delivery </a:t>
              </a:r>
              <a:r>
                <a:rPr b="0" lang="en-US" sz="1200" spc="-1" strike="noStrike" u="sng">
                  <a:solidFill>
                    <a:srgbClr val="3d3d3c"/>
                  </a:solidFill>
                  <a:uFillTx/>
                  <a:latin typeface="Arial"/>
                </a:rPr>
                <a:t>Without</a:t>
              </a:r>
              <a:r>
                <a:rPr b="0" lang="en-US" sz="1200" spc="-1" strike="noStrike">
                  <a:solidFill>
                    <a:srgbClr val="3d3d3c"/>
                  </a:solidFill>
                  <a:latin typeface="Arial"/>
                </a:rPr>
                <a:t> Instru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760080" y="4187160"/>
              <a:ext cx="1088640" cy="67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d3d3c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d3d3c"/>
                  </a:solidFill>
                  <a:latin typeface="Arial"/>
                </a:rPr>
                <a:t>hospita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806800" y="4187160"/>
              <a:ext cx="953280" cy="67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d3d3c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d3d3c"/>
                  </a:solidFill>
                  <a:latin typeface="Arial"/>
                </a:rPr>
                <a:t>hospita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447920" y="4187160"/>
              <a:ext cx="4358880" cy="67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d3d3c"/>
                  </a:solidFill>
                  <a:latin typeface="Arial"/>
                </a:rPr>
                <a:t>Obstetric Injuries, 3</a:t>
              </a:r>
              <a:r>
                <a:rPr b="0" lang="en-US" sz="1200" spc="-1" strike="noStrike" baseline="30000">
                  <a:solidFill>
                    <a:srgbClr val="3d3d3c"/>
                  </a:solidFill>
                  <a:latin typeface="Arial"/>
                </a:rPr>
                <a:t>rd</a:t>
              </a:r>
              <a:r>
                <a:rPr b="0" lang="en-US" sz="1200" spc="-1" strike="noStrike">
                  <a:solidFill>
                    <a:srgbClr val="3d3d3c"/>
                  </a:solidFill>
                  <a:latin typeface="Arial"/>
                </a:rPr>
                <a:t> or 4</a:t>
              </a:r>
              <a:r>
                <a:rPr b="0" lang="en-US" sz="1200" spc="-1" strike="noStrike" baseline="30000">
                  <a:solidFill>
                    <a:srgbClr val="3d3d3c"/>
                  </a:solidFill>
                  <a:latin typeface="Arial"/>
                </a:rPr>
                <a:t>th</a:t>
              </a:r>
              <a:r>
                <a:rPr b="0" lang="en-US" sz="1200" spc="-1" strike="noStrike">
                  <a:solidFill>
                    <a:srgbClr val="3d3d3c"/>
                  </a:solidFill>
                  <a:latin typeface="Arial"/>
                </a:rPr>
                <a:t> Degree Lacerations – Vaginal Delivery </a:t>
              </a:r>
              <a:r>
                <a:rPr b="0" lang="en-US" sz="1200" spc="-1" strike="noStrike" u="sng">
                  <a:solidFill>
                    <a:srgbClr val="3d3d3c"/>
                  </a:solidFill>
                  <a:uFillTx/>
                  <a:latin typeface="Arial"/>
                </a:rPr>
                <a:t>With</a:t>
              </a:r>
              <a:r>
                <a:rPr b="0" lang="en-US" sz="1200" spc="-1" strike="noStrike">
                  <a:solidFill>
                    <a:srgbClr val="3d3d3c"/>
                  </a:solidFill>
                  <a:latin typeface="Arial"/>
                </a:rPr>
                <a:t> Instru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60080" y="3811680"/>
              <a:ext cx="1088640" cy="3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d3d3c"/>
                  </a:solidFill>
                  <a:latin typeface="Arial"/>
                </a:rPr>
                <a:t>20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806800" y="3811680"/>
              <a:ext cx="953280" cy="3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d3d3c"/>
                  </a:solidFill>
                  <a:latin typeface="Arial"/>
                </a:rPr>
                <a:t>20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447920" y="3811680"/>
              <a:ext cx="4358880" cy="3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d3d3c"/>
                  </a:solidFill>
                  <a:latin typeface="Arial"/>
                </a:rPr>
                <a:t>Patient Safety Indica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447920" y="3811680"/>
              <a:ext cx="6400800" cy="0"/>
            </a:xfrm>
            <a:prstGeom prst="line">
              <a:avLst/>
            </a:prstGeom>
            <a:ln cap="sq" w="2844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47920" y="4187160"/>
              <a:ext cx="6400800" cy="0"/>
            </a:xfrm>
            <a:prstGeom prst="line">
              <a:avLst/>
            </a:prstGeom>
            <a:ln w="1260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47920" y="4860000"/>
              <a:ext cx="6400800" cy="0"/>
            </a:xfrm>
            <a:prstGeom prst="line">
              <a:avLst/>
            </a:prstGeom>
            <a:ln w="1260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447920" y="5486400"/>
              <a:ext cx="6400800" cy="0"/>
            </a:xfrm>
            <a:prstGeom prst="line">
              <a:avLst/>
            </a:prstGeom>
            <a:ln cap="sq" w="2844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447920" y="3811680"/>
              <a:ext cx="0" cy="1674720"/>
            </a:xfrm>
            <a:prstGeom prst="line">
              <a:avLst/>
            </a:prstGeom>
            <a:ln cap="sq" w="2844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806800" y="3811680"/>
              <a:ext cx="0" cy="1674720"/>
            </a:xfrm>
            <a:prstGeom prst="line">
              <a:avLst/>
            </a:prstGeom>
            <a:ln w="1260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760080" y="3811680"/>
              <a:ext cx="0" cy="1674720"/>
            </a:xfrm>
            <a:prstGeom prst="line">
              <a:avLst/>
            </a:prstGeom>
            <a:ln w="1260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848720" y="3811680"/>
              <a:ext cx="0" cy="1674720"/>
            </a:xfrm>
            <a:prstGeom prst="line">
              <a:avLst/>
            </a:prstGeom>
            <a:ln cap="sq" w="2844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495440" y="3200400"/>
              <a:ext cx="6305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d3d3c"/>
                  </a:solidFill>
                  <a:latin typeface="Arial"/>
                </a:rPr>
                <a:t>Numbers of Three-Star Hospital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d3d3c"/>
                  </a:solidFill>
                  <a:latin typeface="Arial"/>
                </a:rPr>
                <a:t>In the Consumer Reports on Obstetric Safety: 2004 - 20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286000" y="5943600"/>
            <a:ext cx="57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Page 12, “Challenges in Utah’s Health Car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269360" y="701640"/>
            <a:ext cx="661644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Public Repor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Can Reduce Performance Var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7696080" y="380880"/>
            <a:ext cx="914400" cy="6843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304920" y="228600"/>
            <a:ext cx="990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CUP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CA85-53EA-4DC4-9287-05B66A0C0D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2362320" y="6248520"/>
            <a:ext cx="57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Page 16, “Challenges in Utah’s Health Car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533520" y="5562720"/>
            <a:ext cx="914400" cy="6840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1828800" y="843120"/>
            <a:ext cx="6553080" cy="49766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304920" y="533520"/>
            <a:ext cx="1447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CUPne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0B0E-47F9-4FDD-BBCC-510BF2F410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981080" y="6019920"/>
            <a:ext cx="57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Page 23, “Challenges in Utah’s Health Car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304920" y="5943600"/>
            <a:ext cx="914400" cy="68436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1523880" y="1295280"/>
            <a:ext cx="6372360" cy="457848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2209680" y="4572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000000"/>
                </a:solidFill>
                <a:latin typeface="Arial"/>
              </a:rPr>
              <a:t>Trends of Hospital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228600"/>
            <a:ext cx="14479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CUPne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58D4-D865-4EB1-AEAD-AA0BE05E18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ment</a:t>
            </a:r>
            <a:br>
              <a:rPr sz="4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those wh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lead,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        guide, or 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             suppor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evidence-based</a:t>
            </a:r>
            <a:br>
              <a:rPr sz="4000"/>
            </a:b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                  policyma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514840" y="0"/>
            <a:ext cx="3587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716B-6D9B-4F4B-9ABC-C1A2CD56E9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1981080" y="4952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000" spc="-1" strike="noStrike">
                <a:solidFill>
                  <a:srgbClr val="ff0000"/>
                </a:solidFill>
                <a:latin typeface="Arial"/>
              </a:rPr>
              <a:t>C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4724280"/>
            <a:ext cx="4038480" cy="1295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FD06-A66B-414B-8CE2-6C6ABE0A9AF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133720" y="6095880"/>
            <a:ext cx="57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Page 26, “Challenges in Utah’s Health Car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590920" y="45720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Use Statewide Cost-to-Charge Ratio to Estimate Total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304920" y="5791320"/>
            <a:ext cx="914400" cy="6840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1828800" y="2362320"/>
            <a:ext cx="6553080" cy="344484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3285000" y="1525320"/>
            <a:ext cx="44982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Increased Inpatient Total Facility Charges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Costs Adjusted by Cost-to-Charge Ratio (CC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Utah, 1997-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380880"/>
            <a:ext cx="1295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CUP-T.A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BA02-EA0D-439E-8B4C-91D8673A076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752480" y="2895480"/>
            <a:ext cx="6096240" cy="334512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1905120" y="2057400"/>
            <a:ext cx="5867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d3d3c"/>
                </a:solidFill>
                <a:latin typeface="Arial"/>
              </a:rPr>
              <a:t>Percentage of Outpatient Emergency Department Visits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d3d3c"/>
                </a:solidFill>
                <a:latin typeface="Arial"/>
              </a:rPr>
              <a:t>Primary Care Sensitive Conditions: Utah, 2001-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6248520"/>
            <a:ext cx="57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Page 17, “Challenges in Utah’s Health Car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 rot="19791000">
            <a:off x="0" y="533520"/>
            <a:ext cx="183528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eed From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CUPne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2" name=""/>
          <p:cNvSpPr/>
          <p:nvPr/>
        </p:nvSpPr>
        <p:spPr>
          <a:xfrm>
            <a:off x="1219320" y="685800"/>
            <a:ext cx="7467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York University’s Metho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suring Access to Primary Care Through Emergent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457200" y="5791320"/>
            <a:ext cx="914400" cy="68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5213-2C59-4899-9481-832D688A42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"/>
          <p:cNvGrpSpPr/>
          <p:nvPr/>
        </p:nvGrpSpPr>
        <p:grpSpPr>
          <a:xfrm>
            <a:off x="1447920" y="914400"/>
            <a:ext cx="6933960" cy="5084640"/>
            <a:chOff x="1447920" y="914400"/>
            <a:chExt cx="6933960" cy="5084640"/>
          </a:xfrm>
        </p:grpSpPr>
        <p:sp>
          <p:nvSpPr>
            <p:cNvPr id="375" name=""/>
            <p:cNvSpPr/>
            <p:nvPr/>
          </p:nvSpPr>
          <p:spPr>
            <a:xfrm>
              <a:off x="1447920" y="914400"/>
              <a:ext cx="693396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d3d3c"/>
                  </a:solidFill>
                  <a:latin typeface="Arial"/>
                </a:rPr>
                <a:t>Hospitalization Rates for Ambulatory Care Sensitive Conditions by County, Utah: 1996-200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6" name="" descr=""/>
            <p:cNvPicPr/>
            <p:nvPr/>
          </p:nvPicPr>
          <p:blipFill>
            <a:blip r:embed="rId1"/>
            <a:stretch/>
          </p:blipFill>
          <p:spPr>
            <a:xfrm>
              <a:off x="2285640" y="1447560"/>
              <a:ext cx="5028840" cy="455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7" name=""/>
          <p:cNvSpPr/>
          <p:nvPr/>
        </p:nvSpPr>
        <p:spPr>
          <a:xfrm>
            <a:off x="2133720" y="6324480"/>
            <a:ext cx="57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Page 18, “Challenges in Utah’s Health Car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066680" y="30492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York University’s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304920" y="5715000"/>
            <a:ext cx="914400" cy="68436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 rot="19791000">
            <a:off x="151920" y="533520"/>
            <a:ext cx="1911600" cy="91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eed From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CUPne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E523-A7DC-4EE7-8D94-F1D00C65211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"/>
          <p:cNvGrpSpPr/>
          <p:nvPr/>
        </p:nvGrpSpPr>
        <p:grpSpPr>
          <a:xfrm>
            <a:off x="1523880" y="1447920"/>
            <a:ext cx="6362640" cy="4341240"/>
            <a:chOff x="1523880" y="1447920"/>
            <a:chExt cx="6362640" cy="4341240"/>
          </a:xfrm>
        </p:grpSpPr>
        <p:sp>
          <p:nvSpPr>
            <p:cNvPr id="382" name=""/>
            <p:cNvSpPr/>
            <p:nvPr/>
          </p:nvSpPr>
          <p:spPr>
            <a:xfrm>
              <a:off x="1523880" y="1447920"/>
              <a:ext cx="6362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d3d3c"/>
                  </a:solidFill>
                  <a:latin typeface="Arial"/>
                </a:rPr>
                <a:t>Utilization Rates of Hospital Inpatients, Outpatient Surgeries, or Emergency Room Visits, per 100 Population: Utah and U.S., 1999-20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3" name="" descr=""/>
            <p:cNvPicPr/>
            <p:nvPr/>
          </p:nvPicPr>
          <p:blipFill>
            <a:blip r:embed="rId1"/>
            <a:stretch/>
          </p:blipFill>
          <p:spPr>
            <a:xfrm>
              <a:off x="1823400" y="2037960"/>
              <a:ext cx="5822640" cy="375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4" name=""/>
          <p:cNvSpPr/>
          <p:nvPr/>
        </p:nvSpPr>
        <p:spPr>
          <a:xfrm>
            <a:off x="2286000" y="6095880"/>
            <a:ext cx="57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Page 24, “Challenges in Utah’s Health Car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457200"/>
            <a:ext cx="7467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C NCHS National Estim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the Hospital Discharge Surv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7696080" y="380880"/>
            <a:ext cx="914400" cy="6843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 rot="19791000">
            <a:off x="152280" y="456840"/>
            <a:ext cx="1911600" cy="10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eed From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CUPne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8" name=""/>
          <p:cNvSpPr/>
          <p:nvPr/>
        </p:nvSpPr>
        <p:spPr>
          <a:xfrm flipH="1" rot="18288600">
            <a:off x="4504680" y="3132720"/>
            <a:ext cx="1055520" cy="552600"/>
          </a:xfrm>
          <a:prstGeom prst="rightArrow">
            <a:avLst>
              <a:gd name="adj1" fmla="val 50000"/>
              <a:gd name="adj2" fmla="val 4775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492A-1249-4262-83DE-F98479A0BF1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1219320" y="1371600"/>
            <a:ext cx="7009920" cy="4190760"/>
            <a:chOff x="1219320" y="1371600"/>
            <a:chExt cx="7009920" cy="4190760"/>
          </a:xfrm>
        </p:grpSpPr>
        <p:sp>
          <p:nvSpPr>
            <p:cNvPr id="390" name=""/>
            <p:cNvSpPr/>
            <p:nvPr/>
          </p:nvSpPr>
          <p:spPr>
            <a:xfrm>
              <a:off x="1220760" y="4751280"/>
              <a:ext cx="6988680" cy="811080"/>
            </a:xfrm>
            <a:prstGeom prst="rect">
              <a:avLst/>
            </a:prstGeom>
            <a:solidFill>
              <a:srgbClr val="ecf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220760" y="3342960"/>
              <a:ext cx="6988680" cy="675720"/>
            </a:xfrm>
            <a:prstGeom prst="rect">
              <a:avLst/>
            </a:prstGeom>
            <a:solidFill>
              <a:srgbClr val="ecf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219320" y="1844640"/>
              <a:ext cx="6988680" cy="743400"/>
            </a:xfrm>
            <a:prstGeom prst="rect">
              <a:avLst/>
            </a:prstGeom>
            <a:solidFill>
              <a:srgbClr val="ecf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538400" y="4768200"/>
              <a:ext cx="690840" cy="79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d3d3c"/>
                  </a:solidFill>
                  <a:latin typeface="Times New Roman"/>
                </a:rPr>
                <a:t>   </a:t>
              </a:r>
              <a:r>
                <a:rPr b="1" lang="en-US" sz="1200" spc="-1" strike="noStrike">
                  <a:solidFill>
                    <a:srgbClr val="3d3d3c"/>
                  </a:solidFill>
                  <a:latin typeface="Times New Roman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922400" y="4768200"/>
              <a:ext cx="5615640" cy="79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500"/>
              </a:b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3d3d3c"/>
                  </a:solidFill>
                  <a:latin typeface="Arial"/>
                </a:rPr>
                <a:t>Utah faces huge challenges in </a:t>
              </a:r>
              <a:r>
                <a:rPr b="1" lang="en-US" sz="1100" spc="-1" strike="noStrike">
                  <a:solidFill>
                    <a:srgbClr val="3d3d3c"/>
                  </a:solidFill>
                  <a:latin typeface="Arial"/>
                </a:rPr>
                <a:t>promotion of preventive care</a:t>
              </a:r>
              <a:r>
                <a:rPr b="0" lang="en-US" sz="1100" spc="-1" strike="noStrike">
                  <a:solidFill>
                    <a:srgbClr val="3d3d3c"/>
                  </a:solidFill>
                  <a:latin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31560" y="4768200"/>
              <a:ext cx="690840" cy="79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538400" y="4033800"/>
              <a:ext cx="690840" cy="73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d3d3c"/>
                  </a:solidFill>
                  <a:latin typeface="Times New Roman"/>
                </a:rPr>
                <a:t>   </a:t>
              </a:r>
              <a:r>
                <a:rPr b="1" lang="en-US" sz="1200" spc="-1" strike="noStrike">
                  <a:solidFill>
                    <a:srgbClr val="3d3d3c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922400" y="4033800"/>
              <a:ext cx="5615640" cy="73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d3d3c"/>
                  </a:solidFill>
                  <a:latin typeface="Arial"/>
                </a:rPr>
                <a:t>Public reporting</a:t>
              </a:r>
              <a:r>
                <a:rPr b="0" lang="en-US" sz="1100" spc="-1" strike="noStrike">
                  <a:solidFill>
                    <a:srgbClr val="3d3d3c"/>
                  </a:solidFill>
                  <a:latin typeface="Arial"/>
                </a:rPr>
                <a:t> on quality and safety can reduce performance variations among hospital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231560" y="4033800"/>
              <a:ext cx="690840" cy="73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538400" y="3333600"/>
              <a:ext cx="6908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r>
                <a:rPr b="1" lang="en-US" sz="1200" spc="-1" strike="noStrike">
                  <a:solidFill>
                    <a:srgbClr val="3d3d3c"/>
                  </a:solidFill>
                  <a:latin typeface="Times New Roman"/>
                </a:rPr>
                <a:t>   </a:t>
              </a:r>
              <a:r>
                <a:rPr b="1" lang="en-US" sz="1200" spc="-1" strike="noStrike">
                  <a:solidFill>
                    <a:srgbClr val="3d3d3c"/>
                  </a:solidFill>
                  <a:latin typeface="Times New Roman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22400" y="3466800"/>
              <a:ext cx="561564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3d3d3c"/>
                  </a:solidFill>
                  <a:latin typeface="Arial"/>
                </a:rPr>
                <a:t>Baseline measures of hospital </a:t>
              </a:r>
              <a:r>
                <a:rPr b="1" lang="en-US" sz="1100" spc="-1" strike="noStrike">
                  <a:solidFill>
                    <a:srgbClr val="3d3d3c"/>
                  </a:solidFill>
                  <a:latin typeface="Arial"/>
                </a:rPr>
                <a:t>patient safety</a:t>
              </a:r>
              <a:r>
                <a:rPr b="0" lang="en-US" sz="1100" spc="-1" strike="noStrike">
                  <a:solidFill>
                    <a:srgbClr val="3d3d3c"/>
                  </a:solidFill>
                  <a:latin typeface="Arial"/>
                </a:rPr>
                <a:t> are established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231560" y="3333600"/>
              <a:ext cx="6908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538400" y="2599200"/>
              <a:ext cx="690840" cy="73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d3d3c"/>
                  </a:solidFill>
                  <a:latin typeface="Times New Roman"/>
                </a:rPr>
                <a:t>   </a:t>
              </a:r>
              <a:r>
                <a:rPr b="1" lang="en-US" sz="1200" spc="-1" strike="noStrike">
                  <a:solidFill>
                    <a:srgbClr val="3d3d3c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922400" y="2599200"/>
              <a:ext cx="5615640" cy="73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3d3d3c"/>
                  </a:solidFill>
                  <a:latin typeface="Arial"/>
                </a:rPr>
                <a:t>Significant quality variations existed among types of care and care settings. Utah’s </a:t>
              </a:r>
              <a:r>
                <a:rPr b="1" lang="en-US" sz="1100" spc="-1" strike="noStrike">
                  <a:solidFill>
                    <a:srgbClr val="3d3d3c"/>
                  </a:solidFill>
                  <a:latin typeface="Arial"/>
                </a:rPr>
                <a:t>nursing home care quality</a:t>
              </a:r>
              <a:r>
                <a:rPr b="0" lang="en-US" sz="1100" spc="-1" strike="noStrike">
                  <a:solidFill>
                    <a:srgbClr val="3d3d3c"/>
                  </a:solidFill>
                  <a:latin typeface="Arial"/>
                </a:rPr>
                <a:t> was weaker than hospital or home health car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231560" y="2599200"/>
              <a:ext cx="690840" cy="73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538400" y="1863360"/>
              <a:ext cx="690840" cy="73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d3d3c"/>
                  </a:solidFill>
                  <a:latin typeface="Times New Roman"/>
                </a:rPr>
                <a:t>    </a:t>
              </a:r>
              <a:r>
                <a:rPr b="1" lang="en-US" sz="1200" spc="-1" strike="noStrike">
                  <a:solidFill>
                    <a:srgbClr val="3d3d3c"/>
                  </a:solidFill>
                  <a:latin typeface="Times New Roman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22400" y="1863360"/>
              <a:ext cx="5615640" cy="73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3d3d3c"/>
                  </a:solidFill>
                  <a:latin typeface="Arial"/>
                </a:rPr>
                <a:t>Utah’s </a:t>
              </a:r>
              <a:r>
                <a:rPr b="1" lang="en-US" sz="1100" spc="-1" strike="noStrike">
                  <a:solidFill>
                    <a:srgbClr val="3d3d3c"/>
                  </a:solidFill>
                  <a:latin typeface="Arial"/>
                </a:rPr>
                <a:t>overall health care quality</a:t>
              </a:r>
              <a:r>
                <a:rPr b="0" lang="en-US" sz="1100" spc="-1" strike="noStrike">
                  <a:solidFill>
                    <a:srgbClr val="3d3d3c"/>
                  </a:solidFill>
                  <a:latin typeface="Arial"/>
                </a:rPr>
                <a:t> was ranked as “Strong” in the 2006 </a:t>
              </a:r>
              <a:br>
                <a:rPr sz="1100"/>
              </a:br>
              <a:r>
                <a:rPr b="0" lang="en-US" sz="1100" spc="-1" strike="noStrike">
                  <a:solidFill>
                    <a:srgbClr val="3d3d3c"/>
                  </a:solidFill>
                  <a:latin typeface="Arial"/>
                </a:rPr>
                <a:t>National Healthcare Quality Report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231560" y="1863360"/>
              <a:ext cx="690840" cy="73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538400" y="1371600"/>
              <a:ext cx="69084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3d3d3c"/>
                  </a:solidFill>
                  <a:latin typeface="Arial"/>
                </a:rPr>
                <a:t>    </a:t>
              </a:r>
              <a:r>
                <a:rPr b="0" lang="en-US" sz="1100" spc="-1" strike="noStrike">
                  <a:solidFill>
                    <a:srgbClr val="3d3d3c"/>
                  </a:solidFill>
                  <a:latin typeface="Arial"/>
                </a:rPr>
                <a:t>Pa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922400" y="1371600"/>
              <a:ext cx="561564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d3d3c"/>
                  </a:solidFill>
                  <a:latin typeface="Arial"/>
                </a:rPr>
                <a:t>Highligh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231560" y="1371600"/>
              <a:ext cx="69084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d3d3c"/>
                  </a:solidFill>
                  <a:latin typeface="Arial"/>
                </a:rPr>
                <a:t>Tren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31560" y="1371600"/>
              <a:ext cx="6997680" cy="0"/>
            </a:xfrm>
            <a:prstGeom prst="line">
              <a:avLst/>
            </a:prstGeom>
            <a:ln cap="sq" w="2844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231560" y="1863360"/>
              <a:ext cx="6997680" cy="0"/>
            </a:xfrm>
            <a:prstGeom prst="line">
              <a:avLst/>
            </a:prstGeom>
            <a:ln w="1260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231560" y="2599200"/>
              <a:ext cx="6997680" cy="0"/>
            </a:xfrm>
            <a:prstGeom prst="line">
              <a:avLst/>
            </a:prstGeom>
            <a:ln w="1260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231560" y="3333600"/>
              <a:ext cx="6997680" cy="0"/>
            </a:xfrm>
            <a:prstGeom prst="line">
              <a:avLst/>
            </a:prstGeom>
            <a:ln w="1260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1560" y="4033800"/>
              <a:ext cx="6997680" cy="0"/>
            </a:xfrm>
            <a:prstGeom prst="line">
              <a:avLst/>
            </a:prstGeom>
            <a:ln w="1260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31560" y="4768200"/>
              <a:ext cx="6997680" cy="0"/>
            </a:xfrm>
            <a:prstGeom prst="line">
              <a:avLst/>
            </a:prstGeom>
            <a:ln w="1260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31560" y="5562360"/>
              <a:ext cx="6997680" cy="0"/>
            </a:xfrm>
            <a:prstGeom prst="line">
              <a:avLst/>
            </a:prstGeom>
            <a:ln cap="sq" w="2844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231560" y="1371600"/>
              <a:ext cx="0" cy="4190760"/>
            </a:xfrm>
            <a:prstGeom prst="line">
              <a:avLst/>
            </a:prstGeom>
            <a:ln cap="sq" w="2844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22400" y="1371600"/>
              <a:ext cx="0" cy="4190760"/>
            </a:xfrm>
            <a:prstGeom prst="line">
              <a:avLst/>
            </a:prstGeom>
            <a:ln w="1260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538400" y="1371600"/>
              <a:ext cx="0" cy="4190760"/>
            </a:xfrm>
            <a:prstGeom prst="line">
              <a:avLst/>
            </a:prstGeom>
            <a:ln w="1260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229240" y="1371600"/>
              <a:ext cx="0" cy="4190760"/>
            </a:xfrm>
            <a:prstGeom prst="line">
              <a:avLst/>
            </a:prstGeom>
            <a:ln cap="sq" w="2844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10800000">
              <a:off x="1423800" y="4277880"/>
              <a:ext cx="256320" cy="270360"/>
            </a:xfrm>
            <a:prstGeom prst="downArrow">
              <a:avLst>
                <a:gd name="adj1" fmla="val 50000"/>
                <a:gd name="adj2" fmla="val 26369"/>
              </a:avLst>
            </a:prstGeom>
            <a:solidFill>
              <a:srgbClr val="c2e0e4"/>
            </a:solidFill>
            <a:ln w="936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380960" y="2118600"/>
              <a:ext cx="342000" cy="180000"/>
            </a:xfrm>
            <a:prstGeom prst="rightArrow">
              <a:avLst>
                <a:gd name="adj1" fmla="val 50000"/>
                <a:gd name="adj2" fmla="val 47500"/>
              </a:avLst>
            </a:prstGeom>
            <a:solidFill>
              <a:srgbClr val="c2e0e4"/>
            </a:solidFill>
            <a:ln w="936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423800" y="5021640"/>
              <a:ext cx="256320" cy="270360"/>
            </a:xfrm>
            <a:prstGeom prst="downArrow">
              <a:avLst>
                <a:gd name="adj1" fmla="val 50000"/>
                <a:gd name="adj2" fmla="val 26369"/>
              </a:avLst>
            </a:prstGeom>
            <a:solidFill>
              <a:srgbClr val="c2e0e4"/>
            </a:solidFill>
            <a:ln w="936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380960" y="3601800"/>
              <a:ext cx="342000" cy="180360"/>
            </a:xfrm>
            <a:prstGeom prst="rightArrow">
              <a:avLst>
                <a:gd name="adj1" fmla="val 50000"/>
                <a:gd name="adj2" fmla="val 47405"/>
              </a:avLst>
            </a:prstGeom>
            <a:solidFill>
              <a:srgbClr val="c2e0e4"/>
            </a:solidFill>
            <a:ln w="936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23800" y="2858400"/>
              <a:ext cx="256320" cy="270360"/>
            </a:xfrm>
            <a:prstGeom prst="downArrow">
              <a:avLst>
                <a:gd name="adj1" fmla="val 50000"/>
                <a:gd name="adj2" fmla="val 26369"/>
              </a:avLst>
            </a:prstGeom>
            <a:solidFill>
              <a:srgbClr val="c2e0e4"/>
            </a:solidFill>
            <a:ln w="936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1905120" y="5867280"/>
            <a:ext cx="57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Page 8, “Challenges in Utah’s Health Car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57200" y="6094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ah’s Self Rating on Trends of Quality and Patient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457200" y="5715000"/>
            <a:ext cx="914400" cy="68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E162-A6C4-409B-984F-1FE27403F07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2667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OH released the report on the same day when AHRQ released the National Quality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56D1-5C4A-4438-93AE-7C1F6B8A51A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35232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te Rank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114800" y="1828800"/>
            <a:ext cx="40384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mmonwealth Fund Health System Report Card (2007), released 06/13/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766960" cy="358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5" name=""/>
          <p:cNvGraphicFramePr/>
          <p:nvPr/>
        </p:nvGraphicFramePr>
        <p:xfrm>
          <a:off x="609480" y="4191120"/>
          <a:ext cx="7925040" cy="1535040"/>
        </p:xfrm>
        <a:graphic>
          <a:graphicData uri="http://schemas.openxmlformats.org/drawingml/2006/table">
            <a:tbl>
              <a:tblPr/>
              <a:tblGrid>
                <a:gridCol w="1320840"/>
                <a:gridCol w="1320840"/>
                <a:gridCol w="1092240"/>
                <a:gridCol w="1549440"/>
                <a:gridCol w="1320840"/>
                <a:gridCol w="13208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oidable hospital use &amp;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y li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a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BEBD-E200-4B00-B886-ABDDF9CB815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Sundwall, Exec. Dire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d the investi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 indicators comparabl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 methods compar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 data compar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an we learn from the Commonwealth Fund rep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Utah Medical Ethics Committee (UMEC) had a rich discussion on August 28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Ranking Dynamics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2666880" cy="227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F649-6C4C-4825-869C-34073908577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stinction between outcome measures and process measures was evident in the various ranking sche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tion seems to be at a point where our measure definitions are standardized but the validity of each specific measure can’t be taken for gran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MEC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7391520" y="171360"/>
            <a:ext cx="1523880" cy="114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A382-416F-4749-937E-F964E58F070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670536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EA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Evidence-based Policym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2361960"/>
            <a:ext cx="83059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Sundwall, MD, Exec Dire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ah Department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eader in using health data for evidence-based policyma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leadership principle #2 is science-based practice and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60199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nowledgmen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919920" y="228600"/>
            <a:ext cx="189396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67AE-7094-45EE-A587-9901BF01E1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ke Home Messag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action between policymakers and analysts is the starting point for evidence-based policyma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y” with HCUPnet to explore answers for your policy questi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k HCUP for technical assistance, if HCUPnet doesn’t have the data you nee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1149-14C5-4FBC-A49C-615A8ED1566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16002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ly Cofrin 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cofrinallen@utah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7391520" y="171360"/>
            <a:ext cx="1523880" cy="11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UID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he Evidence-based Policyma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ark Hinckley, Robert Huefner, Leslie Francis, Stephen Kroes and other members of Utah Health Data Committee for their guidance in vision &amp; policy analysis to transform healthcare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2031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838080" y="3733920"/>
            <a:ext cx="7696440" cy="2438280"/>
          </a:xfrm>
          <a:prstGeom prst="rect">
            <a:avLst/>
          </a:prstGeom>
          <a:solidFill>
            <a:srgbClr val="cfcddc"/>
          </a:solidFill>
          <a:ln w="3240">
            <a:solidFill>
              <a:srgbClr val="3d3d3c"/>
            </a:solidFill>
            <a:miter/>
          </a:ln>
          <a:effectLst>
            <a:outerShdw dist="71785" dir="2700000" blurRad="0" rotWithShape="0">
              <a:srgbClr val="9d9d9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6160" rIns="54720" tIns="54720" bIns="5472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3d3c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d3d3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d3d3c"/>
                </a:solidFill>
                <a:latin typeface="Times New Roman"/>
              </a:rPr>
              <a:t>We really are at a very exciting point in health care. Several years from now we will look back and see that the health care system that we know today has changed in sort of a revolutionary fashion.”</a:t>
            </a:r>
            <a:r>
              <a:rPr b="0" i="1" lang="en-US" sz="2400" spc="-1" strike="noStrike">
                <a:solidFill>
                  <a:srgbClr val="3d3d3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d3d3c"/>
                </a:solidFill>
                <a:latin typeface="Times New Roman"/>
              </a:rPr>
              <a:t>-Clark B. Hinckley, Chairman, Health Data Committee                                                                                  Summary at the HDC Biennial Retreat, July 11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86200" y="63244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nowledgmen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9061-8FFA-4E1C-84E0-8333ECD1D6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TAFF SUPPOR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o the Evidence-based Policyma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229600" cy="32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ke Martin, Lori Brady, Keely Cofrin Allen, Lois Haggard and Barry Nangle in  Utah Center for Health Data for their efforts in development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litation of discuss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of the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353280" y="3352680"/>
            <a:ext cx="2706480" cy="3505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200400" y="5943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nowledgmen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DEE3-4351-46C6-A5AE-A65B53AD3B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EDERAL SUPPOR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o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es’ Evidence-bas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licyma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rom 3 AHRQ T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CUP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ational Healthcare Quality Report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HRQ Public Affairs Off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73840" y="0"/>
            <a:ext cx="2270160" cy="2971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019920" y="1295280"/>
            <a:ext cx="1981080" cy="1981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886200" y="60199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nowledgmen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509A-6A43-4751-90D3-60459BA628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257800" y="2971800"/>
            <a:ext cx="2819520" cy="2668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62120" y="2743200"/>
            <a:ext cx="350496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Utah Health Data Authority 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6485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6-33a-1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urpose of the committee is to direct a statewide effort to </a:t>
            </a:r>
            <a:r>
              <a:rPr b="0" i="1" lang="en-US" sz="2800" spc="-1" strike="noStrike">
                <a:solidFill>
                  <a:srgbClr val="8c7f04"/>
                </a:solidFill>
                <a:latin typeface="Tahoma"/>
              </a:rPr>
              <a:t>coll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800" spc="-1" strike="noStrike">
                <a:solidFill>
                  <a:srgbClr val="8c7f04"/>
                </a:solidFill>
                <a:latin typeface="Tahoma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i="1" lang="en-US" sz="2800" spc="-1" strike="noStrike">
                <a:solidFill>
                  <a:srgbClr val="8c7f04"/>
                </a:solidFill>
                <a:latin typeface="Tahoma"/>
              </a:rPr>
              <a:t>distribu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ealth care data </a:t>
            </a: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to facilitate the promotion and accessibility of quality and cost-effective health c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so to facilitate interaction among those with concern for health care iss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1828800"/>
            <a:ext cx="8381880" cy="0"/>
          </a:xfrm>
          <a:prstGeom prst="line">
            <a:avLst/>
          </a:prstGeom>
          <a:ln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C57B-ACF5-4BBC-8AF1-A5D630E4F7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Health Data Committ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3886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6600"/>
                </a:solidFill>
                <a:latin typeface="Tahoma"/>
              </a:rPr>
              <a:t>P</a:t>
            </a:r>
            <a:r>
              <a:rPr b="1" lang="en-US" sz="2500" spc="-1" strike="noStrike">
                <a:solidFill>
                  <a:srgbClr val="8c7f04"/>
                </a:solidFill>
                <a:latin typeface="Tahoma"/>
              </a:rPr>
              <a:t>urchasers/Busine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ahoma"/>
              </a:rPr>
              <a:t>Clark Hinckley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Chair, Zions Bancorp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Stephen Kroes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, Utah Foun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ahoma"/>
              </a:rPr>
              <a:t>Marilyn Tang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, Certified Handling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91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8c7f04"/>
                </a:solidFill>
                <a:latin typeface="Tahoma"/>
              </a:rPr>
              <a:t>P</a:t>
            </a:r>
            <a:r>
              <a:rPr b="1" lang="en-US" sz="2500" spc="-1" strike="noStrike">
                <a:solidFill>
                  <a:srgbClr val="8c7f04"/>
                </a:solidFill>
                <a:latin typeface="Tahoma"/>
              </a:rPr>
              <a:t>rovid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ahoma"/>
              </a:rPr>
              <a:t>Kim Batema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, M.D. Manti Medical Clinic and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HealthIns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ahoma"/>
              </a:rPr>
              <a:t>Gail McGuill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, R.N. Orem Community Hospi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91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6600"/>
                </a:solidFill>
                <a:latin typeface="Tahoma"/>
              </a:rPr>
              <a:t>P</a:t>
            </a:r>
            <a:r>
              <a:rPr b="1" lang="en-US" sz="2500" spc="-1" strike="noStrike">
                <a:solidFill>
                  <a:srgbClr val="8c7f04"/>
                </a:solidFill>
                <a:latin typeface="Tahoma"/>
              </a:rPr>
              <a:t>ublic Polic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ahoma"/>
              </a:rPr>
              <a:t>Judy Buffmire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, Former Legisl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ahoma"/>
              </a:rPr>
              <a:t>Robert Huefner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– Vice Chair, Univ. of Utah, Political Sci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ahoma"/>
              </a:rPr>
              <a:t>Leslie Francis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, Univ. of Utah, Health Ethn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447920"/>
            <a:ext cx="4190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6600"/>
                </a:solidFill>
                <a:latin typeface="Tahoma"/>
              </a:rPr>
              <a:t>P</a:t>
            </a:r>
            <a:r>
              <a:rPr b="1" lang="en-US" sz="2500" spc="-1" strike="noStrike">
                <a:solidFill>
                  <a:srgbClr val="8c7f04"/>
                </a:solidFill>
                <a:latin typeface="Tahoma"/>
              </a:rPr>
              <a:t>atients/Consum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Gary Nordoff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, Housing for Low Income Peo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ahoma"/>
              </a:rPr>
              <a:t>Terry Hav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, Utah Child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91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6600"/>
                </a:solidFill>
                <a:latin typeface="Tahoma"/>
              </a:rPr>
              <a:t>P</a:t>
            </a:r>
            <a:r>
              <a:rPr b="1" lang="en-US" sz="2900" spc="-1" strike="noStrike">
                <a:solidFill>
                  <a:srgbClr val="8c7f04"/>
                </a:solidFill>
                <a:latin typeface="Tahoma"/>
              </a:rPr>
              <a:t>ayers and Health Sy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ahoma"/>
              </a:rPr>
              <a:t>David Call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, Deseret Mutual Benefits 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ahoma"/>
              </a:rPr>
              <a:t>Douglas Hasbrouck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, Regence BC/BS of Uta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ahoma"/>
              </a:rPr>
              <a:t>Greg Pouls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, Intermountain Health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9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620120" y="0"/>
            <a:ext cx="1523880" cy="1066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80880" y="1295280"/>
            <a:ext cx="8382240" cy="0"/>
          </a:xfrm>
          <a:prstGeom prst="line">
            <a:avLst/>
          </a:prstGeom>
          <a:ln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2A78-A6BA-4BAB-836C-BBF865DFA9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04:28:34Z</dcterms:created>
  <dc:creator>WXU</dc:creator>
  <dc:description/>
  <dc:language>en-US</dc:language>
  <cp:lastModifiedBy>Caroline Pang</cp:lastModifiedBy>
  <dcterms:modified xsi:type="dcterms:W3CDTF">2008-01-08T22:59:45Z</dcterms:modified>
  <cp:revision>259</cp:revision>
  <dc:subject/>
  <dc:title>Challenges In      Utah’s Health                         Care  </dc:title>
</cp:coreProperties>
</file>