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1E7DFD-E426-46B6-B298-10FA5409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40B4E7-2B1E-4888-A931-9AA9F21C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ones could be available through HCUPnet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ah is one of the 8 states in the “strong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hospital care is based on HCUP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tal charges were converted to costs using cost-to-charge ratios based on hospital accounting reports from the Centers for Medicare and Medicaid Services (CM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Ethics Committee discussion, 8/27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show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CA7-3CAC-4128-ABB6-9B3BE9A8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954-4D5B-4816-9BCD-FD542C6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0A1-D367-4041-A48C-C1576E06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79E-94B6-4416-A298-CD4A8FF2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1F4-06DF-402F-AAD0-51C459A3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544-0588-4FCA-8E2C-7368388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245-DCFB-440D-B274-61BA244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3E1-C0D5-4767-978A-C62BDEC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94C-ADAB-4D88-8347-AB87A90D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7B8-2191-4184-9CC0-8E270A57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EF8-892C-416F-A35A-9A7E770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499-958B-4F79-ACC9-5DF1BC5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FB6-E4A2-4F15-8277-7837A57A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HCUPnet for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State Policymakers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- Utah’s Use Case</a:t>
            </a: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236232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4343400"/>
            <a:ext cx="5029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ly Cofrin Allen, Ph.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Health Care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State Quality Improvemen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6800" y="5530680"/>
            <a:ext cx="8102520" cy="2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-1993: Established a vision, mission, priority, and health dat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 Data Building Blocks for Policy Analysis, 1990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2880" y="59040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81280"/>
            <a:ext cx="4525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1: Use ICD data to support the Patient Safet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3480" y="5232240"/>
            <a:ext cx="6765840" cy="29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3: Established Hospital Inpatient Discharge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98920" y="4933800"/>
            <a:ext cx="527040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Ambulatory Surgery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98920" y="4635360"/>
            <a:ext cx="5270400" cy="29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Emergency Department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8920" y="4038480"/>
            <a:ext cx="5270400" cy="29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Enrollee Satisfaction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8920" y="4336920"/>
            <a:ext cx="527040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HEDIS Performance Re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2600" y="59436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124080"/>
            <a:ext cx="4145040" cy="44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: Evaluate Medicaid Waiver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705040"/>
            <a:ext cx="3763800" cy="4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 Health Plan Pharmacy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175248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62720" y="2209680"/>
            <a:ext cx="32763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: Senate Bill 132: Consumer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752480"/>
            <a:ext cx="3078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: House Bill 9: Healthcare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(All Claims All Pat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5B1-5D5A-432E-B727-E3B31FA72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ful Data for State Policy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s from a state to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summar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a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all settings &amp; types of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 to state policy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short, &amp;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905120" cy="14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D77-BD08-486C-8F58-49E74ABF33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07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6640" y="52578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ummary indicators in 3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20A-F1ED-4073-BFDC-3257FEA326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ational-Comp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Sources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 Policy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summary indicators in the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used national data o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 – AH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MS Health Care Expenditur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HS Hospital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QA H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United Health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sed Utah data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YU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tah data and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x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846-00FF-4242-9640-ABD3A5A71F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T_0_N_Speedo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416480" cy="28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67080" y="2286000"/>
            <a:ext cx="1028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838080"/>
            <a:ext cx="6248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d3c"/>
                </a:solidFill>
                <a:latin typeface="Arial"/>
              </a:rPr>
              <a:t>Utah’s Overall Health Care Quality Performance Compared to 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5486400"/>
            <a:ext cx="4429080" cy="252360"/>
            <a:chOff x="2666880" y="5486400"/>
            <a:chExt cx="4429080" cy="252360"/>
          </a:xfrm>
        </p:grpSpPr>
        <p:grpSp>
          <p:nvGrpSpPr>
            <p:cNvPr id="113" name=""/>
            <p:cNvGrpSpPr/>
            <p:nvPr/>
          </p:nvGrpSpPr>
          <p:grpSpPr>
            <a:xfrm>
              <a:off x="5029200" y="5486400"/>
              <a:ext cx="2066760" cy="215640"/>
              <a:chOff x="5029200" y="5486400"/>
              <a:chExt cx="2066760" cy="215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638680" y="5638680"/>
                <a:ext cx="800280" cy="1440"/>
              </a:xfrm>
              <a:prstGeom prst="line">
                <a:avLst/>
              </a:prstGeom>
              <a:ln w="22320">
                <a:solidFill>
                  <a:srgbClr val="28242e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9200" y="5486400"/>
                <a:ext cx="206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Current</a:t>
                </a:r>
                <a:r>
                  <a:rPr b="1" lang="en-US" sz="1000" spc="-1" strike="noStrike">
                    <a:solidFill>
                      <a:srgbClr val="3d3d3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666880" y="5486400"/>
              <a:ext cx="2057400" cy="252360"/>
              <a:chOff x="2666880" y="5486400"/>
              <a:chExt cx="2057400" cy="25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3809880" y="5639040"/>
                <a:ext cx="800280" cy="0"/>
              </a:xfrm>
              <a:prstGeom prst="line">
                <a:avLst/>
              </a:prstGeom>
              <a:ln w="22320">
                <a:solidFill>
                  <a:srgbClr val="21212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486400"/>
                <a:ext cx="20574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Base L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98108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9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457200"/>
            <a:ext cx="1924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A5D-494D-46C5-AA5C-B91F3B5408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48320" y="2971800"/>
            <a:ext cx="380880" cy="43812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3733920"/>
            <a:ext cx="325440" cy="38088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761760"/>
            <a:ext cx="577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ality Variation by Care Type and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0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19320" y="5060880"/>
            <a:ext cx="146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Very 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16840" y="5060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4520" y="5310360"/>
            <a:ext cx="149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7120" y="5022720"/>
            <a:ext cx="23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Home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46280" y="50227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4240" y="5349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4520" y="45115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50960" y="4538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7120" y="4341960"/>
            <a:ext cx="24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Nursing Hom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800" y="4341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4240" y="4668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5680" y="372600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2560" y="372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41240" y="39751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168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65320" y="3648240"/>
            <a:ext cx="169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Hospit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3840" y="3648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4240" y="3975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18280" y="301788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5160" y="3017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6000" y="3267000"/>
            <a:ext cx="21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68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65680" y="2967120"/>
            <a:ext cx="1646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Chronic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5680" y="2967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42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96800" y="24289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428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2271600"/>
            <a:ext cx="1398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Acut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9800" y="2271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64240" y="2600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9760" y="176040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6200" y="1787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5320" y="1552680"/>
            <a:ext cx="200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Preventiv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9280" y="15526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4240" y="1879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7160" y="1487520"/>
            <a:ext cx="6404040" cy="0"/>
          </a:xfrm>
          <a:prstGeom prst="line">
            <a:avLst/>
          </a:prstGeom>
          <a:ln cap="sq" w="381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2680" y="194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22464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760" y="2546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440" y="286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3560" y="283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9160" y="35290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440" y="3830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2680" y="413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33120" y="41324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2680" y="44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3120" y="44467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" y="474660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7920" y="47466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760" y="5048280"/>
            <a:ext cx="13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2680" y="534996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6520" y="5324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13400" y="5062680"/>
            <a:ext cx="338040" cy="392040"/>
            <a:chOff x="4613400" y="5062680"/>
            <a:chExt cx="338040" cy="392040"/>
          </a:xfrm>
        </p:grpSpPr>
        <p:sp>
          <p:nvSpPr>
            <p:cNvPr id="179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302000" y="5062680"/>
            <a:ext cx="338040" cy="392040"/>
            <a:chOff x="4302000" y="5062680"/>
            <a:chExt cx="338040" cy="392040"/>
          </a:xfrm>
        </p:grpSpPr>
        <p:sp>
          <p:nvSpPr>
            <p:cNvPr id="182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38840" y="5062680"/>
            <a:ext cx="336600" cy="392040"/>
            <a:chOff x="4938840" y="5062680"/>
            <a:chExt cx="336600" cy="392040"/>
          </a:xfrm>
        </p:grpSpPr>
        <p:sp>
          <p:nvSpPr>
            <p:cNvPr id="185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49880" y="5062680"/>
            <a:ext cx="336240" cy="392040"/>
            <a:chOff x="5249880" y="5062680"/>
            <a:chExt cx="336240" cy="392040"/>
          </a:xfrm>
        </p:grpSpPr>
        <p:sp>
          <p:nvSpPr>
            <p:cNvPr id="188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02000" y="4440240"/>
            <a:ext cx="338040" cy="393840"/>
            <a:chOff x="4302000" y="4440240"/>
            <a:chExt cx="338040" cy="393840"/>
          </a:xfrm>
        </p:grpSpPr>
        <p:sp>
          <p:nvSpPr>
            <p:cNvPr id="191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0400" y="4440240"/>
            <a:ext cx="336240" cy="393840"/>
            <a:chOff x="4640400" y="4440240"/>
            <a:chExt cx="336240" cy="393840"/>
          </a:xfrm>
        </p:grpSpPr>
        <p:sp>
          <p:nvSpPr>
            <p:cNvPr id="194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09920" y="2992320"/>
            <a:ext cx="336600" cy="393840"/>
            <a:chOff x="4309920" y="2992320"/>
            <a:chExt cx="336600" cy="393840"/>
          </a:xfrm>
        </p:grpSpPr>
        <p:sp>
          <p:nvSpPr>
            <p:cNvPr id="197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21200" y="2971800"/>
            <a:ext cx="412560" cy="456840"/>
            <a:chOff x="4921200" y="2971800"/>
            <a:chExt cx="412560" cy="456840"/>
          </a:xfrm>
        </p:grpSpPr>
        <p:sp>
          <p:nvSpPr>
            <p:cNvPr id="200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302000" y="3726000"/>
            <a:ext cx="338040" cy="393480"/>
            <a:chOff x="4302000" y="3726000"/>
            <a:chExt cx="338040" cy="393480"/>
          </a:xfrm>
        </p:grpSpPr>
        <p:sp>
          <p:nvSpPr>
            <p:cNvPr id="203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48320" y="3733920"/>
            <a:ext cx="338040" cy="393480"/>
            <a:chOff x="4648320" y="3733920"/>
            <a:chExt cx="338040" cy="393480"/>
          </a:xfrm>
        </p:grpSpPr>
        <p:sp>
          <p:nvSpPr>
            <p:cNvPr id="206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3560" y="1676520"/>
            <a:ext cx="336240" cy="393480"/>
            <a:chOff x="4543560" y="1676520"/>
            <a:chExt cx="336240" cy="393480"/>
          </a:xfrm>
        </p:grpSpPr>
        <p:sp>
          <p:nvSpPr>
            <p:cNvPr id="209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22880" y="1676520"/>
            <a:ext cx="336600" cy="393480"/>
            <a:chOff x="4322880" y="1676520"/>
            <a:chExt cx="336600" cy="393480"/>
          </a:xfrm>
        </p:grpSpPr>
        <p:sp>
          <p:nvSpPr>
            <p:cNvPr id="212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29160" y="2338560"/>
            <a:ext cx="338040" cy="392040"/>
            <a:chOff x="4529160" y="2338560"/>
            <a:chExt cx="338040" cy="392040"/>
          </a:xfrm>
        </p:grpSpPr>
        <p:sp>
          <p:nvSpPr>
            <p:cNvPr id="215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09920" y="2338560"/>
            <a:ext cx="336600" cy="392040"/>
            <a:chOff x="4309920" y="2338560"/>
            <a:chExt cx="336600" cy="392040"/>
          </a:xfrm>
        </p:grpSpPr>
        <p:sp>
          <p:nvSpPr>
            <p:cNvPr id="218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7543800" y="304920"/>
            <a:ext cx="100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35A-1253-419A-8A9E-1EC6843B7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9520" y="5530680"/>
            <a:ext cx="338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9520" y="5713560"/>
            <a:ext cx="397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Cesarean Delivery; Foreign Body Left During Procedur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89520" y="5896080"/>
            <a:ext cx="9126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ath in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3320" y="5902200"/>
            <a:ext cx="1611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Transfusion Rea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6320" y="5578560"/>
            <a:ext cx="1118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Not Ap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0520" y="582120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(Too few cas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600" y="5002200"/>
            <a:ext cx="1462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Worse 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30280" y="5221440"/>
            <a:ext cx="750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9280" y="3159000"/>
            <a:ext cx="912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Better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30280" y="3400560"/>
            <a:ext cx="750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676520"/>
            <a:ext cx="7095960" cy="28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41400" y="54529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41400" y="6230880"/>
            <a:ext cx="7094520" cy="32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9960" y="1657440"/>
            <a:ext cx="1800" cy="4414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35920" y="1657440"/>
            <a:ext cx="41400" cy="46670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504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9080" y="5775480"/>
            <a:ext cx="3970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48200" y="5902200"/>
            <a:ext cx="46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R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5037120"/>
            <a:ext cx="1019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neumothor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4080" y="4302000"/>
            <a:ext cx="1503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ame as 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59680" y="3168720"/>
            <a:ext cx="5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36360" y="1657440"/>
            <a:ext cx="4680" cy="45766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996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19040" y="2610000"/>
            <a:ext cx="973080" cy="365040"/>
            <a:chOff x="1319040" y="2610000"/>
            <a:chExt cx="973080" cy="365040"/>
          </a:xfrm>
        </p:grpSpPr>
        <p:grpSp>
          <p:nvGrpSpPr>
            <p:cNvPr id="307" name=""/>
            <p:cNvGrpSpPr/>
            <p:nvPr/>
          </p:nvGrpSpPr>
          <p:grpSpPr>
            <a:xfrm>
              <a:off x="1319040" y="2610000"/>
              <a:ext cx="686880" cy="365040"/>
              <a:chOff x="1319040" y="2610000"/>
              <a:chExt cx="686880" cy="3650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6248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904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948680" y="2610000"/>
              <a:ext cx="34344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07960" y="3794040"/>
            <a:ext cx="795600" cy="365040"/>
            <a:chOff x="1407960" y="3794040"/>
            <a:chExt cx="795600" cy="365040"/>
          </a:xfrm>
        </p:grpSpPr>
        <p:sp>
          <p:nvSpPr>
            <p:cNvPr id="312" name=""/>
            <p:cNvSpPr/>
            <p:nvPr/>
          </p:nvSpPr>
          <p:spPr>
            <a:xfrm>
              <a:off x="18057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79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628640" y="4614840"/>
            <a:ext cx="354240" cy="365040"/>
          </a:xfrm>
          <a:prstGeom prst="star5">
            <a:avLst/>
          </a:prstGeom>
          <a:solidFill>
            <a:srgbClr val="6b2a2b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38088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Performance Summ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AHRQ 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Utah: 200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1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685800" y="22860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77B-9C14-40E4-AEE5-60890924AF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981080" y="2209680"/>
            <a:ext cx="5380200" cy="687240"/>
            <a:chOff x="1981080" y="2209680"/>
            <a:chExt cx="5380200" cy="687240"/>
          </a:xfrm>
        </p:grpSpPr>
        <p:grpSp>
          <p:nvGrpSpPr>
            <p:cNvPr id="320" name=""/>
            <p:cNvGrpSpPr/>
            <p:nvPr/>
          </p:nvGrpSpPr>
          <p:grpSpPr>
            <a:xfrm>
              <a:off x="1981080" y="2209680"/>
              <a:ext cx="1218960" cy="407520"/>
              <a:chOff x="1981080" y="2209680"/>
              <a:chExt cx="1218960" cy="4075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981080" y="2209680"/>
                <a:ext cx="860400" cy="407160"/>
                <a:chOff x="1981080" y="2209680"/>
                <a:chExt cx="860400" cy="407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112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810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769840" y="2209680"/>
                <a:ext cx="430200" cy="40752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68800" y="2319120"/>
              <a:ext cx="4092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= Hospital performed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better than expecte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than their pe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hospitals in the nation that treated similar pati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0120" y="266832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In consumer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47920" y="3200400"/>
            <a:ext cx="6400800" cy="2286000"/>
            <a:chOff x="1447920" y="3200400"/>
            <a:chExt cx="6400800" cy="2286000"/>
          </a:xfrm>
        </p:grpSpPr>
        <p:sp>
          <p:nvSpPr>
            <p:cNvPr id="328" name=""/>
            <p:cNvSpPr/>
            <p:nvPr/>
          </p:nvSpPr>
          <p:spPr>
            <a:xfrm>
              <a:off x="6760080" y="4860000"/>
              <a:ext cx="10886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6800" y="4860000"/>
              <a:ext cx="9532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4860000"/>
              <a:ext cx="43588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out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60080" y="4187160"/>
              <a:ext cx="108864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6800" y="4187160"/>
              <a:ext cx="9532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4187160"/>
              <a:ext cx="43588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0080" y="3811680"/>
              <a:ext cx="10886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06800" y="3811680"/>
              <a:ext cx="953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3811680"/>
              <a:ext cx="4358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Patient Safety Indic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381168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18716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486000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548640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0680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6008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87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95440" y="3200400"/>
              <a:ext cx="630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Numbers of Three-Star Hospital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In the Consumer Reports on Obstetric Safety: 2004 -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2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69360" y="701640"/>
            <a:ext cx="6616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ublic Repor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Can Reduce Performance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04920" y="228600"/>
            <a:ext cx="99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54C-3D7A-4D5E-9BD9-8828EB15C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62320" y="62485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55627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828800" y="843120"/>
            <a:ext cx="6553080" cy="4976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53352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E5E-28A3-4870-B8EB-6AFDD6E83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81080" y="60199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3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372360" cy="457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096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Trends of Hospit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8600"/>
            <a:ext cx="144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68E-8A0E-4056-85F2-D7824AA10E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ose wh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lead,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guide, or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idence-based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                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14840" y="0"/>
            <a:ext cx="358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AE2-24C9-4322-BBAD-DB361B0CD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81080" y="4952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724280"/>
            <a:ext cx="4038480" cy="12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9F7-40CD-4AC1-978E-6697B9581B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33720" y="60958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457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Use Statewide Cost-to-Charge Ratio to Estimat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6553080" cy="34448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85000" y="1525320"/>
            <a:ext cx="4498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reased Inpatient Total Facility Charg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sts Adjusted by Cost-to-Charge Ratio (C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tah, 1997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8088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-T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210-CE30-457E-AA30-2C569F123D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096240" cy="3345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905120" y="2057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ercentage of Outpatient Emergency Department Visit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rimary Care Sensitive Conditions: Utah, 2001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7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19791000">
            <a:off x="0" y="533520"/>
            <a:ext cx="18352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685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Access to Primary Care Through Emergent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CB0-0679-4E48-8B7B-890F4C1A3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447920" y="914400"/>
            <a:ext cx="6933960" cy="5084640"/>
            <a:chOff x="1447920" y="914400"/>
            <a:chExt cx="6933960" cy="5084640"/>
          </a:xfrm>
        </p:grpSpPr>
        <p:sp>
          <p:nvSpPr>
            <p:cNvPr id="375" name=""/>
            <p:cNvSpPr/>
            <p:nvPr/>
          </p:nvSpPr>
          <p:spPr>
            <a:xfrm>
              <a:off x="1447920" y="914400"/>
              <a:ext cx="6933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d3d3c"/>
                  </a:solidFill>
                  <a:latin typeface="Arial"/>
                </a:rPr>
                <a:t>Hospitalization Rates for Ambulatory Care Sensitive Conditions by County, Utah: 1996-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285640" y="1447560"/>
              <a:ext cx="5028840" cy="455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21337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 rot="19791000">
            <a:off x="151920" y="533520"/>
            <a:ext cx="19116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931-E1C8-4640-8C36-EAA7D80401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23880" y="1447920"/>
            <a:ext cx="6362640" cy="4341240"/>
            <a:chOff x="1523880" y="1447920"/>
            <a:chExt cx="6362640" cy="434124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636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Utilization Rates of Hospital Inpatients, Outpatient Surgeries, or Emergency Room Visits, per 100 Population: Utah and U.S., 1999-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823400" y="2037960"/>
              <a:ext cx="5822640" cy="37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286000" y="60958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4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4572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 NCHS National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Hospital Discharg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 rot="19791000">
            <a:off x="152280" y="456840"/>
            <a:ext cx="1911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 flipH="1" rot="18288600">
            <a:off x="4504680" y="3132720"/>
            <a:ext cx="1055520" cy="552600"/>
          </a:xfrm>
          <a:prstGeom prst="rightArrow">
            <a:avLst>
              <a:gd name="adj1" fmla="val 50000"/>
              <a:gd name="adj2" fmla="val 477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3C8-9580-429C-A876-B9752AD864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19320" y="1371600"/>
            <a:ext cx="7009920" cy="4190760"/>
            <a:chOff x="1219320" y="1371600"/>
            <a:chExt cx="7009920" cy="4190760"/>
          </a:xfrm>
        </p:grpSpPr>
        <p:sp>
          <p:nvSpPr>
            <p:cNvPr id="390" name=""/>
            <p:cNvSpPr/>
            <p:nvPr/>
          </p:nvSpPr>
          <p:spPr>
            <a:xfrm>
              <a:off x="1220760" y="4751280"/>
              <a:ext cx="6988680" cy="81108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0760" y="3342960"/>
              <a:ext cx="6988680" cy="67572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1844640"/>
              <a:ext cx="6988680" cy="74340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3840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2400" y="4768200"/>
              <a:ext cx="56156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 faces huge challenges in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romotion of preventive care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156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3840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2400" y="40338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ublic reporting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on quality and safety can reduce performance variations among hospit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156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840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22400" y="3466800"/>
              <a:ext cx="5615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Baseline measures of hospital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atient safe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are establish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156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3840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2400" y="25992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Significant quality variations existed among types of care and care settings. 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nursing home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weaker than hospital or home health ca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3156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840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22400" y="1863360"/>
              <a:ext cx="56156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overall health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ranked as “Strong” in the 2006 </a:t>
              </a:r>
              <a:br>
                <a:rPr sz="1100"/>
              </a:b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National Healthcare Quality Repor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3156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840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P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2400" y="1371600"/>
              <a:ext cx="56156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Highligh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156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Tr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1560" y="137160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1560" y="186336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1560" y="2599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1560" y="33336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1560" y="40338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1560" y="4768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560" y="556236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3156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22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38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2924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0800000">
              <a:off x="1423800" y="427788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0960" y="2118600"/>
              <a:ext cx="342000" cy="180000"/>
            </a:xfrm>
            <a:prstGeom prst="rightArrow">
              <a:avLst>
                <a:gd name="adj1" fmla="val 50000"/>
                <a:gd name="adj2" fmla="val 47500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3800" y="502164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80960" y="3601800"/>
              <a:ext cx="342000" cy="180360"/>
            </a:xfrm>
            <a:prstGeom prst="rightArrow">
              <a:avLst>
                <a:gd name="adj1" fmla="val 50000"/>
                <a:gd name="adj2" fmla="val 47405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3800" y="285840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905120" y="58672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609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’s Self Rating on Trends of Quality and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587-5028-43C4-A6E1-8AE6696EDF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H released the report on the same day when AHRQ released the National Quality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70C-8889-4058-958C-75C78C5213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ank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14800" y="1828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wealth Fund Health System Report Card (2007), released 06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669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609480" y="4191120"/>
          <a:ext cx="7925040" cy="1535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092240"/>
                <a:gridCol w="1549440"/>
                <a:gridCol w="1320840"/>
                <a:gridCol w="1320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able hospital use &amp;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y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0DA-ACB2-40E8-998A-D4CBF85057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undwall, Exec.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indicators compara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ethods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data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learn from the Commonwealth Fund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Utah Medical Ethics Committee (UMEC) had a rich discussion on August 2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anking Dynamic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C7C-ECB6-44C8-8D0A-6AC94FC5FD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inction between outcome measures and process measures was evident in the various ranking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seems to be at a point where our measure definitions are standardized but the validity of each specific measure can’t be taken for gra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E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2F8-AAC7-4A25-BA01-FD91238641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053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Sundwall, MD, Exec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der in using health data for evidence-based policy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leadership principle #2 is science-based practice an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9920" y="228600"/>
            <a:ext cx="18939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938-9C20-4A6E-B462-56BBD3CB3E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Home Mess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on between policymakers and analysts is the starting point for evidence-based policy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” with HCUPnet to explore answers for your policy ques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HCUP for technical assistance, if HCUPnet doesn’t have the data you ne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843-1AEA-48FA-8004-C39EF040EF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ly Cofrin 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cofrinallen@utah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U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k Hinckley, Robert Huefner, Leslie Francis, Stephen Kroes and other members of Utah Health Data Committee for their guidance in vision &amp; policy analysis to transform healthcar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0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3733920"/>
            <a:ext cx="7696440" cy="2438280"/>
          </a:xfrm>
          <a:prstGeom prst="rect">
            <a:avLst/>
          </a:prstGeom>
          <a:solidFill>
            <a:srgbClr val="cfcddc"/>
          </a:solidFill>
          <a:ln w="3240">
            <a:solidFill>
              <a:srgbClr val="3d3d3c"/>
            </a:solidFill>
            <a:miter/>
          </a:ln>
          <a:effectLst>
            <a:outerShdw dist="71785" dir="2700000" blurRad="0" rotWithShape="0">
              <a:srgbClr val="9d9d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6160" rIns="54720" tIns="54720" bIns="547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d3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We really are at a very exciting point in health care. Several years from now we will look back and see that the health care system that we know today has changed in sort of a revolutionary fashion.”</a:t>
            </a:r>
            <a:r>
              <a:rPr b="0" i="1" lang="en-US" sz="2400" spc="-1" strike="noStrike">
                <a:solidFill>
                  <a:srgbClr val="3d3d3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d3d3c"/>
                </a:solidFill>
                <a:latin typeface="Times New Roman"/>
              </a:rPr>
              <a:t>-Clark B. Hinckley, Chairman, Health Data Committee                                                                                  Summary at the HDC Biennial Retreat, July 1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29A-09A8-464D-9B50-090473AF7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FF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artin, Lori Brady, Keely Cofrin Allen, Lois Haggard and Barry Nangle in  Utah Center for Health Data for their efforts in develop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of discuss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th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53280" y="3352680"/>
            <a:ext cx="270648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8FB-C274-4BD0-A91A-7C98577C37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DERAL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’ Evidence-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rom 3 AHRQ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UP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Healthcare Quality Repor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HRQ Public Affair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73840" y="0"/>
            <a:ext cx="22701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4CE-1D46-458E-846A-9698B4EFC2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049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tah Health Data Author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6-33a-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committee is to direct a statewide effort to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col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distrib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alth care data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to facilitate the promotion and accessibility of quality and cost-effective health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so to facilitate interaction among those with concern for health car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28800"/>
            <a:ext cx="83818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D4D-9D79-4C09-99BD-A28D0CF74A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Health Data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rchasers/Busi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Clark Hinckle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Chair, Zions Ban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ephen Kro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Marilyn Tang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Certified Handl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rovi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Kim Batem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M.D. Manti Medical Clinic and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lth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ail McGui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.N. Orem Community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blic Poli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Judy Buffmir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Former Legi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Robert Huefner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– Vice Chair, Univ. of Utah, Politic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Leslie Franci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niv. of Utah, Health Et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atients/Consu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Gary Nordof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ousing for Low Income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Terry Hav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ayers and Heal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avid Ca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Deseret Mutual Benefits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ouglas Hasbrouck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egence BC/BS of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reg Pouls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Intermountain Health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504-259A-4B7F-A091-74CB612D78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Caroline Pang</cp:lastModifiedBy>
  <dcterms:modified xsi:type="dcterms:W3CDTF">2008-01-08T22:59:45Z</dcterms:modified>
  <cp:revision>259</cp:revision>
  <dc:subject/>
  <dc:title>Challenges In      Utah’s Health                         Care  </dc:title>
</cp:coreProperties>
</file>