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E7B4B-DF4E-49E8-9DF9-DA347499D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08B9-E25D-4503-AF12-1071432CD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0A2EF-937E-4FCC-9596-22755B317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4E4F1-9D57-4BAD-B580-82B17C29F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790280" y="471600"/>
            <a:ext cx="608796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8E2EF-4720-4BF5-BA6B-C964E8AC0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F4DF9-46BE-4681-B6C6-E96E3B94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E77E1-5BEB-4B73-93F8-DD6EA6F5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4F437-CBC9-4FF8-ACBE-09EC4E70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03B82-B81A-4AF8-B17D-D6DBF7B3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190AE-B8A9-488C-B19C-7B54C4BC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6B8E7-E85D-4824-9F07-518A324F84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790280" y="471600"/>
            <a:ext cx="608796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12404-19F6-4EB7-907F-21639EA2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D061D-9F3D-4789-9F51-91BE806A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030B3-7FCE-4A45-823A-BFEDF448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CCD8E-0426-44E8-B864-EC4EC2D0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1C605-0C71-4378-963E-EE7FF2D3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FCFA1-0DDB-43D5-885A-49551B0E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F91CB-5EEB-4780-BDC2-D672EDCC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7D865-BC08-4CE8-97B5-B7EF963F03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92207-E556-4E3F-A2B5-72F738E346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90280" y="471600"/>
            <a:ext cx="608796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7BADE-809C-4934-90BD-B7DEA949F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D7020-C870-450F-BADB-F8B88C963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B8BE-8E62-441E-BDFD-8AB21B33C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19506-0EA0-45BC-AFD3-267521347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1880" indent="-3718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0840" indent="-317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52000" indent="-279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5960" indent="-182880">
              <a:lnSpc>
                <a:spcPct val="90000"/>
              </a:lnSpc>
              <a:spcBef>
                <a:spcPts val="104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04920" y="6400440"/>
            <a:ext cx="5745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95F2-EBDF-4B32-8A9E-DED9B115A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1278000"/>
            <a:ext cx="9143640" cy="73440"/>
            <a:chOff x="0" y="1278000"/>
            <a:chExt cx="9143640" cy="73440"/>
          </a:xfrm>
        </p:grpSpPr>
        <p:sp>
          <p:nvSpPr>
            <p:cNvPr id="5" name=""/>
            <p:cNvSpPr/>
            <p:nvPr/>
          </p:nvSpPr>
          <p:spPr>
            <a:xfrm>
              <a:off x="6480" y="1351440"/>
              <a:ext cx="91371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278000"/>
              <a:ext cx="91371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742160" y="63360"/>
            <a:ext cx="1295640" cy="114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" name=""/>
          <p:cNvGraphicFramePr/>
          <p:nvPr/>
        </p:nvGraphicFramePr>
        <p:xfrm>
          <a:off x="42840" y="257040"/>
          <a:ext cx="14479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0" y="257040"/>
                    <a:ext cx="14479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8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7908840" y="582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52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4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6892-5754-412D-8253-7C6CB25FCB9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14BB-F6B8-4FCF-A625-C171A5E41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 and use in 1 or 2 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5092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Master subtitle style and use in 1 or more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101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qualityindicators.ahrq.gov/mappingtool.htm" TargetMode="External"/><Relationship Id="rId2" Type="http://schemas.openxmlformats.org/officeDocument/2006/relationships/hyperlink" Target="http://www.qualityindicators.ahrq.gov/mappingtool.htm" TargetMode="Externa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Marjorie.Shofer@ahrq.hhs.gov" TargetMode="External"/><Relationship Id="rId2" Type="http://schemas.openxmlformats.org/officeDocument/2006/relationships/hyperlink" Target="mailto:support@qualityindicators.ahrq.gov" TargetMode="External"/><Relationship Id="rId3" Type="http://schemas.openxmlformats.org/officeDocument/2006/relationships/hyperlink" Target="http://www.academyhealth.org/ahrq/qualitytools/index.htm" TargetMode="External"/><Relationship Id="rId4" Type="http://schemas.openxmlformats.org/officeDocument/2006/relationships/hyperlink" Target="http://www.academyhealth.org/ahrq/qualitytools/index.htm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eventable Hospitalization Costs: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 County-Level Mapping Tool 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4114800"/>
            <a:ext cx="6553080" cy="19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ne 16,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ybeth Farquh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ency for Healthcare Research and 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lanie Chans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ttelle Centers for Public Health Research and Eval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15840" y="1847880"/>
            <a:ext cx="7313760" cy="49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23ED-3573-4559-AED5-F7C0F8F74E76}" type="slidenum">
              <a:t>10</a:t>
            </a:fld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verview of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B8C57-0DF5-4942-AF1D-B0EC2F3914AC}" type="slidenum">
              <a:t>11</a:t>
            </a:fld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Underlying Data Used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by the Tool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indicator spec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-to-charge rat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su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449A3-6EA2-4A31-B7AD-5B6F18DC5382}" type="slidenum">
              <a:t>12</a:t>
            </a:fld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User-provided data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0690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tool functions require data provided by the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ain data elements ar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quir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creating maps and calculating county-level QI 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data elements ar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ption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cost savings and population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C6F1D-C291-4BB9-95F0-F91697103A6D}" type="slidenum">
              <a:t>13</a:t>
            </a:fld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Required Variables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2216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llowing variables must be present in your data fi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atient age in whole yea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day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atient age in day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x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x coded 1 for male, 2 for fema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X1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CD-9-CM primary diagnos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1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CD-9-CM primary proced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DC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ajor diagnostic categor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G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iagnosis related grou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TCO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ounty of patient resid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ype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dmission typ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ource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dmission sour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1169B-874A-47B8-9DD0-98A2BFE33AA1}" type="slidenum">
              <a:t>14</a:t>
            </a:fld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Optional Variables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690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llowing variables are optional, but are needed if the user wants the PHC tool to calculate potential cost saving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chg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otal charg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d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ate Inpatient Database hospital identifi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B80E0-6FA3-44C8-B2EC-41C76C3C74C0}" type="slidenum">
              <a:t>15</a:t>
            </a:fld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Optional Population Dataset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cond dataset is required if users wish to overlay population information on maps. This dataset must include the following variab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y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ate FIPS code followed by county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IPS co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x coded 1 for male, 2 for fema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ge group coded 1 for 0-17, 2 for 18-39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d 3 for 40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pulation by sex and age ce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A4AF1-18A4-4AB8-AA44-48FBEDB55418}" type="slidenum">
              <a:t>16</a:t>
            </a:fld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Data Problems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reported problems are related to the user datas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QI team can provide technical assistance with your dataset if you cannot solve your problem with the information provided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9E60-93DD-4120-8D8F-00EEC04354B4}" type="slidenum">
              <a:t>17</a:t>
            </a:fld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Outputs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outputs are automatically placed in the folder where your dataset is loc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puts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SV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l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6A839-2819-4AB7-A5DE-D1FD22D440B7}" type="slidenum">
              <a:t>18</a:t>
            </a:fld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SV &amp; Excel Files Include: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erator count of flagged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ominator count of the at-risk 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d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-adjusted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 error of risk-adjusted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ther county is significantly higher or lower than statewide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ential cost savings associated with a 10% reduction in flagged cases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pt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A4ACE-4724-44E1-B491-D221FDF50D38}" type="slidenum">
              <a:t>19</a:t>
            </a:fld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Webinar Overview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view of Mapping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view of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pretation and Use of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Pl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2AAC5-6DF0-40C5-809B-89F55B00EBE5}" type="slidenum">
              <a:t>2</a:t>
            </a:fld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Maps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rate maps will be created for each selected Q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es will be named after the QI, e.g.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QI1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QI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opened and manipulated using any graphics program or picture vie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D0BE-0BC0-440E-8068-6B9A6FEEDD6F}" type="slidenum">
              <a:t>20</a:t>
            </a:fld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erpretation and Use of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CDB7A-A271-48F4-8648-8F845A8CA04F}" type="slidenum">
              <a:t>21</a:t>
            </a:fld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here are many possible uses for mapping tool data…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vention Targ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king Intervention Imp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cation of Best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CBD94-197B-407B-88AB-0123C31DA9CC}" type="slidenum">
              <a:t>22</a:t>
            </a:fld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but several issues that must be addressed to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ffectively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use the data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leaves you with more questions: Are these rates reasonable? Do they present significant quality concer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l data needs to be manipulated to present a more dynamic, appealing, and concise data displa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EAB05-4B1B-40CB-9A37-75C0D810529F}" type="slidenum">
              <a:t>23</a:t>
            </a:fld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6087960" cy="76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Sources of Comparison Data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benchmarks (provided by to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QI and PDI User Gu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CUP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QR / NHD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0DF21-49D9-4AF7-B3F2-225D9C02FB6D}" type="slidenum">
              <a:t>24</a:t>
            </a:fld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esentation of Data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using maps for presentations of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using Excel outputs for further analysis or as source data for new graph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creating concise narrative data summar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E4CA-6130-43A2-9F31-0A9928D95EE0}" type="slidenum">
              <a:t>25</a:t>
            </a:fld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ture Pla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6389B-F40C-4068-B06B-48B9344E2CDF}" type="slidenum">
              <a:t>26</a:t>
            </a:fld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2481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We’re exploring ways to improve the mapping tool…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poration into Windows QI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for mapping below the county-level (zip-code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ideas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05AF0-1A95-44BF-80E5-A583A7F57603}" type="slidenum">
              <a:t>27</a:t>
            </a:fld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Further Info on the Mapping Tool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versions availab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requires SAS version 9 or higher and Office 2003 or high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Window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runs on Windows NT, XP, 2000, and Vista only; requires Office 2003 or high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wnload the Mapping Tool 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www.qualityindicators.ahrq.gov/mappingtool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3C701-D5E9-4B70-BBDE-397AEABD38AC}" type="slidenum">
              <a:t>28</a:t>
            </a:fld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Additional Assistance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chnical Assist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ie Shofer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Marjorie.Shofer@ahrq.hhs.g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ior Program Analyst, Office of Communications and Knowledge Trans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questions about the too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support@qualityindicators.ahrq.g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more information about AHRQ Quality Tool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4"/>
              </a:rPr>
              <a:t>www.academyhealth.org/ahrq/qualitytools/index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16C51-EF15-429F-871F-70478E98BBB2}" type="slidenum">
              <a:t>29</a:t>
            </a:fld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verview of Mapping T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0F62A-BB6D-47C7-9361-2F82F611E7CE}" type="slidenum">
              <a:t>3</a:t>
            </a:fld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15840" y="1847880"/>
            <a:ext cx="7313760" cy="49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574F5-723A-4884-9480-4E1D39BC146E}" type="slidenum">
              <a:t>30</a:t>
            </a:fld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0640" y="471600"/>
            <a:ext cx="5600880" cy="82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HRQ Quality Indicators (QIs)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1676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existing hospital discharge data, based on readily available data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te severity adjustment methods (APR-DRGs, comorbidity groupings and hierarchical model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 modules: Inpatient, Patient Safety, Prevention, Pediatric, and Neona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11661-0EE3-4206-B50C-E93A29AA228D}" type="slidenum">
              <a:t>4</a:t>
            </a:fld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reventable Hospitalization Costs: 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A County-Level Mapping Tool</a:t>
            </a:r>
            <a:endParaRPr b="1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690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pping tool is a new QI software application designed to help organizations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ter understand geographical patterns of potentially preventable hospital admission rates for selected health probl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cate resources more effectively by calculating potential cost savings if admission rates are reduc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EFF8A-26ED-44BF-B88B-1EFA2D9BB453}" type="slidenum">
              <a:t>5</a:t>
            </a:fld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ain Functions of the PHC Too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453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reation of ma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show the rates of hospital admission for selected health problems on a county-by-county basi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lculation of potential cost sav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may occur if the number of hospital admissions for selected health problems in each county is reduce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bility to place additional information about local populations onto ma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indicate the number of persons who are at greatest risk for those health problems in each county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F33EA-2EFE-4354-B082-436C2CFAC5B9}" type="slidenum">
              <a:t>6</a:t>
            </a:fld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2481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It processes all Prevention QIs...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1676520"/>
          <a:ext cx="7993080" cy="435600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1  Diabetes Short-term Complications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2  Perforated Appendix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3  Diabetes Long-term Complications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5  Chronic Obstructive Pulmonary Disease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7  Hypertension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8  Congestive Heart Failure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9  Low Birth Weight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10  Dehydration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11  Bacterial Pneumonia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12  Urinary Tract Infection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13  Angina without Procedure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14  Uncontrolled Diabetes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15  Adult Asthma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16  Lower-extremity Amputation Rate among Diabetic Pati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228600" y="649116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here is no longer a PQI 4 and PQI 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7187C-49F1-47DC-A3AF-A6C13C26A24A}" type="slidenum">
              <a:t>7</a:t>
            </a:fld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nd all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rea-level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Pediatric QIs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09480" y="1600200"/>
          <a:ext cx="8001000" cy="159372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495360">
                <a:tc>
                  <a:txBody>
                    <a:bodyPr lIns="90000" rIns="90000" tIns="27360" bIns="2736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DI 14  Asthma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274680">
                <a:tc>
                  <a:txBody>
                    <a:bodyPr lIns="90000" rIns="90000" tIns="27360" bIns="2736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DI 15  Diabetes Short-term Complications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274680">
                <a:tc>
                  <a:txBody>
                    <a:bodyPr lIns="90000" rIns="90000" tIns="27360" bIns="2736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DI 16  Gastroenteritis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274320">
                <a:tc>
                  <a:txBody>
                    <a:bodyPr lIns="90000" rIns="90000" tIns="27360" bIns="2736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DI 17  Perforated Appendix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274680">
                <a:tc>
                  <a:txBody>
                    <a:bodyPr lIns="90000" rIns="90000" tIns="27360" bIns="2736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DI 18  Urinary Tract Infection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AFF06-DF1A-45E3-B8E4-C66EC4EF63FA}" type="slidenum">
              <a:t>8</a:t>
            </a:fld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ool Demonst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CAB65-CC0B-417A-B454-AF86897F9F6C}" type="slidenum">
              <a:t>9</a:t>
            </a:fld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3:26:58Z</dcterms:created>
  <dc:creator>des33518</dc:creator>
  <dc:description/>
  <dc:language>en-US</dc:language>
  <cp:lastModifiedBy>Caroline Pang</cp:lastModifiedBy>
  <dcterms:modified xsi:type="dcterms:W3CDTF">2008-06-12T14:47:36Z</dcterms:modified>
  <cp:revision>777</cp:revision>
  <dc:subject/>
  <dc:title>The Healthcare Cost and Utilization Project (HCUP):</dc:title>
</cp:coreProperties>
</file>