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F8F7-A738-475B-9045-37F773C91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7A57-5D3A-41F9-AD35-45DBF35C1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2109-0103-4AFB-A03C-05F06ADD5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167BF-0636-4034-ABCF-2F5AAD297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790280" y="4716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AE16-AE00-4298-AC45-8B14DF65E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47830-DD43-45E1-909A-0908949E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C1281-2CF5-4E33-AF61-60B88BBF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074C9-5DEC-4AF0-8BC6-A802AF90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3FF4C-638B-4DB3-B5D6-0D2D579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90453-9AB7-4A14-AEC5-CBED23BC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4329-6795-4C9D-A325-0E18C9AC55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0280" y="4716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69F87-0EBB-42A2-83FD-620C5A98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B7B09-3501-4096-B62C-31665519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64EEB-6272-4822-AD67-94FBF2FC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FA804-3B56-4A83-A7CB-24226256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C8B12-442D-459E-9633-D68312FF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55718-C949-420A-9EA8-B725C5B1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EC221-1A69-4E42-8DD3-2FDF2062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7BA8-BDB0-40C2-91AE-2A8629CB2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8C69-B219-4944-8960-2FA756953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90280" y="471600"/>
            <a:ext cx="608796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30C08-7C9E-4114-A27F-EA8CD94F2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E22A-9C31-4AC5-9428-5E93468D1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533B-7D34-43F6-AA2D-C41B78F7C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8CA3-34DB-49DC-985A-C57DC8D96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1880" indent="-371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0840" indent="-3171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52000" indent="-27936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25960" indent="-182880">
              <a:lnSpc>
                <a:spcPct val="90000"/>
              </a:lnSpc>
              <a:spcBef>
                <a:spcPts val="104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700640" indent="-18288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04920" y="6400440"/>
            <a:ext cx="574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434D-C0EB-48EF-9757-38E0D0889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1278000"/>
            <a:ext cx="9143640" cy="73440"/>
            <a:chOff x="0" y="1278000"/>
            <a:chExt cx="9143640" cy="73440"/>
          </a:xfrm>
        </p:grpSpPr>
        <p:sp>
          <p:nvSpPr>
            <p:cNvPr id="5" name=""/>
            <p:cNvSpPr/>
            <p:nvPr/>
          </p:nvSpPr>
          <p:spPr>
            <a:xfrm>
              <a:off x="6480" y="1351440"/>
              <a:ext cx="91371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278000"/>
              <a:ext cx="91371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742160" y="63360"/>
            <a:ext cx="1295640" cy="114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" name=""/>
          <p:cNvGraphicFramePr/>
          <p:nvPr/>
        </p:nvGraphicFramePr>
        <p:xfrm>
          <a:off x="42840" y="257040"/>
          <a:ext cx="144792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0" y="257040"/>
                    <a:ext cx="1447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8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7908840" y="582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52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4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C197-B81D-4102-9DC2-3158DF9353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9103-8BD4-42BE-9DC6-AFE3F471B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 and use in 1 or 2 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5092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subtitle style and use in 1 or more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01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qualityindicators.ahrq.gov/mappingtool.htm" TargetMode="External"/><Relationship Id="rId2" Type="http://schemas.openxmlformats.org/officeDocument/2006/relationships/hyperlink" Target="http://www.qualityindicators.ahrq.gov/mappingtool.htm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Marjorie.Shofer@ahrq.hhs.gov" TargetMode="External"/><Relationship Id="rId2" Type="http://schemas.openxmlformats.org/officeDocument/2006/relationships/hyperlink" Target="mailto:support@qualityindicators.ahrq.gov" TargetMode="External"/><Relationship Id="rId3" Type="http://schemas.openxmlformats.org/officeDocument/2006/relationships/hyperlink" Target="http://www.academyhealth.org/ahrq/qualitytools/index.htm" TargetMode="External"/><Relationship Id="rId4" Type="http://schemas.openxmlformats.org/officeDocument/2006/relationships/hyperlink" Target="http://www.academyhealth.org/ahrq/qualitytools/index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 County-Level Mapping Tool 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50560" y="3962520"/>
            <a:ext cx="64357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114800"/>
            <a:ext cx="6553080" cy="19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ne 16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ybeth Farqu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ency for Healthcare Research and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lanie Chans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ttelle Centers for Public Health Research and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15840" y="1847880"/>
            <a:ext cx="7313760" cy="49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42E7-1438-4CC9-BA3E-FFD12858F32F}" type="slidenum">
              <a:t>10</a:t>
            </a:fld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 of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F18E-C790-4A7B-A0E3-711D50BDE5A8}" type="slidenum">
              <a:t>11</a:t>
            </a:fld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Underlying Data Used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y the Tool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indicator spec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-to-charge rat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su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9FF3-E306-4B4F-AB0D-46BA09C4BAEA}" type="slidenum">
              <a:t>12</a:t>
            </a:fld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User-provided data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tool functions require data provided by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data el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qui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creating maps and calculating county-level QI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ata elements a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cost savings and populatio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521C-CC35-4617-A3EE-C4F980A56525}" type="slidenum">
              <a:t>13</a:t>
            </a:fld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Required Variable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1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llowing variables must be present in your data fi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tient age in whole yea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day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tient age in day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x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x coded 1 for male, 2 for fema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1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CD-9-CM primary diagnos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1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CD-9-CM primary proced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DC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jor diagnostic catego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G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iagnosis related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TCO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ounty of patient resid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ype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dmission typ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ource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dmission sou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0A8C-CA54-41A4-B625-1D22E3991867}" type="slidenum">
              <a:t>14</a:t>
            </a:fld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ptional Variable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llowing variables are optional, but are needed if the user wants the PHC tool to calculate potential cost saving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chg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tal charg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d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te Inpatient Database hospital identifi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5ABF-387B-4D94-BF55-93A77D203CD1}" type="slidenum">
              <a:t>15</a:t>
            </a:fld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Optional Population Dataset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cond dataset is required if users wish to overlay population information on maps. This dataset must include the following vari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y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te FIPS code followed by count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PS c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x coded 1 for male, 2 for fema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ge group coded 1 for 0-17, 2 for 18-39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 3 for 40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pulation by sex and age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A1697-2536-4E7F-9072-D4E2AE439C62}" type="slidenum">
              <a:t>16</a:t>
            </a:fld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Data Problem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reported problems are related to the user datas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QI team can provide technical assistance with your dataset if you cannot solve your problem with the information provided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D8F6-9B5C-4772-882B-9F0162FD594B}" type="slidenum">
              <a:t>17</a:t>
            </a:fld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Output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outputs are automatically placed in the folder where your dataset is lo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V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851B2-0505-40E4-879D-67F40C0412BC}" type="slidenum">
              <a:t>18</a:t>
            </a:fld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SV &amp; Excel Files Include: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erator count of flagged c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nominator count of the at-risk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d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-adjusted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 error of risk-adjusted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ther county is significantly higher or lower than statewid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ential cost savings associated with a 10% reduction in flagged cases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CC68-37FE-47B3-9B48-1EA47004B73B}" type="slidenum">
              <a:t>19</a:t>
            </a:fld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ebinar Overview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Mapp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view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and Use of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8EED-9142-4BB7-8BFD-01F4AA55EEC1}" type="slidenum">
              <a:t>2</a:t>
            </a:fld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Maps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rate maps will be created for each selected Q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s will be named after the QI, e.g.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QI1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QI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opened and manipulated using any graphics program or picture vie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E6C5-1C49-43B3-BD52-64AE17EA020F}" type="slidenum">
              <a:t>20</a:t>
            </a:fld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erpretation and Use of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509D0-52C4-4774-8576-EB402C444331}" type="slidenum">
              <a:t>21</a:t>
            </a:fld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re are many possible uses for mapping tool data…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vention Targ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Intervention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Bes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C586-877D-4C63-B2D8-227C009C1C55}" type="slidenum">
              <a:t>22</a:t>
            </a:fld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but several issues that must be addressed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ffectively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use the data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leaves you with more questions: Are these rates reasonable? Do they present significant quality concer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l data needs to be manipulated to present a more dynamic, appealing, and concise data displ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3953-E9E0-4454-A526-BD8FEC417DD7}" type="slidenum">
              <a:t>23</a:t>
            </a:fld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8796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ources of Comparison Data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benchmarks (provided by too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QI and PDI User Gu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CUP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HQR / NHD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99CC-19DF-486E-8E6F-CA53161EC69F}" type="slidenum">
              <a:t>24</a:t>
            </a:fld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esentation of Data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using maps for presentations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using Excel outputs for further analysis or as source data for new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creating concise narrative data summa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C9E5-E380-4AB5-954D-9A621E8A4F47}" type="slidenum">
              <a:t>25</a:t>
            </a:fld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ture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2A38-DC2B-4CA1-804A-DA0CB22803B1}" type="slidenum">
              <a:t>26</a:t>
            </a:fld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We’re exploring ways to improve the mapping tool…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ion into Windows QI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for mapping below the county-level (zip-cod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ideas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C551-46BB-49C2-B0CA-11735443F60E}" type="slidenum">
              <a:t>27</a:t>
            </a:fld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Further Info on the Mapping Tool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versions avail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equires SAS version 9 or higher and Office 2003 or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Window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runs on Windows NT, XP, 2000, and Vista only; requires Office 2003 or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load the Mapping Tool a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qualityindicators.ahrq.gov/mappingtool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E5DE-ABD7-4480-8905-CEEE9312DF02}" type="slidenum">
              <a:t>28</a:t>
            </a:fld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dditional Assistance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Ass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e Shofer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Marjorie.Shofer@ahrq.hh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ior Program Analyst, Office of Communications and Knowledge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questions about the too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support@qualityindicators.ahrq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more information about AHRQ Quality Too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www.academyhealth.org/ahrq/qualitytools/inde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5C6C-86C8-4415-B8C5-9D70AFB17EC6}" type="slidenum">
              <a:t>29</a:t>
            </a:fld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verview of Mapping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4EB8-EE21-4999-9B7C-BD27485F9E23}" type="slidenum">
              <a:t>3</a:t>
            </a:fld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15840" y="1847880"/>
            <a:ext cx="7313760" cy="49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B9A13-5FF9-476D-AFF4-BCB7C34C3CCA}" type="slidenum">
              <a:t>30</a:t>
            </a:fld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0640" y="471600"/>
            <a:ext cx="5600880" cy="82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HRQ Quality Indicators (QIs)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167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xisting hospital discharge data, based on readily available data 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e severity adjustment methods (APR-DRGs, comorbidity groupings and hierarchical model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10000"/>
              </a:lnSpc>
              <a:spcBef>
                <a:spcPts val="6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ve modules: Inpatient, Patient Safety, Prevention, Pediatric, and Neona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48A3-D16A-460F-8E2F-EC204F9962A3}" type="slidenum">
              <a:t>4</a:t>
            </a:fld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reventable Hospitalization Costs: 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 County-Level Mapping Tool</a:t>
            </a:r>
            <a:endParaRPr b="1" i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690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pping tool is a new QI software application designed to help organization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ter understand geographical patterns of potentially preventable hospital admission rates for selected health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e resources more effectively by calculating potential cost savings if admission rates are re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B5E0-B27C-42C3-BE44-0DB2D99994BE}" type="slidenum">
              <a:t>5</a:t>
            </a:fld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in Functions of the PHC Too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45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reation of ma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show the rates of hospital admission for selected health problems on a county-by-county basi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lculation of potential cost sav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at may occur if the number of hospital admissions for selected health problems in each county is reduc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bility to place additional information about local populations onto ma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indicate the number of persons who are at greatest risk for those health problems in each county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26EC-2FC8-409E-B84C-C870A7FC1699}" type="slidenum">
              <a:t>6</a:t>
            </a:fld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248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It processes all Prevention QIs...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676520"/>
          <a:ext cx="7993080" cy="435600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  Diabetes Short-term Complication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2  Perforated Appendix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3  Diabetes Long-term Complication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5  Chronic Obstructive Pulmonary Disease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7  Hypertension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8  Congestive Heart Failure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9  Low Birth Weight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0  Dehydration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1  Bacterial Pneumonia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2  Urinary Tract Infection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3  Angina without Procedure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4  Uncontrolled Diabete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5  Adult Asthma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QI 16  Lower-extremity Amputation Rate among Diabetic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228600" y="649116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ere is no longer a PQI 4 and PQI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44AC-16FC-4E19-AC04-A1CA5FBB9554}" type="slidenum">
              <a:t>7</a:t>
            </a:fld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nd all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ea-level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Pediatric QIs</a:t>
            </a:r>
            <a:endParaRPr b="1" i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600200"/>
          <a:ext cx="8001000" cy="159372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49536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4  Asthma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468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5  Diabetes Short-term Complication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468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6  Gastroenteritis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432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7  Perforated Appendix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274680">
                <a:tc>
                  <a:txBody>
                    <a:bodyPr lIns="90000" rIns="90000" tIns="27360" bIns="2736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DI 18  Urinary Tract Infection Admission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7BAE9-E94C-4A09-A1C4-B34FF9051AFC}" type="slidenum">
              <a:t>8</a:t>
            </a:fld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0280" y="471600"/>
            <a:ext cx="60879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ol Demon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0F52-6738-40B3-8381-9463F52BFC5F}" type="slidenum">
              <a:t>9</a:t>
            </a:fld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26:58Z</dcterms:created>
  <dc:creator>des33518</dc:creator>
  <dc:description/>
  <dc:language>en-US</dc:language>
  <cp:lastModifiedBy>Caroline Pang</cp:lastModifiedBy>
  <dcterms:modified xsi:type="dcterms:W3CDTF">2008-06-12T14:47:36Z</dcterms:modified>
  <cp:revision>777</cp:revision>
  <dc:subject/>
  <dc:title>The Healthcare Cost and Utilization Project (HCUP):</dc:title>
</cp:coreProperties>
</file>