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6E7-0569-42EB-BD15-E34B7C6B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4DD-E22D-46F4-A34B-C4825101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DA7-A03A-4399-8176-2D3A4527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1F1-8C65-4481-B052-D026D921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078-E2CB-470A-B4DF-41FEC6DC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3D0-BB61-4A71-A9F1-AC35FFD3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59C-9D49-4C4B-90AE-F1419DD8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DB4-6969-4105-A48C-B1D22870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138-4A3F-4973-8477-170BD316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F9B-376A-4EB5-85A5-BD95E09B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0D5-703B-49CE-8760-196EFEC3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0DE-2932-43C5-8165-D2BF110B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F7DB-9ECD-4A63-8F63-ABE85E1CB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HRQ State Snapshots: New Y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Gesten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Director, Office of Health Insurance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York State Department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g01@health.state.ny.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F69-36D1-4982-BAF8-ACE48F2E57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tools and analysis to understand State differences 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behind the ‘best’ resul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betwee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/process and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measures have greatest ‘impact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 integration of disparities data and State Snaps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ing peer group and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B3D-F0EC-452F-B033-4DA52687D1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id Reform: 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ment of investment from inpatient to outpatient/ambulatory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 im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promotion of primary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of ‘valu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Quality Indicators (PQ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tive data from States within chronic disease grant (CH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Snapshots: bench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new Medicaid benefit: Certified Diabetes and Asthma Edu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BD3-7326-4AEC-AA30-F18EC43321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79480" y="228600"/>
            <a:ext cx="5488200" cy="662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55B-217E-48EC-AE44-7FE626234E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84280" y="336600"/>
            <a:ext cx="7974000" cy="619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C96-AE83-42F2-B7BC-B8D7B75CA7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0400" y="914400"/>
            <a:ext cx="288144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00400" y="3505320"/>
            <a:ext cx="28195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516-0880-428F-A73D-AB47B55AFC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040" y="922320"/>
            <a:ext cx="749448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FAB-03B6-499B-8755-E51937E621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12800" y="1579680"/>
            <a:ext cx="5916600" cy="37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857-0073-407B-8653-75EC09FB66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 in 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health care investments yet ‘average to weak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borated with other national report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gaps in chronic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betes and asth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able ad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not Medicaid specific, but still viewed as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reports with more Medicaid/low income break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2D9-A9BD-4306-A259-114DA104D2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Snapshot to Support for Diabetes/Asthma Edu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, budget, and legislative support required for new benefits and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evidence for effectiveness uneven and not always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Snapshots provide ‘benchmark’ to catalyze policy and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e and 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37B-DA7D-40C6-88EF-E2C1818E0E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5:29:23Z</dcterms:created>
  <dc:creator>fcg01</dc:creator>
  <dc:description/>
  <dc:language>en-US</dc:language>
  <cp:lastModifiedBy>Caroline Pang</cp:lastModifiedBy>
  <dcterms:modified xsi:type="dcterms:W3CDTF">2009-07-09T13:03:35Z</dcterms:modified>
  <cp:revision>9</cp:revision>
  <dc:subject/>
  <dc:title>AHRQ State Snapshots: New York</dc:title>
</cp:coreProperties>
</file>