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08BC-81BB-45BE-AA99-C7CFCC4C0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8F37-ED13-4A7A-894F-CBD351D1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B5E5-CC4B-4507-8E94-43DDC6F94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BF72-F849-46F4-95B4-D305CC398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A807-9E44-40AA-ABCA-E29A1F92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60D1-0804-4B35-A1AF-83A9FE24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F9DB-FE81-4134-AAD7-87D57A3F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8CCD-06A7-4509-91C3-7C39C81C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5F4D-03C4-4110-873B-E49FE24F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AC57-33C3-49BF-A141-A1BEBDEE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42D8-7B79-4271-BD0B-047D7702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EC0F-E7BF-4F2C-AF0E-A54CB98B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CD96-3CB9-4796-B322-B9E29B291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HRQ State Snapshots: New Y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ster Gesten, 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al Director, Office of Health Insurance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York State Department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cg01@health.state.ny.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24C8-02DD-47D6-8AFC-75124EFAE60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tools and analysis to understand State differences on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behind the ‘best’ resul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 between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/process and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measures have greatest ‘impact’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 integration of disparities data and State Snapsh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izing peer group and compari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1A7C-D1E0-41CC-81D6-D3221DA0FD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caid Reform: 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ment of investment from inpatient to outpatient/ambulatory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c im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 promotion of primary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ce of ‘value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on Quality Indicators (PQ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ative data from States within chronic disease grant (CH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Snapshots: benchma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ed new Medicaid benefit: Certified Diabetes and Asthma Edu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8A36-895D-4A28-B017-A66CE65D37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79480" y="228600"/>
            <a:ext cx="5488200" cy="6629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FF30-FD8C-4F21-87CA-4BBCE66F23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84280" y="336600"/>
            <a:ext cx="7974000" cy="619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1BEA-D25F-4FBB-AFB2-871021D16E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00400" y="914400"/>
            <a:ext cx="2881440" cy="2057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200400" y="3505320"/>
            <a:ext cx="2819520" cy="205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3AF6-F6A3-4E38-B111-52DB557CCC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4040" y="922320"/>
            <a:ext cx="7494480" cy="501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B457-8132-4561-BB73-41DD972CB3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612800" y="1579680"/>
            <a:ext cx="5916600" cy="370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231D-97BB-40DB-B921-22EFFD45E0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 in 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health care investments yet ‘average to weak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oborated with other national report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gaps in chronic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betes and asth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able ad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not Medicaid specific, but still viewed as relev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er reports with more Medicaid/low income break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F056-A874-402A-A7DD-B04C85CC35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om Snapshot to Support for Diabetes/Asthma Educ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ive, budget, and legislative support required for new benefits and expendi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evidence for effectiveness uneven and not always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Snapshots provide ‘benchmark’ to catalyze policy and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ize and foc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a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732D-AB99-4B9C-BE11-337E7A1E59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2T15:29:23Z</dcterms:created>
  <dc:creator>fcg01</dc:creator>
  <dc:description/>
  <dc:language>en-US</dc:language>
  <cp:lastModifiedBy>Caroline Pang</cp:lastModifiedBy>
  <dcterms:modified xsi:type="dcterms:W3CDTF">2009-07-09T13:03:35Z</dcterms:modified>
  <cp:revision>9</cp:revision>
  <dc:subject/>
  <dc:title>AHRQ State Snapshots: New York</dc:title>
</cp:coreProperties>
</file>