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5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5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6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7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5C8FBE-1108-464E-A87E-A9AA75A70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28F87F-9B20-4D3C-B0E6-7F5131ACB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36F2AA-98BC-4E64-AA20-A9FBAEC38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483015-F1D4-42E1-9C92-ADD84CCC9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C0DD68-1949-4610-9072-C5365323D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7920"/>
            <a:ext cx="514656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FF6DA-438A-4DC4-8655-0DBB273F3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61AF3-B377-41DD-B011-5338286272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F065F-1843-449E-8F2B-0994554709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46F21-9850-4D26-AF62-56030C82E9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66AF-B456-4754-A8E7-4943184940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4A5A9-7424-4E35-A9E1-364DAB8D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86801-0500-4C2F-A279-17D37035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CFEB0-21DE-48F8-A300-FAC3F8C5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A5920-471B-4790-8ECB-49ED1585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40A07-4D38-4D6D-8759-A72C61E0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FA2BA-6A70-4D65-A430-06F369667B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40055-9BC2-4334-B073-86706FA6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430D6-4C3F-4756-8985-8FE59085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8658E-BB5B-4603-9598-83DF7352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67D7A-3ECA-4C7A-A8BF-49B7C586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5C314-FE34-4555-9CBE-6A81C17D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D907F-1A4B-4948-AE40-D7D5A7E6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66F6F-0B12-4737-8273-0FE9A1D2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FE5B6-8D13-4921-89DE-771715F7D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C891B-B7F8-43A9-963C-CA19A550A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DD121-9DC2-4B6E-85EF-6EF90ABDA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F557-05BD-4E7C-BC94-4D16A739B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0D14E-EB9B-4C43-B502-9CA2DC38B5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A5163-3493-498D-A6AB-19F2056F3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8CA4-6D99-4F97-96C5-26E41253E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6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C454-2435-47B7-9064-7AF781B7C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ahrq.gov/qual/measurix.htm" TargetMode="External"/><Relationship Id="rId2" Type="http://schemas.openxmlformats.org/officeDocument/2006/relationships/hyperlink" Target="mailto:ahrqpubs@ahrq.gov" TargetMode="External"/><Relationship Id="rId3" Type="http://schemas.openxmlformats.org/officeDocument/2006/relationships/hyperlink" Target="http://statesnapshots.ahrq.gov/" TargetMode="External"/><Relationship Id="rId4" Type="http://schemas.openxmlformats.org/officeDocument/2006/relationships/hyperlink" Target="http://statesnapshots.ahrq.gov/snaps07/snapshot_print.jsp?menuId=36&amp;state=CA" TargetMode="External"/><Relationship Id="rId5" Type="http://schemas.openxmlformats.org/officeDocument/2006/relationships/hyperlink" Target="mailto:Marjorie.Shofer@ahrq.hhs.gov" TargetMode="External"/><Relationship Id="rId6" Type="http://schemas.openxmlformats.org/officeDocument/2006/relationships/hyperlink" Target="http://www.academyhealth.org/ahrq/qualitytools/index.htm" TargetMode="External"/><Relationship Id="rId7" Type="http://schemas.openxmlformats.org/officeDocument/2006/relationships/hyperlink" Target="http://www.academyhealth.org/ahrq/qualitytools/index.htm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tatesnapshots.ahrq.gov/" TargetMode="External"/><Relationship Id="rId2" Type="http://schemas.openxmlformats.org/officeDocument/2006/relationships/hyperlink" Target="http://statesnapshots.ahrq.gov/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2007 State Snapshots: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tate-based Information 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rom the 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tional Healthcare Quality Repor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0" y="396252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ffrey Brady, MD, MPH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enter for Quality Improvement and Patient Safety (CQuIP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osanna M. Coffey, Ph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omson Reuters Healthc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enter for Quality Improvement and Patient Safety (CQuIP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ality Tools Workshop Follow-up Audio Confer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 28, 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102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mmary Performance Meter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mmary meters – a State’s performance compared to its region and the nation for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ts val="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 algn="ctr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Available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048120" y="3505320"/>
            <a:ext cx="3047760" cy="1809720"/>
          </a:xfrm>
          <a:prstGeom prst="rect">
            <a:avLst/>
          </a:prstGeom>
          <a:ln w="0">
            <a:noFill/>
          </a:ln>
        </p:spPr>
      </p:pic>
      <p:cxnSp>
        <p:nvCxnSpPr>
          <p:cNvPr id="176" name=""/>
          <p:cNvCxnSpPr/>
          <p:nvPr/>
        </p:nvCxnSpPr>
        <p:spPr>
          <a:xfrm>
            <a:off x="6171840" y="43430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5181480" y="3048120"/>
            <a:ext cx="3962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e by Clinical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cer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be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rt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ernal and Child Heal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piratory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 preventive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304920" y="3048120"/>
            <a:ext cx="3353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s of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i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u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ron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tings of C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bulato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rsing Ho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me Heal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F9D2A-6FF7-4225-BC6A-8CE4A1B300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102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’s behind each meter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1720" indent="-44172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tate’s relative performance compared to a group – region or n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27360" indent="0">
              <a:lnSpc>
                <a:spcPts val="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400800" y="1447920"/>
            <a:ext cx="2209680" cy="1314360"/>
          </a:xfrm>
          <a:prstGeom prst="rect">
            <a:avLst/>
          </a:prstGeom>
          <a:ln w="0">
            <a:noFill/>
          </a:ln>
        </p:spPr>
      </p:pic>
      <p:cxnSp>
        <p:nvCxnSpPr>
          <p:cNvPr id="182" name=""/>
          <p:cNvCxnSpPr/>
          <p:nvPr/>
        </p:nvCxnSpPr>
        <p:spPr>
          <a:xfrm>
            <a:off x="6171840" y="43430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228600" y="3048120"/>
            <a:ext cx="8153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ubset of  NHQR measures  (e.g., hospital meas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ify each state’s performance for each measur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, calculate all-state and regional aver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determine if state is statistical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tter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verage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verag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or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orse th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vera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125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e state for results across all NHQR measures in sub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better than average measure = 1 point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average measure = 0.5 point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worse than average = 0 point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m points and divide by the number of meas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242F5-0AF5-4E34-B520-781F443FD3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dividual Meas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ongest and Weakest Measures for a State compared to all States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e Rankings for 15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dinal rank on individual measures of each State’s performance out of 51 States + D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ble of all measures for a State and all measures for all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F76CE-B245-419D-98D1-873F2F5182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82880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Strongest &amp; Weakest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772400" cy="47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AD0C9-A0D6-469F-9708-0DCCD562DB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228600"/>
            <a:ext cx="70102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Rankings on Core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191360" cy="4983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BFC6-D3B8-4E57-9C40-A425758649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cus on Diabet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9930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of care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come of care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parities (by income &amp; race/ethnici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aving costs (for State government employe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477120" y="2209680"/>
            <a:ext cx="1447560" cy="85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9ADD-DC03-4B13-B1D2-C628AB2687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napshot Focus on Diabetes: Dispar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200720" cy="495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3D40A-DA74-4965-B477-34E5D553B7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76520" y="304920"/>
            <a:ext cx="716256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napshots Focus on Diabetes: Lives &amp; $ – State Gov’t Employ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143000" y="1447920"/>
            <a:ext cx="6781680" cy="5287680"/>
            <a:chOff x="1143000" y="1447920"/>
            <a:chExt cx="6781680" cy="5287680"/>
          </a:xfrm>
        </p:grpSpPr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1143000" y="1447920"/>
              <a:ext cx="6781680" cy="52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2971800" y="4343400"/>
              <a:ext cx="609480" cy="15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38880" y="4495680"/>
              <a:ext cx="533520" cy="152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10080" y="4724280"/>
              <a:ext cx="609840" cy="152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30320-8148-4A3A-8B62-6492D0A7B7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228600"/>
            <a:ext cx="72388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napshots Focus on Diabetes:  Excess $ – State Gov’t Employ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914400" y="1600200"/>
            <a:ext cx="7086600" cy="4894200"/>
            <a:chOff x="914400" y="1600200"/>
            <a:chExt cx="7086600" cy="489420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914400" y="1600200"/>
              <a:ext cx="7086600" cy="489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495680" y="4647960"/>
              <a:ext cx="609840" cy="151920"/>
            </a:xfrm>
            <a:prstGeom prst="ellipse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95680" y="5105160"/>
              <a:ext cx="609840" cy="151920"/>
            </a:xfrm>
            <a:prstGeom prst="ellipse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A886-B1AF-4576-A1E7-EAE56E5AA8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te Snapshots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What’s New for 2007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Dashbo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of a State’s summary 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Healthy People 2010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’s performance on go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Clinical Preventive Services Me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’s performance on recommended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xtual Dials of State’s environment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ograph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 health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lth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AF9E5-1AC2-4512-8606-0DB1375106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lan for To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1752480"/>
            <a:ext cx="80010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HQR/DR ov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e Snapshots – overview / what’s new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n to general 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---------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ress specific end-user questions received to 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ite more user feed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ite suggestions for future technical as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58DBC-3753-4CF9-967A-8D7907830D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2388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Dashboard: Performance Meters all in one Plac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648320" cy="37004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809880" y="2590920"/>
            <a:ext cx="4848480" cy="3681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257800" y="1447920"/>
            <a:ext cx="32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meter to view metrics compared to all 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B2090-54CA-41C9-86E5-4842544B22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2388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Performance on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althy People 2010 Goal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14960" cy="485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03F2B-530F-4559-B176-3001892D26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te Performance in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nical Preventive Service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086600" cy="493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47602-C0A4-437E-8430-2FE6326CE2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te Contextual Factor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800600" cy="3330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505320" y="3124080"/>
            <a:ext cx="4800600" cy="33307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867280" y="1676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2057400"/>
            <a:ext cx="32004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dial t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 da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BF760-19E1-4D9E-BDD8-01B9F0CDE7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914400" y="2590560"/>
            <a:ext cx="685800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General Questions about Snapshot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0F40B-16AC-460B-8465-FB8DF4851F9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stions about Snapshots (Workshop, Special Request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the Snapshots help states se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iorit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 -- which measures are most importan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Snapshots b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s define own state-group comparis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by payer typ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by sub-state geograp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verity adjustm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 made for state environments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LTC patient acuity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82EC9-FB74-4803-BE17-B490426391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napshots &amp; Priority Setting? -- Y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 the dash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settings/areas strongest? Which weake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the sniff test: Do they confirm what you know about healthcare in your stat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e measures behind the meters to determin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being measur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some particularly problematic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t the resul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act subject area experts in your 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vene a group to discuss Snapshot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current priorities supported? Are new ones appar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 steps for your Stat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AHRQ know what transpires, esp. data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13B12-4A72-4227-910D-CA89FA34AA8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napshots Redesign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s define own state-group comparis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icates design of Web site, considerab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evaluate feasibility and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approach: Specify types of compari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-population-density-states compari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poverty-states compari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gnet-for-tertiary-care-states compari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have comments on the value of th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BA89C-F29E-40A4-B7C1-3E326ED0FC8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napshots Redesign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 data by payer typ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think it’s feasibl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ithin st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nly for HCUP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CUP hospital quality indicators by Medicaid,  Medicare, Private Insurance, Uninsu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assess two thing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data sources are all-paye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935000" indent="-380880">
              <a:lnSpc>
                <a:spcPct val="90000"/>
              </a:lnSpc>
              <a:spcBef>
                <a:spcPts val="675"/>
              </a:spcBef>
              <a:buClr>
                <a:srgbClr val="66ff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 recalculate rates by p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935000" indent="-380880">
              <a:lnSpc>
                <a:spcPct val="90000"/>
              </a:lnSpc>
              <a:spcBef>
                <a:spcPts val="675"/>
              </a:spcBef>
              <a:buClr>
                <a:srgbClr val="66ff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 examine cell size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single payers (e.g.: Medicare, Medicaid) collect the same indicato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935000" indent="-380880">
              <a:lnSpc>
                <a:spcPct val="90000"/>
              </a:lnSpc>
              <a:spcBef>
                <a:spcPts val="675"/>
              </a:spcBef>
              <a:buClr>
                <a:srgbClr val="66ff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 assess whether enough measures to combine t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have comments on the value of th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F70E0-08AE-439F-8C76-5CEC8643BC6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napshots Redesign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 data by sub-state geograp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s on detail in data sour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CUP has ZipCode but may not identify hospita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FSS may report by county in fu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asses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sets for confidentiality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ningful groupings of counties in each 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jor underta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have comments on the value of th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A943E-E882-4903-B029-E7DF41FA35E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HRQ Mission and Nich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676520"/>
            <a:ext cx="47246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sion:  Improve the efficiency, effectiveness, quality, safety, and equity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ealth care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ch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ing knowledge through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seminating the 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ing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ating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3962520"/>
            <a:ext cx="304920" cy="1752480"/>
          </a:xfrm>
          <a:custGeom>
            <a:avLst/>
            <a:gdLst>
              <a:gd name="textAreaLeft" fmla="*/ 0 w 304920"/>
              <a:gd name="textAreaRight" fmla="*/ 110160 w 3049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 rot="20535600">
            <a:off x="5715000" y="1676160"/>
            <a:ext cx="2287440" cy="2895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 rot="660000">
            <a:off x="5943600" y="3200400"/>
            <a:ext cx="2359080" cy="302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DE242-C5D8-43D5-AD59-B0DE14A467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napshots &amp; Severity Adjustmen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severity adjustments be made for state environments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LTC patient acuity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ggest data runs to estimate/compare MDS estimates for nursing home patients by acuity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yond Snapsho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severity &amp; NHQR, generall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NHQR measures incorporate severity-adjustment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.g.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RQ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 quality measur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cally, underlying data or methods not available for severity adjus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specialized data and research metho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9A1B8-1CB7-47E7-A98E-D6F23C45659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68580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7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7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eedback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7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7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uture Technical Assistance Need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DC70F-BBA3-4DE0-AB84-1C9E3147D5A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638360" y="349200"/>
            <a:ext cx="62103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ditional Resour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962520"/>
            <a:ext cx="4927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3962520"/>
            <a:ext cx="4572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1600200"/>
            <a:ext cx="7543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HQR/NHDR Resourc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QR/NHDR reports: </a:t>
            </a: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www.ahrq.gov/qual/measurix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quest Reports: 1-800-358-9295 </a:t>
            </a: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ahrqpubs@ahrq.g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Snapshots: </a:t>
            </a: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http://statesnapshots.ahrq.g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y version of individual State Snapshots: </a:t>
            </a: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4"/>
              </a:rPr>
              <a:t>http://statesnapshots.ahrq.gov/snaps07/snapshot_print.jsp?menuId=36&amp;state=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ac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ie Shofer, </a:t>
            </a: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5"/>
              </a:rPr>
              <a:t>Marjorie.Shofer@ahrq.hhs.g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ior Program Analyst, Office of Communications and Knowledge Transf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further details about additional follow-on technical assista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7"/>
              </a:rPr>
              <a:t>www.academyhealth.org/ahrq/qualitytools/index.ht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2D95F-298C-49B0-8A11-7BAF54F350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520" y="34308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007 National Healthcare Quality and Disparities Repor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3948120" cy="4994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343400" y="1676520"/>
            <a:ext cx="3903840" cy="5005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553080" y="1371600"/>
            <a:ext cx="236232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eleased March 3,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5748E-584D-4382-9AC6-A9C4517561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asure Type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007 NHQR / NHDR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 of 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pit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bulat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rsing Home/Home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ges of 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ying healt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ting bet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ing with illness or dis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ing with the end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D1BD8-7CA4-4993-9731-F11E3468DA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tent and Organization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007 NHQR/NHDR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93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ective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c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be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 Stage Renal Disease (ESRD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rt Disea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V and AI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nal and Child Heal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tal Health and Substance Ab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rsing Home, Home Health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Hospice C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 Saf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li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 Centered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ccess to Health Ca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Priority Popul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600200"/>
            <a:ext cx="152280" cy="3962520"/>
          </a:xfrm>
          <a:custGeom>
            <a:avLst/>
            <a:gdLst>
              <a:gd name="textAreaLeft" fmla="*/ 0 w 152280"/>
              <a:gd name="textAreaRight" fmla="*/ 55080 w 15228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600200"/>
            <a:ext cx="228600" cy="4800600"/>
          </a:xfrm>
          <a:custGeom>
            <a:avLst/>
            <a:gdLst>
              <a:gd name="textAreaLeft" fmla="*/ 0 w 228600"/>
              <a:gd name="textAreaRight" fmla="*/ 82440 w 22860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18600" y="33526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HQ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13880" y="373392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NHD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63C4D-7DA8-40D7-A521-5F96F77A4C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 rot="8986800">
            <a:off x="5562720" y="2133000"/>
            <a:ext cx="2209680" cy="677880"/>
          </a:xfrm>
          <a:prstGeom prst="rightArrow">
            <a:avLst>
              <a:gd name="adj1" fmla="val 50000"/>
              <a:gd name="adj2" fmla="val 814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2667200">
            <a:off x="5562360" y="3885480"/>
            <a:ext cx="2209680" cy="677880"/>
          </a:xfrm>
          <a:prstGeom prst="rightArrow">
            <a:avLst>
              <a:gd name="adj1" fmla="val 50000"/>
              <a:gd name="adj2" fmla="val 814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0393400">
            <a:off x="1523880" y="3733920"/>
            <a:ext cx="2210040" cy="677880"/>
          </a:xfrm>
          <a:prstGeom prst="rightArrow">
            <a:avLst>
              <a:gd name="adj1" fmla="val 50000"/>
              <a:gd name="adj2" fmla="val 815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561200">
            <a:off x="1523520" y="2133720"/>
            <a:ext cx="2210040" cy="677880"/>
          </a:xfrm>
          <a:prstGeom prst="rightArrow">
            <a:avLst>
              <a:gd name="adj1" fmla="val 50000"/>
              <a:gd name="adj2" fmla="val 815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311720"/>
            <a:ext cx="4648320" cy="2527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opulation sample surve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HRQ – ME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HRQ – CAH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 – BRF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ational Asthma Surv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H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H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ational Immunization Surve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MCB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RSA – Healthy Schools Healthy Communities User Visit Surv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HPCO – Family Evaluation of Hospice C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HSA – NSDU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Census Bureau – U.S. Cens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19160" y="4494240"/>
            <a:ext cx="3621960" cy="2345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Organizational data system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HRQ – HC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Hospital Compa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Medicare Patient Safety Monitoring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O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Nursing Home Minimum Data S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CMS – Q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VRN – 2001-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S – NP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CQA – HED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H – US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HSA – TED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90720"/>
            <a:ext cx="3962520" cy="124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rovider/facility sample surve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AM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HAM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H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MS – ESRD CPM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SHSC – Community Tracking Study Physician Surv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990720"/>
            <a:ext cx="3352680" cy="124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urveillance and vital statistic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 – NPC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 – HIV/AIDS Surveillance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 – TB Surveillance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C,NCHS – NV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H – SE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75160" y="204840"/>
            <a:ext cx="27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 rot="20535600">
            <a:off x="4191120" y="1904760"/>
            <a:ext cx="1384200" cy="1752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 rot="660000">
            <a:off x="4190760" y="2514240"/>
            <a:ext cx="1427040" cy="182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00089-1E61-4459-93F7-3E2ED1D8B2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4674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 – Overview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6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statesnapshots.ahrq.gov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2133360"/>
            <a:ext cx="23619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mmary performance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ividual meas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 on clinical iss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 con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s &amp; Interpretation Gui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124080" y="2303640"/>
            <a:ext cx="5791320" cy="4024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066680" y="1523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 tool for State policymakers to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HQR/NHDR health care quality, State-by-St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9EEA-486A-48FD-815C-9DDCCAE8CF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 Snapshot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have they been used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334800" indent="-334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kansas Center for Health Improvem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2720" indent="-285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 of system, tracking baseline, analysis idea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2720" indent="-285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keholders united –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“Things were as bad as we thought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2720" indent="-285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lity improvement “jump started” (EB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2720" indent="-285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pted Snapshots IT for hospital transpar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 Sentinel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2720" indent="-285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lorida’s hospital care falls below U.S. norm, studies sh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 Wire Servic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2720" indent="-285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ursing homes cut back on restrai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1E7D8-F6E9-4906-BB4C-73DBA74D16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2:52:04Z</dcterms:created>
  <dc:creator>USER</dc:creator>
  <dc:description/>
  <dc:language>en-US</dc:language>
  <cp:lastModifiedBy>william.hyde</cp:lastModifiedBy>
  <dcterms:modified xsi:type="dcterms:W3CDTF">2009-03-20T15:45:25Z</dcterms:modified>
  <cp:revision>112</cp:revision>
  <dc:subject/>
  <dc:title>Community Partnerships for Change</dc:title>
</cp:coreProperties>
</file>