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DFE3E-FA50-4DAD-8CE2-0454F709F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47F6E-288F-4722-AFCC-39F5FA35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E38BB-A696-43B4-83D7-12CA087D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45C48-924A-41C5-9FDD-4BD5ABE6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9802C-0661-49F7-B854-19DAA422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EC40-109B-47B7-939E-FFB6321A2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8774-0185-4ECB-86BC-91CBC55FF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25EE-E38A-4A45-8B7D-8EF815F00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8A8A-9F0E-4EA8-92D6-DD892E6E2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265A-BDD5-4C62-9581-BF44B18FC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653A7-9A28-47A5-86BC-070AE6F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D4EA1-F94B-4661-8651-9A3B8A5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BCEFB-7E07-4F9D-B6E0-17587A6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066D-7F0B-43A5-821A-2A306D1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B4B01-184B-40BA-AC36-420CFB4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4FF1-B820-49AC-AF23-3FC67589E5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4F02-E98D-4717-8F91-577D8E2A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1194-DC15-4408-AEA7-2DDBBE5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8073B-12D2-421E-9D5B-1FA917E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BB8EC-963C-472D-A816-159F897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1D6FD-6B41-4C99-9060-536C973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3B8F-EFF1-4B0F-BB48-DA41AEC5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2E587-5CBE-450B-B931-D5FB5194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8BA2-2984-456B-970B-3E8E05963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2454-E66F-4C84-86F4-723801F64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FB50-A050-4635-96E9-CCA53F015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EBDC-FD4A-49D1-A9AC-95AD784D1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40F8-9B68-48E7-BAB8-9D670FFDB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34CD-D42A-4DDF-881B-2A728B501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A451-D4D6-4384-A7C5-E7213E21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5F41-5A39-46BB-8927-9238560B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hrq.gov/qual/measurix.htm" TargetMode="External"/><Relationship Id="rId2" Type="http://schemas.openxmlformats.org/officeDocument/2006/relationships/hyperlink" Target="mailto:ahrqpubs@ahrq.gov" TargetMode="External"/><Relationship Id="rId3" Type="http://schemas.openxmlformats.org/officeDocument/2006/relationships/hyperlink" Target="http://statesnapshots.ahrq.gov/" TargetMode="External"/><Relationship Id="rId4" Type="http://schemas.openxmlformats.org/officeDocument/2006/relationships/hyperlink" Target="http://statesnapshots.ahrq.gov/snaps07/snapshot_print.jsp?menuId=36&amp;state=CA" TargetMode="External"/><Relationship Id="rId5" Type="http://schemas.openxmlformats.org/officeDocument/2006/relationships/hyperlink" Target="mailto:Marjorie.Shofer@ahrq.hhs.gov" TargetMode="External"/><Relationship Id="rId6" Type="http://schemas.openxmlformats.org/officeDocument/2006/relationships/hyperlink" Target="http://www.academyhealth.org/ahrq/qualitytools/index.htm" TargetMode="External"/><Relationship Id="rId7" Type="http://schemas.openxmlformats.org/officeDocument/2006/relationships/hyperlink" Target="http://www.academyhealth.org/ahrq/qualitytools/index.htm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statesnapshots.ahrq.gov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2007 State Snapshots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ate-based Information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Healthcare Quality Repor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ffrey Brady, MD, MP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sanna M. Coffey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mson Reuters Health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Tools Workshop Follow-up Audio Con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 28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 Performance Mete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 meters – a State’s performance compared to its region and the nation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ts val="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 algn="ctr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vailabl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47760" cy="1809720"/>
          </a:xfrm>
          <a:prstGeom prst="rect">
            <a:avLst/>
          </a:prstGeom>
          <a:ln w="0">
            <a:noFill/>
          </a:ln>
        </p:spPr>
      </p:pic>
      <p:cxnSp>
        <p:nvCxnSpPr>
          <p:cNvPr id="176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5181480" y="3048120"/>
            <a:ext cx="396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 by Clinica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cer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iratory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preventiv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04920" y="3048120"/>
            <a:ext cx="335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of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76B3-7160-4DB9-A80D-F3D78C5557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’s behind each mete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ate’s relative performance compared to a group – region or n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0">
              <a:lnSpc>
                <a:spcPts val="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209680" cy="131436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228600" y="3048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bset of  NHQR measures  (e.g., hospital meas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fy each state’s performance for each measu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calculate all-state and regional aver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determine if state is statistic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tt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verag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r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se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ver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 state for results across all NHQR measures in 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better than average measure = 1 poin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average measure = 0.5 poin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worse than average = 0 point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 points and divide by the number of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C0EB-3E85-4011-A3EC-BF2D087D0C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est and Weakest Measures for a State compared to all Stat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ankings for 15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inal rank on individual measures of each State’s performance out of 51 States + 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all measures for a State and all measures for al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8C8D-36B9-4DEE-A792-6D2BF93174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82880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Strongest &amp; Weakest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5239-F9BF-4BB3-840E-C998953CD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Rankings on Co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191360" cy="49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A5AD-FA22-48FC-BCB1-45E819B5DB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arities (by income &amp; race/ethn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ving costs (for State government employ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44756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FCDC-6D2A-4F43-B858-284E26506D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 Focus on Diabetes: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2007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7DBD-105D-4B0E-A363-5B495318E8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76520" y="304920"/>
            <a:ext cx="7162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Lives &amp; $ – State Gov’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1447920"/>
            <a:ext cx="6781680" cy="5287680"/>
            <a:chOff x="1143000" y="1447920"/>
            <a:chExt cx="6781680" cy="52876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971800" y="4343400"/>
              <a:ext cx="60948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8880" y="4495680"/>
              <a:ext cx="53352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10080" y="4724280"/>
              <a:ext cx="60984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028F-648B-4C99-8D41-8EC6A7326A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 Excess $ – State Gov’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1600200"/>
            <a:ext cx="7086600" cy="4894200"/>
            <a:chOff x="914400" y="1600200"/>
            <a:chExt cx="7086600" cy="48942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708660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495680" y="4647960"/>
              <a:ext cx="609840" cy="1519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5680" y="5105160"/>
              <a:ext cx="609840" cy="1519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4BA0-6449-4FE0-B48E-D6F0F5B58E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Snapsho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What’s New for 2007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Dashbo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a State’s summary 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Healthy People 2010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’s performance on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Clinical Preventive Services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’s performance on recommende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ual Dials of State’s environmen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health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B71B-D66D-4339-98FB-AD22D31BA3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 for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QR/DR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Snapshots – overview / what’s new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to gener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specific end-user questions received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e more user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e suggestions for future 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C359-A39E-443B-B3E5-AAD787B08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Dashboard: Performance Meters all in one Pla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3700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4848480" cy="3681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57800" y="144792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meter to view metrics compared to all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AFB6-3973-4FB8-A5AA-DAE547797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Performance 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lthy People 2010 Goal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14960" cy="485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A184-C6EF-4DFB-852C-F607E7E82F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Performance i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Preventive Service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86600" cy="49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B694-9622-4629-990F-A2433EFB85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Contextual Factor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800600" cy="333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4800600" cy="3330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867280" y="1676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057400"/>
            <a:ext cx="3200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dial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70DE-8DC2-4308-8351-E8C866DA65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General Questions about Snapshot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A3D9-72D8-4E32-B3B3-DA050819CD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 about Snapshots (Workshop, Special Request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Snapshots help states s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ior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-- which measures are most importa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Snapshots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define own state-group compari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by payer 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by sub-state geograp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verity adjust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made for state environment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TC patient acuit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64DE-BF3B-4262-BBF1-5212919B73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&amp; Priority Setting? -- Y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the dash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ettings/areas strongest? Which weake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sniff test: Do they confirm what you know about healthcare in your sta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measures behind the meters to determ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measur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ome particularly problemat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 the resul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ct subject area experts in your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e a group to discuss Snapsho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current priorities supported? Are new ones appar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steps for your Stat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AHRQ know what transpires, esp. data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1F1B-08B5-437F-9F59-AB65F7BD59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shots Redesig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define own state-group compari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es design of Web site, considerab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evaluate feasibility and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pproach: Specify types of compari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population-density-states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poverty-states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et-for-tertiary-care-states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have comments on the value of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2A3E-8FFF-4DA7-9325-F1E892E6DC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shots Redesig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ata by payer t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ink it’s feasib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thin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ly for HC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UP hospital quality indicators by Medicaid,  Medicare, Private Insurance,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assess two thin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data sources are all-paye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recalculate rates by p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examine cell siz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ingle payers (e.g.: Medicare, Medicaid) collect the same indic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assess whether enough measures to combine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have comments on the value of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6172-B3D9-446E-BE61-75CA90A28C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shots Redesig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ata by sub-state geograp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detail in data sour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UP has ZipCode but may not identify hospit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FSS may report by county in fu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ass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ts for confidentiality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ingful groupings of counties in each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undert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have comments on the value of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54DB-4586-4A1B-8342-CE0DF2EDA3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Mission and 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4724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:  Improve the efficiency, effectiveness, quality, safety, and equ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 ca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knowledge through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ng 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0535600">
            <a:off x="5715000" y="1676160"/>
            <a:ext cx="2287440" cy="289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 rot="660000">
            <a:off x="5943600" y="3200400"/>
            <a:ext cx="235908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6CCB-4E33-4D75-AB46-C4E181061D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&amp; Severity Adjust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severity adjustments be made for state environment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TC patient acuit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 data runs to estimate/compare MDS estimates for nursing home patients by acuit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yond Snapsh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severity &amp; NHQR, general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HQR measures incorporate severity-adjustment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quality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, underlying data or methods not available for severity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specialized data and research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EEF1-728B-43BD-B0BC-28C26646F0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edba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ture Technical Assistance Nee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4005-9881-42D2-9BAE-D23B0E6A68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38360" y="349200"/>
            <a:ext cx="6210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962520"/>
            <a:ext cx="492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962520"/>
            <a:ext cx="4572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HQR/NHDR Resourc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QR/NHDR reports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qual/measuri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Reports: 1-800-358-9295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hrqpubs@ahrq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Snapshots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statesnapshots.ahrq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version of individual State Snapshots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statesnapshots.ahrq.gov/snaps07/snapshot_print.jsp?menuId=36&amp;state=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e Shofer,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further details about additional follow-on technical assist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www.academyhealth.org/ahrq/qualitytools/index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F8EC-7D9B-43FF-90D2-FBAB1632A1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34308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7 National Healthcare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948120" cy="4994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3903840" cy="500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553080" y="1371600"/>
            <a:ext cx="23623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leased March 3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C58B-9E9B-426C-8AB4-4902FD2D71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7 NHQR / NHD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/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 or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3B22-736F-4A76-8900-45C13CDC3D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 and Organizat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7 NHQR/NHD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600200"/>
            <a:ext cx="152280" cy="3962520"/>
          </a:xfrm>
          <a:custGeom>
            <a:avLst/>
            <a:gdLst>
              <a:gd name="textAreaLeft" fmla="*/ 0 w 152280"/>
              <a:gd name="textAreaRight" fmla="*/ 5508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60020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8600" y="33526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4EF-F4F5-49BD-B4A0-831788919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rot="8986800">
            <a:off x="5562720" y="213300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2667200">
            <a:off x="5562360" y="388548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393400">
            <a:off x="1523880" y="37339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561200">
            <a:off x="1523520" y="21337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11720"/>
            <a:ext cx="464832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pulation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ME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CAH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BRF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Asthma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Immunization Surve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C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SA – Healthy Schools Healthy Communities User Visit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HPCO – Family Evaluation of Hospice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NSD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Census Bureau – U.S.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19160" y="4494240"/>
            <a:ext cx="3621960" cy="23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rganizational data syste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HC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Hospital Comp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edicare Patient Safety Monitoring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O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Nursing Home Minimum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CMS – Q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RN – 2001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 – NP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CQA – HED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US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TE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90720"/>
            <a:ext cx="396252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vider/facility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ESRD CP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SHSC – Community Tracking Study Physician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990720"/>
            <a:ext cx="335268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rveillance and vital statisti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NP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HIV/AIDS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TB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SE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75160" y="2048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0535600">
            <a:off x="4191120" y="1904760"/>
            <a:ext cx="1384200" cy="1752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660000">
            <a:off x="4190760" y="2514240"/>
            <a:ext cx="14270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B820D-97B3-4F18-8936-9D9A6708C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 – Overview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tatesnapshots.ahrq.gov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2361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performance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clinical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co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&amp; Interpretation Gu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124080" y="2303640"/>
            <a:ext cx="5791320" cy="4024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6668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tool for State policymakers to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QR/NHDR health care quality, State-by-St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BE80-088C-4096-83D7-9AC77C359A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have they been used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kansas Center for Health Improv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of system, tracking baseline, analysis ide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keholders united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Things were as bad as we though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improvement “jump started” (EB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Snapshots IT for hospital 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 Sentine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lorida’s hospital care falls below U.S. norm, studies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 Wire Servi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ursing homes cut back on restrai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57E5-98D7-491C-809B-8D7164739B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20T15:45:25Z</dcterms:modified>
  <cp:revision>112</cp:revision>
  <dc:subject/>
  <dc:title>Community Partnerships for Change</dc:title>
</cp:coreProperties>
</file>