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C785A-8C84-4F4F-9FAA-CD8A3F5693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annual rates – use at least 6 months of experience, do before/after for both treatment and cont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049CE4-2BB4-485A-A1A3-107973060B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8627E2-8676-4113-A2C7-CB2DBB0B33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BA6F55-BAF8-4AFB-BC3A-9CD9CC1416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200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145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091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200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145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EF972C-F4C2-484A-BC02-BC311E222F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447920" y="228600"/>
            <a:ext cx="6697440" cy="406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E181BA-C7CD-4A84-8AD0-CFB0ABE8BB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200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145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091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200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145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0EEDC2-C160-4B2B-B060-3B1E8F8A58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5345D3-8FFA-4D3D-B83C-21459E7AB0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EB1AA9-9A37-4231-BC88-4E28D38BF1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447920" y="228600"/>
            <a:ext cx="6697440" cy="406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18C2DD-9A75-4E68-BF4B-3A2A443318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DF3296-1420-46BB-AE89-ED414A4FDF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D28EA9-9532-4C6F-97BB-F9C762B661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9D3CBF-3590-4320-967B-8C5A5A7187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0000"/>
          </a:bodyPr>
          <a:p>
            <a:pPr marL="325440" indent="-325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7756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08000" indent="-244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247760" indent="-159840">
              <a:lnSpc>
                <a:spcPct val="90000"/>
              </a:lnSpc>
              <a:spcBef>
                <a:spcPts val="1199"/>
              </a:spcBef>
              <a:buClr>
                <a:srgbClr val="66ff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1333440"/>
            <a:ext cx="7986240" cy="19080"/>
            <a:chOff x="0" y="1333440"/>
            <a:chExt cx="7986240" cy="19080"/>
          </a:xfrm>
        </p:grpSpPr>
        <p:sp>
          <p:nvSpPr>
            <p:cNvPr id="3" name=""/>
            <p:cNvSpPr/>
            <p:nvPr/>
          </p:nvSpPr>
          <p:spPr>
            <a:xfrm>
              <a:off x="5400" y="1352520"/>
              <a:ext cx="7980840" cy="0"/>
            </a:xfrm>
            <a:prstGeom prst="line">
              <a:avLst/>
            </a:prstGeom>
            <a:ln w="50760">
              <a:solidFill>
                <a:srgbClr val="0017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1333440"/>
              <a:ext cx="7980840" cy="0"/>
            </a:xfrm>
            <a:prstGeom prst="line">
              <a:avLst/>
            </a:prstGeom>
            <a:ln w="507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5" name=""/>
          <p:cNvGraphicFramePr/>
          <p:nvPr/>
        </p:nvGraphicFramePr>
        <p:xfrm>
          <a:off x="142920" y="317520"/>
          <a:ext cx="1428840" cy="671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2920" y="317520"/>
                    <a:ext cx="1428840" cy="67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8433E-5404-4650-9C67-F53E13B0167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09120" y="2819520"/>
            <a:ext cx="77900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0" y="3867120"/>
            <a:ext cx="7986240" cy="19080"/>
            <a:chOff x="0" y="3867120"/>
            <a:chExt cx="7986240" cy="19080"/>
          </a:xfrm>
        </p:grpSpPr>
        <p:sp>
          <p:nvSpPr>
            <p:cNvPr id="46" name=""/>
            <p:cNvSpPr/>
            <p:nvPr/>
          </p:nvSpPr>
          <p:spPr>
            <a:xfrm>
              <a:off x="5400" y="3886200"/>
              <a:ext cx="7980840" cy="0"/>
            </a:xfrm>
            <a:prstGeom prst="line">
              <a:avLst/>
            </a:prstGeom>
            <a:ln w="50760">
              <a:solidFill>
                <a:srgbClr val="0017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3867120"/>
              <a:ext cx="7980840" cy="0"/>
            </a:xfrm>
            <a:prstGeom prst="line">
              <a:avLst/>
            </a:prstGeom>
            <a:ln w="507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48" name=""/>
          <p:cNvGraphicFramePr/>
          <p:nvPr/>
        </p:nvGraphicFramePr>
        <p:xfrm>
          <a:off x="990720" y="380880"/>
          <a:ext cx="7162560" cy="1695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90720" y="380880"/>
                    <a:ext cx="7162560" cy="169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176040" algn="ctr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182520" algn="ctr">
              <a:lnSpc>
                <a:spcPct val="90000"/>
              </a:lnSpc>
              <a:spcBef>
                <a:spcPts val="751"/>
              </a:spcBef>
              <a:buClr>
                <a:srgbClr val="66ffff"/>
              </a:buClr>
              <a:buSzPct val="65000"/>
              <a:buFont typeface="Monotype Sort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68400" algn="ctr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684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684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mailto:Marjorie.Shofer@ahrq.hhs.gov" TargetMode="External"/><Relationship Id="rId2" Type="http://schemas.openxmlformats.org/officeDocument/2006/relationships/hyperlink" Target="mailto:AHRQ_quality_tools@academyhealth.org" TargetMode="External"/><Relationship Id="rId3" Type="http://schemas.openxmlformats.org/officeDocument/2006/relationships/hyperlink" Target="http://www.academyhealth.org/ahrq/qualitytools/index.htm" TargetMode="External"/><Relationship Id="rId4" Type="http://schemas.openxmlformats.org/officeDocument/2006/relationships/hyperlink" Target="http://www.academyhealth.org/ahrq/qualitytools/index.htm" TargetMode="External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ncqa.org/" TargetMode="External"/><Relationship Id="rId2" Type="http://schemas.openxmlformats.org/officeDocument/2006/relationships/hyperlink" Target="http://www.ncqa.org/" TargetMode="External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266688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The Asthma Care 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Return-on-Investment Calculator: 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How to use i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0" y="4343040"/>
            <a:ext cx="9144000" cy="213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inger Smith Carls, M.A. and Rosanna Coffey, Ph.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omson Reuters (formerly Medsta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y 22, 200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228600" y="2666880"/>
            <a:ext cx="8763120" cy="3886200"/>
          </a:xfrm>
          <a:prstGeom prst="foldedCorner">
            <a:avLst>
              <a:gd name="adj" fmla="val 14310"/>
            </a:avLst>
          </a:prstGeom>
          <a:solidFill>
            <a:srgbClr val="00279f"/>
          </a:solidFill>
          <a:ln w="76320">
            <a:solidFill>
              <a:srgbClr val="51d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Data needed: 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Baseline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80880" y="2743200"/>
            <a:ext cx="3919680" cy="365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ata Field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U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mergency department visits per patient per yea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spital stays per patient per yea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utpatient visits per patient per yea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572000" y="3048120"/>
            <a:ext cx="3921120" cy="304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ost (payment amoun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mergency department cost per visi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spital cost per sta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utpatient cost per visi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sthma medication cost per patient per yea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sthma-related ancillary service (lab, imaging, etc.) cost per pati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69960" y="1681200"/>
            <a:ext cx="74833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aseline  = the use and cost patterns of program participants before the asthma care progra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A01F7B-6C0B-4AC8-9B0D-1C780D87986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80880" y="1600200"/>
            <a:ext cx="8458200" cy="1905120"/>
          </a:xfrm>
          <a:prstGeom prst="foldedCorner">
            <a:avLst>
              <a:gd name="adj" fmla="val 20578"/>
            </a:avLst>
          </a:prstGeom>
          <a:solidFill>
            <a:srgbClr val="00279f"/>
          </a:solidFill>
          <a:ln w="76320">
            <a:solidFill>
              <a:srgbClr val="51d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Data needed: 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Baseline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0">
              <a:lnSpc>
                <a:spcPct val="7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Data Fields (continued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7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ssed work or school (optional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7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umber of missed work or school days per patient per yea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7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 of a missed work or school day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0">
              <a:lnSpc>
                <a:spcPct val="7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7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dvice for calculating data field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7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cide what use &amp; cost components to inclu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7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okay to combine use &amp; cost from different sour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7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ust make sure measures are calculated the same way for the same popul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AFD3E4-744F-49CF-8EF0-A01DF40B038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4800600" y="4038480"/>
            <a:ext cx="3962520" cy="2133720"/>
          </a:xfrm>
          <a:prstGeom prst="rect">
            <a:avLst/>
          </a:prstGeom>
          <a:solidFill>
            <a:srgbClr val="00279f"/>
          </a:solidFill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800600" y="2286000"/>
            <a:ext cx="3962520" cy="1447920"/>
          </a:xfrm>
          <a:prstGeom prst="rect">
            <a:avLst/>
          </a:prstGeom>
          <a:solidFill>
            <a:srgbClr val="00279f"/>
          </a:solidFill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80880" y="2286000"/>
            <a:ext cx="4191120" cy="4114800"/>
          </a:xfrm>
          <a:prstGeom prst="rect">
            <a:avLst/>
          </a:prstGeom>
          <a:solidFill>
            <a:srgbClr val="00279f"/>
          </a:solidFill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Data needed: 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Baseline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80520" y="2437920"/>
            <a:ext cx="414828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0" algn="ctr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MarketScan Claims Database (2005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7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dicaid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7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 stat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7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ographically dispers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7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mployer-sponsored health insura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7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ver 100 large self-insured employ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7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ver 15 million live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7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ographically balanc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800600" y="2361960"/>
            <a:ext cx="392112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0" algn="ctr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National Health Interview Survey (2003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7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umber of missed work or school days due to asthm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7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.S. estima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0">
              <a:lnSpc>
                <a:spcPct val="70000"/>
              </a:lnSpc>
              <a:spcBef>
                <a:spcPts val="6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0">
              <a:lnSpc>
                <a:spcPct val="70000"/>
              </a:lnSpc>
              <a:spcBef>
                <a:spcPts val="6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65120" indent="0" algn="ctr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ureau of Labor Statistic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0" algn="ctr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(2006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7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verage wage ra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7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ederal poverty line (for value of missed work day for Medicaid recipient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80880" y="152388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urce of default dat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E3890D-865F-4F89-9466-B2510F62BE1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228600" y="1523880"/>
            <a:ext cx="8534520" cy="3124440"/>
          </a:xfrm>
          <a:prstGeom prst="foldedCorner">
            <a:avLst>
              <a:gd name="adj" fmla="val 16407"/>
            </a:avLst>
          </a:prstGeom>
          <a:solidFill>
            <a:srgbClr val="00279f"/>
          </a:solidFill>
          <a:ln w="76320">
            <a:solidFill>
              <a:srgbClr val="51d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Data needed: 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Evidence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5345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603360" indent="0">
              <a:lnSpc>
                <a:spcPct val="7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336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Data Fiel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336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verage annual percent change in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101600" indent="-527760">
              <a:lnSpc>
                <a:spcPct val="7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umber of asthma-related hospital stay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1101600" indent="-527760">
              <a:lnSpc>
                <a:spcPct val="7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umber of asthma-related ER visi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1101600" indent="-527760">
              <a:lnSpc>
                <a:spcPct val="7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umber of asthma-related outpatient visi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1101600" indent="-527760">
              <a:lnSpc>
                <a:spcPct val="7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yments for outpatient prescription drug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1101600" indent="-527760">
              <a:lnSpc>
                <a:spcPct val="7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yments for asthma-related ancillary servi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1101600" indent="-527760">
              <a:lnSpc>
                <a:spcPct val="7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umber of missed work days (optional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1101600" indent="-527760">
              <a:lnSpc>
                <a:spcPct val="7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umber of missed school days (optional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1101600" indent="0">
              <a:lnSpc>
                <a:spcPct val="70000"/>
              </a:lnSpc>
              <a:spcBef>
                <a:spcPts val="6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1101600" indent="0">
              <a:lnSpc>
                <a:spcPct val="70000"/>
              </a:lnSpc>
              <a:spcBef>
                <a:spcPts val="6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336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336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Where to find these data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lnSpc>
                <a:spcPct val="7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sults from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ur meta-analysis of the literatur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s in the calculat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lnSpc>
                <a:spcPct val="7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You may enter these if you have results from a pilot study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25504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C50D2A-CF5B-4765-80FD-5462DDDADFA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457200" y="3809880"/>
            <a:ext cx="7696080" cy="1981440"/>
          </a:xfrm>
          <a:prstGeom prst="rect">
            <a:avLst/>
          </a:prstGeom>
          <a:solidFill>
            <a:srgbClr val="00279f"/>
          </a:solidFill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99840" y="228600"/>
            <a:ext cx="669780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Data needed: </a:t>
            </a:r>
            <a:br>
              <a:rPr sz="3600"/>
            </a:b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Evidence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457200" y="2286000"/>
          <a:ext cx="7655040" cy="1106640"/>
        </p:xfrm>
        <a:graphic>
          <a:graphicData uri="http://schemas.openxmlformats.org/drawingml/2006/table">
            <a:tbl>
              <a:tblPr/>
              <a:tblGrid>
                <a:gridCol w="3619440"/>
                <a:gridCol w="2228760"/>
                <a:gridCol w="1806840"/>
              </a:tblGrid>
              <a:tr h="54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ate at baseline (Before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ate at en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After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</a:tr>
              <a:tr h="28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eatment Group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=1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=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8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rol Group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=1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=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9" name=""/>
          <p:cNvSpPr/>
          <p:nvPr/>
        </p:nvSpPr>
        <p:spPr>
          <a:xfrm>
            <a:off x="609480" y="3886200"/>
            <a:ext cx="7467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o control group :  (B - A )/A*100 =  - 50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2.   Randomized controlled study:  (B – D)/D*100 =  - 38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tatistically controlled study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ercent change in treatment -  percent change in control =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(B-A)/A*100 – (D-C)/C*100 = - 50 - (- 20) =  - 30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99880" y="1498680"/>
            <a:ext cx="59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ample calculation of percent change in visi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5C9A36-187C-4169-8EF5-A27BB460346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Data needed: 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Evidence in calculator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228600" y="1676520"/>
          <a:ext cx="8686800" cy="3849480"/>
        </p:xfrm>
        <a:graphic>
          <a:graphicData uri="http://schemas.openxmlformats.org/drawingml/2006/table">
            <a:tbl>
              <a:tblPr/>
              <a:tblGrid>
                <a:gridCol w="1671480"/>
                <a:gridCol w="847800"/>
                <a:gridCol w="844560"/>
                <a:gridCol w="846360"/>
                <a:gridCol w="844560"/>
                <a:gridCol w="846000"/>
                <a:gridCol w="844560"/>
                <a:gridCol w="847800"/>
                <a:gridCol w="1093680"/>
              </a:tblGrid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79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gridSpan="8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279f"/>
                          </a:solidFill>
                          <a:latin typeface="Arial"/>
                          <a:ea typeface="Arial"/>
                        </a:rPr>
                        <a:t>Age groups includ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79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279f"/>
                          </a:solidFill>
                          <a:latin typeface="Arial"/>
                          <a:ea typeface="Arial"/>
                        </a:rPr>
                        <a:t>Children only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279f"/>
                          </a:solidFill>
                          <a:latin typeface="Arial"/>
                          <a:ea typeface="Arial"/>
                        </a:rPr>
                        <a:t>Adults Only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279f"/>
                          </a:solidFill>
                          <a:latin typeface="Arial"/>
                          <a:ea typeface="Arial"/>
                        </a:rPr>
                        <a:t>Both children and adult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279f"/>
                          </a:solidFill>
                          <a:latin typeface="Arial"/>
                          <a:ea typeface="Arial"/>
                        </a:rPr>
                        <a:t>TOTA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otal patient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umber of studi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otal patient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umber of studi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otal patient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umber of studi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otal patient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umber of studi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ED visit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3,21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1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,81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2,73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00279f"/>
                    </a:solidFill>
                  </a:tcPr>
                </a:tc>
              </a:tr>
              <a:tr h="32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Hospitalization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7,57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,16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,52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7,26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279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Outpatient visit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,22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,98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,88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9,10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279f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issed work/ school day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,17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4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,13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279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edication Cos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8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0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3,58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4,36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279f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ncillary service cos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4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</a:tr>
            </a:tbl>
          </a:graphicData>
        </a:graphic>
      </p:graphicFrame>
      <p:sp>
        <p:nvSpPr>
          <p:cNvPr id="143" name=""/>
          <p:cNvSpPr/>
          <p:nvPr/>
        </p:nvSpPr>
        <p:spPr>
          <a:xfrm>
            <a:off x="380880" y="5562720"/>
            <a:ext cx="8288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Notes: Total studies can be less than the sum of the columns because some studies reported results separately for adults and childre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Total patients includes both treatment and control pati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DC9CC4-656E-4889-ACC3-E3D9BEA575E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457200" y="1600200"/>
            <a:ext cx="8153280" cy="2362320"/>
          </a:xfrm>
          <a:prstGeom prst="foldedCorner">
            <a:avLst>
              <a:gd name="adj" fmla="val 12500"/>
            </a:avLst>
          </a:prstGeom>
          <a:solidFill>
            <a:srgbClr val="00279f"/>
          </a:solidFill>
          <a:ln w="76320">
            <a:solidFill>
              <a:srgbClr val="51d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Data needed: 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Program cost and design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7848360" cy="2209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0">
              <a:lnSpc>
                <a:spcPct val="7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Data fiel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7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nual cost per particip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7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umber of years until full impact (i.e. program “ramp-up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7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count r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7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uration of progra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09480" y="4114440"/>
            <a:ext cx="7772400" cy="243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0">
              <a:lnSpc>
                <a:spcPct val="7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Questions to consid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0" algn="ctr">
              <a:lnSpc>
                <a:spcPct val="7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7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 to choose a discount rat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7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7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 to estimate annual cost per participant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C05A39-2A6F-4762-B460-053A2D66B40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Data needed: 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Wrap-up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799308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ypes of data need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umber of eligible asthma pati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seline utilization and cos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vid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gram cost and desig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utting it all toge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deally, find data from a single sour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not possible, be sure that the underlying populations that generated the data are simil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56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e claims data to obtain number of eligible asthma patients and their baseline utilization and cos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56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nd evidence that studied a similar popul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D865CE-08AC-4CFD-83E6-06DE6306E4E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380880" y="1600200"/>
            <a:ext cx="8001000" cy="3505320"/>
          </a:xfrm>
          <a:prstGeom prst="wedgeRectCallout">
            <a:avLst>
              <a:gd name="adj1" fmla="val -4564"/>
              <a:gd name="adj2" fmla="val 77490"/>
            </a:avLst>
          </a:prstGeom>
          <a:solidFill>
            <a:srgbClr val="00279f"/>
          </a:solidFill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Data needed: 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Discussion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480" y="1904760"/>
            <a:ext cx="746784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437040" indent="-437040">
              <a:lnSpc>
                <a:spcPct val="7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deas for data source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17640" indent="-372600">
              <a:lnSpc>
                <a:spcPct val="7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vide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17640" indent="-372600">
              <a:lnSpc>
                <a:spcPct val="7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umber of eligible asthma pati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17640" indent="-372600">
              <a:lnSpc>
                <a:spcPct val="7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aseline utilization and co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17640" indent="-372600">
              <a:lnSpc>
                <a:spcPct val="7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gram co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17640" indent="0">
              <a:lnSpc>
                <a:spcPct val="70000"/>
              </a:lnSpc>
              <a:spcBef>
                <a:spcPts val="6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37040" indent="-437040">
              <a:lnSpc>
                <a:spcPct val="10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technical assistance do you need from AHRQ to find data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704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7040" indent="-437040">
              <a:lnSpc>
                <a:spcPct val="7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4724280" y="5257800"/>
            <a:ext cx="1676520" cy="1353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7CEF1E-83B1-41E5-AA3F-9608EE2000F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w to use the calculato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46512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465120" indent="0" algn="ctr">
              <a:lnSpc>
                <a:spcPct val="90000"/>
              </a:lnSpc>
              <a:spcBef>
                <a:spcPts val="20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Arial"/>
              </a:rPr>
              <a:t>Interpretation of result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DC9E99-9CC6-476F-BDDD-E2D8291D740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447920" y="151920"/>
            <a:ext cx="6697440" cy="876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7947000" cy="417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rief review of calculat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to use the calculat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erpretation of resul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mitations and solu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6705720" y="5334120"/>
            <a:ext cx="965160" cy="99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B53B4B-9D9E-4963-A9C1-FBD370F3B28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47560" y="228600"/>
            <a:ext cx="693396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Example resul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335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8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ults from default da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tionwi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gram lasts for 5 year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akes 2 years to ramp up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ount rate is 3%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vidence from randomized controlled stud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604FD7-B124-48B2-A31A-50E05D68377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7" name=""/>
          <p:cNvGraphicFramePr/>
          <p:nvPr/>
        </p:nvGraphicFramePr>
        <p:xfrm>
          <a:off x="228600" y="1600200"/>
          <a:ext cx="8458200" cy="5027760"/>
        </p:xfrm>
        <a:graphic>
          <a:graphicData uri="http://schemas.openxmlformats.org/drawingml/2006/table">
            <a:tbl>
              <a:tblPr/>
              <a:tblGrid>
                <a:gridCol w="2666880"/>
                <a:gridCol w="1495440"/>
                <a:gridCol w="1433520"/>
                <a:gridCol w="1430280"/>
                <a:gridCol w="1432080"/>
              </a:tblGrid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279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279f"/>
                          </a:solidFill>
                          <a:latin typeface="Arial"/>
                          <a:ea typeface="Arial"/>
                        </a:rPr>
                        <a:t>(1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279f"/>
                          </a:solidFill>
                          <a:latin typeface="Arial"/>
                          <a:ea typeface="Arial"/>
                        </a:rPr>
                        <a:t>(2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279f"/>
                          </a:solidFill>
                          <a:latin typeface="Arial"/>
                          <a:ea typeface="Arial"/>
                        </a:rPr>
                        <a:t>(3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279f"/>
                          </a:solidFill>
                          <a:latin typeface="Arial"/>
                          <a:ea typeface="Arial"/>
                        </a:rPr>
                        <a:t>(4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279f"/>
                          </a:solidFill>
                          <a:latin typeface="Arial"/>
                          <a:ea typeface="Arial"/>
                        </a:rPr>
                        <a:t>Options (not all are shown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79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79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79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79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ype of Insuranc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edicai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edicai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edicai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Employer sponsor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ge group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dults and childre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hildre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hildre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hildre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sthma severity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ersistent asthm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ersistent asthm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ersistent asthm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ersistent asthm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nnual program cos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$395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$395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$100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$100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edical costs includ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ll payment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ll payment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ll payment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ll payment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roductivity costs includ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umber of eligible patients with asthma (nationwide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.97 millio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50 thousan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50 thousan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 millio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279f"/>
                          </a:solidFill>
                          <a:latin typeface="Arial"/>
                          <a:ea typeface="Arial"/>
                        </a:rPr>
                        <a:t>Result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79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79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79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79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et Present Value (per participant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$1,552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$1,228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$123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$60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OI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$0.14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$0.32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$1.27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$0.87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reak Even Program Cos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$56.04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$126.7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$126.7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$86.97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</a:tr>
            </a:tbl>
          </a:graphicData>
        </a:graphic>
      </p:graphicFrame>
      <p:sp>
        <p:nvSpPr>
          <p:cNvPr id="158" name=""/>
          <p:cNvSpPr/>
          <p:nvPr/>
        </p:nvSpPr>
        <p:spPr>
          <a:xfrm>
            <a:off x="1371600" y="457200"/>
            <a:ext cx="671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Results using default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AD2E29-9C14-42D0-B9AE-05834D8AE1C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Results using default data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228600" y="1600200"/>
          <a:ext cx="8381880" cy="5005440"/>
        </p:xfrm>
        <a:graphic>
          <a:graphicData uri="http://schemas.openxmlformats.org/drawingml/2006/table">
            <a:tbl>
              <a:tblPr/>
              <a:tblGrid>
                <a:gridCol w="2643120"/>
                <a:gridCol w="1482840"/>
                <a:gridCol w="1419120"/>
                <a:gridCol w="1419120"/>
                <a:gridCol w="1417680"/>
              </a:tblGrid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279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279f"/>
                          </a:solidFill>
                          <a:latin typeface="Arial"/>
                          <a:ea typeface="Arial"/>
                        </a:rPr>
                        <a:t>(5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279f"/>
                          </a:solidFill>
                          <a:latin typeface="Arial"/>
                          <a:ea typeface="Arial"/>
                        </a:rPr>
                        <a:t>(6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279f"/>
                          </a:solidFill>
                          <a:latin typeface="Arial"/>
                          <a:ea typeface="Arial"/>
                        </a:rPr>
                        <a:t>(7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279f"/>
                          </a:solidFill>
                          <a:latin typeface="Arial"/>
                          <a:ea typeface="Arial"/>
                        </a:rPr>
                        <a:t>(8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279f"/>
                          </a:solidFill>
                          <a:latin typeface="Arial"/>
                          <a:ea typeface="Arial"/>
                        </a:rPr>
                        <a:t>Options (not all are shown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79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79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79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79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ype of Insuranc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Employer sponsor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Employer sponsor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Employer sponsor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Employer sponsor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ge group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hildre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hildre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dult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dult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sthma severity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ersistent asthma with acute visit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ersistent asthma with acute visit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ersistent asthm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ersistent asthm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nnual program cos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$1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$100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$100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$100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edical costs includ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ll payment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Only plan cost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Only plan cost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Only plan cost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roductivity costs includ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umber of eligible patients with asthma (nationwide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0 thousan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0 thousan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.2 millio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.2 millio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279f"/>
                          </a:solidFill>
                          <a:latin typeface="Arial"/>
                          <a:ea typeface="Arial"/>
                        </a:rPr>
                        <a:t>Result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79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79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79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79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et Present Value (per participant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$82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$56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$812)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$2,26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OI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$2.80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$2.2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$0.77)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$5.9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reak Even Program Cos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$279.54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$222.3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77.30)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$594.44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603FF1-10E7-43E0-9E78-E90616E06E1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How to use calculator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66"/>
                </a:solidFill>
                <a:latin typeface="Arial"/>
              </a:rPr>
              <a:t>Forecas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inancial impa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66"/>
                </a:solidFill>
                <a:latin typeface="Arial"/>
              </a:rPr>
              <a:t>Asses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mpact of key </a:t>
            </a:r>
            <a:r>
              <a:rPr b="0" lang="en-US" sz="2800" spc="-1" strike="noStrike">
                <a:solidFill>
                  <a:srgbClr val="99ff66"/>
                </a:solidFill>
                <a:latin typeface="Arial"/>
              </a:rPr>
              <a:t>assumption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bout proposed progr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amine alternative types of programs to assess tradeoff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e assumptions “reasonable” compared to other evidenc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stimate “</a:t>
            </a:r>
            <a:r>
              <a:rPr b="0" lang="en-US" sz="2800" spc="-1" strike="noStrike">
                <a:solidFill>
                  <a:srgbClr val="99ff66"/>
                </a:solidFill>
                <a:latin typeface="Arial"/>
              </a:rPr>
              <a:t>cost hurdl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” needed to break-ev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gotiate with vendo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bserve components of calculator in</a:t>
            </a:r>
            <a:r>
              <a:rPr b="0" lang="en-US" sz="2800" spc="-1" strike="noStrike">
                <a:solidFill>
                  <a:srgbClr val="99ff66"/>
                </a:solidFill>
                <a:latin typeface="Arial"/>
              </a:rPr>
              <a:t> plannin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n evaluation of an asthma care progr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4621DA-942A-4262-8EBC-D8E63CBA6A7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447920" y="30492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Uses: How it helps with policy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924680" cy="3124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4000"/>
          </a:bodyPr>
          <a:p>
            <a:pPr marL="390600" indent="-39060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66"/>
                </a:solidFill>
                <a:latin typeface="Arial"/>
              </a:rPr>
              <a:t>Michigan Pediatric Asthma Coalitio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Funding decision for a county asthma program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060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0600" indent="-39060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66"/>
                </a:solidFill>
                <a:latin typeface="Arial"/>
              </a:rPr>
              <a:t>New York Department of Healt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 Evaluation components for a housing improvement project that should reduce asthma sympto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060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0600" indent="-39060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66"/>
                </a:solidFill>
                <a:latin typeface="Arial"/>
              </a:rPr>
              <a:t>Iowa Medicaid Medical Office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Considering value of asthma care improvements for Medica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2514600" y="5562720"/>
            <a:ext cx="990720" cy="92556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4952880" y="5638680"/>
            <a:ext cx="1219320" cy="77472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3886200" y="5791320"/>
            <a:ext cx="762120" cy="380880"/>
          </a:xfrm>
          <a:prstGeom prst="rightArrow">
            <a:avLst>
              <a:gd name="adj1" fmla="val 50000"/>
              <a:gd name="adj2" fmla="val 50024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135951-1233-41BA-B9F6-4A52555F263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0" algn="ctr">
              <a:lnSpc>
                <a:spcPct val="90000"/>
              </a:lnSpc>
              <a:spcBef>
                <a:spcPts val="20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Limitations and possible solution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C496EA-ADF8-4417-93E2-4912FC3FF6E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aveat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70866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mited evidence for some component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ew studies (7) reported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rogram cost –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de rang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56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verage = $395 dollars per patient per yea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56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in = $81 automated general educational mailing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56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x = $989 program for highest cost pati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ew studies (10) reported asthma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medication cost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56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udies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ithout a control group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reported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rger increase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n medication cos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56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aselin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sthma medication costs vari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HRQ does not plan updates at this ti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7543800" y="2743200"/>
            <a:ext cx="1219320" cy="77472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8077320" y="5029200"/>
            <a:ext cx="757080" cy="76212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3"/>
          <a:stretch/>
        </p:blipFill>
        <p:spPr>
          <a:xfrm>
            <a:off x="7848720" y="4267080"/>
            <a:ext cx="390240" cy="838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2524BB-99A2-4BD0-B02D-DB86379B8217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63248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aveats &amp; Solution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3886200" cy="426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blem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terature continues to gro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seline data becomes obsolet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 estimates are for 200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572000" y="1676520"/>
            <a:ext cx="411480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lutions for user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nitor literature post April 2007 &amp; input resul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 your own data to populate the calculat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flate findings beyond 2006, using the CPI-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44DB95-8236-4A75-A83A-0CDCC2045D42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304920" y="1600200"/>
            <a:ext cx="7848360" cy="2971800"/>
          </a:xfrm>
          <a:prstGeom prst="wedgeRectCallout">
            <a:avLst>
              <a:gd name="adj1" fmla="val -6574"/>
              <a:gd name="adj2" fmla="val 89527"/>
            </a:avLst>
          </a:prstGeom>
          <a:solidFill>
            <a:srgbClr val="00279f"/>
          </a:solidFill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Discuss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ther limitations, concern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ys the calculator could be made more usefu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s about interpretation of result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4114800" y="5181480"/>
            <a:ext cx="1676520" cy="1354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B19A98-1920-4E24-ABA8-1FEA67DFD2CC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Additional assistance: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799308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chnical Assistanc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rgie Shofer,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 u="sng">
                <a:solidFill>
                  <a:srgbClr val="fafd00"/>
                </a:solidFill>
                <a:uFillTx/>
                <a:latin typeface="Arial"/>
                <a:hlinkClick r:id="rId1"/>
              </a:rPr>
              <a:t>Marjorie.Shofer@ahrq.hhs.go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nior Program Analyst, Office of Communications and Knowledge Transf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py of calculator or questions about the tool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lease e-mail </a:t>
            </a:r>
            <a:r>
              <a:rPr b="0" lang="en-US" sz="2000" spc="-1" strike="noStrike" u="sng">
                <a:solidFill>
                  <a:srgbClr val="fafd00"/>
                </a:solidFill>
                <a:uFillTx/>
                <a:latin typeface="Arial"/>
                <a:hlinkClick r:id="rId2"/>
              </a:rPr>
              <a:t>AHRQ_quality_tools@academyhealth.or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more information about AHRQ Quality Tool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afd00"/>
                </a:solidFill>
                <a:uFillTx/>
                <a:latin typeface="Arial"/>
                <a:hlinkClick r:id="rId3"/>
              </a:rPr>
              <a:t>http://</a:t>
            </a:r>
            <a:r>
              <a:rPr b="0" lang="en-US" sz="2000" spc="-1" strike="noStrike" u="sng">
                <a:solidFill>
                  <a:srgbClr val="fafd00"/>
                </a:solidFill>
                <a:uFillTx/>
                <a:latin typeface="Arial"/>
                <a:hlinkClick r:id="rId4"/>
              </a:rPr>
              <a:t>www.academyhealth.org/ahrq/qualitytools/index.ht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1AB7CD-D54E-46BA-B2E5-56B4D6DF74BB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Review of the Calculato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05AA79-F14D-4B06-BCAD-6DEBF48EC09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447920" y="30492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Purpose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help policy makers (States)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th </a:t>
            </a:r>
            <a:r>
              <a:rPr b="0" lang="en-US" sz="2800" spc="-1" strike="noStrike">
                <a:solidFill>
                  <a:srgbClr val="99ff66"/>
                </a:solidFill>
                <a:latin typeface="Arial"/>
              </a:rPr>
              <a:t>program desig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or asthma care quality improv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stimate </a:t>
            </a:r>
            <a:r>
              <a:rPr b="0" lang="en-US" sz="2800" spc="-1" strike="noStrike">
                <a:solidFill>
                  <a:srgbClr val="99ff66"/>
                </a:solidFill>
                <a:latin typeface="Arial"/>
              </a:rPr>
              <a:t>financial retur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based on evide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</a:t>
            </a:r>
            <a:r>
              <a:rPr b="0" lang="en-US" sz="2800" spc="-1" strike="noStrike">
                <a:solidFill>
                  <a:srgbClr val="99ff66"/>
                </a:solidFill>
                <a:latin typeface="Arial"/>
              </a:rPr>
              <a:t>summariz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 large literature (52 studi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</a:t>
            </a:r>
            <a:r>
              <a:rPr b="0" lang="en-US" sz="2800" spc="-1" strike="noStrike">
                <a:solidFill>
                  <a:srgbClr val="99ff66"/>
                </a:solidFill>
                <a:latin typeface="Arial"/>
              </a:rPr>
              <a:t>translat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utilization-based results into co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summarize impacts based on </a:t>
            </a:r>
            <a:r>
              <a:rPr b="0" lang="en-US" sz="2800" spc="-1" strike="noStrike">
                <a:solidFill>
                  <a:srgbClr val="99ff66"/>
                </a:solidFill>
                <a:latin typeface="Arial"/>
              </a:rPr>
              <a:t>user inter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7391520" y="4572000"/>
            <a:ext cx="965160" cy="990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605C12-CF1A-4A80-8010-B1AF7C2CD8A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8960" y="304920"/>
            <a:ext cx="739116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Method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8077320" cy="2209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0">
              <a:lnSpc>
                <a:spcPct val="7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vidence of utilization impact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7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7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st data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7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7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=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inancial impa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7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9600" indent="0">
              <a:lnSpc>
                <a:spcPct val="7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5791320" y="1447920"/>
            <a:ext cx="990360" cy="9255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3962520" y="3352680"/>
            <a:ext cx="1218960" cy="7747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533520" y="4419720"/>
            <a:ext cx="80769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465120" indent="-465120">
              <a:lnSpc>
                <a:spcPct val="7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finition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9600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sthma care programs typically follow NAEPP (National Asthma Education and Prevention Program) guideli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30320" indent="-336600">
              <a:lnSpc>
                <a:spcPct val="7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tient educatio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30320" indent="-336600">
              <a:lnSpc>
                <a:spcPct val="7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vider activiti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7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9600">
              <a:lnSpc>
                <a:spcPct val="7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2590920" y="2133720"/>
            <a:ext cx="556920" cy="99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2A9A2B-ECC3-4917-8BF0-87E4475C3A8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67652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How to use the calculator: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465120"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465120"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Arial"/>
              </a:rPr>
              <a:t>Data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5F6D38-ED27-4404-8ABC-04D838E507F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Data needed: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Overview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umber of eligible asthma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seline utilization and cos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ide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st to implement the progr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7B2BFD-2CA8-4B1C-9A3E-4766BBC75A2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380880" y="1600200"/>
            <a:ext cx="8458200" cy="1676520"/>
          </a:xfrm>
          <a:prstGeom prst="rect">
            <a:avLst/>
          </a:prstGeom>
          <a:solidFill>
            <a:srgbClr val="00279f"/>
          </a:solidFill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47560" y="228600"/>
            <a:ext cx="708660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Data needed: 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Eligible asthma patient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806904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Options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lculate number eligible using own data (i.e. medical claim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e calculator to estimate eligible pati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More detail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lculate number eligible using own data (i.e. medical claim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112760" indent="-53316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Define criteria for eligible asthma patients.  Exampl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547640" indent="-457200">
              <a:lnSpc>
                <a:spcPct val="8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atients with at least one asthma diagnosi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547640" indent="-457200">
              <a:lnSpc>
                <a:spcPct val="8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atients with persistent asthm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935000" indent="-380880">
              <a:lnSpc>
                <a:spcPct val="80000"/>
              </a:lnSpc>
              <a:spcBef>
                <a:spcPts val="675"/>
              </a:spcBef>
              <a:buClr>
                <a:srgbClr val="66ffff"/>
              </a:buClr>
              <a:buSzPct val="65000"/>
              <a:buFont typeface="Monotype Sorts" charset="2"/>
              <a:buChar char="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CQA HEDIS definition: </a:t>
            </a:r>
            <a:r>
              <a:rPr b="0" lang="en-US" sz="1800" spc="-1" strike="noStrike" u="sng">
                <a:solidFill>
                  <a:srgbClr val="fafd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800" spc="-1" strike="noStrike" u="sng">
                <a:solidFill>
                  <a:srgbClr val="fafd00"/>
                </a:solidFill>
                <a:uFillTx/>
                <a:latin typeface="Arial"/>
                <a:hlinkClick r:id="rId2"/>
              </a:rPr>
              <a:t>www.ncqa.or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935000" indent="-380880">
              <a:lnSpc>
                <a:spcPct val="80000"/>
              </a:lnSpc>
              <a:spcBef>
                <a:spcPts val="675"/>
              </a:spcBef>
              <a:buClr>
                <a:srgbClr val="66ffff"/>
              </a:buClr>
              <a:buSzPct val="65000"/>
              <a:buFont typeface="Monotype Sorts" charset="2"/>
              <a:buChar char="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e Tables 8 and 10 in detailed repor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D58083-CF85-4C5E-9E95-829873D3C0B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228600" y="2133720"/>
            <a:ext cx="8001000" cy="1523880"/>
          </a:xfrm>
          <a:prstGeom prst="foldedCorner">
            <a:avLst>
              <a:gd name="adj" fmla="val 21569"/>
            </a:avLst>
          </a:prstGeom>
          <a:solidFill>
            <a:srgbClr val="00279f"/>
          </a:solidFill>
          <a:ln w="76320">
            <a:solidFill>
              <a:srgbClr val="51d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723888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Data needed: 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Eligible asthma patients 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80010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-609480">
              <a:lnSpc>
                <a:spcPct val="7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e calculator to estimate eligible asthma pati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ata Fiel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7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cent of enrollees in each age/gender ce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7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cent enrollees of each race/ethnic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7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tal number of enrolle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112760" indent="0">
              <a:lnSpc>
                <a:spcPct val="70000"/>
              </a:lnSpc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7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112760" indent="-533160">
              <a:lnSpc>
                <a:spcPct val="7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sthma sever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1112760" indent="-533160">
              <a:lnSpc>
                <a:spcPct val="7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ype of health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verag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(Medicaid or employer-sponsored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7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w calculator estimates eligible patient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112760" indent="-533160">
              <a:lnSpc>
                <a:spcPct val="7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sthma prevalence rates come from MarketScan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T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Medicaid or Commercial Claims datab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1112760" indent="-533160">
              <a:lnSpc>
                <a:spcPct val="7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evalence rates are adjusted by all of the demographic and asthma severity information entered by user, based on evidence from MarketScan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T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A065C0-6901-4E4A-9FA8-A3FEACE1463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7T12:52:04Z</dcterms:created>
  <dc:creator>USER</dc:creator>
  <dc:description/>
  <dc:language>en-US</dc:language>
  <cp:lastModifiedBy>Amanda Folsom</cp:lastModifiedBy>
  <dcterms:modified xsi:type="dcterms:W3CDTF">2008-05-19T19:03:44Z</dcterms:modified>
  <cp:revision>117</cp:revision>
  <dc:subject/>
  <dc:title>Community Partnerships for Change</dc:title>
</cp:coreProperties>
</file>