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8E1A-3061-44F6-AAA2-7E147C3CE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nnual rates – use at least 6 months of experience, do before/after for both treatment and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FDA21-5923-4F75-9A79-F8053D783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B1A16-B307-420E-ACAE-99605C90B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0F594-9FF4-4C30-9A73-ED1C881E3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2A035-3BAC-40B9-9D45-FC793580A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9DACE-050B-4AB7-81F6-781A479C7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900B-500C-4A80-8963-D897C6643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8EB8-936E-48B9-8ED3-FAB949BDA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10216-DD86-4147-9146-992390620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5E2C-6044-4604-A4F3-621737114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918C-B92E-45F4-87C8-6AFC66C03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DFAE-87C4-450E-81A4-1A9006C15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4C4AD-B201-49E4-A3DB-EF82F0835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E275-C7CF-4923-A3E9-2953A9EC90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6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Marjorie.Shofer@ahrq.hhs.gov" TargetMode="External"/><Relationship Id="rId2" Type="http://schemas.openxmlformats.org/officeDocument/2006/relationships/hyperlink" Target="mailto:AHRQ_quality_tools@academyhealth.org" TargetMode="External"/><Relationship Id="rId3" Type="http://schemas.openxmlformats.org/officeDocument/2006/relationships/hyperlink" Target="http://www.academyhealth.org/ahrq/qualitytools/index.htm" TargetMode="External"/><Relationship Id="rId4" Type="http://schemas.openxmlformats.org/officeDocument/2006/relationships/hyperlink" Target="http://www.academyhealth.org/ahrq/qualitytools/index.htm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cqa.org/" TargetMode="External"/><Relationship Id="rId2" Type="http://schemas.openxmlformats.org/officeDocument/2006/relationships/hyperlink" Target="http://www.ncqa.org/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666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Asthma Car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turn-on-Investment Calculator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to use i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43430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nger Smith Carls, M.A. and Rosanna Coffey, Ph.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mson Reuters (formerly Medsta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22, 200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2666880"/>
            <a:ext cx="8763120" cy="3886200"/>
          </a:xfrm>
          <a:prstGeom prst="foldedCorner">
            <a:avLst>
              <a:gd name="adj" fmla="val 14310"/>
            </a:avLst>
          </a:prstGeom>
          <a:solidFill>
            <a:srgbClr val="00279f"/>
          </a:solidFill>
          <a:ln w="7632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needed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selin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391968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Field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ergency department visits per patient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tal stays per patient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patient visits per patient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0" y="3048120"/>
            <a:ext cx="392112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st (payment amou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ergency department cost per visi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pital cost per st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patient cost per vis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thma medication cost per patient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thma-related ancillary service (lab, imaging, etc.) cost per pat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9960" y="1681200"/>
            <a:ext cx="7483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seline  = the use and cost patterns of program participants before the asthma care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185B-C5C7-490C-B40B-F097B0215E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1600200"/>
            <a:ext cx="8458200" cy="1905120"/>
          </a:xfrm>
          <a:prstGeom prst="foldedCorner">
            <a:avLst>
              <a:gd name="adj" fmla="val 20578"/>
            </a:avLst>
          </a:prstGeom>
          <a:solidFill>
            <a:srgbClr val="00279f"/>
          </a:solidFill>
          <a:ln w="7632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needed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selin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Fields 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ssed work or school (opti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missed work or school days per patient per ye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a missed work or school da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vice for calculating data field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de what use &amp; cost components to incl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okay to combine use &amp; cost from different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 make sure measures are calculated the same way for the same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49E33-7AED-4E0B-823D-30403D9B6E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800600" y="4038480"/>
            <a:ext cx="3962520" cy="2133720"/>
          </a:xfrm>
          <a:prstGeom prst="rect">
            <a:avLst/>
          </a:prstGeom>
          <a:solidFill>
            <a:srgbClr val="00279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2286000"/>
            <a:ext cx="3962520" cy="1447920"/>
          </a:xfrm>
          <a:prstGeom prst="rect">
            <a:avLst/>
          </a:prstGeom>
          <a:solidFill>
            <a:srgbClr val="00279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286000"/>
            <a:ext cx="4191120" cy="4114800"/>
          </a:xfrm>
          <a:prstGeom prst="rect">
            <a:avLst/>
          </a:prstGeom>
          <a:solidFill>
            <a:srgbClr val="00279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needed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selin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2437920"/>
            <a:ext cx="41482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rketScan Claims Database (20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cai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graphically disper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ployer-sponsored health insu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 100 large self-insured employ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 15 million liv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graphically balan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00600" y="2361960"/>
            <a:ext cx="39211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ational Health Interview Survey (2003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missed work or school days due to asth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.S. estim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ureau of Labor Statis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200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erage wage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deral poverty line (for value of missed work day for Medicaid recipien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1523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 of default da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0F455-EFCB-42DE-9383-14A4C3EFFA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1523880"/>
            <a:ext cx="8534520" cy="3124440"/>
          </a:xfrm>
          <a:prstGeom prst="foldedCorner">
            <a:avLst>
              <a:gd name="adj" fmla="val 16407"/>
            </a:avLst>
          </a:prstGeom>
          <a:solidFill>
            <a:srgbClr val="00279f"/>
          </a:solidFill>
          <a:ln w="7632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needed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vide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60336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ata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erage annual percent change i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277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asthma-related hospital stay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277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asthma-related ER vis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277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asthma-related outpatient visi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277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yments for outpatient prescription dru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277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yments for asthma-related ancillary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277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missed work days (op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-5277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missed school days (op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0160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here to find these d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s fro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r meta-analysis of the litera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in the calcul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may enter these if you have results from a pilot stud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550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1F9CB-B905-47C6-9501-4B09B07A1E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3809880"/>
            <a:ext cx="7696080" cy="1981440"/>
          </a:xfrm>
          <a:prstGeom prst="rect">
            <a:avLst/>
          </a:prstGeom>
          <a:solidFill>
            <a:srgbClr val="00279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needed: </a:t>
            </a:r>
            <a:br>
              <a:rPr sz="36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videnc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2286000"/>
          <a:ext cx="7655040" cy="1106640"/>
        </p:xfrm>
        <a:graphic>
          <a:graphicData uri="http://schemas.openxmlformats.org/drawingml/2006/table">
            <a:tbl>
              <a:tblPr/>
              <a:tblGrid>
                <a:gridCol w="3619440"/>
                <a:gridCol w="2228760"/>
                <a:gridCol w="1806840"/>
              </a:tblGrid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at baseline (Befor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at en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fte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Gro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=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=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 Grou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=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=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609480" y="3886200"/>
            <a:ext cx="7467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 control group :  (B - A )/A*100 =  - 5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   Randomized controlled study:  (B – D)/D*100 =  - 38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tistically controlled study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rcent change in treatment -  percent change in control =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B-A)/A*100 – (D-C)/C*100 = - 50 - (- 20) =  - 3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9880" y="1498680"/>
            <a:ext cx="59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calculation of percent change in vis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AC4D0-2749-4830-BA6D-617E3183B3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needed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vidence in calculator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28600" y="1676520"/>
          <a:ext cx="8686800" cy="3849480"/>
        </p:xfrm>
        <a:graphic>
          <a:graphicData uri="http://schemas.openxmlformats.org/drawingml/2006/table">
            <a:tbl>
              <a:tblPr/>
              <a:tblGrid>
                <a:gridCol w="1671480"/>
                <a:gridCol w="847800"/>
                <a:gridCol w="844560"/>
                <a:gridCol w="846360"/>
                <a:gridCol w="844560"/>
                <a:gridCol w="846000"/>
                <a:gridCol w="844560"/>
                <a:gridCol w="847800"/>
                <a:gridCol w="109368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Age groups includ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Children on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Adults On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Both children and adul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pati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stud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pati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stud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pati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stud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pati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stud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D vis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2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,8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,7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spitaliza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,5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1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5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,26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tpatient vis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,2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9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8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,1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ssed work/ school day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1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1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cation C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,5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,3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279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cillary service c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380880" y="5562720"/>
            <a:ext cx="828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Notes: Total studies can be less than the sum of the columns because some studies reported results separately for adults and childr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Total patients includes both treatment and control pati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04E86-2D51-4FEF-8AB7-53FB2B74E2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1600200"/>
            <a:ext cx="8153280" cy="2362320"/>
          </a:xfrm>
          <a:prstGeom prst="foldedCorner">
            <a:avLst>
              <a:gd name="adj" fmla="val 12500"/>
            </a:avLst>
          </a:prstGeom>
          <a:solidFill>
            <a:srgbClr val="00279f"/>
          </a:solidFill>
          <a:ln w="7632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needed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gram cost and 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84836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fi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ual cost per particip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years until full impact (i.e. program “ramp-up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ount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tion of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0948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Questions to cons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choose a discount ra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estimate annual cost per participa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0F9EC-1302-4946-B5A4-3E05F059E8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needed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rap-up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ypes of data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eligible asthma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line utilization and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 cost and 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tting it all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lly, find data from a single 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not possible, be sure that the underlying populations that generated the data are simi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claims data to obtain number of eligible asthma patients and their baseline utilization and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d evidence that studied a similar pop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B177-0380-4118-83E6-549DB10727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1600200"/>
            <a:ext cx="8001000" cy="3505320"/>
          </a:xfrm>
          <a:prstGeom prst="wedgeRectCallout">
            <a:avLst>
              <a:gd name="adj1" fmla="val -4564"/>
              <a:gd name="adj2" fmla="val 77490"/>
            </a:avLst>
          </a:prstGeom>
          <a:solidFill>
            <a:srgbClr val="00279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needed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4678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437040" indent="-43704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as for data sourc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eligible asthma pati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line utilization and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-37260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764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technical assistance do you need from AHRQ to find dat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70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7040" indent="-43704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724280" y="5257800"/>
            <a:ext cx="1676520" cy="135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BE680-AAE8-4080-B86C-D41AD366D1F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to use the calcula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Interpretation of resul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0A045-501C-4641-AA24-A7E408B475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69744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47000" cy="417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ef review of calcul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use the calcul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pretation of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ations and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705720" y="5334120"/>
            <a:ext cx="965160" cy="99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64D0-FDF9-4C40-B7DE-68E670B0DC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69339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ple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from defaul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w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 lasts for 5 yea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s 2 years to ramp u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unt rate is 3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idence from randomized controlled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8841-39CD-41A7-94B3-8851ACB1CD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28600" y="1600200"/>
          <a:ext cx="8458200" cy="5027760"/>
        </p:xfrm>
        <a:graphic>
          <a:graphicData uri="http://schemas.openxmlformats.org/drawingml/2006/table">
            <a:tbl>
              <a:tblPr/>
              <a:tblGrid>
                <a:gridCol w="2666880"/>
                <a:gridCol w="1495440"/>
                <a:gridCol w="1433520"/>
                <a:gridCol w="1430280"/>
                <a:gridCol w="14320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(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(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(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(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Options (not all are show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ype of Insur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ca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ca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ca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ployer sponso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ge group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ults and childr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ldr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ldr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ldr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thma sever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istent asth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istent asth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istent asth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istent asth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 program c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39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39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1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1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cal costs includ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l paym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l paym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l paym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l paym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ductivity costs includ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eligible patients with asthma (nationwid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97 mill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50 thousa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50 thousa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mill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Resul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t Present Value (per participant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$1,55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$1,228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12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$6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0.1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0.3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1.2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0.8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eak Even Program C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56.0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126.7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126.7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86.97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1371600" y="457200"/>
            <a:ext cx="67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ults using default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546A3-4D59-4B95-B947-F236A4E513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ults using default dat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600200"/>
          <a:ext cx="8381880" cy="5005440"/>
        </p:xfrm>
        <a:graphic>
          <a:graphicData uri="http://schemas.openxmlformats.org/drawingml/2006/table">
            <a:tbl>
              <a:tblPr/>
              <a:tblGrid>
                <a:gridCol w="2643120"/>
                <a:gridCol w="1482840"/>
                <a:gridCol w="1419120"/>
                <a:gridCol w="141912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(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(6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(7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(8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Options (not all are show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ype of Insur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ployer sponso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ployer sponso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ployer sponso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ployer sponso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ge group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ldr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ldr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ul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dul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sthma sever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istent asthma with acute vis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istent asthma with acute visi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istent asth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istent asth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 program c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1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1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1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cal costs includ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l paym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 plan cos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 plan cos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ly plan cos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ductivity costs includ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eligible patients with asthma (nationwid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 thousa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 thousan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2 mill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2 mill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Resul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79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t Present Value (per participant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8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5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$812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2,2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2.8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2.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$0.77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5.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eak Even Program Co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279.5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222.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77.30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594.4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79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FDED-5B76-48A1-BC9D-B153CD9DE9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ow to use calculato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Forec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nancial 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Ass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mpact of key </a:t>
            </a: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assump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bout proposed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 alternative types of programs to assess tradeof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assumptions “reasonable” compared to other eviden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e “</a:t>
            </a: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cost hurd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needed to break-e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otiate with vend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e components of calculator in</a:t>
            </a: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 plann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 evaluation of an asthma care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3149-595E-4D5E-9A36-99543F1F52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Uses: How it helps with policy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90600" indent="-39060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Michigan Pediatric Asthma Coali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Funding decision for a county asthma progr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New York Department of Heal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Evaluation components for a housing improvement project that should reduce asthma symp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600" indent="-39060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Iowa Medicaid Medical Offic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Considering value of asthma care improvements for Medic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514600" y="5562720"/>
            <a:ext cx="990720" cy="925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52880" y="5638680"/>
            <a:ext cx="1219320" cy="774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86200" y="57913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CDF2-84B0-4D97-A0C9-567C365514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imitations and possible solutio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FD331-DF95-4DF0-8AA6-682B344B34F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vea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086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evidence for some compon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w studies (7) reporte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gram cost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de rang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erage = $395 dollars per patient per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 = $81 automated general educational mai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 = $989 program for highest cost pat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w studies (10) reported asthm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dication cos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i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out a control gro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port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rger increas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medication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seli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thma medication costs var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 does not plan updates at this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43800" y="2743200"/>
            <a:ext cx="1219320" cy="774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077320" y="5029200"/>
            <a:ext cx="757080" cy="762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848720" y="4267080"/>
            <a:ext cx="390240" cy="83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88D0-C74C-4A87-ADF8-DD89C418AF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63248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veats &amp; Solu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38862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erature continues to g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line data becomes obsole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estimates are for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1676520"/>
            <a:ext cx="4114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ions for us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 literature post April 2007 &amp; input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your own data to populate the calcul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late findings beyond 2006, using the CPI-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123E-D8E3-4377-8BC6-4277EE39AFB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1600200"/>
            <a:ext cx="7848360" cy="2971800"/>
          </a:xfrm>
          <a:prstGeom prst="wedgeRectCallout">
            <a:avLst>
              <a:gd name="adj1" fmla="val -6574"/>
              <a:gd name="adj2" fmla="val 89527"/>
            </a:avLst>
          </a:prstGeom>
          <a:solidFill>
            <a:srgbClr val="00279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scus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limitations, concer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he calculator could be made more usefu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 about interpretation of resul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114800" y="5181480"/>
            <a:ext cx="1676520" cy="135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2CD4-0858-49E5-AC53-BFAE13C1F10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ditional assistance: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9930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chnical Ass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gie Shofer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Marjorie.Shofer@ahrq.hhs.g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ior Program Analyst, Office of Communications and Knowledge Trans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 of calculator or questions about the tool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ease e-mail 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AHRQ_quality_tools@academyhealth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more information about AHRQ Quality Tool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  <a:hlinkClick r:id="rId4"/>
              </a:rPr>
              <a:t>www.academyhealth.org/ahrq/qualitytools/index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EA3E1-C6BC-4B28-A6F0-FDC8C4480C8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view of the Calculato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3F64-7F7A-44F8-9E7E-BD823F177E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urpo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help policy makers (States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program desig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asthma care quality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e </a:t>
            </a: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financial retur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ased on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summariz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large literature (52 stud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transl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tilization-based results into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ummarize impacts based on </a:t>
            </a: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user inter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391520" y="4572000"/>
            <a:ext cx="965160" cy="9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02F9-F029-4E27-B1A1-669E80D4B2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391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idence of utilization impact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data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nancial 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6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1320" y="1447920"/>
            <a:ext cx="990360" cy="925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1218960" cy="774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520" y="4419720"/>
            <a:ext cx="80769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60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thma care programs typically follow NAEPP (National Asthma Education and Prevention Program) guide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30320" indent="-33660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ient edu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30320" indent="-33660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r activ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60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590920" y="2133720"/>
            <a:ext cx="556920" cy="99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C4A9-9D4C-4225-A020-BADBC208B2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to use the calculator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Dat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0BF5-752E-4764-8995-B340D50972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needed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eligible asthma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line utilization and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 to implement the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088BE-A602-4DCC-8C9C-298889DDD1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1600200"/>
            <a:ext cx="8458200" cy="1676520"/>
          </a:xfrm>
          <a:prstGeom prst="rect">
            <a:avLst/>
          </a:prstGeom>
          <a:solidFill>
            <a:srgbClr val="00279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866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needed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igible asthma patien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690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ption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number eligible using own data (i.e. medical claim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calculator to estimate eligible pat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re detail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number eligible using own data (i.e. medical claim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fine criteria for eligible asthma patients. 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ients with at least one asthma diagnos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47640" indent="-45720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ients with persistent asth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935000" indent="-380880">
              <a:lnSpc>
                <a:spcPct val="80000"/>
              </a:lnSpc>
              <a:spcBef>
                <a:spcPts val="675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CQA HEDIS definition: 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fafd00"/>
                </a:solidFill>
                <a:uFillTx/>
                <a:latin typeface="Arial"/>
                <a:hlinkClick r:id="rId2"/>
              </a:rPr>
              <a:t>www.ncqa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935000" indent="-380880">
              <a:lnSpc>
                <a:spcPct val="80000"/>
              </a:lnSpc>
              <a:spcBef>
                <a:spcPts val="675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e Tables 8 and 10 in detailed re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04C8E-2180-4F0A-BB22-717DEF959D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8600" y="2133720"/>
            <a:ext cx="8001000" cy="1523880"/>
          </a:xfrm>
          <a:prstGeom prst="foldedCorner">
            <a:avLst>
              <a:gd name="adj" fmla="val 21569"/>
            </a:avLst>
          </a:prstGeom>
          <a:solidFill>
            <a:srgbClr val="00279f"/>
          </a:solidFill>
          <a:ln w="7632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238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ta needed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ligible asthma patient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calculator to estimate eligible asthma pat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ta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cent of enrollees in each age/gender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cent enrollees of each race/ethnic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 number of enrolle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0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thma seve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 of healt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vera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Medicaid or employer-sponso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calculator estimates eligible patie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thma prevalence rates come from MarketSca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edicaid or Commercial Claims 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112760" indent="-533160">
              <a:lnSpc>
                <a:spcPct val="7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valence rates are adjusted by all of the demographic and asthma severity information entered by user, based on evidence from MarketScan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505BB-7AF6-4F8E-BC3D-3C42213328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2:52:04Z</dcterms:created>
  <dc:creator>USER</dc:creator>
  <dc:description/>
  <dc:language>en-US</dc:language>
  <cp:lastModifiedBy>Amanda Folsom</cp:lastModifiedBy>
  <dcterms:modified xsi:type="dcterms:W3CDTF">2008-05-19T19:03:44Z</dcterms:modified>
  <cp:revision>117</cp:revision>
  <dc:subject/>
  <dc:title>Community Partnerships for Change</dc:title>
</cp:coreProperties>
</file>