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A076-4A45-48D4-BF0A-7D6488057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2CC8-3DF7-405A-8FA4-FF399DC10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3EA7-9281-41F8-993D-DAF2A066E7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FAA1-9CB9-4CA4-A666-F023CC8CCA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3594-2FFA-4B9D-8ACD-92A9AE0962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0156-E028-46D2-883B-DEF8BD0B4C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D903-85EB-486A-A233-B59ED8936C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D822-1431-4971-8B12-9481BB8683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F65B-2FBA-40AB-A163-D5595B8EB1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35C4-B714-4C0A-BBFE-53DDB8D617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96B6-0999-4813-9622-58FAECDFD0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29EE-E00C-46B3-9840-FADCB68F9D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D4E3-FBBF-4E79-B060-C416679A6E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CCB8-3C2D-4876-900F-3578173303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A649-3897-4257-9180-810DF37A11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C01F-BEE0-44F6-A55E-4B2782A4E9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18E9-A9B8-47F8-BFD4-4378D9C6EE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363C-EAB9-456F-9E5A-88EF84A45C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5FB1-08C8-45C1-BB45-503C98E6F1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0374-CB37-4EB6-91B1-3FB2391324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B9EC-CB87-40CB-9036-AC1B1092EA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77AC-D4D9-4F6B-99C3-34592CEAAA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9B9D-DACF-479B-AA92-9E3996FCF2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FA19-A55E-43F9-9F2D-9A8F84E313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8800-909C-4EEC-87BA-EB48FE39B8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4A4C-8521-4440-A8AA-EAA2983678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7C72-B43B-42DA-8655-6BF83E44E2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25BA-0F83-4F55-A769-146DA3750F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8AA7-32EF-40D1-AAFD-61311E1FEB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2A31-8426-4672-87DC-41ED963A42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3632-00C0-471D-A6C1-1F6193FBC3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FAA3-C9E2-4701-80D5-C5062C180E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FF26-164E-4F5F-8F36-29C5BB4F1D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54F8-4129-4112-9CE3-4CD69A813F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2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cost vs. quality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0961-735A-4FDE-B5ED-406480DD59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9789-51AE-4122-873C-69DF50814F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8737-D867-44D6-ABB4-73BC1B353B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6758-7C9E-489D-8808-613F3347F2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30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15720" y="4225680"/>
            <a:ext cx="628164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is is the general structure of all ROI calculators that are based on evidence from specific pr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is is a simple example that assumes ED visits is the only utiization that is affected by the program (not like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ll go into specific features of the calculator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0CA0-3163-42C3-B3A0-97F238B614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120B-356B-44AE-B328-4E2B2773D3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8ECE-0D46-4EA8-99D2-EACBAD4005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E8E8-3288-4D08-AE67-77960D4D23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5F8C-ED82-4523-A886-10C192E0F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3F319-C26D-415A-92E6-5DD4DA89C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B47E0-5197-4369-93D4-8259ACCD95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0A239-AF84-4A74-A519-8E73517CD4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97DC-99FE-4377-AF46-4FB95D2B9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27D7F-294E-4149-AD0C-0F1756AFCA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E44A-494F-4021-9D63-777F70B35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084A-40D1-4B45-8DA7-2C23DF1C7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10F7-4080-44B1-A6D5-C67EFA4DA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960B3-C355-4621-AE0C-1E986A956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F40D-B813-4710-B34B-DFAD6AA76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B60A-8FCD-41E4-9963-85CC100A9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7626-8A68-43D0-B75C-6E29B3969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5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mailto:Marjorie.Shofer@ahrq.hhs.gov" TargetMode="External"/><Relationship Id="rId2" Type="http://schemas.openxmlformats.org/officeDocument/2006/relationships/hyperlink" Target="http://statesnapshots.ahrq.gov/asthma/" TargetMode="External"/><Relationship Id="rId3" Type="http://schemas.openxmlformats.org/officeDocument/2006/relationships/hyperlink" Target="http://statesnapshots.ahrq.gov/asthma/" TargetMode="External"/><Relationship Id="rId4" Type="http://schemas.openxmlformats.org/officeDocument/2006/relationships/hyperlink" Target="http://statesnapshots.ahrq.gov/asthma/" TargetMode="External"/><Relationship Id="rId5" Type="http://schemas.openxmlformats.org/officeDocument/2006/relationships/hyperlink" Target="mailto:quality_tools@ahrq.hhs.gov" TargetMode="External"/><Relationship Id="rId6" Type="http://schemas.openxmlformats.org/officeDocument/2006/relationships/hyperlink" Target="http://www.ahrq.gov/qual/kt/" TargetMode="External"/><Relationship Id="rId7" Type="http://schemas.openxmlformats.org/officeDocument/2006/relationships/hyperlink" Target="http://www.ahrq.gov/qual/kt/" TargetMode="External"/><Relationship Id="rId8" Type="http://schemas.openxmlformats.org/officeDocument/2006/relationships/hyperlink" Target="http://www.ahrq.gov/qual/kt/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3200"/>
            <a:ext cx="9144000" cy="110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Asthma Car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turn-on-Investment Calculator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verview and Demonstr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4280" y="4100040"/>
            <a:ext cx="6615360" cy="206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osanna Coffey, Ph.D.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inger Carls, M.S.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lizabeth Stranges, M.S.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ptember 9,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*Thomson Reuters (formerly Thomson Medstat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090E-B17C-44B3-B4A5-065A8462ED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43120" y="304920"/>
            <a:ext cx="7302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plications: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It Helps With Polic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60040" y="1600200"/>
            <a:ext cx="7537320" cy="447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chigan Pediatric Asthma Coali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Used to make a funding decision for a county asthma progr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w York Department of Heal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Used to consider evaluation components for a housing improvement project aimed to reduce asthma sympto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ssachusetts Asthma Prevention and Control Progra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Used to consider ROI for environmental approaches to asthma prevention and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abama Medicaid Agenc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Using to plan and justify a pilot asthma care improvement program for Medicaid recipi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CB65-A892-45ED-8576-3017866C58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5204-163C-444E-9DB8-275C58960E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422440" y="2960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685800" y="2324160"/>
            <a:ext cx="7696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formation Behind Calcula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84BC-10D5-4A62-9A95-19146A1FAD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B895-72DB-4FE0-8A23-1A7BCEE174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612200" cy="83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s: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Literature Review Inclusion Criteri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1600200"/>
          <a:ext cx="8534160" cy="4419720"/>
        </p:xfrm>
        <a:graphic>
          <a:graphicData uri="http://schemas.openxmlformats.org/drawingml/2006/table">
            <a:tbl>
              <a:tblPr/>
              <a:tblGrid>
                <a:gridCol w="1885680"/>
                <a:gridCol w="3397320"/>
                <a:gridCol w="3251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79f"/>
                          </a:solidFill>
                          <a:latin typeface="Arial"/>
                          <a:ea typeface="Times New Roman"/>
                        </a:rPr>
                        <a:t>Inclu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79f"/>
                          </a:solidFill>
                          <a:latin typeface="Arial"/>
                          <a:ea typeface="Times New Roman"/>
                        </a:rPr>
                        <a:t>Exclud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279f"/>
                      </a:solidFill>
                    </a:lnL>
                    <a:lnR w="5760">
                      <a:solidFill>
                        <a:srgbClr val="00279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00279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ildren, adults under 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ults 65 and ov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279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t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ited Sta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on-U.S. sett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erven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lf-management of asthma or physician 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linical trials comparing medications, summer cam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ype of stu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dividual interven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a-analysis, editoria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63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imeframe of out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udies of long-term effects of intervention (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6 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udies of short-term effects of intervention (&lt; 6 month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Year publish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95-2007 (Marc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efore ‘95; after March ‘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138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utcom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ospitalization, outpatient visit, ED visit, total costs, cost of medications, cost of ancillary services, or productivity losses (missed work or school day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7920" indent="-79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tudies with no utilization outcomes (e.g., only changes in quality of life, knowledge of asthma, etc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BD0F-9377-479B-B074-B0EC07B7E0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AB16-4EE2-43CA-A631-CAFA523C90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210520" cy="83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s:  Evidence Built Into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lculator (52 Unique Studies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1447920"/>
          <a:ext cx="8610480" cy="4103640"/>
        </p:xfrm>
        <a:graphic>
          <a:graphicData uri="http://schemas.openxmlformats.org/drawingml/2006/table">
            <a:tbl>
              <a:tblPr/>
              <a:tblGrid>
                <a:gridCol w="1722240"/>
                <a:gridCol w="789120"/>
                <a:gridCol w="873000"/>
                <a:gridCol w="849240"/>
                <a:gridCol w="932040"/>
                <a:gridCol w="790560"/>
                <a:gridCol w="931680"/>
                <a:gridCol w="789120"/>
                <a:gridCol w="933480"/>
              </a:tblGrid>
              <a:tr h="34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Age groups includ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Children on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Adults On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Both Children and Adul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f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f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Patie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f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ud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D Vis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2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8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,7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spitaliza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,5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1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5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,2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tpatient Vis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,2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9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8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,1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ssed Work/ School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1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1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tion 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5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,3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llary Service 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</a:tbl>
          </a:graphicData>
        </a:graphic>
      </p:graphicFrame>
      <p:sp>
        <p:nvSpPr>
          <p:cNvPr id="161" name="Text Box 97"/>
          <p:cNvSpPr/>
          <p:nvPr/>
        </p:nvSpPr>
        <p:spPr>
          <a:xfrm>
            <a:off x="380880" y="579132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</a:rPr>
              <a:t>Notes: Total studies can be less than sum of row because some studies reported results for both adults and children.  Patients include both treatment and control group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559B-4AD5-425C-B535-2F1F3C7C88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85F0-1532-4F75-9BE1-B61B0DCADE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s: Meta-Analysi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4536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bservation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ach study outcome (child/adult, hospital/etc.)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pendent variabl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rcent change in mea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lanatory variables/indicator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 of measure (e.g., hospital,  ED, productiv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 group (children, adults, bo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ther most patients in the study were Medicaid/SCHI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patients’ asthma severity (persistent, intermittent, or 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design used (randomized, all controlled, uncontroll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intervention primarily focused on physicians (not patien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ther outcome measured after 2 yea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 size and sample size squ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gressions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eighted linear, clustered 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mpac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rcent change predicted from coeffic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745E-2681-4EDD-8E1A-DF9342A6CC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078C-540F-497F-AF3D-E1F7894919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816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s: Meta-Analysis Observat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umber of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6 studies met inclusion crite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2 of them had usable find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umber of fin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3 findings for emergency department vis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 findings for hospital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7 findings for outpatient vis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 findings for pro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 findings for medication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findings for cost of ancillary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 findings for total medical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findings for total indirect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AD93-1672-4476-B6AC-7838A7199A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D4E3-7B55-4E8D-B7E8-7E93DC8900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816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thod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aseline Costs &amp; Utiliz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40680" cy="435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 includes baseline estimates for costs and utilization specific to the population selected (national or State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loyer-sponsored health insurance (privately insur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government employees &amp; depe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ion lists these and other sources used in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9CCC-F494-424B-BF62-F1CA2B0E5A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8989-6B32-4BCE-B2FC-03D41C7492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2422440" y="2960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685800" y="2895480"/>
            <a:ext cx="76960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avea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411F-FE45-4804-866C-EABD460C65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A75A-D175-4A19-9BB1-7ADDB51B9B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evidence for some compon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w studies (7) reporte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gram cost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de r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erage = $395 dollars per patient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. = $81 automated general educational mai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. = $989 program for highest cost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w studies (10) reported asthm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dication cos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i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out a control gro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port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r increa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medication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l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thma medication costs var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 does not plan updates at this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MCBD04896_0000[1]"/>
          <p:cNvPicPr/>
          <p:nvPr/>
        </p:nvPicPr>
        <p:blipFill>
          <a:blip r:embed="rId1"/>
          <a:stretch/>
        </p:blipFill>
        <p:spPr>
          <a:xfrm>
            <a:off x="7696080" y="2057400"/>
            <a:ext cx="1219320" cy="774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MCj03980550000[1]"/>
          <p:cNvPicPr/>
          <p:nvPr/>
        </p:nvPicPr>
        <p:blipFill>
          <a:blip r:embed="rId2"/>
          <a:stretch/>
        </p:blipFill>
        <p:spPr>
          <a:xfrm>
            <a:off x="4191120" y="5562720"/>
            <a:ext cx="757080" cy="761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MCj02933160000[1]"/>
          <p:cNvPicPr/>
          <p:nvPr/>
        </p:nvPicPr>
        <p:blipFill>
          <a:blip r:embed="rId3"/>
          <a:stretch/>
        </p:blipFill>
        <p:spPr>
          <a:xfrm>
            <a:off x="3200400" y="5638680"/>
            <a:ext cx="390600" cy="83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3445-C257-4976-B7D6-2F20A08B36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5460-7D2C-40BB-BEBE-15D2F893C4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3248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veats &amp; Solution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erature continues to g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line data become obsole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predates current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572000" y="1676520"/>
            <a:ext cx="4114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s for us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 literature post April 2007 &amp; input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your own data to populate the calcu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te estimates using inflation factors described in append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DDD4-7285-46E5-9294-51E2E08D65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088480" cy="470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view of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ys to use the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behind the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ve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stion and Ans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ator steps with default data 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s with default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ights from Alabama Medic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stion and Ans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B743-53B3-46B0-B5B6-2F4D8A515D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496BF-A7B1-4342-AF06-B90B46D795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5920" y="2022480"/>
            <a:ext cx="780408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ask verbal questions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se press *1 on your phone to be placed in the queue for question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ask electronic question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ype your question into the Q&amp;A box on the right-hand side of your scr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95440" y="654120"/>
            <a:ext cx="6981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A995-14A7-4DD8-B4CD-F9F8C38DB3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09120" y="2785680"/>
            <a:ext cx="7993080" cy="17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8C5C-2701-42A0-86B7-7715C2289C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9725-9D1D-4383-8255-9AFB570EA4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5FF9-DDDA-4E0F-9F1E-1411BE01A8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monstration Outlin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73320" y="1676520"/>
            <a:ext cx="6788160" cy="254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366920" indent="-11383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or steps with default data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366920" indent="-11383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with defaul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130F-9ABA-4375-8C4C-91B85DE0F2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9840" y="533160"/>
            <a:ext cx="6705720" cy="66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verview of Calculator Step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1"/>
          <a:srcRect l="0" t="4606" r="80102" b="38158"/>
          <a:stretch/>
        </p:blipFill>
        <p:spPr>
          <a:xfrm>
            <a:off x="368280" y="1384200"/>
            <a:ext cx="2536920" cy="5473800"/>
          </a:xfrm>
          <a:prstGeom prst="rect">
            <a:avLst/>
          </a:prstGeom>
          <a:ln w="0">
            <a:noFill/>
          </a:ln>
        </p:spPr>
      </p:pic>
      <p:sp>
        <p:nvSpPr>
          <p:cNvPr id="193" name="Oval 7"/>
          <p:cNvSpPr/>
          <p:nvPr/>
        </p:nvSpPr>
        <p:spPr>
          <a:xfrm>
            <a:off x="6832440" y="3327480"/>
            <a:ext cx="2141640" cy="904680"/>
          </a:xfrm>
          <a:prstGeom prst="ellips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User choices about asthma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581280" y="3479760"/>
            <a:ext cx="22100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fault or us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9"/>
          <p:cNvSpPr/>
          <p:nvPr/>
        </p:nvSpPr>
        <p:spPr>
          <a:xfrm rot="16200000">
            <a:off x="5979240" y="3299400"/>
            <a:ext cx="614520" cy="888840"/>
          </a:xfrm>
          <a:prstGeom prst="upArrow">
            <a:avLst>
              <a:gd name="adj1" fmla="val 50000"/>
              <a:gd name="adj2" fmla="val 2499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3594240" y="4305240"/>
            <a:ext cx="173484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eta-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Straight Arrow Connector 8"/>
          <p:cNvCxnSpPr>
            <a:stCxn id="194" idx="1"/>
          </p:cNvCxnSpPr>
          <p:nvPr/>
        </p:nvCxnSpPr>
        <p:spPr>
          <a:xfrm flipH="1" flipV="1">
            <a:off x="1447560" y="3631680"/>
            <a:ext cx="2134080" cy="15336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lg" type="triangle" w="lg"/>
          </a:ln>
        </p:spPr>
      </p:cxnSp>
      <p:cxnSp>
        <p:nvCxnSpPr>
          <p:cNvPr id="198" name="Straight Arrow Connector 9"/>
          <p:cNvCxnSpPr>
            <a:stCxn id="194" idx="1"/>
          </p:cNvCxnSpPr>
          <p:nvPr/>
        </p:nvCxnSpPr>
        <p:spPr>
          <a:xfrm flipH="1">
            <a:off x="1485720" y="3784680"/>
            <a:ext cx="2095920" cy="10224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lg" type="triangle" w="lg"/>
          </a:ln>
        </p:spPr>
      </p:cxnSp>
      <p:cxnSp>
        <p:nvCxnSpPr>
          <p:cNvPr id="199" name="Straight Arrow Connector 10"/>
          <p:cNvCxnSpPr>
            <a:stCxn id="194" idx="1"/>
          </p:cNvCxnSpPr>
          <p:nvPr/>
        </p:nvCxnSpPr>
        <p:spPr>
          <a:xfrm flipH="1">
            <a:off x="1345680" y="3784680"/>
            <a:ext cx="2235600" cy="381600"/>
          </a:xfrm>
          <a:prstGeom prst="straightConnector1">
            <a:avLst/>
          </a:prstGeom>
          <a:ln w="38160">
            <a:solidFill>
              <a:srgbClr val="00279f"/>
            </a:solidFill>
            <a:miter/>
            <a:tailEnd len="lg" type="triangle" w="lg"/>
          </a:ln>
        </p:spPr>
      </p:cxnSp>
      <p:cxnSp>
        <p:nvCxnSpPr>
          <p:cNvPr id="200" name="Straight Arrow Connector 16"/>
          <p:cNvCxnSpPr>
            <a:stCxn id="194" idx="1"/>
          </p:cNvCxnSpPr>
          <p:nvPr/>
        </p:nvCxnSpPr>
        <p:spPr>
          <a:xfrm flipH="1">
            <a:off x="1739160" y="3784680"/>
            <a:ext cx="1842120" cy="673920"/>
          </a:xfrm>
          <a:prstGeom prst="straightConnector1">
            <a:avLst/>
          </a:prstGeom>
          <a:ln w="38160">
            <a:solidFill>
              <a:srgbClr val="00279f"/>
            </a:solidFill>
            <a:prstDash val="sysDash"/>
            <a:miter/>
            <a:tailEnd len="lg" type="triangle" w="lg"/>
          </a:ln>
        </p:spPr>
      </p:cxnSp>
      <p:cxnSp>
        <p:nvCxnSpPr>
          <p:cNvPr id="201" name="Straight Arrow Connector 19"/>
          <p:cNvCxnSpPr>
            <a:stCxn id="194" idx="1"/>
          </p:cNvCxnSpPr>
          <p:nvPr/>
        </p:nvCxnSpPr>
        <p:spPr>
          <a:xfrm flipH="1">
            <a:off x="1802520" y="3783600"/>
            <a:ext cx="1778760" cy="927720"/>
          </a:xfrm>
          <a:prstGeom prst="straightConnector1">
            <a:avLst/>
          </a:prstGeom>
          <a:ln w="38160">
            <a:solidFill>
              <a:srgbClr val="00279f"/>
            </a:solidFill>
            <a:prstDash val="sysDash"/>
            <a:miter/>
            <a:tailEnd len="lg" type="triangle" w="lg"/>
          </a:ln>
        </p:spPr>
      </p:cxnSp>
      <p:cxnSp>
        <p:nvCxnSpPr>
          <p:cNvPr id="202" name="Straight Arrow Connector 22"/>
          <p:cNvCxnSpPr>
            <a:stCxn id="196" idx="1"/>
          </p:cNvCxnSpPr>
          <p:nvPr/>
        </p:nvCxnSpPr>
        <p:spPr>
          <a:xfrm flipH="1">
            <a:off x="2222280" y="4610160"/>
            <a:ext cx="1372320" cy="64080"/>
          </a:xfrm>
          <a:prstGeom prst="straightConnector1">
            <a:avLst/>
          </a:prstGeom>
          <a:ln w="38160">
            <a:solidFill>
              <a:srgbClr val="00279f"/>
            </a:solidFill>
            <a:prstDash val="sysDash"/>
            <a:miter/>
            <a:tailEnd len="lg" type="triangle" w="lg"/>
          </a:ln>
        </p:spPr>
      </p:cxnSp>
      <p:cxnSp>
        <p:nvCxnSpPr>
          <p:cNvPr id="203" name="Straight Arrow Connector 25"/>
          <p:cNvCxnSpPr>
            <a:stCxn id="196" idx="1"/>
          </p:cNvCxnSpPr>
          <p:nvPr/>
        </p:nvCxnSpPr>
        <p:spPr>
          <a:xfrm flipH="1" flipV="1">
            <a:off x="1968120" y="4419000"/>
            <a:ext cx="1626480" cy="191160"/>
          </a:xfrm>
          <a:prstGeom prst="straightConnector1">
            <a:avLst/>
          </a:prstGeom>
          <a:ln w="38160">
            <a:solidFill>
              <a:srgbClr val="00279f"/>
            </a:solidFill>
            <a:prstDash val="sysDash"/>
            <a:miter/>
            <a:tailEnd len="lg" type="triangle" w="lg"/>
          </a:ln>
        </p:spPr>
      </p:cxnSp>
      <p:sp>
        <p:nvSpPr>
          <p:cNvPr id="2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395F-58D3-44E9-98DB-06ADA9C222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428E0-494A-4BBE-A730-142DA1119D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F0DD-0569-41F0-A20D-8A33FE1345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fine Key Program Features:  REQUIRED INFORM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1"/>
          <a:srcRect l="18914" t="10459" r="1975" b="0"/>
          <a:stretch/>
        </p:blipFill>
        <p:spPr>
          <a:xfrm>
            <a:off x="2755800" y="1434960"/>
            <a:ext cx="5742000" cy="4873680"/>
          </a:xfrm>
          <a:prstGeom prst="rect">
            <a:avLst/>
          </a:prstGeom>
          <a:ln w="0">
            <a:noFill/>
          </a:ln>
        </p:spPr>
      </p:pic>
      <p:sp>
        <p:nvSpPr>
          <p:cNvPr id="208" name="Oval 9"/>
          <p:cNvSpPr/>
          <p:nvPr/>
        </p:nvSpPr>
        <p:spPr>
          <a:xfrm>
            <a:off x="2844720" y="2590920"/>
            <a:ext cx="2362320" cy="38088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2717640" y="4546440"/>
            <a:ext cx="4572000" cy="38124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2857680" y="5232240"/>
            <a:ext cx="2133360" cy="38124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2"/>
          <a:srcRect l="0" t="4606" r="80102" b="38158"/>
          <a:stretch/>
        </p:blipFill>
        <p:spPr>
          <a:xfrm>
            <a:off x="0" y="1419120"/>
            <a:ext cx="2413080" cy="5207040"/>
          </a:xfrm>
          <a:prstGeom prst="rect">
            <a:avLst/>
          </a:prstGeom>
          <a:ln w="0">
            <a:noFill/>
          </a:ln>
        </p:spPr>
      </p:pic>
      <p:sp>
        <p:nvSpPr>
          <p:cNvPr id="212" name="Right Arrow 15"/>
          <p:cNvSpPr/>
          <p:nvPr/>
        </p:nvSpPr>
        <p:spPr>
          <a:xfrm rot="10800000">
            <a:off x="1752480" y="2806560"/>
            <a:ext cx="711360" cy="177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B49F7-F984-48AD-84FF-7029C534A8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1B4A-0A4A-446F-999D-B6ECAC47EA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 POPUL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223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16" name="Right Arrow 10"/>
          <p:cNvSpPr/>
          <p:nvPr/>
        </p:nvSpPr>
        <p:spPr>
          <a:xfrm rot="10800000">
            <a:off x="927000" y="3327480"/>
            <a:ext cx="711360" cy="177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2"/>
          <a:srcRect l="19908" t="17900" r="1969" b="14663"/>
          <a:stretch/>
        </p:blipFill>
        <p:spPr>
          <a:xfrm>
            <a:off x="2179800" y="1436760"/>
            <a:ext cx="6964200" cy="450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4CD00-36A1-499D-868B-EEBF984A20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6553080" y="6373800"/>
            <a:ext cx="2133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 POPULATION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223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21" name="Right Arrow 10"/>
          <p:cNvSpPr/>
          <p:nvPr/>
        </p:nvSpPr>
        <p:spPr>
          <a:xfrm rot="10800000">
            <a:off x="927000" y="3327480"/>
            <a:ext cx="711360" cy="177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rcRect l="19908" t="17900" r="1969" b="14663"/>
          <a:stretch/>
        </p:blipFill>
        <p:spPr>
          <a:xfrm>
            <a:off x="2179800" y="1436760"/>
            <a:ext cx="6964200" cy="45082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211"/>
          <p:cNvSpPr/>
          <p:nvPr/>
        </p:nvSpPr>
        <p:spPr>
          <a:xfrm>
            <a:off x="3357720" y="4056120"/>
            <a:ext cx="5786280" cy="2070000"/>
          </a:xfrm>
          <a:prstGeom prst="rect">
            <a:avLst/>
          </a:prstGeom>
          <a:solidFill>
            <a:srgbClr val="00279f"/>
          </a:solidFill>
          <a:ln w="381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ault data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Medicare &amp; Medicaid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Population Survey, Annual Social and Economic Supp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reau of Labor Statistics Quarterly Census of Employment and W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8982-5930-4A44-A981-DC158D8F2F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1B6D-079F-4A52-BAFE-C13768CEDE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480" y="228600"/>
            <a:ext cx="74293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ARTICIPAN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223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27" name="Right Arrow 10"/>
          <p:cNvSpPr/>
          <p:nvPr/>
        </p:nvSpPr>
        <p:spPr>
          <a:xfrm rot="10800000">
            <a:off x="1028520" y="3543120"/>
            <a:ext cx="711000" cy="177480"/>
          </a:xfrm>
          <a:prstGeom prst="rightArrow">
            <a:avLst>
              <a:gd name="adj1" fmla="val 50000"/>
              <a:gd name="adj2" fmla="val 50076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2"/>
          <a:srcRect l="19560" t="4939" r="1621" b="13736"/>
          <a:stretch/>
        </p:blipFill>
        <p:spPr>
          <a:xfrm>
            <a:off x="2187720" y="1414440"/>
            <a:ext cx="6181560" cy="478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ECA5-2466-403A-8475-084A7D26F5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979B-3351-4F39-912C-EB954444AF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36480" y="228600"/>
            <a:ext cx="74293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ARTICIPAN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223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32" name="Right Arrow 10"/>
          <p:cNvSpPr/>
          <p:nvPr/>
        </p:nvSpPr>
        <p:spPr>
          <a:xfrm rot="10800000">
            <a:off x="1028520" y="3543120"/>
            <a:ext cx="711000" cy="177480"/>
          </a:xfrm>
          <a:prstGeom prst="rightArrow">
            <a:avLst>
              <a:gd name="adj1" fmla="val 50000"/>
              <a:gd name="adj2" fmla="val 50076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2"/>
          <a:srcRect l="19560" t="4939" r="1621" b="13736"/>
          <a:stretch/>
        </p:blipFill>
        <p:spPr>
          <a:xfrm>
            <a:off x="2197080" y="1433520"/>
            <a:ext cx="6281640" cy="4861080"/>
          </a:xfrm>
          <a:prstGeom prst="rect">
            <a:avLst/>
          </a:prstGeom>
          <a:ln w="0">
            <a:noFill/>
          </a:ln>
        </p:spPr>
      </p:pic>
      <p:pic>
        <p:nvPicPr>
          <p:cNvPr id="234" name="Rectangle 211" descr=""/>
          <p:cNvPicPr/>
          <p:nvPr/>
        </p:nvPicPr>
        <p:blipFill>
          <a:blip r:embed="rId3"/>
          <a:stretch/>
        </p:blipFill>
        <p:spPr>
          <a:xfrm>
            <a:off x="4400640" y="1874880"/>
            <a:ext cx="417024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3CB5-B993-437A-9338-C5B9333A4BC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FAB4-7808-4005-9001-46B07F6ABD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BASELINE DAT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09760"/>
            <a:ext cx="2247840" cy="4775040"/>
          </a:xfrm>
          <a:prstGeom prst="rect">
            <a:avLst/>
          </a:prstGeom>
          <a:ln w="0">
            <a:noFill/>
          </a:ln>
        </p:spPr>
      </p:pic>
      <p:sp>
        <p:nvSpPr>
          <p:cNvPr id="238" name="Right Arrow 10"/>
          <p:cNvSpPr/>
          <p:nvPr/>
        </p:nvSpPr>
        <p:spPr>
          <a:xfrm rot="10800000">
            <a:off x="774720" y="3771720"/>
            <a:ext cx="711360" cy="17748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2"/>
          <a:srcRect l="20256" t="20061" r="1621" b="25000"/>
          <a:stretch/>
        </p:blipFill>
        <p:spPr>
          <a:xfrm>
            <a:off x="2184480" y="1409760"/>
            <a:ext cx="6959520" cy="367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08ADB-F07F-4605-8DC0-08AA783AD2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ll Ques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7080" y="1923840"/>
            <a:ext cx="804204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ve you ever used or reviewed the Asthma ROI Calcul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ort poll will appear on your screen.  Please take a few seconds to answer the poll and provide valuable feedbac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3FC3-C1CB-48A2-8D3B-764F94C4C3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87F2-CBAD-415A-82F1-5C63FF676D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BASELINE DAT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09760"/>
            <a:ext cx="2247840" cy="4775040"/>
          </a:xfrm>
          <a:prstGeom prst="rect">
            <a:avLst/>
          </a:prstGeom>
          <a:ln w="0">
            <a:noFill/>
          </a:ln>
        </p:spPr>
      </p:pic>
      <p:sp>
        <p:nvSpPr>
          <p:cNvPr id="243" name="Right Arrow 10"/>
          <p:cNvSpPr/>
          <p:nvPr/>
        </p:nvSpPr>
        <p:spPr>
          <a:xfrm rot="10800000">
            <a:off x="774720" y="3771720"/>
            <a:ext cx="711360" cy="17748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2"/>
          <a:srcRect l="20256" t="20061" r="1621" b="25000"/>
          <a:stretch/>
        </p:blipFill>
        <p:spPr>
          <a:xfrm>
            <a:off x="2184480" y="1409760"/>
            <a:ext cx="6959520" cy="36702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211"/>
          <p:cNvSpPr/>
          <p:nvPr/>
        </p:nvSpPr>
        <p:spPr>
          <a:xfrm>
            <a:off x="2425680" y="2097000"/>
            <a:ext cx="6718320" cy="4159440"/>
          </a:xfrm>
          <a:prstGeom prst="rect">
            <a:avLst/>
          </a:prstGeom>
          <a:solidFill>
            <a:srgbClr val="00279f"/>
          </a:solidFill>
          <a:ln w="381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spcBef>
                <a:spcPts val="150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Default data sour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rketScan Claims Database (200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dicaid  (8 geographically dispersed Sta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loyer-sponsored health insurance (over 100 large self-insured employers, 15 million lives, geographically balanc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ational Health Interview Survey (200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2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missed work or school days due to asth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reau of Labor Statistics (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2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erage wage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224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deral poverty line (for value of missed work day for Medicaid recipi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14658-3519-42A3-B7C9-87F2DDAF9BF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616C-86F4-457F-8D78-1EA30AFF36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47840" y="3938400"/>
            <a:ext cx="7992720" cy="233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vice for calculating data fiel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de what use &amp; cost components to in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okay to combine use &amp; cost from different 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make sure measures are calculated the same way for the same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409680" y="1714680"/>
            <a:ext cx="7993080" cy="1838160"/>
          </a:xfrm>
          <a:prstGeom prst="rect">
            <a:avLst/>
          </a:prstGeom>
          <a:solidFill>
            <a:srgbClr val="00279f"/>
          </a:solidFill>
          <a:ln w="381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ther potential data sour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, local, or plan-level claim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surveys of number of missed school/work days due to 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BASELIN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D5A3-006E-465B-8134-A24A488F12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934F-CBE8-490E-BAAB-EF65E05628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70689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ROGRAM IMPAC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09760"/>
            <a:ext cx="2247840" cy="4775040"/>
          </a:xfrm>
          <a:prstGeom prst="rect">
            <a:avLst/>
          </a:prstGeom>
          <a:ln w="0">
            <a:noFill/>
          </a:ln>
        </p:spPr>
      </p:pic>
      <p:sp>
        <p:nvSpPr>
          <p:cNvPr id="253" name="Right Arrow 10"/>
          <p:cNvSpPr/>
          <p:nvPr/>
        </p:nvSpPr>
        <p:spPr>
          <a:xfrm rot="10800000">
            <a:off x="1244520" y="3975120"/>
            <a:ext cx="711360" cy="177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2"/>
          <a:srcRect l="19446" t="19755" r="1736" b="20219"/>
          <a:stretch/>
        </p:blipFill>
        <p:spPr>
          <a:xfrm>
            <a:off x="2117880" y="1409760"/>
            <a:ext cx="7026120" cy="40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F39F-5801-408F-AFE3-CE7F44EF81E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BF0E-A2C0-4B83-802D-CA48DC7C46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480" y="228600"/>
            <a:ext cx="7011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ROGRAM IMPAC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09760"/>
            <a:ext cx="2247840" cy="4775040"/>
          </a:xfrm>
          <a:prstGeom prst="rect">
            <a:avLst/>
          </a:prstGeom>
          <a:ln w="0">
            <a:noFill/>
          </a:ln>
        </p:spPr>
      </p:pic>
      <p:sp>
        <p:nvSpPr>
          <p:cNvPr id="258" name="Right Arrow 10"/>
          <p:cNvSpPr/>
          <p:nvPr/>
        </p:nvSpPr>
        <p:spPr>
          <a:xfrm rot="10800000">
            <a:off x="1244520" y="3975120"/>
            <a:ext cx="711360" cy="177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2"/>
          <a:srcRect l="19446" t="19755" r="1736" b="20219"/>
          <a:stretch/>
        </p:blipFill>
        <p:spPr>
          <a:xfrm>
            <a:off x="2117880" y="1409760"/>
            <a:ext cx="7026120" cy="4013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5151600" y="5099040"/>
            <a:ext cx="3992400" cy="1130400"/>
          </a:xfrm>
          <a:prstGeom prst="rect">
            <a:avLst/>
          </a:prstGeom>
          <a:solidFill>
            <a:srgbClr val="00279f"/>
          </a:solidFill>
          <a:ln w="381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ata sour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-analysis of liter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5ACE-2A8F-4BA0-85EF-E77501E9823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8925-6A8B-4F02-B180-7706DDE6E4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51120" y="27144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ROGRAM COS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349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64" name="Right Arrow 10"/>
          <p:cNvSpPr/>
          <p:nvPr/>
        </p:nvSpPr>
        <p:spPr>
          <a:xfrm rot="10800000">
            <a:off x="1079280" y="4241880"/>
            <a:ext cx="711000" cy="177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2"/>
          <a:srcRect l="20256" t="25617" r="2198" b="16667"/>
          <a:stretch/>
        </p:blipFill>
        <p:spPr>
          <a:xfrm>
            <a:off x="2197080" y="1444680"/>
            <a:ext cx="6946920" cy="387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300E-8022-47E2-B5D3-76022C36318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E507-F91C-430C-BCC5-B4FF64B78A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3684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iew/Edit Program Features/Data: PROGRAM COS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8" name="Picture 3" descr=""/>
          <p:cNvPicPr/>
          <p:nvPr/>
        </p:nvPicPr>
        <p:blipFill>
          <a:blip r:embed="rId1"/>
          <a:srcRect l="0" t="25311" r="79518" b="16667"/>
          <a:stretch/>
        </p:blipFill>
        <p:spPr>
          <a:xfrm>
            <a:off x="0" y="14349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69" name="Right Arrow 10"/>
          <p:cNvSpPr/>
          <p:nvPr/>
        </p:nvSpPr>
        <p:spPr>
          <a:xfrm rot="10800000">
            <a:off x="1079280" y="4241880"/>
            <a:ext cx="711000" cy="177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2"/>
          <a:srcRect l="20256" t="25617" r="2198" b="16667"/>
          <a:stretch/>
        </p:blipFill>
        <p:spPr>
          <a:xfrm>
            <a:off x="2197080" y="1444680"/>
            <a:ext cx="6946920" cy="38782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211"/>
          <p:cNvSpPr/>
          <p:nvPr/>
        </p:nvSpPr>
        <p:spPr>
          <a:xfrm>
            <a:off x="3309840" y="4419720"/>
            <a:ext cx="5834160" cy="1827000"/>
          </a:xfrm>
          <a:prstGeom prst="rect">
            <a:avLst/>
          </a:prstGeom>
          <a:solidFill>
            <a:srgbClr val="00279f"/>
          </a:solidFill>
          <a:ln w="381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spcBef>
                <a:spcPts val="150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See User’s Guide for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to include in your estimates of annual cost per particip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to choose a discount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8D25-5050-474C-82AC-E3F2DBCD023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7B6B-D91A-4F01-9CC7-B2900D6427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monstration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8998-D522-4A44-AAED-880B22CDBC1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88"/>
          <p:cNvSpPr/>
          <p:nvPr/>
        </p:nvSpPr>
        <p:spPr>
          <a:xfrm>
            <a:off x="1371600" y="609480"/>
            <a:ext cx="67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90" descr=""/>
          <p:cNvPicPr/>
          <p:nvPr/>
        </p:nvPicPr>
        <p:blipFill>
          <a:blip r:embed="rId1"/>
          <a:srcRect l="59116" t="4820" r="808" b="24674"/>
          <a:stretch/>
        </p:blipFill>
        <p:spPr>
          <a:xfrm>
            <a:off x="2192400" y="1438200"/>
            <a:ext cx="6783480" cy="4773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"/>
          <p:cNvPicPr/>
          <p:nvPr/>
        </p:nvPicPr>
        <p:blipFill>
          <a:blip r:embed="rId2"/>
          <a:srcRect l="0" t="25311" r="79518" b="16667"/>
          <a:stretch/>
        </p:blipFill>
        <p:spPr>
          <a:xfrm>
            <a:off x="0" y="1434960"/>
            <a:ext cx="2247840" cy="4775400"/>
          </a:xfrm>
          <a:prstGeom prst="rect">
            <a:avLst/>
          </a:prstGeom>
          <a:ln w="0">
            <a:noFill/>
          </a:ln>
        </p:spPr>
      </p:pic>
      <p:sp>
        <p:nvSpPr>
          <p:cNvPr id="277" name="Right Arrow 7"/>
          <p:cNvSpPr/>
          <p:nvPr/>
        </p:nvSpPr>
        <p:spPr>
          <a:xfrm rot="10800000">
            <a:off x="790560" y="4694040"/>
            <a:ext cx="711360" cy="17748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ff33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B41C-7AD8-4599-9C5B-8E83E469A7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88"/>
          <p:cNvSpPr/>
          <p:nvPr/>
        </p:nvSpPr>
        <p:spPr>
          <a:xfrm>
            <a:off x="1371600" y="609480"/>
            <a:ext cx="67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173160" y="1468440"/>
            <a:ext cx="8100720" cy="526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9936-AE7B-4C8E-80A8-842120E003E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E575-C4CA-4387-82F1-4D40799144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88"/>
          <p:cNvSpPr/>
          <p:nvPr/>
        </p:nvSpPr>
        <p:spPr>
          <a:xfrm>
            <a:off x="1371600" y="609480"/>
            <a:ext cx="67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1" descr=""/>
          <p:cNvPicPr/>
          <p:nvPr/>
        </p:nvPicPr>
        <p:blipFill>
          <a:blip r:embed="rId1"/>
          <a:stretch/>
        </p:blipFill>
        <p:spPr>
          <a:xfrm>
            <a:off x="431640" y="1576440"/>
            <a:ext cx="7471080" cy="427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2465-4067-4F9F-9371-99CE0372DB8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5740-E6F7-4449-AA72-220D8183B8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24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y an Asthma ROI Calculator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75600" cy="40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p State policymakers and health plans estimate potential financial returns from asthma quality improvement progra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evelop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studies don’t address financial impac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nly clinical and use impac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or use impacts must be converted to costs or sav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are estimates genera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idence from the literature (meta-analysis) combined with baseline utilization and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er your population and other optional estimates into calculator at AHRQ Web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MCj01567770000[1]"/>
          <p:cNvPicPr/>
          <p:nvPr/>
        </p:nvPicPr>
        <p:blipFill>
          <a:blip r:embed="rId1"/>
          <a:stretch/>
        </p:blipFill>
        <p:spPr>
          <a:xfrm>
            <a:off x="2743200" y="5791320"/>
            <a:ext cx="990720" cy="925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MCBD04896_0000[1]"/>
          <p:cNvPicPr/>
          <p:nvPr/>
        </p:nvPicPr>
        <p:blipFill>
          <a:blip r:embed="rId2"/>
          <a:stretch/>
        </p:blipFill>
        <p:spPr>
          <a:xfrm>
            <a:off x="5181480" y="5867280"/>
            <a:ext cx="1219320" cy="7747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/>
          <p:cNvSpPr/>
          <p:nvPr/>
        </p:nvSpPr>
        <p:spPr>
          <a:xfrm>
            <a:off x="4114800" y="60199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C7FE9-EC5B-4FCD-87CB-1CAD29EDFB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B62B-31DB-4781-88C2-0D6F5CAA26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mmary of Steps in th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sthma ROI Calculator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18760" y="1511280"/>
            <a:ext cx="7993080" cy="2657520"/>
          </a:xfrm>
          <a:prstGeom prst="rect">
            <a:avLst/>
          </a:prstGeom>
          <a:solidFill>
            <a:srgbClr val="00279f"/>
          </a:solidFill>
          <a:ln w="38160">
            <a:solidFill>
              <a:srgbClr val="ffff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termine target population &amp; studies to use in calculation (Req. Info.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arget most expensive patients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Use controlled study results to achieve most realistic resul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100000"/>
              </a:lnSpc>
              <a:spcBef>
                <a:spcPts val="224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100000"/>
              </a:lnSpc>
              <a:spcBef>
                <a:spcPts val="224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number of particip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100000"/>
              </a:lnSpc>
              <a:spcBef>
                <a:spcPts val="224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baseline costs and uti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100000"/>
              </a:lnSpc>
              <a:spcBef>
                <a:spcPts val="224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impact of asthma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20680" indent="-609480">
              <a:lnSpc>
                <a:spcPct val="100000"/>
              </a:lnSpc>
              <a:spcBef>
                <a:spcPts val="224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program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468360" y="4241880"/>
            <a:ext cx="81756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5120" indent="-4651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ps on using your own 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ally, find data from a single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not feasible, be sure that the underlying populations that generated the data are simi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claims data to obtain number of eligible asthma patients and their baseline utilization and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d evidence from studies of a similar pop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22609-977F-4E92-9F2A-C33C1036712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0F93-A7FC-4B85-BBE1-C6C0250462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723960" y="2155320"/>
            <a:ext cx="7510320" cy="256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ments From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ephanie Lind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dicaid Administr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abama Medicaid Agen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700F-5665-4A8F-A5C6-C53E69C27DE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5920" y="2022480"/>
            <a:ext cx="780408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ask verbal questions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ease press *1 on your phone to be placed in the queue for question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o ask electronic question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ype your question into the Q&amp;A box on the right-hand side of your scr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95440" y="654120"/>
            <a:ext cx="6981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89CB-0BB2-41BE-A48D-C9CEF773DC8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6381-87E5-45C2-8507-5CABB33C1C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ditional Assistan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al Ass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gie Shofer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Marjorie.Shofer@ahrq.hhs.g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ior Program Analyst, Office of Communications and Knowledge 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of calculat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visi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statesnapshots.ahrq.gov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/asthm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 about the tool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e-mail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5"/>
              </a:rPr>
              <a:t>quality_tools@ahrq.hhs.go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more information about AHRQ Quality Tool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visit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7"/>
              </a:rPr>
              <a:t>www.ahrq.gov/qual/kt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8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5ED8-4788-4276-9C95-F8D1247669E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EBA0-F176-48E8-9ABA-C5A4D3AF7C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9232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the Calculator Work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84120" y="1857240"/>
            <a:ext cx="354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00,00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cipants who ave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.25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ED visits per y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334120" y="22096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5,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nual visits to 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519120" y="3473280"/>
            <a:ext cx="13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thma program (could use pilo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1725480" y="3657600"/>
            <a:ext cx="408240" cy="266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1971720" y="3565440"/>
            <a:ext cx="93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410080" y="3505320"/>
            <a:ext cx="30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2,5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isits to ED sa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09480" y="48769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$3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r ED vis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1" descr="MCj03037270000[1]"/>
          <p:cNvPicPr/>
          <p:nvPr/>
        </p:nvPicPr>
        <p:blipFill>
          <a:blip r:embed="rId1"/>
          <a:stretch/>
        </p:blipFill>
        <p:spPr>
          <a:xfrm>
            <a:off x="2743200" y="3530520"/>
            <a:ext cx="538200" cy="432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2"/>
          <p:cNvSpPr/>
          <p:nvPr/>
        </p:nvSpPr>
        <p:spPr>
          <a:xfrm>
            <a:off x="3971880" y="2209680"/>
            <a:ext cx="1209600" cy="379440"/>
          </a:xfrm>
          <a:prstGeom prst="rightArrow">
            <a:avLst>
              <a:gd name="adj1" fmla="val 50000"/>
              <a:gd name="adj2" fmla="val 7969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5451480" y="4876920"/>
            <a:ext cx="21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$3,750,000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6" descr="MCj02396570000[1]"/>
          <p:cNvPicPr/>
          <p:nvPr/>
        </p:nvPicPr>
        <p:blipFill>
          <a:blip r:embed="rId2"/>
          <a:stretch/>
        </p:blipFill>
        <p:spPr>
          <a:xfrm>
            <a:off x="6858000" y="1447920"/>
            <a:ext cx="1017720" cy="790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7"/>
          <p:cNvSpPr/>
          <p:nvPr/>
        </p:nvSpPr>
        <p:spPr>
          <a:xfrm>
            <a:off x="0" y="145728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Baseline ut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0" y="304812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0" y="434340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Assign costs to utilization chang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609480" y="5562720"/>
            <a:ext cx="7772400" cy="687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Repeat for each service &amp; productivity compone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Compare change in medical care expenditures with program cos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1"/>
          <p:cNvSpPr/>
          <p:nvPr/>
        </p:nvSpPr>
        <p:spPr>
          <a:xfrm>
            <a:off x="3657600" y="1981080"/>
            <a:ext cx="152280" cy="83844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22"/>
          <p:cNvSpPr/>
          <p:nvPr/>
        </p:nvSpPr>
        <p:spPr>
          <a:xfrm>
            <a:off x="3962520" y="3506760"/>
            <a:ext cx="1209600" cy="379440"/>
          </a:xfrm>
          <a:prstGeom prst="rightArrow">
            <a:avLst>
              <a:gd name="adj1" fmla="val 50000"/>
              <a:gd name="adj2" fmla="val 7969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23"/>
          <p:cNvSpPr/>
          <p:nvPr/>
        </p:nvSpPr>
        <p:spPr>
          <a:xfrm>
            <a:off x="3962520" y="4878360"/>
            <a:ext cx="1209600" cy="379440"/>
          </a:xfrm>
          <a:prstGeom prst="rightArrow">
            <a:avLst>
              <a:gd name="adj1" fmla="val 50000"/>
              <a:gd name="adj2" fmla="val 7969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4" descr="MCBD04896_0000[1]"/>
          <p:cNvPicPr/>
          <p:nvPr/>
        </p:nvPicPr>
        <p:blipFill>
          <a:blip r:embed="rId3"/>
          <a:stretch/>
        </p:blipFill>
        <p:spPr>
          <a:xfrm>
            <a:off x="7543800" y="4724280"/>
            <a:ext cx="1073160" cy="68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DBD6-B6D1-4203-99EC-EC67830D3F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A8C7-D1B8-40F7-BD2B-992F6E73CC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69339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the Calculator Works (cont’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0" y="1828800"/>
            <a:ext cx="914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Return on Investment (R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92240" y="2449440"/>
            <a:ext cx="35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 costs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$5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r particip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3565440" y="2592360"/>
            <a:ext cx="1209600" cy="379440"/>
          </a:xfrm>
          <a:prstGeom prst="rightArrow">
            <a:avLst>
              <a:gd name="adj1" fmla="val 50000"/>
              <a:gd name="adj2" fmla="val 7969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996080" y="2635200"/>
            <a:ext cx="94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I*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6198480" y="2446200"/>
            <a:ext cx="203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3,750,000 sa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5927760" y="2806560"/>
            <a:ext cx="227016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5562720" y="2882880"/>
            <a:ext cx="3413160" cy="9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$5,000,000 cost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$50 cost per participant) x (100,000 participant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5029200" y="4114800"/>
            <a:ext cx="289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I = $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0.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135160" y="5486400"/>
            <a:ext cx="432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breakeven ROI = $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505440" y="6019920"/>
            <a:ext cx="828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Formula involves discount rate. See  Calculator Appendix, “How the Model Works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5029200" y="4114800"/>
            <a:ext cx="289548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288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I = $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0.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ry $1 invested returns only 75 cents,  or cost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ED5D-454E-4B65-B43E-FC73AD2F10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A723-8688-4AD9-B18F-EA92C50613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st Components Include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335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thma-related medical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ergency room 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 st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patient 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cillary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ivity (op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ed school or work days (not caregiver ti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s of implementing a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0437-46AF-4D3F-B203-D699BC6C9B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09120" y="2851200"/>
            <a:ext cx="799308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1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ays To Use the Calcula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E45E-29B7-46F0-9F05-DC6F63236D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4BCE7-6304-41F4-B6C1-A8173CE0FB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8138-4B0E-41EF-BC6E-78610A3D2E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plications: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ays To Use Calculato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eca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nancial imp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s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mpact of ke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bout proposed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alternative target populations to assess trade-of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assumptions “reasonable” compared to other evide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e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st hurdle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eded to break e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otiate with vend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 components of calculator in</a:t>
            </a:r>
            <a:r>
              <a:rPr b="0" lang="en-US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nn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 evaluation of an asthma care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6D49-F8D7-4737-ADC9-E6A111F5F1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DHHS</cp:lastModifiedBy>
  <dcterms:modified xsi:type="dcterms:W3CDTF">2009-10-19T21:40:16Z</dcterms:modified>
  <cp:revision>175</cp:revision>
  <dc:subject/>
  <dc:title>Community Partnerships for Ch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