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48FD-6D1D-454D-9155-230C0968E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2262-3F52-4DBD-88EE-B4E0F5245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FF90-D101-4821-BACB-AC22B9C7C5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C4E9-33FB-4D3E-93B7-9C842B448A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47BA-74E8-4345-A8BC-937DE9578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8C1C-C6C5-4375-981A-7BB906BE8D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15BB-C392-4137-84B9-7DD7C4CE22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32B6-047E-4D2F-9FB4-FFE59AD019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3B5A-6C0D-466A-A6E0-77CE466B9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6BEE-53A1-4611-BB37-F9C1F6D21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4BB5-73B2-4247-B2B3-DE92499E0B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353-14F0-4C37-9982-51EBD58122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1385-6DF5-41B8-AC61-4962B18C32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D429-3FF2-4936-8289-A1112C6448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155C-7FC9-41CB-8F1E-45F408199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DE9C-2377-4992-964E-E0B425260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D653-2A94-40A0-985F-2E0DCA914B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C8C0-BFF7-4317-8C63-80E7639ED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1336-B120-44A0-AB02-56EA8CAF63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9340-AE56-4AEE-A307-0E4A5E271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944D-88EB-4644-88BC-49867963A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60DF-6E13-45DF-BE02-EEF39C804A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FCBF-D876-4B42-9652-3D1B8D5932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1BCD-ADF5-42DE-9214-5E2726EC3B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2C25-1649-4059-BC73-5076F6C7F7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F2D8-66FD-478F-9210-1B6484910C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6C1D-7CAB-46BA-88BE-1AA2F8E59C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7576-1A14-4212-997B-ECCABBA6BF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CB3D-A4E2-4EC9-888C-086205D00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47D9-9D83-4ABD-83E5-EF1551A04F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56DB-E1F4-4357-AA4B-7562A90737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CD1F-2B09-4B2E-BED5-AD00A29F7B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301C-98A8-43BA-95DA-06907992BF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9A91-259F-4747-8C46-C7D4AF966A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cost vs. quality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AF3-E151-4B96-9F1B-23E9FE2C6B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822C-1ACE-4EFC-AEBA-ADBA915994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6EA6-7529-4C9B-9702-FF615875BA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7698-C4D4-4700-96D7-2260B8CCF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30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15720" y="4225680"/>
            <a:ext cx="62816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is the general structure of all ROI calculators that are based on evidence from specific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is a simple example that assumes ED visits is the only utiization that is affected by the program (not lik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ll go into specific features of the calculator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86CE-F241-4AE9-A3B6-65D18702C3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F69-DA01-418F-859B-297CE7890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2084-DA72-4C06-9FDE-948C9DFFDA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2E65-620D-4C1E-B54B-28325D1B30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7FEC-03E4-401A-A171-ED8EE1228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4482-A7FE-4DAE-B814-DA7782BB5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5ADE-6BE7-4D18-A7A3-9E279E3BA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D5E1-E001-42E1-B1B5-342CCA11E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DE97-6688-4EB0-BFB7-7932278F7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737B-1094-4C83-B29E-13A40959D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21AA-B108-4847-9C48-506EF6156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7CCD-864D-42D1-9C0D-881202C56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A30E-81C6-41B6-BEE1-918E158FA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7327-3E5C-4E38-A9E1-6D8399F0C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38F8-F258-4DC5-8B1F-200670AFC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942E-53A3-4B9E-A6DF-D30045668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470-6A63-487D-9FC8-D78728199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mailto:Marjorie.Shofer@ahrq.hhs.gov" TargetMode="External"/><Relationship Id="rId2" Type="http://schemas.openxmlformats.org/officeDocument/2006/relationships/hyperlink" Target="http://statesnapshots.ahrq.gov/asthma/" TargetMode="External"/><Relationship Id="rId3" Type="http://schemas.openxmlformats.org/officeDocument/2006/relationships/hyperlink" Target="http://statesnapshots.ahrq.gov/asthma/" TargetMode="External"/><Relationship Id="rId4" Type="http://schemas.openxmlformats.org/officeDocument/2006/relationships/hyperlink" Target="http://statesnapshots.ahrq.gov/asthma/" TargetMode="External"/><Relationship Id="rId5" Type="http://schemas.openxmlformats.org/officeDocument/2006/relationships/hyperlink" Target="mailto:quality_tools@ahrq.hhs.gov" TargetMode="External"/><Relationship Id="rId6" Type="http://schemas.openxmlformats.org/officeDocument/2006/relationships/hyperlink" Target="http://www.ahrq.gov/qual/kt/" TargetMode="External"/><Relationship Id="rId7" Type="http://schemas.openxmlformats.org/officeDocument/2006/relationships/hyperlink" Target="http://www.ahrq.gov/qual/kt/" TargetMode="External"/><Relationship Id="rId8" Type="http://schemas.openxmlformats.org/officeDocument/2006/relationships/hyperlink" Target="http://www.ahrq.gov/qual/kt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sthma Car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urn-on-Investment Calculator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and Demonstr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4280" y="4100040"/>
            <a:ext cx="661536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sanna Coffey, Ph.D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inger Carls, M.S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izabeth Stranges, M.S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ptember 9,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*Thomson Reuters (formerly Thomson Medstat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66EC-663E-4FEE-94E2-FBA40EBBC8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3120" y="304920"/>
            <a:ext cx="7302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It Helps With Polic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60040" y="1600200"/>
            <a:ext cx="7537320" cy="447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higan Pediatric Asthma Coal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ed to make a funding decision for a county asthma progr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York Department of Heal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Used to consider evaluation components for a housing improvement project aimed to reduce asthma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sachusetts Asthma Prevention and Control Pro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ed to consider ROI for environmental approaches to asthma prevention an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abama Medicaid Ag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ing to plan and justify a pilot asthma care improvement program for Medicaid recipi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9531-7EF4-4953-9204-4B74F7E17B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9168-03E2-45D5-ACA3-B1744059B6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422440" y="29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85800" y="232416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formation Behind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7787-E63E-4867-B142-BA33DC791C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0139-35EB-46AA-A547-1C7FAE854E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1220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Literature Review Inclusion Criteri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600200"/>
          <a:ext cx="8534160" cy="4419720"/>
        </p:xfrm>
        <a:graphic>
          <a:graphicData uri="http://schemas.openxmlformats.org/drawingml/2006/table">
            <a:tbl>
              <a:tblPr/>
              <a:tblGrid>
                <a:gridCol w="1885680"/>
                <a:gridCol w="3397320"/>
                <a:gridCol w="32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Inclu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Exclu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, adults under 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65 and o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ted St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-U.S. sett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f-management of asthma or physician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inical trials comparing medications, summer cam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e of stu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vidual interven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-analysis, editori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meframe of out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of long-term effects of intervention (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6 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of short-term effects of intervention (&lt; 6 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ar publish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5-2007 (Marc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fore ‘95; after March ‘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138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ization, outpatient visit, ED visit, total costs, cost of medications, cost of ancillary services, or productivity losses (missed work or school da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with no utilization outcomes (e.g., only changes in quality of life, knowledge of asthma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A43B-CE04-44FB-ABBE-129115B98A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2707-BA9A-4188-AE6C-0157D4B20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21052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 Evidence Built Into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culator (52 Unique Studies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1447920"/>
          <a:ext cx="8610480" cy="4103640"/>
        </p:xfrm>
        <a:graphic>
          <a:graphicData uri="http://schemas.openxmlformats.org/drawingml/2006/table">
            <a:tbl>
              <a:tblPr/>
              <a:tblGrid>
                <a:gridCol w="1722240"/>
                <a:gridCol w="789120"/>
                <a:gridCol w="873000"/>
                <a:gridCol w="849240"/>
                <a:gridCol w="932040"/>
                <a:gridCol w="790560"/>
                <a:gridCol w="931680"/>
                <a:gridCol w="789120"/>
                <a:gridCol w="933480"/>
              </a:tblGrid>
              <a:tr h="34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ge groups inclu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Children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dults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Both Children and Ad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2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7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iz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5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2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atient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2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,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sed Work/ School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tion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,3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llary Service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97"/>
          <p:cNvSpPr/>
          <p:nvPr/>
        </p:nvSpPr>
        <p:spPr>
          <a:xfrm>
            <a:off x="380880" y="579132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Notes: Total studies can be less than sum of row because some studies reported results for both adults and children.  Patients include both treatment and control grou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A850-18C3-4A8A-804B-97C4CFC33B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49A9-6EBE-4E0F-B2A2-32FEB9A0C8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Meta-Analys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45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bservat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ach study outcome (child/adult, hospital/etc.)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pendent variabl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cent change in mea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ory variables/indicator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of measure (e.g., hospital,  ED, productiv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group (children, adults, bo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most patients in the study were Medicaid/SCH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patients’ asthma severity (persistent, intermittent, or 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design used (randomized, all controlled, uncontroll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intervention primarily focused on physicians (not pat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outcome measured after 2 yea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 and sample size squ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gress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eighted linear, clustered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ac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cent change predicted from coeffic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1C19-402D-46A5-9990-21DA5527E0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5DF1-7D6A-45B2-88B4-1B6351CEB5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Meta-Analysis Observ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ber of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6 studies met inclusion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2 of them had usable fin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ber of fi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3 findings for emergency department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 findings for hospital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7 findings for outpatient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findings for p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 findings for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indings for cost of ancillary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 findings for total medical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indings for total indirect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6B14-71CD-4AB8-BF29-871AB9C486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0DCA-FA2B-4DF8-8E0B-EC729C6147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eline Costs &amp; Utiliz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4068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includes baseline estimates for costs and utilization specific to the population selected (national or Stat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-sponsored health insurance (privately insu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government employees &amp; depe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 lists these and other sources used in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FC1B-345D-4A69-8D21-166556A5B5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841C-565E-4785-9A57-3D1BAE03CC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2422440" y="29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85800" y="2895480"/>
            <a:ext cx="76960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7E00-0A43-4B40-8D06-7707C861BD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69DB-8D7C-4DAC-919D-0CA3306303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evidence for some com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7) report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gram cost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 r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= $395 dollar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. = $81 automated general educational mai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. = $989 program for highest cos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10) reported asthm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dication co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out a control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por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r increa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thma medication cost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does not plan updates at th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MCBD04896_0000[1]"/>
          <p:cNvPicPr/>
          <p:nvPr/>
        </p:nvPicPr>
        <p:blipFill>
          <a:blip r:embed="rId1"/>
          <a:stretch/>
        </p:blipFill>
        <p:spPr>
          <a:xfrm>
            <a:off x="7696080" y="2057400"/>
            <a:ext cx="1219320" cy="77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MCj03980550000[1]"/>
          <p:cNvPicPr/>
          <p:nvPr/>
        </p:nvPicPr>
        <p:blipFill>
          <a:blip r:embed="rId2"/>
          <a:stretch/>
        </p:blipFill>
        <p:spPr>
          <a:xfrm>
            <a:off x="4191120" y="5562720"/>
            <a:ext cx="757080" cy="76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Cj02933160000[1]"/>
          <p:cNvPicPr/>
          <p:nvPr/>
        </p:nvPicPr>
        <p:blipFill>
          <a:blip r:embed="rId3"/>
          <a:stretch/>
        </p:blipFill>
        <p:spPr>
          <a:xfrm>
            <a:off x="3200400" y="5638680"/>
            <a:ext cx="390600" cy="8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B6BF-6EF5-47C6-A2E7-210BA7F310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7C77-3F61-4884-A7DB-2D493BE69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veats &amp; Solu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 continues to g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data become obsol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predates curren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0" y="16765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 for us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literature post April 2007 &amp; input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your own data to populate the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estimates using inflation factors described in appe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8C59-0E22-48A6-9149-3A27C03A4A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08848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ys to use th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behind th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 and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or steps with default data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with defaul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ights from Alabama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 and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5F53-C8BE-4336-8930-F4AE958ED5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7FCB-E397-4CBF-A66E-80EE245916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5920" y="2022480"/>
            <a:ext cx="78040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ask verbal questions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press *1 on your phone to be placed in the queue for question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ask electronic question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 your question into the Q&amp;A box on the right-hand side of your scr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95440" y="654120"/>
            <a:ext cx="6981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F5D8-D23E-4ED8-B2DE-604BC5FCC5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09120" y="2785680"/>
            <a:ext cx="799308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E8A0-7978-4D62-A866-074BCE674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125B-F140-499F-97A2-961E4ED927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0A8E-D79E-458E-84F4-38EAA24E40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monstration 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3320" y="1676520"/>
            <a:ext cx="6788160" cy="25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366920" indent="-1138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steps with default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66920" indent="-1138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with defaul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FFF6-3BEC-451D-BFDD-904180653D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7057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of Calculator Step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rcRect l="0" t="4606" r="80102" b="38158"/>
          <a:stretch/>
        </p:blipFill>
        <p:spPr>
          <a:xfrm>
            <a:off x="368280" y="1384200"/>
            <a:ext cx="2536920" cy="5473800"/>
          </a:xfrm>
          <a:prstGeom prst="rect">
            <a:avLst/>
          </a:prstGeom>
          <a:ln w="0">
            <a:noFill/>
          </a:ln>
        </p:spPr>
      </p:pic>
      <p:sp>
        <p:nvSpPr>
          <p:cNvPr id="193" name="Oval 7"/>
          <p:cNvSpPr/>
          <p:nvPr/>
        </p:nvSpPr>
        <p:spPr>
          <a:xfrm>
            <a:off x="6832440" y="3327480"/>
            <a:ext cx="2141640" cy="90468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ser choices about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581280" y="3479760"/>
            <a:ext cx="22100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fault or us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 rot="16200000">
            <a:off x="5979240" y="3299400"/>
            <a:ext cx="614520" cy="888840"/>
          </a:xfrm>
          <a:prstGeom prst="upArrow">
            <a:avLst>
              <a:gd name="adj1" fmla="val 50000"/>
              <a:gd name="adj2" fmla="val 2499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3594240" y="4305240"/>
            <a:ext cx="173484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Straight Arrow Connector 8"/>
          <p:cNvCxnSpPr>
            <a:stCxn id="194" idx="1"/>
          </p:cNvCxnSpPr>
          <p:nvPr/>
        </p:nvCxnSpPr>
        <p:spPr>
          <a:xfrm flipH="1" flipV="1">
            <a:off x="1447560" y="3631680"/>
            <a:ext cx="2134080" cy="153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198" name="Straight Arrow Connector 9"/>
          <p:cNvCxnSpPr>
            <a:stCxn id="194" idx="1"/>
          </p:cNvCxnSpPr>
          <p:nvPr/>
        </p:nvCxnSpPr>
        <p:spPr>
          <a:xfrm flipH="1">
            <a:off x="1485720" y="3784680"/>
            <a:ext cx="2095920" cy="1022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199" name="Straight Arrow Connector 10"/>
          <p:cNvCxnSpPr>
            <a:stCxn id="194" idx="1"/>
          </p:cNvCxnSpPr>
          <p:nvPr/>
        </p:nvCxnSpPr>
        <p:spPr>
          <a:xfrm flipH="1">
            <a:off x="1345680" y="3784680"/>
            <a:ext cx="2235600" cy="3816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200" name="Straight Arrow Connector 16"/>
          <p:cNvCxnSpPr>
            <a:stCxn id="194" idx="1"/>
          </p:cNvCxnSpPr>
          <p:nvPr/>
        </p:nvCxnSpPr>
        <p:spPr>
          <a:xfrm flipH="1">
            <a:off x="1739160" y="3784680"/>
            <a:ext cx="1842120" cy="67392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01" name="Straight Arrow Connector 19"/>
          <p:cNvCxnSpPr>
            <a:stCxn id="194" idx="1"/>
          </p:cNvCxnSpPr>
          <p:nvPr/>
        </p:nvCxnSpPr>
        <p:spPr>
          <a:xfrm flipH="1">
            <a:off x="1802520" y="3783600"/>
            <a:ext cx="1778760" cy="92772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02" name="Straight Arrow Connector 22"/>
          <p:cNvCxnSpPr>
            <a:stCxn id="196" idx="1"/>
          </p:cNvCxnSpPr>
          <p:nvPr/>
        </p:nvCxnSpPr>
        <p:spPr>
          <a:xfrm flipH="1">
            <a:off x="2222280" y="4610160"/>
            <a:ext cx="1372320" cy="6408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03" name="Straight Arrow Connector 25"/>
          <p:cNvCxnSpPr>
            <a:stCxn id="196" idx="1"/>
          </p:cNvCxnSpPr>
          <p:nvPr/>
        </p:nvCxnSpPr>
        <p:spPr>
          <a:xfrm flipH="1" flipV="1">
            <a:off x="1968120" y="4419000"/>
            <a:ext cx="1626480" cy="19116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sp>
        <p:nvSpPr>
          <p:cNvPr id="2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0727-8BEE-4410-8E08-CF9F0E950A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6314-E3EE-4247-8557-8BE276620A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B4AB-3679-426C-98C6-1BC1384C50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e Key Program Features:  REQUIRED INFORM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rcRect l="18914" t="10459" r="1975" b="0"/>
          <a:stretch/>
        </p:blipFill>
        <p:spPr>
          <a:xfrm>
            <a:off x="2755800" y="1434960"/>
            <a:ext cx="5742000" cy="4873680"/>
          </a:xfrm>
          <a:prstGeom prst="rect">
            <a:avLst/>
          </a:prstGeom>
          <a:ln w="0">
            <a:noFill/>
          </a:ln>
        </p:spPr>
      </p:pic>
      <p:sp>
        <p:nvSpPr>
          <p:cNvPr id="208" name="Oval 9"/>
          <p:cNvSpPr/>
          <p:nvPr/>
        </p:nvSpPr>
        <p:spPr>
          <a:xfrm>
            <a:off x="2844720" y="2590920"/>
            <a:ext cx="2362320" cy="3808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2717640" y="4546440"/>
            <a:ext cx="4572000" cy="3812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2857680" y="5232240"/>
            <a:ext cx="2133360" cy="3812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rcRect l="0" t="4606" r="80102" b="38158"/>
          <a:stretch/>
        </p:blipFill>
        <p:spPr>
          <a:xfrm>
            <a:off x="0" y="1419120"/>
            <a:ext cx="2413080" cy="5207040"/>
          </a:xfrm>
          <a:prstGeom prst="rect">
            <a:avLst/>
          </a:prstGeom>
          <a:ln w="0">
            <a:noFill/>
          </a:ln>
        </p:spPr>
      </p:pic>
      <p:sp>
        <p:nvSpPr>
          <p:cNvPr id="212" name="Right Arrow 15"/>
          <p:cNvSpPr/>
          <p:nvPr/>
        </p:nvSpPr>
        <p:spPr>
          <a:xfrm rot="10800000">
            <a:off x="1752480" y="280656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59EB-2A8A-4F17-A2A7-C75052141B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0D71-022A-4564-A3BB-394917A087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 POPUL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16" name="Right Arrow 10"/>
          <p:cNvSpPr/>
          <p:nvPr/>
        </p:nvSpPr>
        <p:spPr>
          <a:xfrm rot="10800000">
            <a:off x="927000" y="332748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rcRect l="19908" t="17900" r="1969" b="14663"/>
          <a:stretch/>
        </p:blipFill>
        <p:spPr>
          <a:xfrm>
            <a:off x="2179800" y="1436760"/>
            <a:ext cx="6964200" cy="45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E9DF-3E8D-4174-8B43-F571C3A644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553080" y="6373800"/>
            <a:ext cx="213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 POPUL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21" name="Right Arrow 10"/>
          <p:cNvSpPr/>
          <p:nvPr/>
        </p:nvSpPr>
        <p:spPr>
          <a:xfrm rot="10800000">
            <a:off x="927000" y="332748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rcRect l="19908" t="17900" r="1969" b="14663"/>
          <a:stretch/>
        </p:blipFill>
        <p:spPr>
          <a:xfrm>
            <a:off x="2179800" y="1436760"/>
            <a:ext cx="6964200" cy="4508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1"/>
          <p:cNvSpPr/>
          <p:nvPr/>
        </p:nvSpPr>
        <p:spPr>
          <a:xfrm>
            <a:off x="3357720" y="4056120"/>
            <a:ext cx="5786280" cy="20700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ault data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Medicare &amp; Medicai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Population Survey, Annual Social and Economic Sup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reau of Labor Statistics Quarterly Census of Employment and W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EAD2-E186-41F0-922D-77D2956DA7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D91-97EE-496D-B766-9B404E6D12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429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ARTICIPA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27" name="Right Arrow 10"/>
          <p:cNvSpPr/>
          <p:nvPr/>
        </p:nvSpPr>
        <p:spPr>
          <a:xfrm rot="10800000">
            <a:off x="1028520" y="3543120"/>
            <a:ext cx="711000" cy="177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rcRect l="19560" t="4939" r="1621" b="13736"/>
          <a:stretch/>
        </p:blipFill>
        <p:spPr>
          <a:xfrm>
            <a:off x="2187720" y="1414440"/>
            <a:ext cx="6181560" cy="478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D833-41F1-438B-9B00-561E66A0EC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78F5-DD1D-435B-8EB4-DDF5E04F39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429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ARTICIPA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32" name="Right Arrow 10"/>
          <p:cNvSpPr/>
          <p:nvPr/>
        </p:nvSpPr>
        <p:spPr>
          <a:xfrm rot="10800000">
            <a:off x="1028520" y="3543120"/>
            <a:ext cx="711000" cy="177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rcRect l="19560" t="4939" r="1621" b="13736"/>
          <a:stretch/>
        </p:blipFill>
        <p:spPr>
          <a:xfrm>
            <a:off x="2197080" y="1433520"/>
            <a:ext cx="6281640" cy="486108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211" descr=""/>
          <p:cNvPicPr/>
          <p:nvPr/>
        </p:nvPicPr>
        <p:blipFill>
          <a:blip r:embed="rId3"/>
          <a:stretch/>
        </p:blipFill>
        <p:spPr>
          <a:xfrm>
            <a:off x="4400640" y="1874880"/>
            <a:ext cx="417024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DA14-DC7E-4AC7-803C-0229374E38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EC33-3429-4A03-818E-0BBE50BD78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38" name="Right Arrow 10"/>
          <p:cNvSpPr/>
          <p:nvPr/>
        </p:nvSpPr>
        <p:spPr>
          <a:xfrm rot="10800000">
            <a:off x="774720" y="377172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rcRect l="20256" t="20061" r="1621" b="25000"/>
          <a:stretch/>
        </p:blipFill>
        <p:spPr>
          <a:xfrm>
            <a:off x="2184480" y="1409760"/>
            <a:ext cx="6959520" cy="36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1A96-4655-40A3-8FE2-780CDA34CE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 Ques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7080" y="1923840"/>
            <a:ext cx="804204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you ever used or reviewed the Asthma ROI Calcul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ort poll will appear on your screen.  Please take a few seconds to answer the poll and provide valuable feedba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1DCC-BD3D-4E8F-93C2-25F1A0ABDE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A5B4-3D55-447E-A8DD-E3ED18BBBC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43" name="Right Arrow 10"/>
          <p:cNvSpPr/>
          <p:nvPr/>
        </p:nvSpPr>
        <p:spPr>
          <a:xfrm rot="10800000">
            <a:off x="774720" y="377172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rcRect l="20256" t="20061" r="1621" b="25000"/>
          <a:stretch/>
        </p:blipFill>
        <p:spPr>
          <a:xfrm>
            <a:off x="2184480" y="1409760"/>
            <a:ext cx="6959520" cy="36702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11"/>
          <p:cNvSpPr/>
          <p:nvPr/>
        </p:nvSpPr>
        <p:spPr>
          <a:xfrm>
            <a:off x="2425680" y="2097000"/>
            <a:ext cx="6718320" cy="415944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15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efault data sour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rketScan Claims Database (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caid  (8 geographically dispersed Sta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er-sponsored health insurance (over 100 large self-insured employers, 15 million lives, geographically balanc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ational Health Interview Survey (20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missed work or school days due to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reau of Labor Statistics (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wage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deral poverty line (for value of missed work day for Medicaid recipi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FD4D-8D36-4792-9DD6-550EAB6C5A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0074-6326-4B15-9B3D-2DA907AD01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47840" y="3938400"/>
            <a:ext cx="799272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vice for calculating data 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what use &amp; cost component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okay to combine use &amp; cost from different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make sure measures are calculated the same way for the sam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409680" y="1714680"/>
            <a:ext cx="7993080" cy="183816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 potential data sour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, local, or plan-level claim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surveys of number of missed school/work days due to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600C-8D58-4B6A-9ABD-5363787031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BB2E-FA9D-4FD5-BCCA-DEC7FE49FA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7068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IMPAC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53" name="Right Arrow 10"/>
          <p:cNvSpPr/>
          <p:nvPr/>
        </p:nvSpPr>
        <p:spPr>
          <a:xfrm rot="10800000">
            <a:off x="1244520" y="397512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rcRect l="19446" t="19755" r="1736" b="20219"/>
          <a:stretch/>
        </p:blipFill>
        <p:spPr>
          <a:xfrm>
            <a:off x="2117880" y="1409760"/>
            <a:ext cx="7026120" cy="40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807B-CC9E-4159-AD21-7763EDBA25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54CC-F692-43B2-BFA6-FB301D5FA9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011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IMPAC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58" name="Right Arrow 10"/>
          <p:cNvSpPr/>
          <p:nvPr/>
        </p:nvSpPr>
        <p:spPr>
          <a:xfrm rot="10800000">
            <a:off x="1244520" y="397512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rcRect l="19446" t="19755" r="1736" b="20219"/>
          <a:stretch/>
        </p:blipFill>
        <p:spPr>
          <a:xfrm>
            <a:off x="2117880" y="1409760"/>
            <a:ext cx="7026120" cy="4013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5151600" y="5099040"/>
            <a:ext cx="3992400" cy="11304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ata sou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-analysis of lit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7015-30B4-47AC-A977-C81980ADA4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B11E-A024-4E7A-9A33-8ED1DB2899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51120" y="27144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CO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64" name="Right Arrow 10"/>
          <p:cNvSpPr/>
          <p:nvPr/>
        </p:nvSpPr>
        <p:spPr>
          <a:xfrm rot="10800000">
            <a:off x="1079280" y="4241880"/>
            <a:ext cx="711000" cy="177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rcRect l="20256" t="25617" r="2198" b="16667"/>
          <a:stretch/>
        </p:blipFill>
        <p:spPr>
          <a:xfrm>
            <a:off x="2197080" y="1444680"/>
            <a:ext cx="6946920" cy="387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9D1A-6781-44D5-9C0E-D0EAA75C88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734D-A010-4C06-B7D7-5E01716A94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CO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69" name="Right Arrow 10"/>
          <p:cNvSpPr/>
          <p:nvPr/>
        </p:nvSpPr>
        <p:spPr>
          <a:xfrm rot="10800000">
            <a:off x="1079280" y="4241880"/>
            <a:ext cx="711000" cy="177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rcRect l="20256" t="25617" r="2198" b="16667"/>
          <a:stretch/>
        </p:blipFill>
        <p:spPr>
          <a:xfrm>
            <a:off x="2197080" y="1444680"/>
            <a:ext cx="6946920" cy="38782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11"/>
          <p:cNvSpPr/>
          <p:nvPr/>
        </p:nvSpPr>
        <p:spPr>
          <a:xfrm>
            <a:off x="3309840" y="4419720"/>
            <a:ext cx="5834160" cy="18270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15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ee User’s Guide fo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o include in your estimates of annual cost per particip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hoose a discoun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F207-EBB2-4FFF-825E-732AA98660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F062-D4B3-4B9F-A543-0132A3680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monstration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FB26-0BE1-42C0-B256-52F58E6C0C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90" descr=""/>
          <p:cNvPicPr/>
          <p:nvPr/>
        </p:nvPicPr>
        <p:blipFill>
          <a:blip r:embed="rId1"/>
          <a:srcRect l="59116" t="4820" r="808" b="24674"/>
          <a:stretch/>
        </p:blipFill>
        <p:spPr>
          <a:xfrm>
            <a:off x="2192400" y="1438200"/>
            <a:ext cx="6783480" cy="4773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77" name="Right Arrow 7"/>
          <p:cNvSpPr/>
          <p:nvPr/>
        </p:nvSpPr>
        <p:spPr>
          <a:xfrm rot="10800000">
            <a:off x="790560" y="469404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B762-35C2-49EA-8346-E4E05D35EC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73160" y="1468440"/>
            <a:ext cx="8100720" cy="526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2A12-6986-4B3C-A99C-5A95309381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F8ED-4B46-4787-9814-EC7B3B096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431640" y="1576440"/>
            <a:ext cx="7471080" cy="427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E42D-71BE-40BA-80B5-57EFE11E40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F853-9538-4BFF-96EB-F7BF6C4B24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24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an Asthma ROI Calculato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75600" cy="40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State policymakers and health plans estimate potential financial returns from asthma quality improvement pro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evelop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tudies don’t address financial impac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ly clinical and use impa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or use impacts must be converted to costs or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are estimates gener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idence from the literature (meta-analysis) combined with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 your population and other optional estimates into calculator at AHRQ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MCj01567770000[1]"/>
          <p:cNvPicPr/>
          <p:nvPr/>
        </p:nvPicPr>
        <p:blipFill>
          <a:blip r:embed="rId1"/>
          <a:stretch/>
        </p:blipFill>
        <p:spPr>
          <a:xfrm>
            <a:off x="2743200" y="5791320"/>
            <a:ext cx="990720" cy="92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MCBD04896_0000[1]"/>
          <p:cNvPicPr/>
          <p:nvPr/>
        </p:nvPicPr>
        <p:blipFill>
          <a:blip r:embed="rId2"/>
          <a:stretch/>
        </p:blipFill>
        <p:spPr>
          <a:xfrm>
            <a:off x="5181480" y="5867280"/>
            <a:ext cx="1219320" cy="774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4114800" y="6019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7328-9304-4DF0-9974-E2162C60ED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B08E-3E66-49E6-AD52-A47F91E5AE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mmary of Steps in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thma ROI Calculato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18760" y="1511280"/>
            <a:ext cx="7993080" cy="2657520"/>
          </a:xfrm>
          <a:prstGeom prst="rect">
            <a:avLst/>
          </a:prstGeom>
          <a:solidFill>
            <a:srgbClr val="00279f"/>
          </a:solidFill>
          <a:ln w="3816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rmine target population &amp; studies to use in calculation (Req. Info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arget most expensive patient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Use controlled study results to achieve most realistic resul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number of 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baseline costs and uti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impact of asthma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program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68360" y="4241880"/>
            <a:ext cx="81756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ps on using your own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ally, find data from a singl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t feasible, be sure that the underlying populations that generated the data are simi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aims data to obtain number of eligible asthma patients and their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evidence from studies of a similar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01D8-94F6-4964-98D3-4F886495309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76EB-2C8C-429B-87A8-A9CDE5FEAC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23960" y="2155320"/>
            <a:ext cx="7510320" cy="25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ments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hanie Lind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dicaid Administr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abama Medicaid Agen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A2E4-722E-4500-B3B8-D9275B2CBA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5920" y="2022480"/>
            <a:ext cx="78040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ask verbal questions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press *1 on your phone to be placed in the queue for question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ask electronic question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 your question into the Q&amp;A box on the right-hand side of your scr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95440" y="654120"/>
            <a:ext cx="6981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8CE1-E813-4711-891F-5C446C8FFBF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F05-BC59-4665-B1E6-35833D3E1D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itional Assist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Ass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gie Shofer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Marjorie.Shofer@ahrq.hh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Program Analyst, Office of Communications and Knowledge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of calculat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vis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statesnapshots.ahrq.gov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/asthm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 about the too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e-mail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quality_tools@ahrq.hhs.go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more information about AHRQ Quality Too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visit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www.ahrq.gov/qual/kt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8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0C23-CD97-4D4E-8972-8D6C56214F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EFF0-D4BD-49F7-867F-EBBDB6CD43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232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he Calculator Work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4120" y="1857240"/>
            <a:ext cx="354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0,00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cipants who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D visits per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334120" y="22096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5,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nual visits to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19120" y="3473280"/>
            <a:ext cx="13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thma program (could use pilo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1725480" y="3657600"/>
            <a:ext cx="408240" cy="266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971720" y="356544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410080" y="350532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2,5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isits to ED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09480" y="4876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 ED vis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1" descr="MCj03037270000[1]"/>
          <p:cNvPicPr/>
          <p:nvPr/>
        </p:nvPicPr>
        <p:blipFill>
          <a:blip r:embed="rId1"/>
          <a:stretch/>
        </p:blipFill>
        <p:spPr>
          <a:xfrm>
            <a:off x="2743200" y="3530520"/>
            <a:ext cx="538200" cy="432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2"/>
          <p:cNvSpPr/>
          <p:nvPr/>
        </p:nvSpPr>
        <p:spPr>
          <a:xfrm>
            <a:off x="3971880" y="220968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5451480" y="487692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,750,00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6" descr="MCj02396570000[1]"/>
          <p:cNvPicPr/>
          <p:nvPr/>
        </p:nvPicPr>
        <p:blipFill>
          <a:blip r:embed="rId2"/>
          <a:stretch/>
        </p:blipFill>
        <p:spPr>
          <a:xfrm>
            <a:off x="6858000" y="1447920"/>
            <a:ext cx="1017720" cy="790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7"/>
          <p:cNvSpPr/>
          <p:nvPr/>
        </p:nvSpPr>
        <p:spPr>
          <a:xfrm>
            <a:off x="0" y="145728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aseline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0" y="304812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0" y="43434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ssign costs to utilization chang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609480" y="5562720"/>
            <a:ext cx="7772400" cy="68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peat for each service &amp; productivity compon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ompare change in medical care expenditures with program cos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3657600" y="19810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2"/>
          <p:cNvSpPr/>
          <p:nvPr/>
        </p:nvSpPr>
        <p:spPr>
          <a:xfrm>
            <a:off x="3962520" y="35067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3"/>
          <p:cNvSpPr/>
          <p:nvPr/>
        </p:nvSpPr>
        <p:spPr>
          <a:xfrm>
            <a:off x="3962520" y="48783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4" descr="MCBD04896_0000[1]"/>
          <p:cNvPicPr/>
          <p:nvPr/>
        </p:nvPicPr>
        <p:blipFill>
          <a:blip r:embed="rId3"/>
          <a:stretch/>
        </p:blipFill>
        <p:spPr>
          <a:xfrm>
            <a:off x="7543800" y="4724280"/>
            <a:ext cx="1073160" cy="68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734B-67FB-4DF6-BA35-3576E2C7D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3C05-5712-4DEF-9398-ACB75E3C89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33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he Calculator Works (cont’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18288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turn on Investment (R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2240" y="2449440"/>
            <a:ext cx="35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 cos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5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 particip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565440" y="25923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96080" y="2635200"/>
            <a:ext cx="94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I*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198480" y="2446200"/>
            <a:ext cx="203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3,750,000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5927760" y="2806560"/>
            <a:ext cx="22701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562720" y="2882880"/>
            <a:ext cx="341316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000,000 cos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$50 cost per participant) x (100,000 participa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029200" y="411480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I = $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135160" y="5486400"/>
            <a:ext cx="432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reakeven ROI = $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05440" y="60199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Formula involves discount rate. See  Calculator Appendix, “How the Model Works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029200" y="4114800"/>
            <a:ext cx="289548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I = $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$1 invested returns only 75 cents,  or cos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BF42-BEA1-4A59-BB6A-7C8EC240C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2A0C-31FD-4402-8C28-5785807AEA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Components Includ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hma-related medical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room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st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illary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vity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school or work days (not caregiver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of implementing a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999A-708B-4751-98C7-A28C692424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9120" y="285120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ys To Use the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6B35-7D21-4E3B-BDA7-4CB9887AE3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4342-AC4E-481A-A95A-ACA1D00AB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8465-A383-4196-A332-672608C02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ys To Use Calculat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eca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nancial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pact of ke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out proposed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alternative target populations to assess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ssumptions “reasonable” compared to other evide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hurdle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break 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e with vend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components of calculator in</a:t>
            </a: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valuation of an asthma car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DAEE-D49C-40D5-9914-7C3BA3DEFF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DHHS</cp:lastModifiedBy>
  <dcterms:modified xsi:type="dcterms:W3CDTF">2009-10-19T21:40:16Z</dcterms:modified>
  <cp:revision>175</cp:revision>
  <dc:subject/>
  <dc:title>Community Partnerships for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