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</p:sldIdLst>
  <p:sldSz cx="9144000" cy="6858000"/>
  <p:notesSz cx="6858000" cy="9197975"/>
</p:presentation>
</file>

<file path=ppt/commentAuthors.xml><?xml version="1.0" encoding="utf-8"?>
<p:cmAuthorLst xmlns:p="http://schemas.openxmlformats.org/presentationml/2006/main">
  <p:cmAuthor id="0" name="Karen Fleming-Michael" initials="KF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presProps" Target="presProps.xml"/><Relationship Id="rId61" Type="http://schemas.openxmlformats.org/officeDocument/2006/relationships/commentAuthors" Target="commentAuthors.xml"/>
</Relationships>
</file>

<file path=ppt/comments/comment18.xml><?xml version="1.0" encoding="utf-8"?>
<p:cmLst xmlns:p="http://schemas.openxmlformats.org/presentationml/2006/main">
  <p:cm authorId="0" dt="2010-07-15T14:03:06.997000000" idx="1">
    <p:pos x="10" y="10"/>
    <p:text>Jennifer notes that the AHCP is a Project RED term. May want to call it the patient care plan. 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16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17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18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CDDD-9B43-44B3-A545-0E3D174BE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0084-B2C9-46C3-B088-13096C19C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ngineered Dis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1C89-BFE2-4497-A782-E1C61FC1F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ic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patient outcomes and satisf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cost and revenue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patient satisfaction sc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pare for changes to CMS reimbursement penalties for high readmission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nurse and provider time uti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 portability of personal health information across care contin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relationship with PC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7DE9-86EC-4354-B2CA-21A3BB0DD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2905-F9C8-4C55-8946-1B6DB6C1E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Project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er your specific objectives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 patient satisfaction with discharge preparation by ##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 staff satisfaction with discharge process by ##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readmissions by ##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post-discharge visits to the 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Sigma Forum, Post Conference Worksh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30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es.ncsu.edu/leanhealth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62AC-C18B-48B6-831D-5AF7D2BFC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Steering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date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champ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 and review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Steering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eam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ate project team leader, executive sponsor, and physician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ed Patien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ilot Project RED, we have identified the following target patient pop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diagnosis, unit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line readmission rate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length of stay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stats from patient phone survey, if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ntifying Targeted Patients on Ad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you first identify that a newly admitted patient is in the targeted population for this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the Discharge Advocate (DA) be notified that a potential patient for Project RED has been admit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econdary screening criteria for patient inclusion will the DA use to confirm the use of the Project RED intervention with the pati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ill the DA track activities with new pat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Plan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the discharge process from patient admission to post-discharge follow-up c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RED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5AC9-C51C-40A5-BF5C-9C0DEF59E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474D-0BB0-42EC-81BA-05617B5007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33640" y="69228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Re-Engineered Discharge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licit delineation of roles and responsib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harge process initiation upon ad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 education throughout hospit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ly accurate information flow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PCP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Among hospital tea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► Back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CP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 patient discharge summary prior to dischar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8ADE09C-59D8-4765-92D5-FF8F7DDFF6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EFE1-EE6F-48D9-AE0C-F5AD223EC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8DCB-0926-4F6F-8B06-F23F5B82AC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054080" y="53640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Re-Engineered Discharge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 written discharge plan provided to patient prior to dis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harge information in patient’s language and literacy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inforcement of plan with patient after dis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ility of case management staff outside of limited daytime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 quality improvement of discharge 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254EDE2-B253-453A-A167-0EA639484E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ngineering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goal of this performance improvement (PI) project is to improve our discharge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RED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patient cen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s patients to care for themselves a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s readmissions and visits to the emergency de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A16F-792F-4C3A-BC1A-E278800D8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A020-B0B7-437B-ACD8-F9DE1BB031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31840" y="69228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D Check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 mutually reinforcing compon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Medication reconcil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concile discharge plan with national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Followup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Outstand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Post-discharg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Written discharg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What to do if problem a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Patient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Assess patient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Discharge summary sent to P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phone rei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pted by National Quality Forum as one of 30 U.S. "Safe Practice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CBEC32B-B08B-4466-BD39-C84E637886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s to the Project RED Inter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multidisciplina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 plan for patient use after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discharge followup with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440" y="4370400"/>
            <a:ext cx="57150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Adv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s all discharge activities within patien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s team activities and discharge planning rounds with primary do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s discharge-focus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Patient Care Plan is completed and patient understands the information and can comply with the instructions in th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12A0-0C93-43EA-B346-8257B5838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Adv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notified when patients in the target population are admitted or diagno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tes action steps associated with Project 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tes the Patient Care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ucates patient and family about condition, medications, treatments, post-discharge plans, and followup ordered by the physic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s Patient Care Plan with patient and fam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ects measurement data on project and patient 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46F4-C0C9-4324-86F7-C1721608C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3184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Adv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RED’s 11 components let the D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patients for hospital dis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patients safely transition from hospital to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patient self-health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patients after discharge through follow-up phon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2868-03A3-44BF-9110-E350088677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Member R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’s physician and medical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ing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’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es patient plan of care based on critical path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or participates in discharge planning 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s potential discharge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PI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rsing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nursing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 patient and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 with other members of the health care team, including 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ipate in multidisciplinary rounds, including those focused on discharge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physician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nciles admission medications with medications from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es with care team specific to discharge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nciles medications upon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s with patient medication ques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Mana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e post-discharg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social work d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utilization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etus for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ic pri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RED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e cla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Key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ap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440" y="4370040"/>
            <a:ext cx="57913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Planning 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daily discharge 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l staff, nursing staff, pharmacy, case management, and 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s discharge order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it expec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end dischar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re a timing expectation (e.g., time from when the order is written to when the patient is out the door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nd contact information for physician and 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ing tests an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-up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orders (diet, activity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bout disease or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o call physician or seek emergency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or writing down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for locating appointments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formation about your center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ing the tem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ing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completed Patient Care Plan become part of the patient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Patient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 reconcil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ing tests an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discharge service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are provi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-up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bout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 Reconcil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 procedure for completing medication reconciliation at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 participates and conducts final check on 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 populates Patient Care Plan (e.g., medication purpose, time of day tak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 uses final list to teach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ing Tests an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tains information about tests and studies completed and still-pending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s pending test results to the designated spot on the Patient Care Plan, including which clinician is responsible for getting final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s out where the information is on the Patient Care Pl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ourages patient to discuss tests with PC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Discharg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with case manager that all services have been arran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names and contact information of service providers to Patient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are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name of PCP with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name and contact number of PCP to Patient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-up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es best days of week and times of day with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es transportation nee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s clinicians’ offices to make appointments that meet patient’s time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off-hour or weekend discharges, leaves message with clinician’s office to call pat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appointments to Patient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F8AB-0747-44C9-A3C8-7DB44B72E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fect Storm" of Patient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.5 million hospital discharges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329.2 billion in total annual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 discharge is not standardized and is marked with poor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se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ommuni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quality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prepa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gme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var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percent of patients have a post-discharge adverse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percent of Medicare patients are readmitted within 30 days; only half had a visit in the 30 days after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bout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s information about the patient’s condition to add to Patient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that warrant followup with clin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that warrant emergency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information for the DA and PCP (phone numbers, paging instru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Discharge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s discharge summary and Patient Care Plan to P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fax: Ensures it is received and leg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e-mail: Ensures it is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follow-up phone call to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script that includes medications and follow-up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need for second call by clin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cation and Coord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 discharge process is often characterized by poor communication and a lack of coordination between the hospital and the PCP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often do not know what medications their physicians prescribed, when follow-up appointments should take place, and, in some cases, why they were hospita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are Physician Referral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ders identify the PCP referral b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pital assesses PCP satisfaction before project la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ysician champion communicates with PCPs about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Ps advise how to handle off-shift and weekend patient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Discharge Phon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o calls the patient after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en the follow-up call will be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the caller’s scri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the process for off-shift and weekend discha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the project to determine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will determine if Project RED will be used in other areas of the hos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E28A-AF7C-4F47-B748-223D1EF75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794C-7E89-46DD-A3EE-6110D2AA03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D429-1A4D-4085-A5A8-D9E42A1726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304920" y="4370400"/>
            <a:ext cx="62481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Process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ime to notify DA about new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ime from admission to first patient visit by DA (initiation of care plan) – only for patients who meet all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patients’ PCPs notified within 24 hours dis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follow-up phone calls made within 4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follow-up calls requiring second call by pharmacist (if non-pharmacist makes first c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patients completing post-discharge survey (30 days after dis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2728-C964-400B-A9EB-872883186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628C-6607-40F3-A137-5DB0DCD004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423D-D37A-4E48-83C6-28468EE278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Process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ion of care pla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medication lis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care needs included (e.g., exercise, diet, main problem, when to call doc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follow-up appointments li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pre-arranged discharge resources identified (e.g., home health, durable medical equi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pending tests li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 Metrics for Targe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length of stay (L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day unplanned readmission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of second LOS (readmi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/post data: Patient experience related to discharge pr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/post data: Frontline staff survey related to discharge pr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process costs (current and redesign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BA1E-F3BB-4454-BFEF-D77F5DE74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La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ed start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ed population or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’s name and contac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leader’s name and contac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 champion’s name and contac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re than Just Patient Safe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"Hospitals with high rates of readmission will be paid less if patients are readmitted to the hospital within the same 30-day period, saving $26 billion over 10 years."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 Obama Administration Budget Documen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edPAC recommends reducing payments to hospitals with high readmission rates.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- MEDPAC Testimony before Congress March ‘09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MS: 14 Quality Improvement Organizations “Safe Transitions” demonstration proje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MS to release new payment sche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Reasons for Avoidable Readmission -- Not Diagnosis-Specif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or discharge i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doesn’t understand how to use 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doesn’t learn warning signs for when to report to their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or information trans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ospital to primary care physician (PC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hospital to nursing home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clarity on end-of-life care p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Reasons for Avoidable Readmis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ck of timely post-discharge physician vis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 unaware of hospit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has no P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lacks 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or medication reconciliation yields duplication or inter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gnosis-Specific Reasons for Avoidable Readmis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D, pneum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s not getting home health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neumonia readmissions may reflect need for end-of-life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rdiac c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rdiologists not arranging followup for heart failure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admissions higher for heart failure patients with behaviora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agnosis-Specific Reasons for Avoidable Readmis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ost surg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rgeons not arranging for post-surgical primary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-CABG patients, expecting to be pain free, seek readmission for an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adequate patient teaching on self care after surgery (e.g., incision car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alysis patients very vulnerable to drug therapy ch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4D0E-EE77-44F5-8875-77E5F9AF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92C-6B64-44B0-B5D6-FEFCAA4A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B19-36BF-4B41-BA66-E5708CBE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39C-E5C6-4E68-9688-67FB4FDE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C92B-C09E-4A9F-A8B4-6A5A7C35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FA20-A066-4177-AF01-504FA693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2C19-0910-4F04-83B7-2783D6E4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3D58-57C0-4E0F-B909-CE3E8B80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6A9B-A674-4C6E-B9FE-ADABE687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0366-7424-4C3D-9F4F-0E903238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8152-0688-49C2-B92F-CA64A23E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CFA-6F61-4F08-AD48-13C0AA51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FA19-50F4-4B4A-A3F2-7ACEBE42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83EF-5B70-486B-9958-88D226AA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96C6-3FBD-44F5-A0AB-CC66CE14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E314-32BA-4812-9D7E-67858FC2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3F14-CCE6-4D48-8A06-0A3B0A791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91830-5C2E-4F89-AC74-0F91C478F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272C0-56F3-4FFD-86A6-84409108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85C5-6518-4150-874E-07848498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A19F8-F6D4-4138-886A-61039232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BEFE3-A2D8-4105-BA31-B4EED6CE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0EE-1FC5-4324-8CA6-24692653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7315-A7F8-42E6-B4A5-EDF56D43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0927-E9C4-46AB-B8D3-370903B2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9265C-676C-42DE-B830-625807E7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68E56-5B5F-46AA-9F13-870398C0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DAB96-A29A-4E71-9821-9D8CFE73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87AE3-5C13-47F4-8AE4-609E4A1A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FBA5E-DCB9-48F4-9DE7-E3B8E6EE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760-B900-45FB-8793-41BE033E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0D42C-EB54-4105-B529-57A4A058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F47-116D-4891-8118-F23D24AE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CA46D-78C0-4933-AC35-8791A5CF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A15B1-FCEC-4AA4-911D-89DC89AC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B333E-455F-4164-8330-AFF869BF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B5832-DFA7-432C-9B76-BA0F9360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351C1-5BEA-449E-9A48-556CE9D9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30DC8-48B6-4F6B-98D0-95323D22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0ED9B-BC66-4B86-B3D7-5C61247B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4ECD4-06DA-492C-9B9B-998DBF29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E7D84-0F19-4064-8A1D-466B2C1B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CB00B-ACA2-49AE-9DE5-F97DF976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D68-2900-4BD2-B73A-718CC2FA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C249D-4339-462D-9103-37C0FC65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BB9-1DEE-43E3-8F8A-63FB08CB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E55AB-EFCB-4291-A473-82B623C5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384B9-2E72-48A4-B893-14316AAC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40CEF-092D-41D9-86E3-E06B5DB1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1A6C7-C09E-489E-9501-40E455B7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80780-773E-4D5E-B17C-1985730F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C59B3-C141-4A2F-997C-C3828A54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17AA5-6946-477B-9A63-E03939D3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780-84DF-4A04-989F-2114CD4F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C77CF-6C60-4581-98A8-C751C337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D8FCB-B0DD-45F0-8E42-33E9349F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EA4DA-4D74-4C12-9520-BD544738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63FBB-57B9-4061-BA76-040ECC6D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E95E0-C24B-47A7-93ED-9B38C058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813-6BD8-4A6F-8051-AA8803A5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6D7E-559E-478F-BB1E-EE0582D436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8BCE-C14F-4A21-946D-97B7ED0E8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277A-F7A1-42FB-BB19-C72C06AE76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7E76-A22D-46A6-B781-20E2071A7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649B-097D-4021-9D42-EB7F846CF8C3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DBCB-84FB-4022-93EE-5F44533205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166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8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B65C-2A30-4095-8DF0-8BD58E7CE4F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ED8E-D386-4F2D-A1B9-22951561F9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288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90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31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3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E30D-1875-443E-A30A-C33C6F39947C}" type="datetime"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9F3E-5AA5-4183-97E0-56542E4CA179}" type="slidenum"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RE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762120" y="3962520"/>
            <a:ext cx="76197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-Engineered Dischar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ategic Priori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09120" y="1599840"/>
            <a:ext cx="8534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patient outcomes and satisf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cost and revenue manage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patient satisfaction sc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 for changes to CMS reimbursement penalties for high readmission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nurse and provider time uti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 portability of personal health information across care continu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relationship with PC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pecific Project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76176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 your specific objectives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patient satisfaction with discharge preparation by ## perc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staff satisfaction with discharge process by ## perc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readmissions by ## perc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post-discharge visits to the 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ject Steering Committe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date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champ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 and review up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Steering Committe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6964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 team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ate project team leader, executive sponsor, and physician champ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argeted Patient Popu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ilot Project RED, we have identified the following target patient popul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diagnosis, unit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line readmission rate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length of stay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tats from patient phone survey, if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6697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dentifying Targeted Patient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n Admiss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first identify that a newly admitted patient is in the targeted population for this projec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the Discharge Advocate (DA) be notified that a potential patient for Project RED has been admit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econdary screening criteria for patient inclusion will the DA use to confirm the use of the Project RED intervention with the pati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the DA track activities with new patie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harge Plann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85800" y="38098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228600" y="38862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tient Admi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6"/>
          <p:cNvSpPr/>
          <p:nvPr/>
        </p:nvSpPr>
        <p:spPr>
          <a:xfrm flipV="1">
            <a:off x="685800" y="373356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7"/>
          <p:cNvSpPr/>
          <p:nvPr/>
        </p:nvSpPr>
        <p:spPr>
          <a:xfrm flipV="1">
            <a:off x="1600200" y="373356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9"/>
          <p:cNvSpPr/>
          <p:nvPr/>
        </p:nvSpPr>
        <p:spPr>
          <a:xfrm flipV="1">
            <a:off x="8077320" y="373356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10"/>
          <p:cNvSpPr/>
          <p:nvPr/>
        </p:nvSpPr>
        <p:spPr>
          <a:xfrm flipV="1">
            <a:off x="5257800" y="373356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1066680" y="3124080"/>
            <a:ext cx="114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 &amp; 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x P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12"/>
          <p:cNvSpPr/>
          <p:nvPr/>
        </p:nvSpPr>
        <p:spPr>
          <a:xfrm flipH="1">
            <a:off x="838080" y="1143000"/>
            <a:ext cx="3810240" cy="228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13"/>
          <p:cNvSpPr/>
          <p:nvPr/>
        </p:nvSpPr>
        <p:spPr>
          <a:xfrm>
            <a:off x="4572000" y="1143000"/>
            <a:ext cx="4191120" cy="26668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14"/>
          <p:cNvSpPr/>
          <p:nvPr/>
        </p:nvSpPr>
        <p:spPr>
          <a:xfrm>
            <a:off x="1600200" y="4876920"/>
            <a:ext cx="6858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1600200" y="50292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 EDU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6"/>
          <p:cNvSpPr/>
          <p:nvPr/>
        </p:nvSpPr>
        <p:spPr>
          <a:xfrm>
            <a:off x="1600200" y="403848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17"/>
          <p:cNvSpPr/>
          <p:nvPr/>
        </p:nvSpPr>
        <p:spPr>
          <a:xfrm>
            <a:off x="4876920" y="403848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472428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scharge Order Writt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19"/>
          <p:cNvSpPr/>
          <p:nvPr/>
        </p:nvSpPr>
        <p:spPr>
          <a:xfrm>
            <a:off x="5257800" y="4191120"/>
            <a:ext cx="228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20"/>
          <p:cNvSpPr/>
          <p:nvPr/>
        </p:nvSpPr>
        <p:spPr>
          <a:xfrm>
            <a:off x="5257800" y="396252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1"/>
          <p:cNvSpPr/>
          <p:nvPr/>
        </p:nvSpPr>
        <p:spPr>
          <a:xfrm>
            <a:off x="5334120" y="426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scharge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22"/>
          <p:cNvSpPr/>
          <p:nvPr/>
        </p:nvSpPr>
        <p:spPr>
          <a:xfrm>
            <a:off x="7543800" y="38862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scharge Ev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23"/>
          <p:cNvSpPr/>
          <p:nvPr/>
        </p:nvSpPr>
        <p:spPr>
          <a:xfrm>
            <a:off x="5032080" y="5029200"/>
            <a:ext cx="29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ISCHARGE INSTRU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24"/>
          <p:cNvSpPr/>
          <p:nvPr/>
        </p:nvSpPr>
        <p:spPr>
          <a:xfrm>
            <a:off x="3886200" y="525780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25"/>
          <p:cNvSpPr/>
          <p:nvPr/>
        </p:nvSpPr>
        <p:spPr>
          <a:xfrm>
            <a:off x="8763120" y="3809880"/>
            <a:ext cx="0" cy="1600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26"/>
          <p:cNvSpPr/>
          <p:nvPr/>
        </p:nvSpPr>
        <p:spPr>
          <a:xfrm>
            <a:off x="8001000" y="54864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ost-D/C Follow-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RED Princip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08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ici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ineation of roles and respon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process initiation upon ad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education throughout hospit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buClr>
                <a:srgbClr val="ffff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ly accurate information flow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om PCP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Among hospital tea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► Back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C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buClr>
                <a:srgbClr val="ffff99"/>
              </a:buClr>
              <a:buSzPct val="9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patient discharge summary prior to dischar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1371600" y="1047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Re-Engineered Dischar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Princi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written discharge plan provided to patient prior to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information in patient’s language and literacy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ement of plan with patient after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ility of case management staff outside of limited daytime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quality improvement of discharge 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12952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Re-Engineered Dis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inci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-Engineering Dischar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3160" y="1447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5160" indent="-79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this performance improvement (PI) project is to improve our discharge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160" indent="-79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5160" indent="-79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RED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285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atient cent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285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s patients to care for themselves at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5080" indent="-285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s readmissions and visits to the emergency d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600200" y="-7668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D Checklis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848720" cy="475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5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 mutually reinforcing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Medication reconcil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Reconcile discharge plan with national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Followup appoin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Outstanding te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Post-discharge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Written discharg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What to do if problem a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Patient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Assess patient underst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 Discharge summary sent to PC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ephone reinfor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181480" y="3086280"/>
            <a:ext cx="3581640" cy="178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opted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tional Quality F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s one of 30 U.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"Safe Practices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543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ys to the Project RED Interven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multidisciplinary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 plan for patient use after dis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discharge followup with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harge Advocat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9480" y="16761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76560" indent="-376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s all discharge activities within patient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team activities and discharge planning rounds with primary do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s discharge-focus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s Patient Care Plan is completed and patient understands the information and can comply with the instructions in the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harge Advocat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09120" y="14475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2360" indent="-432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notified when patients in the target population are admitted or diagn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s action steps associated with Project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s the Patient Care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es patient and family about condition, medications, treatments, post-discharge plans, and followup ordered by the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s Patient Care Plan with patient and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s measurement data on project and patient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360" indent="-432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ischarge Advocate    </a:t>
            </a: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RED’s 11 components let the 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 patients for hospital dischar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patients safely transition from hospital to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patient self-health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patients after discharge through follow-up phone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ff Member Ro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’s physician and medical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sing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mac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’s Physicia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09480" y="15238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s patient plan of care based on critical path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or participates in discharge planning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s potential discharge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the PI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rsing Staff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nursing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e patient and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with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 with other members of the health care team, including 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e in multidisciplinary rounds, including those focused on discharge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armacis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es physician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ciles admission medications with medications from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es with care team specific to discharge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ciles medications upon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s with patient medication ques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se Manag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ange post-discharg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e the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social work du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 utilization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 Outli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etus for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egic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RED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e clar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ther Key Staff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162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harge Planning Roun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daily discharge r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staff, nursing staff, pharmacy, case management, and 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s discharge order writt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it expec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ekend dischar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timing expectation (e.g., time from when the order is written to when the patient is out the door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08120" y="228240"/>
            <a:ext cx="6926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Care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e of dis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 and contact information for physician and 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ding test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-up appoin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end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orders (diet, activity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about disease or con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to call physician or seek emergency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for writing down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 for locating appointments (op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nformation about your center (op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Care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690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ing the tem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ing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completed Patient Care Plan become part of the patient recor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lete the Patient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re Pla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tion reconcil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ding test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discharge servic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care provi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appoin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about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60776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dication Reconcili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procedure for completing medication reconciliation at dis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 participates and conducts final check on med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 populates Patient Care Plan (e.g., medication purpose, time of day tak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 uses final list to teach the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ending Tests and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6320" indent="-3967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ains information about tests and studies completed and still-pending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s pending test results to the designated spot on the Patient Care Plan, including which clinician is responsible for getting final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s out where the information is on the Patient Care Pl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patient to discuss tests with PC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Discharge Servi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rms with case manager that all services have been arra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s names and contact information of service providers to Patient Car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imary Care Provide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5358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rms name of PCP with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s name and contact number of PCP to Patient Car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llow-up Appoint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s best days of week and times of day with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es transportation nee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s clinicians’ offices to make appointments that meet patient’s time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off-hour or weekend discharges, leaves message with clinician’s office to call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s appointments to Patient Care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00200" y="274680"/>
            <a:ext cx="7238880" cy="79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erfect Storm" of Patient Safet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304920" y="1486080"/>
            <a:ext cx="8839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9.5 million hospital discharges per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9.2 billion in total annual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discharge is not standardized and is marked with poo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se 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commun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quality inform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prepar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gmen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var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 percent of patients have a post-discharge advers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 percent of Medicare patients are readmitted within 30 days; only half had a visit in the 30 days after dis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723888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formation About Condi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690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ains information about the patient’s condition to add to Patient Car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 that warrant followup with clin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s and symptoms that warrant emergency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information for the DA and PCP (phone numbers, paging instruc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162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Discharge Activi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ts discharge summary and Patient Care Plan to PC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fax: Ensures it is received and leg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e-mail: Ensures it is rece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follow-up phone call to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script that includes medications and follow-up appoin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s need for second call by clin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6392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munication and Coordin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79440" indent="-379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discharge process is often characterized by poor communication and a lack of coordination between the hospital and the PCP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9440" indent="-379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often do not know what medications their physicians prescribed, when follow-up appointments should take place, and, in some cases, why they were hospit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8001000" cy="79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imary Care Physicia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ferral 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434960"/>
            <a:ext cx="7543800" cy="542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44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s identify the PCP referral 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assesses PCP satisfaction before project lau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 champion communicates with PCPs about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CPs advise how to handle off-shift and weekend patient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t-Discharge Phone Cal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599840"/>
            <a:ext cx="814536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who calls the patient after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when the follow-up call will be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the caller’s scri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the process for off-shift and weekend dischar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cess Measur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the project to determine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 inve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will determine if Project RED will be used in other areas of the hospi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rocess Metr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time to notify DA about new ad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time from admission to first patient visit by DA (initiation of care plan) – only for patients who meet all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patients’ PCPs notified within 24 hours dischar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follow-up phone calls made within 48 hou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follow-up calls requiring second call by pharmacist (if non-pharmacist makes first ca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patients completing post-discharge survey (30 days after dischar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304920" y="152388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80769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rocess Metr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493560" indent="-493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ion of care plan deta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080" indent="-431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care plans with medication list in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080" indent="-431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care plans with care needs included (e.g., exercise, diet, main problem, when to call doc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080" indent="-431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care plans with follow-up appointments li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080" indent="-431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care plans with pre-arranged discharge resources identified (e.g., home health, durable medical equip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080" indent="-4316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of care plans with pending tests li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304920" y="152388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tcome Metrics for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arget Pop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length of stay (LO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-day unplanned readmission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of second LOS (readmis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/post data: Patient experience related to discharg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/post data: Frontline staff survey related to discharg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harge process costs (current and redesign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391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Launch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cted start 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ed population or un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’s name and contac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leader’s name and contac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 champion’s name and contac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More than Just Patient Safety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spitals with high rates of readmission will be paid less if patients are readmitted to the hospital within the same 30-day period, saving $26 billion over 10 years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- Obama Administration Budget Documen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PAC recommends reducing payments to hospitals with high readmission rates.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- MEDPAC Testimony before Congress March ‘09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S: 14 Quality Improvement Organizations “Safe Transitions” demonstration pro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S to release new payment sc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	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Question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Common Reasons for Avoidable Readmission -- Not Diagnosis-Specific</a:t>
            </a:r>
            <a:endParaRPr b="1" lang="en-US" sz="2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discharge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doesn’t understand how to use 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doesn’t learn warning signs for when to report to their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information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hospital to primary care physician (PC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hospital to nursing home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clarity on end-of-life care p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Common Reasons for </a:t>
            </a:r>
            <a:br>
              <a:rPr sz="2900"/>
            </a:b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Avoidable Readmission</a:t>
            </a:r>
            <a:endParaRPr b="1" lang="en-US" sz="2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timely post-discharge physician vi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ian unaware of hospit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has no P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lacks transpor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medication reconciliation yields duplication or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iagnosis-Specific Reasons for Avoidable Readmissions</a:t>
            </a:r>
            <a:endParaRPr b="1" lang="en-US" sz="2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PD, pneum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ients not getting home health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neumonia readmissions may reflect need for end-of-life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diac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diologists not arranging followup for heart failure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missions higher for heart failure patients with behavioral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iagnosis-Specific Reasons for Avoidable Readmissions</a:t>
            </a:r>
            <a:endParaRPr b="1" lang="en-US" sz="2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st 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rgeons not arranging for post-surgical primary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st-CABG patients, expecting to be pain free, seek readmission for ang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adequate patient teaching on self care after surgery (e.g., incision car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alysis patients very vulnerable to drug therapy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5:45:16Z</dcterms:created>
  <dc:creator>shforsyt</dc:creator>
  <dc:description/>
  <dc:language>en-US</dc:language>
  <cp:lastModifiedBy>emily.moser</cp:lastModifiedBy>
  <dcterms:modified xsi:type="dcterms:W3CDTF">2011-04-04T14:49:43Z</dcterms:modified>
  <cp:revision>512</cp:revision>
  <dc:subject/>
  <dc:title>Slide 1</dc:title>
</cp:coreProperties>
</file>