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97975"/>
</p:presentation>
</file>

<file path=ppt/commentAuthors.xml><?xml version="1.0" encoding="utf-8"?>
<p:cmAuthorLst xmlns:p="http://schemas.openxmlformats.org/presentationml/2006/main">
  <p:cmAuthor id="0" name="Karen Fleming-Michael" initials="K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<Relationship Id="rId61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0-07-15T14:03:06.997000000" idx="1">
    <p:pos x="10" y="10"/>
    <p:text>Jennifer notes that the AHCP is a Project RED term. May want to call it the patient care plan.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7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E81-785A-4515-B377-DE7784A1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BBA-63D6-499A-B518-9877F9AC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ed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DA48-5AF5-49E6-8C92-E4253D93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patient outcomes and 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cost and revenue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patient satisfaction sc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e for changes to CMS reimbursement penalties for high readmiss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nurse and provider time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 portability of personal health information across care contin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relationship with P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8D38-04F9-4923-8141-4F29455AE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184-60DC-4A53-B48B-2BAAA49F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ject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 your specific objectiv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 patient satisfaction with discharge preparation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 staff satisfaction with discharge process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readmissions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post-discharge visits to the 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892-032A-4BB3-96DE-781B096F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champ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d review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ate project team leader, executive sponsor, and 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ilot Project RED, we have identified the following target patient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diagnosis, unit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readmission rat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tats from patient phone survey, if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ing Targeted Patients 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you first identify that a newly admitted patient is in the targeted population for this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the Discharge Advocate (DA) be notified that a potential patient for Project RED has been admit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condary screening criteria for patient inclusion will the DA use to confirm the use of the Project RED intervention with the 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the DA track activities with new pat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he discharge process from patient admission to post-discharge follow-up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921-9ED8-40C8-B21A-B6F9188E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89E0-43B3-4F6B-84A2-3CD6280E3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33640" y="6922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Re-Engineered Dischar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licit delineation of roles and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process initiation up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education throughout hospit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accurate information flow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PCP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Among hospital tea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 Back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patient discharge summary prior to dischar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22C6CF-C00C-4D75-A853-2DBC9D28D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8FBE-FEAB-41FE-84C4-F77FAA55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B809-0D01-45FF-9F6D-6B65EE10C6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54080" y="536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Re-Engineered Dischar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 written discharge plan provided to patient prior to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formation in patient’s language and literacy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forcement of plan with patient after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ility of case management staff outside of limited daytim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quality improvement of discharge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6EFF51-CA3C-4C1C-94F6-03C4F458B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ing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oal of this performance improvement (PI) project is to improve our discharg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RED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patient cen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s patients to care for themselves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readmissions and visits to the emergenc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C663-C085-41F6-88BB-F40AFF7A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6CE-52A9-4CB0-BA71-86A13387D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utually reinforcing compon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Medication reconcil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concile discharge plan with national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Follow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Outstand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Written discharg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What to do if problem a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Assess patient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Discharge summary sent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National Quality Forum as one of 30 U.S. "Safe Practic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AB4B01-6C94-416C-BCBC-AF006BEE2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s to the Project RED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multidisciplina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 plan for patient use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followup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440" y="4370400"/>
            <a:ext cx="5715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all discharge activities within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eam activities and discharge planning rounds with primary do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s discharge-focus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Patient Care Plan is completed and patient understands the information and can comply with the instructions in th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0D1-69C3-498C-826A-0C019727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notified when patients in the target population are admitted or diagn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action steps associated with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the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s patient and family about condition, medications, treatments, post-discharge plans, and followup ordered by the physic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s Patient Care Plan with patient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s measurement data on project and patient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BFD-3808-4CE1-BA92-3FF83A7C7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3184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’s 11 components let the 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atients for hospital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patients safely transition from hospital to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patient self-healt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patients after discharge through follow-up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F11-3551-4540-9D01-34458BCC6A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Member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 and medical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patient plan of care based on critical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or participates in 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potential discharge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PI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nursing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 patient and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with other members of the health care team, including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multidisciplinary rounds, including those focused on discharge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physician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admission medications with medications from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s with care team specific to discharge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medications upon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s with patient medication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an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social work d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utilizatio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etus for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Key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a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440" y="4370040"/>
            <a:ext cx="5791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daily discharge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staff, nursing staff, pharmacy, case management, and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discharge order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t expec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end dis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timing expectation (e.g., time from when the order is written to when the patient is out the door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d contact information for physician and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orders (diet, activity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disease o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o call physician or seek emergenc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or writing dow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for locating appointments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formation about your center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ng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completed Patient Care Plan become part of the patient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servic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ov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procedure for completing medication reconciliation at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participates and conducts final check on 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populates Patient Care Plan (e.g., medication purpose, time of day ta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uses final list to teach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s information about tests and studies completed and still-pend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s pending test results to the designated spot on the Patient Care Plan, including which clinician is responsible for getting final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 out where the information is on the Patient Care P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s patient to discuss tests with P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with case manager that all services have been arr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names and contact information of service providers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name of PCP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name and contact number of PCP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s best days of week and times of day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s transportation ne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s clinicians’ offices to make appointments that meet patient’s time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off-hour or weekend discharges, leaves message with clinician’s office to call 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appointments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07D-7428-4469-BFBF-3EA0736D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ect Storm" of Patient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.5 million hospital discharg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29.2 billion in total annual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discharge is not standardized and is marked with poor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se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quality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prepa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ar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percent of patients have a post-discharge advers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percent of Medicare patients are readmitted within 30 days; only half had a visit in the 30 days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information about the patient’s condition to add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that warrant followup with clin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that warrant emergenc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nformation for the DA and PCP (phone numbers, paging instru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s discharge summary and Patient Care Plan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ax: Ensures it is received and leg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-mail: Ensures it i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follow-up phone call to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script that includes medications and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need for second call by clin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 and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discharge process is often characterized by poor communication and a lack of coordination between the hospital and the PCP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often do not know what medications their physicians prescribed, when follow-up appointments should take place, and, in some cases, why they were hospit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hysician Referral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ers identify the PCP referral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pital assesses PCP satisfaction before project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ian champion communicates with PCPs abou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Ps advise how to handle off-shift and weekend patient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o calls the patient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en the follow-up call will b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the caller’s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the process for off-shift and weekend dis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the project to determin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will determine if Project RED will be used in other areas of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9BF-28F2-4C39-857F-8C908E63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9676-0A5F-4376-9CC8-2168933A38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515-7873-43A2-9E27-9AC966D0E3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4920" y="4370400"/>
            <a:ext cx="6248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to notify DA about new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’ PCPs notified within 24 hours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phone calls made within 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 completing post-discharge survey (30 days after dis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9F34-6E1B-48D7-A7E0-76166039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D74-32AA-4E82-92A5-9CF7B30B8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AFF9-AA96-48B1-A9E7-AB2BA2772A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ion of care pla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medication lis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follow-up appointmen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ending tes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 (L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day unplanned readmis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second LOS (read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Patient experience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Frontline staff survey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rocess costs (current and redesig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5A7-D026-4E50-A40C-4443DF87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a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star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population or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ader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re than Just Patient Safe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"Hospitals with high rates of readmission will be paid less if patients are readmitted to the hospital within the same 30-day period, saving $26 billion over 10 years."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Obama Administration Budget Documen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PAC recommends reducing payments to hospitals with high readmission rates.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- MEDPAC Testimony before Congress March ‘0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: 14 Quality Improvement Organizations “Safe Transitions” demonstr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 to release new payment sche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Reasons for Avoidable Readmission -- Not Diagnosis-Speci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discharge 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oesn’t understand how to use 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oesn’t learn warning signs for when to report to their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information trans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spital to primary care physician (P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spital to nursing hom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clarity on end-of-life care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Reasons for Avoidable Read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ck of timely post-discharge physician vis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unaware of hospit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n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lacks 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medication reconciliation yields duplication or inte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gnosis-Specific Reasons for Avoidable Read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D, pneum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s not getting home health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neumonia readmissions may reflect need for end-of-life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rdiac c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rdiologists not arranging followup for heart failure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missions higher for heart failure patients with behavior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gnosis-Specific Reasons for Avoidable Read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st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rgeons not arranging for post-surgical primar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-CABG patients, expecting to be pain free, seek readmission for an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adequate patient teaching on self care after surgery (e.g., incision car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lysis patients very vulnerable to drug therapy ch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2F6-3E31-47BE-9EAC-FC1815F8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18D-4E53-48EE-A219-98AAC13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19-CFDC-417E-A1EE-41AD4416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4A4-5E12-403D-BCE6-4810495C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37A-5753-4D39-9E32-4FD2CF8C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88D-5B4A-4ECA-909E-81897F9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A6D-1E67-4A0F-8805-256F9D5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21A-B32B-4086-98CF-54F0498C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E50-4BC2-4628-85B7-058950C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7B7-CDC2-44AD-96E7-DC13578A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994-E567-4F44-9858-6F476BD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8B4-7035-4C9B-B6E5-3EDD9408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C66-0A24-47AE-A49F-C397F92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515D-AD68-4A40-A412-58F0D6F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5355-6F6E-4CCA-ADBB-225BA7C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18E7-B589-4503-B2FE-444CEC61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4066-C411-4508-9862-E699005B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F282-6D2E-4EDF-9315-464FCC51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F3E0-9EDD-46BC-A4F2-2C10BBAE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D2E0-EF5F-4E80-B203-42AD811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AB45-2B97-4B68-AFE2-65C88F2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2128-3D2F-41AF-A3F9-9F46062B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F6C-5931-4A85-88D1-45E1198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8341-E9F2-4C84-8D6C-CEBFEAC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CEE2-40DE-43CE-94E0-D7F9CE3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A073-5F1D-4524-B74E-D1F8978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0D19-9084-4F49-BE62-27CB8C4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305C-03EC-4142-ACD2-59A63925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CF07-9FB5-49AF-95BF-5AE6532F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D2CF-5B9D-44FD-BF82-99899882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349-98F2-4F31-AFDA-E095C37B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4E10-F4F3-4D48-ADCE-6E78CBBB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131-DB05-4464-B183-210C9C8C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E0A8-DCCE-4657-9825-0FFC2AE4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5D38-0439-419F-AEF3-84425CB1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87E1-58A1-4234-B016-3455B5A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1B8B-95D2-4B7D-93A1-A12D2339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EFB2-C92D-450F-A6AF-CA9096F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717F-4225-442B-B937-414391AA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ECC8-4300-474B-865C-CC35B70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4B6A-EE22-463C-844C-B23AC87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E67D-DD34-47BC-B9CC-58F0EF2F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4476-B136-4180-A678-6919A90A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BB5-028A-47F6-88A5-A02D4789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B2CA-0ADB-43F7-B87D-1E56A746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ED5-7C7C-4254-AAB5-F2F10B5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86D6D-C0D4-45AB-9F46-7C974581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2921-9A75-437C-9B15-27C0C93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DD42-A643-4413-B73B-AEECFE4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6A1F-4252-4C27-9EB4-BDF70F8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51DAF-160B-4F72-A862-486D05B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80AE0-A2E0-4264-B403-565A3BBF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B1DC-3699-434A-BF16-4515269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6A1-C7E2-478F-8C7D-65304D6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563F-4184-44C9-9C8F-CE61619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741B-3C97-454F-8C32-CD922E6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4EA0-F2DD-47B8-A93E-37D2C69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B1D0-1F37-429D-9CB1-3A219517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FE1D-4213-4F58-BACE-62464DE9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7C2-BC0D-42C6-9A89-FE3315D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FD1-707A-40CF-B4C1-17A71B8071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62F3-DD02-4B69-80F7-8BB3A3C9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94A-EAD0-481C-AC2C-6134EE3CAF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FB0D-3C5F-4454-BB2D-696B0B15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2EFD-67C1-4741-BCBB-E7657316993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EEDB-4B2A-414D-AC41-AA3E493B2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E3A-F128-4691-8DD8-54465B51D94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706B-6616-4D89-80B4-AB4995DE2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31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3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8D0-CD9C-48F8-97A1-8EE48920F25E}" type="datetime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85A-0D0A-43B6-90F0-F3221F031CA7}" type="slidenum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Engineered Discha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ategic Prior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59984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outcomes and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ost and revenue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satisfaction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for changes to CMS reimbursement penalties for high readmission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nurse and provider tim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portability of personal health information across care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relationship with PC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cific Project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17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your specific objectiv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satisfaction with discharge preparation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taff satisfaction with discharge process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eadmissions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post-discharge visits to the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Steering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hamp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and review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Steering Committe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team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ate project team leader, executive sponsor, and physician champ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argeted Patient Popu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ilot Project RED, we have identified the following target patient popul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diagnosis, unit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readmission rate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tats from patient phone survey, if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ntifying Targeted Patient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 Admiss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first identify that a newly admitted patient is in the targeted population for this pro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the Discharge Advocate (DA) be notified that a potential patient for Project RED has been admit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econdary screening criteria for patient inclusion will the DA use to confirm the use of the Project RED intervention with the pat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the DA track activities with new pati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85800" y="38098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28600" y="3886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Ad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5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V="1">
            <a:off x="16002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V="1">
            <a:off x="807732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5257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066680" y="312408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 &amp;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x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838080" y="1143000"/>
            <a:ext cx="3810240" cy="228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4572000" y="1143000"/>
            <a:ext cx="4191120" cy="2666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14"/>
          <p:cNvSpPr/>
          <p:nvPr/>
        </p:nvSpPr>
        <p:spPr>
          <a:xfrm>
            <a:off x="1600200" y="4876920"/>
            <a:ext cx="685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1600200" y="50292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160020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487692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72428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Order Writ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9"/>
          <p:cNvSpPr/>
          <p:nvPr/>
        </p:nvSpPr>
        <p:spPr>
          <a:xfrm>
            <a:off x="5257800" y="41911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0"/>
          <p:cNvSpPr/>
          <p:nvPr/>
        </p:nvSpPr>
        <p:spPr>
          <a:xfrm>
            <a:off x="5257800" y="39625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5334120" y="426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7543800" y="3886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E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5032080" y="50292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SCHARGE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24"/>
          <p:cNvSpPr/>
          <p:nvPr/>
        </p:nvSpPr>
        <p:spPr>
          <a:xfrm>
            <a:off x="3886200" y="525780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5"/>
          <p:cNvSpPr/>
          <p:nvPr/>
        </p:nvSpPr>
        <p:spPr>
          <a:xfrm>
            <a:off x="8763120" y="3809880"/>
            <a:ext cx="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8001000" y="5486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ost-D/C Follow-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 Princi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neation of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process initiation upon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throughout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ly accurate information f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om PCP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mong hospital tea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 Back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C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patient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371600" y="104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Re-Engineered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written discharge plan provided to patient prior to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nformation in patient’s language and litera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ment of plan with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case management staff outside of limited daytim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quality improvement of discharge 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95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-Engineered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-Engineering Dischar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16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this performance improvement (PI) project is to improve our discharg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RE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atient cen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s patients to care for themselves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eadmissions and visits to the emergency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7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 mutually reinforcing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llow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181480" y="3086280"/>
            <a:ext cx="3581640" cy="178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op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Quality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one of 30 U.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afe Practices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543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s to the Project RED Interven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multidiscipli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plan for patient use afte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discharge followup with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948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ll discharge activities within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team activities and discharge planning rounds with primary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discharge-focus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Patient Care Plan is completed and patient understands the information and can comply with the instructions in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otified when patients in the target population are admitted or diagn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action steps associated with Project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the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s patient and family about condition, medications, treatments, post-discharge plans, and followup ordered by the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Patient Care Plan with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measurement data on project and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charge Advocate   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RED’s 11 components let th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patients for hospital dischar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atients safely transition from hospital to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tient self-health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patients after discharge through follow-up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ff Member Ro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physician and medical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’s Physicia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plan of care based on critical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or participates in discharge planning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s potential discharge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PI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rsing Staff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nursing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with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with other members of the health care team, including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multidisciplinary rounds, including those focused on discharg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s physician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admission medications with medications from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s with care team specific to discharg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medications upon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patient medication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Manag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ange post-discharg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ocial work du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utilization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tus for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cla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Key Staff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 Rou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daily discharge 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staff, nursing staff, pharmacy, case management, and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s discharge order writ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t exp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end dischar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iming expectation (e.g., time from when the order is written to when the patient is out the door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08120" y="228240"/>
            <a:ext cx="6926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Care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and contact information for physician and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orders (diet, activity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bout disease or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o call physician or seek emergenc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for writing down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 for locating appointments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formation about your center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Care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69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the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completed Patient Care Plan become part of the patient recor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the Patien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discharge servic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care provi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app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bout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077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 Reconcili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procedure for completing medication reconciliation at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participates and conducts final check on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populates Patient Care Plan (e.g., medication purpose, time of day ta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uses final list to teach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nding Tests and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s information about tests and studies completed and still-pending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pending test results to the designated spot on the Patient Care Plan, including which clinician is responsible for getting final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ut where the information is on the Patient Ca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patient to discuss tests with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Discharge Serv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s with case manager that all services have been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names and contact information of service providers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mary Care Provid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358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s name of PCP with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name and contact number of PCP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-up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s best days of week and times of day with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s transportation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clinicians’ offices to make appointments that meet patient’s time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ff-hour or weekend discharges, leaves message with clinician’s office to call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ppointments to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ect Storm" of Patient Safe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04920" y="148608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.5 million hospital discharges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9.2 billion in total annu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discharge is not standardized and is marked with 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se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prepa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var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percent of patients have a post-discharge advers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percent of Medicare patients are readmitted within 30 days; only half had a visit in the 30 days after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formation About Condi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s information about the patient’s condition to add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that warrant followup with clin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that warrant emergenc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information for the DA and PCP (phone numbers, paging instruc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Discharge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discharge summary and Patient Care Plan to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fax: Ensures it is received and leg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-mail: Ensures it is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follow-up phone call to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script that includes medications and follow-up appoin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need for second call by clin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unication and Coordin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9440" indent="-379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discharge process is often characterized by poor communication and a lack of coordination between the hospital and the PCP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often do not know what medications their physicians prescribed, when follow-up appointments should take place, and, in some cases, why they wer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80010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Care Physicia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ferral 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754380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 identify the PCP referral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ssesses PCP satisfaction before project 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 communicates with PCPs abou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Ps advise how to handle off-shift and weekend patient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Discharge Phone Cal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145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o calls the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en the follow-up call will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caller’s 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process for off-shift and weekend dis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 Measur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project to determin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ll determine if Project RED will be used in other areas of the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o notify DA about new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patients’ PCPs notified within 24 hours dischar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follow-up phone calls made within 48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patients completing post-discharge survey (30 days after dis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04920" y="152388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ion of care plan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medication list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follow-up appointments li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pending tests li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04920" y="152388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come Metrics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 (L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-day unplanned readmiss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second LOS (read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Patient experience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Frontline staff survey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process costs (current and redesign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Launc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ed start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population o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leader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More than Just Patient Safety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s with high rates of readmission will be paid less if patients are readmitted to the hospital within the same 30-day period, saving $26 billion over 10 years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Obama Administration Budget Docu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PAC recommends reducing payments to hospitals with high readmission rates.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MEDPAC Testimony before Congress March ‘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: 14 Quality Improvement Organizations “Safe Transitions” demonstration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to release new payment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ommon Reasons for Avoidable Readmission -- Not Diagnosis-Specific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discharge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oesn’t understand how to use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oesn’t learn warning signs for when to report to their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information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hospital to primary care physician (P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hospital to nursing home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larity on end-of-life care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ommon Reasons for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voidable Readmission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timely post-discharge physician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 unaware of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has no P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lacks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dication reconciliation yields duplication or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iagnosis-Specific Reasons for Avoidable Readmissions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PD, p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ents not getting home health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neumonia readmissions may reflect need for end-of-lif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diac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diologists not arranging followup for heart failur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missions higher for heart failure patients with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iagnosis-Specific Reasons for Avoidable Readmissions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geons not arranging for post-surgical prim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t-CABG patients, expecting to be pain free, seek readmission for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adequate patient teaching on self care after surgery (e.g., incision ca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ysis patients very vulnerable to drug therapy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4-04T14:49:43Z</dcterms:modified>
  <cp:revision>512</cp:revision>
  <dc:subject/>
  <dc:title>Slide 1</dc:title>
</cp:coreProperties>
</file>