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5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51F-DAAF-4279-B8B2-60470962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of admits for home health patients by state. Data is from OASIS data is 2008 AHRQ National Healthcare Quality Repor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states are at 26.8% or less; 16 states are between 26.9% and 30.9%; and 18 states are at 31.0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87B-0471-4EED-99FD-0F3F61B613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5E43-4EB6-427A-BD15-5213E0EAFA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7D6-6166-44F1-963E-F580E0058F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598-994C-46CF-BD1A-17DBBB436B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9914-6AFD-4734-B19C-90C628381B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44B-8A38-454C-B332-7392BA8A8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is of the cover of the January 2010 HRET Leadership Guide.  The title of the guide is Health Care Leader Action Guide to Reduce Avoidable Readmissions.  There is a young female medical staff person talking to an older female pat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CD7-EFE8-4C47-A3B6-93E226CC0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image of the first page of an article entitled "A Reengineered Hospital Discharge Program to Decrease Rehospitalization" published in the Annals of Internal Medicine February,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D8E0-2F7C-4B76-9A47-8A5F48E71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6A8C-B09A-4049-86CF-03DCC58B19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079-6B9D-40F6-82AB-67D4518B8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7CE0CE-DF6D-4732-AAA4-2D9B03F066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7C97-FA40-445B-A759-48681F63E9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00C8-E4B3-46C0-B384-634350B6E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873B6A-C85E-4619-B038-365D73EFB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A6F1-EB7B-4518-AF10-60BC84CE3F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RED Automated Discharge Workfl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7C0-F9AB-4BBC-85BF-18813CE72F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FA39-AB84-4457-AC8F-40864A2B95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ED90-C055-45A2-8BB0-F136AF8B3E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mission rates by state. Data is from 2007 Medicare SAF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 states are at 16.7% or less; 18 states are between 16.8% and 19%; and 15 states are at 19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7D73-A032-451A-AA95-B4CCD3E5E1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ts for ambulatory sensitive conditions by state. Data is from 2007 Medicare SAF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states are at 5,795 per 100,000 or less; 18 states are between 5,796-7,118 per 100,000; and 15 states are at 7,119 per 100,000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475-0894-460F-8555-29A96CB48E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cent of admits for short term nursing home residents  by state. Data is from 2006 Medpar Dat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tates are missing; 17 states are at 18.3% or less; 16 states are between 18.4% and 22.4%; and 15 states are at 22.5% or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7C97-F757-4581-926A-90FE5CE0B4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mailto:alex.martinez@engineeredcare.com" TargetMode="External"/><Relationship Id="rId3" Type="http://schemas.openxmlformats.org/officeDocument/2006/relationships/hyperlink" Target="mailto:dnadzam@jcrinc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682560" y="36360"/>
            <a:ext cx="7693200" cy="532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Percent of admits for home health patients by state. Data is from OASIS data is 2008 AHRQ National Healthcare Quality Report.  &#10;&#10;16 states are at 26.8% or less; 16 states are between 26.9% and 30.9%; and 18 states are at 31.0% or more."/>
          <p:cNvPicPr/>
          <p:nvPr/>
        </p:nvPicPr>
        <p:blipFill>
          <a:blip r:embed="rId2"/>
          <a:stretch/>
        </p:blipFill>
        <p:spPr>
          <a:xfrm>
            <a:off x="1371600" y="1295280"/>
            <a:ext cx="6541920" cy="5315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2438280" y="1600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ASIS data in 2008 AHRQ National Healthcare Quality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-133200" y="-208080"/>
            <a:ext cx="9612000" cy="1543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52280" y="1219320"/>
            <a:ext cx="8915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-day Hos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mis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Adm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dmit Rat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bulato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sitiv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8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7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 Resi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 Heal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6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5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 Adm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73080" y="-208080"/>
            <a:ext cx="9077400" cy="1543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04920" y="685800"/>
            <a:ext cx="8762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Possibil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nursing home, home health agency, and primary care drive both admission and readmission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characteristics that lead to admissions also lead to re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in non-hospital settings that lead to admissions for these groups also lead to re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Certain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not solve your readmission problem without understanding factors leading to admi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ing readmissions cannot be done within the walls of the hos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understand the big picture factors, while focusing on specific challenges and their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139680" y="60480"/>
            <a:ext cx="8766360" cy="1396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838188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transfer of information to patien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patient understanding of how to use medications after hospital dischar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doesn’t understand warning signs that warrant an emergency call to their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transfer of information to ambulatory caregiver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spital to nursing home staf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spital t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k of clarity on end of life care pre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176040" y="146160"/>
            <a:ext cx="8596440" cy="1255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752480"/>
            <a:ext cx="83059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k of timely post-discharge physician visi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imary care physician unaware of hospital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has no transportation t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tient has no primary care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or patient knowledge and non-disclosure of current drug therapy, and/or inadequate medication reconciliation, can yield drug therapy duplication or interac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patients are unlikely to ascribe adverse effects to causes, might not ask for change in drug therap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176040" y="146160"/>
            <a:ext cx="8596440" cy="1255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80880" y="1600200"/>
            <a:ext cx="83822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PD, Pneumonia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Many patients need, but do not receive, home health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neumonia readmissions may reflect need for end of life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ardiac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ardiologists may rely on primary care, not arrange follow up care for heart failure patients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ff70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admissions appear to be much higher for heart failure patients with behavioral diagnos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176040" y="225360"/>
            <a:ext cx="8596440" cy="1249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80880" y="1676160"/>
            <a:ext cx="83822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ost-surgical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Surgeons not arranging for post-surgical primary ca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adequate teaching of the patient in caring for their body after surger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3445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50000"/>
              <a:buFont typeface="Courier New"/>
              <a:buChar char="o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cision c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58920" indent="-3445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50000"/>
              <a:buFont typeface="Courier New"/>
              <a:buChar char="o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post-CABG patients, expecting to be pain free, seek readmission for ang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ialysis Patients—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Clr>
                <a:srgbClr val="ffd966"/>
              </a:buClr>
              <a:buSzPct val="60000"/>
              <a:buFont typeface="Wingdings" charset="2"/>
              <a:buChar char="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 population that is very vulnerable to drug therapy changes during hospitaliz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139680" y="115920"/>
            <a:ext cx="8632800" cy="1395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80880" y="17524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ublic reporting of readmission rate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nalties against hospitals with “excess” readmissions (above expected rates) for targeted conditions will be imposed, starting October 1, 2013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le community hospitals, Medicare-dependent small rural hospitals, and low volume conditions are exempt from penalties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78000" y="2017800"/>
            <a:ext cx="8540640" cy="1652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Photo is of the cover of the January 2010 HRET Leadership Guide.  The title of the guide is Health Care Leader Action Guide to Reduce Avoidable Readmissions.  There is a young female medical staff person talking to an older female patient."/>
          <p:cNvPicPr/>
          <p:nvPr/>
        </p:nvPicPr>
        <p:blipFill>
          <a:blip r:embed="rId2"/>
          <a:stretch/>
        </p:blipFill>
        <p:spPr>
          <a:xfrm>
            <a:off x="838080" y="1066680"/>
            <a:ext cx="4191120" cy="5562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5486400" y="1143000"/>
            <a:ext cx="2590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66"/>
                </a:solidFill>
                <a:latin typeface="Arial"/>
              </a:rPr>
              <a:t>Provides strategies for you to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ine your hospital’s current rate of readmiss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and prioritize your improvement opportuniti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an action plan of strategies to impl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d9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r your hospital’s progres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1652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501(c)(3) affiliate of the American Hospital Association,  established in 1944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 Mission:  Transforming health care through research and educa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Calibri"/>
              </a:rPr>
              <a:t>U.S. Agency for Healthcare Research and Quality (AHRQ) has contracted with HRET to bring free patient safety resources and tools to interested hospitals &amp; health syste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23760" y="208080"/>
            <a:ext cx="8791560" cy="1523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alth Reform allocated  $500 Mn for hospital-community organization partnerships to help hospitals to reduce readmissions—priority given to organizations in AoA projects and those serving rural and underserved populati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IOs might be assigned to assist hospitals in the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tatement of Work (August 2011)—an expansion of 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oW project in 14 Stat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905680" cy="1397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ost "evidence" showing care coordination impact is unreliabl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thematica found 3 types of interventions have been effectiv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onal care interventions (Naylor and Colema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lf-management education interventions (Lorig and Wheel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ordinated care interventions (Select sites from the Medicare Coordinated Care Demonstration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8772480" cy="152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first engaged while hospitalize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llowed intensively post-dischar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ceive comprehensive post-discharge instructions on medications, self-care, and symptom recognition and manage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tients reminded/encouraged to keep follow-up physician appointment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9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723160" cy="1792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7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argeted patients hospitalized for CHF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sed advanced practice nurses (AP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2-week intervention; highly structured protocol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CT (118 treatment, 121 contro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 year post-discharge follow-up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tervention patients had: 34% fewer rehospitalizations per pati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er proportion rehospitalized (45% vs. 55%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9% lower average total costs ($7,636 vs. $12,481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723160" cy="1397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6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Used APNs as transition coaches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argeted patients hospitalized for various conditions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Patients received (1) tools to promote cross-site communication, (2) encouragement to take a more active role in their care, (3) continuity/ guidance from transition coach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RCT (379 treatment, 371 control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Lowered rehospitalization rates at 90 days: For any reason (17% vs. 23%); For initial condition (5% vs. 10%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92400" indent="-392400">
              <a:lnSpc>
                <a:spcPct val="90000"/>
              </a:lnSpc>
              <a:spcBef>
                <a:spcPts val="726"/>
              </a:spcBef>
              <a:buSzPct val="11353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Lowered hospital costs 19% over 180 days ($2,058 vs. $2,546)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-6480" y="-42840"/>
            <a:ext cx="8778960" cy="1652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This is an image of the first page of an article entitled &quot;A Reengineered Hospital Discharge Program to Decrease Rehospitalization&quot; published in the Annals of Internal Medicine February, 2009."/>
          <p:cNvPicPr/>
          <p:nvPr/>
        </p:nvPicPr>
        <p:blipFill>
          <a:blip r:embed="rId2"/>
          <a:stretch/>
        </p:blipFill>
        <p:spPr>
          <a:xfrm>
            <a:off x="1219320" y="1600200"/>
            <a:ext cx="6619680" cy="477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73080" y="-42840"/>
            <a:ext cx="8547120" cy="1652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33240"/>
            <a:ext cx="8229600" cy="51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is an NQF Safe Pract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can be delivered following 11 key components and using the After Hospital Care Plan (ACHP) too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D can decrease hospital us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0% overall redu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avings of $412 per pati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through elimination of  barri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8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ordination and change are challeng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9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rs must collaborate and work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buSzPct val="117554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sing health IT to implement RED could help-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11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rove delivery of ca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100000"/>
              </a:lnSpc>
              <a:buSzPct val="119919"/>
              <a:buBlip>
                <a:blip r:embed="rId12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rther improve cost savings and build the business cas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) Explicit delineation of roles and responsibil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) Discharge process initiation upon admiss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) Patient education throughout hospital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) Timely accurate information flow: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From PCP </a:t>
            </a:r>
            <a:r>
              <a:rPr b="0" i="1" lang="en-US" sz="2400" spc="-1" strike="noStrike">
                <a:solidFill>
                  <a:srgbClr val="ff3300"/>
                </a:solidFill>
                <a:latin typeface="Calibri"/>
                <a:ea typeface="Arial"/>
              </a:rPr>
              <a:t>►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Among Hospital team </a:t>
            </a:r>
            <a:r>
              <a:rPr b="0" i="1" lang="en-US" sz="2400" spc="-1" strike="noStrike">
                <a:solidFill>
                  <a:srgbClr val="ff3300"/>
                </a:solidFill>
                <a:latin typeface="Calibri"/>
                <a:ea typeface="Arial"/>
              </a:rPr>
              <a:t>►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ack to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CP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)  Complete pt.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)  Comprehensive written discharge plan given to pt. prior to dischar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)  Discharge information in pts. language and literacy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)  Reinforcement of plan with patient after dischar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)  Availability of case management staff outside of limited daytime hou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)  Continuous quality improvement of discharge  proces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80880" y="2286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966"/>
                </a:solidFill>
                <a:latin typeface="Arial"/>
                <a:ea typeface="ＭＳ Ｐゴシック"/>
              </a:rPr>
              <a:t>Project RED:  Principles of the Newly </a:t>
            </a:r>
            <a:br>
              <a:rPr sz="3200"/>
            </a:br>
            <a:r>
              <a:rPr b="0" lang="en-US" sz="3200" spc="-1" strike="noStrike">
                <a:solidFill>
                  <a:srgbClr val="ffd966"/>
                </a:solidFill>
                <a:latin typeface="Arial"/>
                <a:ea typeface="ＭＳ Ｐゴシック"/>
              </a:rPr>
              <a:t>Re-Engineered Hospital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ffd966"/>
                </a:solidFill>
                <a:latin typeface="Arial"/>
              </a:rPr>
              <a:t>Project RED Discharge Checkli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d966"/>
                </a:solidFill>
                <a:latin typeface="Calibri"/>
              </a:rPr>
              <a:t>Eleven mutually reinforcing component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Follow-up appoint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3" descr=""/>
          <p:cNvPicPr/>
          <p:nvPr/>
        </p:nvPicPr>
        <p:blipFill>
          <a:blip r:embed="rId1"/>
          <a:stretch/>
        </p:blipFill>
        <p:spPr>
          <a:xfrm>
            <a:off x="176040" y="311040"/>
            <a:ext cx="8596440" cy="17496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3"/>
          <p:cNvGrpSpPr/>
          <p:nvPr/>
        </p:nvGrpSpPr>
        <p:grpSpPr>
          <a:xfrm>
            <a:off x="457200" y="1600200"/>
            <a:ext cx="8305920" cy="4800600"/>
            <a:chOff x="457200" y="1600200"/>
            <a:chExt cx="8305920" cy="4800600"/>
          </a:xfrm>
        </p:grpSpPr>
        <p:sp>
          <p:nvSpPr>
            <p:cNvPr id="106" name="Rounded Rectangle 7"/>
            <p:cNvSpPr/>
            <p:nvPr/>
          </p:nvSpPr>
          <p:spPr>
            <a:xfrm>
              <a:off x="457200" y="1600200"/>
              <a:ext cx="8305920" cy="4800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icture 6" descr="VPA-cart_2"/>
            <p:cNvPicPr/>
            <p:nvPr/>
          </p:nvPicPr>
          <p:blipFill>
            <a:blip r:embed="rId2"/>
            <a:stretch/>
          </p:blipFill>
          <p:spPr>
            <a:xfrm>
              <a:off x="3325320" y="4224240"/>
              <a:ext cx="1758960" cy="21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" descr="workflow"/>
            <p:cNvPicPr/>
            <p:nvPr/>
          </p:nvPicPr>
          <p:blipFill>
            <a:blip r:embed="rId3"/>
            <a:stretch/>
          </p:blipFill>
          <p:spPr>
            <a:xfrm>
              <a:off x="595440" y="2421720"/>
              <a:ext cx="7995600" cy="168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Line 7"/>
          <p:cNvSpPr/>
          <p:nvPr/>
        </p:nvSpPr>
        <p:spPr>
          <a:xfrm>
            <a:off x="1371600" y="3809880"/>
            <a:ext cx="1828800" cy="1371600"/>
          </a:xfrm>
          <a:prstGeom prst="line">
            <a:avLst/>
          </a:prstGeom>
          <a:ln w="25560">
            <a:solidFill>
              <a:srgbClr val="050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5105520" y="4038480"/>
            <a:ext cx="1371600" cy="1447920"/>
          </a:xfrm>
          <a:prstGeom prst="line">
            <a:avLst/>
          </a:prstGeom>
          <a:ln w="25560">
            <a:solidFill>
              <a:srgbClr val="050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189000"/>
            <a:ext cx="9071280" cy="99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410840"/>
            <a:ext cx="838224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HRQ funds HRET to provide technical assistance for hospitals and other provid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’s most common partners are state hospital associations, also QIOs, other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RET can offer technical assistance with using AHRQ products and support, such as free webinars, and expert trainers at state confere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we cannot help, we often can refer to someone who c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4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936280" cy="1768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33520" y="1294920"/>
            <a:ext cx="8076960" cy="52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oston Medical Center has a vendor, Engineered Care, providing Project RED’s electronic patient education system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ct:  Alex Martine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3eb4f"/>
                </a:solidFill>
                <a:uFillTx/>
                <a:latin typeface="Calibri"/>
                <a:hlinkClick r:id="rId2"/>
              </a:rPr>
              <a:t>alex.martinez@engineeredcare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415) 297-778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CR is offering a manual Project RED process with AHRQ fund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ct:  Deborah Nadzam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 u="sng">
                <a:solidFill>
                  <a:srgbClr val="f3eb4f"/>
                </a:solidFill>
                <a:uFillTx/>
                <a:latin typeface="Calibri"/>
                <a:hlinkClick r:id="rId3"/>
              </a:rPr>
              <a:t>dnadzam@jcrinc.co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630) 261-504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26320" cy="139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CAHPS (especially domains 5 and 9)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plaining about medic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ormation on recovery at h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Calibri"/>
              </a:rPr>
              <a:t>Variation in Florida Hospital Scores on these Ite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Explain Med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Give Info on Recovery at Ho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nimu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8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3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7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7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ximum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4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626320" cy="1395360"/>
          </a:xfrm>
          <a:prstGeom prst="rect">
            <a:avLst/>
          </a:prstGeom>
          <a:ln w="0">
            <a:noFill/>
          </a:ln>
        </p:spPr>
      </p:pic>
      <p:sp>
        <p:nvSpPr>
          <p:cNvPr id="116" name="Content Placeholder 2"/>
          <p:cNvSpPr/>
          <p:nvPr/>
        </p:nvSpPr>
        <p:spPr>
          <a:xfrm>
            <a:off x="457200" y="1600200"/>
            <a:ext cx="822960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brochures encouraging patients to ask questions about medications and follow-up c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taying Active and Healthy with Blood Thinners,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 10-minute DVD to reduce complications for patients discharged with instructions to take a blood th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proving Warfarin Management—to help clinicians establish an ambulatory anticoagulation cli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208080" y="237960"/>
            <a:ext cx="8564400" cy="1121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36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vention Quality Indicators measure  the treatment of ambulatory care-sensitive conditions where good outpatient care can reduce the risk of hospitalization or re-hospitaliz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amSTEPPS, a process to improve communication and teamwork among hospital staff throughout the patient stay, including what can be a hectic discharge process.  Involves training a team for 2-3 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139680" y="1030320"/>
            <a:ext cx="8912160" cy="123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2" descr=""/>
          <p:cNvPicPr/>
          <p:nvPr/>
        </p:nvPicPr>
        <p:blipFill>
          <a:blip r:embed="rId1"/>
          <a:stretch/>
        </p:blipFill>
        <p:spPr>
          <a:xfrm>
            <a:off x="225360" y="189000"/>
            <a:ext cx="8467920" cy="99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view recent evidence of the extent and causes of avoidable hospital readmission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scribe congressional action in Patient Protection and Coverage Act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1001"/>
              </a:spcBef>
              <a:buClr>
                <a:srgbClr val="ffff99"/>
              </a:buClr>
              <a:buSzPct val="90000"/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escribe support now available to help hospitals respond to heightened concern and financial pressur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8778960" cy="99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0880" y="1142640"/>
            <a:ext cx="838224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arly 20% of Medicare hospitalizations are followed by readmission within 30 day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% of rehospitalizations within 30 days appear to be unplanned, the result of clinical deterior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dPAC:  75% of readmissions preventable, adding $12 Bn/yr to Medicare spendin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nly half of the patients rehospitalized within 30 days had a physician visit before readmiss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nknown if lack of physician visit causes readmissions—but poor continuity of care, esp for many chronically ill patient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9% of Medicare discharges are followed by an adverse event within 30 days—2/3 are drug events, the kind most often judged “preventable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717040" cy="8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294920"/>
            <a:ext cx="815328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idence suggests many rehospitalizations are preventable--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rehospitalized before seeing a physicia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-hospital and inter-state var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3967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andomized clinical trials testing interven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proportion of readmissions are truly “avoidable”?   No one know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bably hospitals, physicians, HHAs, nursing homes and pharmacists can prevent more readmissions working together than hospitals can by improving discharge process alon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78000" y="-268200"/>
            <a:ext cx="8412120" cy="165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Readmission rates by state. Data is from 2007 Medicare SAF Data.  &#10;&#10;17 states are at 16.7% or less; 18 states are between 16.8% and 19%; and 15 states are at 19% or more."/>
          <p:cNvPicPr/>
          <p:nvPr/>
        </p:nvPicPr>
        <p:blipFill>
          <a:blip r:embed="rId2"/>
          <a:stretch/>
        </p:blipFill>
        <p:spPr>
          <a:xfrm>
            <a:off x="1219320" y="1219320"/>
            <a:ext cx="6694200" cy="5438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Medicare SAF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dmits for ambulatory sensitive conditions by state. Data is from 2007 Medicare SAF Data.  &#10;&#10;16 states are at 5,795 per 100,000 or less; 18 states are between 5,796-7,118 per 100,000; and 15 states are at 7,119 per 100,000 or more."/>
          <p:cNvPicPr/>
          <p:nvPr/>
        </p:nvPicPr>
        <p:blipFill>
          <a:blip r:embed="rId2"/>
          <a:stretch/>
        </p:blipFill>
        <p:spPr>
          <a:xfrm>
            <a:off x="1219320" y="1162080"/>
            <a:ext cx="7010280" cy="56959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 Medicare SAF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182520" y="-208080"/>
            <a:ext cx="8918640" cy="154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Percent of admits for short term nursing home residents  by state. Data is from 2006 Medpar Data.  &#10;&#10;2 states are missing; 17 states are at 18.3% or less; 16 states are between 18.4% and 22.4%; and 15 states are at 22.5% or more."/>
          <p:cNvPicPr/>
          <p:nvPr/>
        </p:nvPicPr>
        <p:blipFill>
          <a:blip r:embed="rId2"/>
          <a:stretch/>
        </p:blipFill>
        <p:spPr>
          <a:xfrm>
            <a:off x="1143000" y="1295280"/>
            <a:ext cx="686592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581280" y="16002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6 Medpar Dat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7:09:18Z</dcterms:created>
  <dc:creator>shines3</dc:creator>
  <dc:description/>
  <dc:language>en-US</dc:language>
  <cp:lastModifiedBy>bmooney</cp:lastModifiedBy>
  <dcterms:modified xsi:type="dcterms:W3CDTF">2010-06-14T17:10:44Z</dcterms:modified>
  <cp:revision>321</cp:revision>
  <dc:subject/>
  <dc:title>Project Overview</dc:title>
</cp:coreProperties>
</file>