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9089E-93C5-44DB-BA71-F1685BB37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18381-E4F0-4545-A1CF-E45314972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-Engineering Patient Discharge: The Hospital Lau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325440" y="4479840"/>
            <a:ext cx="6989760" cy="4321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Your Ideal Future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e a new high-level process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partici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admission is the star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hospital care provision is the end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each discipline what steps it will now take to prepare the patient for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Ideal State Project RED Flow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Process map that outlines patient discharge process in the ideal state, identifying information and communication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CFD6C-E38B-4659-A942-568BF44E8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32072-61A1-40BC-92EE-25F4131AD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Check for Failure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ssive re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or lat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rrect identification or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rrec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rrect counting or calcu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loo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reading or mis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rrect 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rrect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rrect route, position, or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e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baseline data from 5 to 10 patients, if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ze expected to actual time stamps (process metr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ze completed Patient Care Plans as defin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ze current state outcom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62DC8-42E9-4B00-A051-CA3A68AF3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625788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ics for Target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 metrics (readmission r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metrics – time st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metrics – Patient Care Plan compl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 and post data – frontline staff, physicians, and patient surve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03657-9528-431D-AFA8-B50D4E564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/Impr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 causes of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d in Analyz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k in relative impor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storm potential solutions for each root 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root causes with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97D2D-F617-439B-876C-BA920CDE2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ing a Pilot 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baseline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employees on pilot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results of pilot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ze results of pilot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to proceed to full-scale 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A2D0A-C0B2-43E7-A303-6A25B6A88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B074A-B7DD-4A27-94E8-EC58994E5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men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view team mission and vis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view strategic challen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ign strategic objectives with action ste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termine roles and go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stablish communication p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ign tactics with time horiz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termine next ste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ment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Sample graph template to map out deployment plan has columns for solution, tactical action step, responsibility, target date, and resources nee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3EF6A-2490-45BC-BB4B-13DA3CCD3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Implementation Data Col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llect data regular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ek help from quality department for data analys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82788-A268-4A92-838C-76FD150DC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98E97-8756-4558-8A72-5D2105AEA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 to Date (Modul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map of current discharge process comple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are practitioner (PCP) referral base defin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Care Plan structure fina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charter init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s for training frontline staff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Your 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perceptions of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ontline staf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imary care physici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alyze resul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1966B-50AB-46D1-B55A-C9819DDBB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/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 pre- and post-projec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the monitoring plan for sustain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e results to the steering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knowledge to hospital staff and the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2CBC7-9453-4DAF-8B1A-377723299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updated project ch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pre- and post-project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mpleted target 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Presentation to Senior Lea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the presentation as you move through the PI project ph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low systematic PI method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der having team members present specific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your presentation with an opportunity to recognize the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B0655-A932-4E21-B42E-0BC6C33C2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Your Team Cele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brate team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r to you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ze your th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team members to share key les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05906-1798-4898-99B8-5FDE38F62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interview to document expectations, concerns, perceived assets, and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interview to assess progress and actual versus expected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interview to document qualitative and quantitative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ative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staff’s perception o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’s value compared with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support, patient impact, staff satisfaction, and overall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ies for improvement in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 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 errors after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time spent on new process compared with old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process changes, such as calls to physicians, efficienc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27286-BEFC-4C7C-8171-5021E7871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: Summary 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pected Outco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erstanding of how to design an ideal future state process m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erstanding of best practice solutions that include system redesign of the discharge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erstanding of how to initiate a monitoring plan for sustain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ussion of hospital-based case stud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erstanding of the importance of staff celebration and application of the knowledge transfer framework across the hospital o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ession to Launch Check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1–3 deliverables accomp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l process map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 test schedu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deployment plan c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 presentation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onitoring plan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 to Date (Module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etrics identified and plan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inclusion criteria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identifying patients and notifying Discharge Advocate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involvement and communication plan determin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Care Plan process finalized (what data to include and how to gather 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62958-F408-4F2A-A360-B4D46F5BF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 to Date (Module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es to finalize Patient Care Plan after discharge order is written in pla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ch-back methods outl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and performance improvement (PI) staff understand project measurement requirements and are prepared to gather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for transmitting discharge summary and Patient Care Plan to primary care physician final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s for teaching frontline staff final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ign an ideal future state process m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ize best practice solutions that include system redesign of the discharge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tiate the monitoring plan for sustain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e staff accomplishments and discuss the application of the knowledge transfer framework across the hospital o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CF31C-478F-468C-A903-57707F0FD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ing the ideal process m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instorming improv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ing improv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ing the final deployment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ing the monitoring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ning the team 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 Improvement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ing, Shewhart, 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(Stud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n Six Sig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 Current State May Have Looked Like T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Chart of patient admission, care, and discharg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Process Map: Patient Disch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 of patient discharge process by profession – physician, nurse, pharmacy, 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50864-2A8D-489B-8DC8-0D45636BA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00A5-F5AC-4455-B22C-A5B86E52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E31-912A-454F-8395-327DADD8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B304-0691-4F70-AA7B-D919ACD7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8A0-5072-40DD-B454-9D4A6927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BD43-83EE-4C03-93B7-1AC8FD92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CF6C-9088-46CE-9904-40B1633F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47F6-4EA2-4D14-99AC-F0146839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2FE1-F1C4-473B-945A-F5D8A4AE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3B90-7E4F-467F-9921-0FEC3358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8203-347B-4A9A-832C-8D6BD272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6D02-EEAB-4A4A-86A4-208CE502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D88-5DE9-4803-B275-324DE4D7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62FF-B680-49A9-9E08-F06C790C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D925-BFC1-41EC-B86E-9B54ADCF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354C-F328-471D-B2EC-3027D93F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F31C-7F2D-4115-A941-C5030719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32C8-120A-45BA-9B60-03F51242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0AA89-7F98-4339-892E-290E463D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059EA-05DD-4EE3-93E8-164A7F96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C32E3-D133-445C-9D99-7598918F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F0967-99B8-499F-8322-BD7FEC5B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6DBEF-7C39-4140-A0D1-6A3C228E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CC2-F876-41BA-B726-A64667E8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F940D-70A5-4966-9613-08714CCE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961EB-2677-4743-9029-10ED6F54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42AF8-8576-4FDE-9018-DAAC6BD9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3142F-F38A-4158-B17C-5783FC92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42EAE-13A1-440D-89AB-1537D688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498C6-6F23-40D5-BF55-DA3D50B0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BE080-CAE0-45AC-89F3-DE50632B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C55-472C-4573-B303-AA51CD28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C6DA1-7CFA-4EEC-BA52-46D07ECE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EBB4-BF1A-4B9E-A2F7-1100ED69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E5277-ABC7-40DE-B0ED-0CC446BE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87E49-B286-4733-BC77-22DAED8F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9373A-934F-47F2-9168-BAD4831A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F5CEE-98D2-4832-A59F-55865104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C04A-8E4F-4DF6-9611-B106FDB4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ED493-7374-421A-A58F-4A1F6A59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52391-1BAE-4388-99F0-8F3C642E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CE774-4A1D-43EC-826B-7C4A5E0E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5ECBC-8602-4453-A930-55748685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26FCF-F248-4DF2-864E-5445CE8A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A883-5CB8-402C-B84B-A940CA31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916D1-9627-45F3-82F7-8CF1117C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29E-4D2A-4EE8-B369-0BFE8499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00C-C9C4-4228-9EFC-5900415D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646-CA37-4E5D-8047-2DCEBEB8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7163-ECC8-48A5-BCA4-DE571F60FFF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B80A-9560-4586-B236-7FA86CF69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9A6B-3195-44E6-9A16-A0C9D423D71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801C-02EC-4819-A405-4ACA9E51E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30B1-A35D-4B70-8E7D-9CB75778DD12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D51A-4D8C-47AD-8D77-5C51ED7D19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166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68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D78B-0FAA-4C1D-A286-6BEC8E7A8989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A34A-8EBD-4500-BB93-A17D6FDBCC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288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90" name="Object 7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dule 4</a:t>
            </a:r>
            <a:br>
              <a:rPr sz="4000"/>
            </a:b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150920" y="3962520"/>
            <a:ext cx="677376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-Engineering Patient Discharge: The Hospital Laun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fine Your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deal Future Stat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te a new high-level process m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disciplinary parti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admission is the starting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hospital care provision is the ending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each discipline what steps it will now take to prepare the patient for dis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Process map that outlines patient discharge process in the ideal state, identifying information and communication flow.&#13;&#10;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391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ouble Check for Failure Mod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5235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re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ong sequ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or late exec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identification or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1080" y="1523880"/>
            <a:ext cx="43102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counting or calcul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l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reading or misunderst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dec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transcri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route, position, or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47560" y="-76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urrent State Data Analysi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09120" y="16761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baseline data from 5 to 10 patients, if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expected to actual time stamps (process metri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completed Patient Care Plans as defin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current state outcome metr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rics for Target Popul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90720" y="15998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 metrics (readmission r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al metr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metrics – time sta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metrics – Patient Care Plan compl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 and post data – frontline staff, physicians, and patient survey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eck/Impro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09120" y="1523880"/>
            <a:ext cx="79930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t causes of var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ed in Analyze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k in relative impor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orm potential solutions for each root 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ize root causes with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signing a Pilot Launch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 baseline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 employees on pilot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results of pilot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ze results of pilot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e to proceed to full-scale de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ployment Plann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view team mission and vi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view strategic challen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ign strategic objectives with action ste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termine roles and go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stablish communication pl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ign tactics with time horiz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termine next ste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ployment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74" name="Object 3"/>
          <p:cNvGraphicFramePr/>
          <p:nvPr/>
        </p:nvGraphicFramePr>
        <p:xfrm>
          <a:off x="762120" y="1523880"/>
          <a:ext cx="746748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5" name="Object 3" descr="Sample graph template to map out deployment plan&#13;&#10;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467480" cy="4572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st-Implementa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Data Coll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457200" y="152388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127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llect data regularl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27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ek help from quality department for data analys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27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complishments to Date (Module 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map of current discharge process comple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care practitioner (PCP) referral base defin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Care Plan structure fin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charter initi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es for training frontline staff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05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rvey Your Custome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457200" y="152388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127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sess perceptions of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ti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rontline staf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imary care physicia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27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alyze resul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27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t/Contro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09120" y="14475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 pre- and post-projec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the monitoring plan for sustain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e results to the steering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er knowledge to hospital staff and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eb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ecutive Summar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updated project ch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pre- and post-project d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completed target 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99840" y="425160"/>
            <a:ext cx="670572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ject Presentation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 Senior Leader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the presentation as you move through the PI project ph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0560" indent="-520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 systematic PI 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0560" indent="-520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having team members present specific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0560" indent="-520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k your presentation with an opportunity to recognize the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lanning Your Team Celebr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ebrate team su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er to your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ize your than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team members to share key les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09120" y="1523880"/>
            <a:ext cx="79930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liminary interview to document expectations, concerns, perceived assets, and barr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mediate interview to assess progress and actual versus expected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interview to document qualitative and quantitative imp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alitative Impac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09120" y="1523880"/>
            <a:ext cx="79930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staff’s perception of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’s value compared with expec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 support, patient impact, staff satisfaction, and overall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rtunities for improvement in disse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antitative Impac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33160" y="1600200"/>
            <a:ext cx="79930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lnSpc>
                <a:spcPct val="5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 met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mi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satisf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 errors after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5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5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met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ff time spent on new process compared with ol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process changes, such as calls to physicians, efficiency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dule 4: Summary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pected Outcom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ing of how to design an ideal future state process 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ing of best practice solutions that include system redesign of the discharg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ing of how to initiate a monitoring plan for sustain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 of hospital-based case stud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ing of the importance of staff celebration and application of the knowledge transfer framework across the hospital or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8580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gression to Launch Checklis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04920" y="16765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63640" indent="-863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ules 1–3 deliverables accomplis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863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 process map comple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863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lot test schedu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863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deployment plan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863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 study presentation draf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863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monitoring plan in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complishments to Dat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Module 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metrics identified and plan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inclusion criteria def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for identifying patients and notifying Discharge Advocate def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disciplinary involvement and communication plan determin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Care Plan process finalized (what data to include and how to gather 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complishments to Dat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Module 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56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es to finalize Patient Care Plan after discharge order is written in pl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-back methods outl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and performance improvement (PI) staff understand project measurement requirements and are prepared to gather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for transmitting discharge summary and Patient Care Plan to primary care physician fin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s for teaching frontline staff fin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dule 4 Objectiv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09120" y="1447920"/>
            <a:ext cx="799308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an ideal future state process 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ize best practice solutions that include system redesign of the discharg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e the monitoring plan for sustain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ebrate staff accomplishments and discuss the application of the knowledge transfer framework across the hospital or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dule 4 Outlin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09120" y="1600200"/>
            <a:ext cx="799308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ng the ideal process 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storming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ing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ng the final deployment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ing the monitoring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ing the team celeb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erformance  Improvement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97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ing, Shewhart, L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6840" y="2590920"/>
            <a:ext cx="4040280" cy="34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ck (Stud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n Six Sig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647960" y="2590920"/>
            <a:ext cx="4041720" cy="293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mpr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Flow Chart of patient admission, care, and discharge process&#13;&#10;"/>
          <p:cNvPicPr/>
          <p:nvPr/>
        </p:nvPicPr>
        <p:blipFill>
          <a:blip r:embed="rId1"/>
          <a:stretch/>
        </p:blipFill>
        <p:spPr>
          <a:xfrm>
            <a:off x="533520" y="1752480"/>
            <a:ext cx="7924680" cy="38862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our Current State May Have Looked Like Thi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Illustration of patient discharge process by profession – physician, nurse, pharmacy, DA&#13;&#10;"/>
          <p:cNvPicPr/>
          <p:nvPr/>
        </p:nvPicPr>
        <p:blipFill>
          <a:blip r:embed="rId1"/>
          <a:stretch/>
        </p:blipFill>
        <p:spPr>
          <a:xfrm>
            <a:off x="-81000" y="533520"/>
            <a:ext cx="9307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5:45:16Z</dcterms:created>
  <dc:creator>shforsyt</dc:creator>
  <dc:description/>
  <dc:language>en-US</dc:language>
  <cp:lastModifiedBy>emily.moser</cp:lastModifiedBy>
  <dcterms:modified xsi:type="dcterms:W3CDTF">2011-04-04T14:48:49Z</dcterms:modified>
  <cp:revision>558</cp:revision>
  <dc:subject/>
  <dc:title>Slide 1</dc:title>
</cp:coreProperties>
</file>