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4FE42-924E-404A-B5CA-EF5AC934A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17AE8-4B1E-4194-8041-B0BED9D65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-Engineering Patient Discharge: The Hospital Lau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325440" y="4479840"/>
            <a:ext cx="6989760" cy="4321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Your Ideal Future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e a new high-level process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parti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admission is the star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hospital care provision is the end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discipline what steps it will now take to prepare the patient fo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Ideal State Project RED Flow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Process map that outlines patient discharge process in the ideal state, identifying information and communication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BB624-B3A2-4771-96CE-DC03923CF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D0D8-99CE-469E-8F1E-CC8244E4D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Check for Failure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ssive re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or lat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identification or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counting or calcul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reading or mis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rrect route, position, or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tate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baseline data from 5 to 10 patients, if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expected to actual time stamps (process metri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completed Patient Care Plans as def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current state outcome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2949-3ACE-48F8-9B91-AC05B4372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520" y="4560480"/>
            <a:ext cx="625788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ics for Targe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 metrics (readmission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trics – time st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etrics – Patient Care Plan 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 and post data – frontline staff, physicians, and patient surv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08B95-C25C-4D6E-9768-9AD04587D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/Im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ot causes of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in Analyze st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k in relative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storm potential solutions for each root 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root causes with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30189-6AFE-4C73-B520-967B36390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Pilot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baselin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employees on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results of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 results of pilot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to proceed to full-scale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DD78-E874-4964-9253-202AF5602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B237-A175-440A-820A-6BFCC80E4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men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view team mission and vis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view strategic challen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strategic objectives with action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rmine roles and go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stablish communica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ign tactics with time horiz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termine next ste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 Sample graph template to map out deployment plan has columns for solution, tactical action step, responsibility, target date, and resources nee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2FBBC-40C6-4F93-9DB7-2BDA08588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Implementation Data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llect data regular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ek help from quality department for data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BEF04-F68E-457E-8696-381A103B3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CD46A-30A7-45CF-9E32-C1870BA34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ap of current discharge process comple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are practitioner (PCP) referral base def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 structure fina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harter init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s for training frontline staff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Your 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perceptions of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line sta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mary care physici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E9CC9-03D4-4EE0-BF0C-FA11ED6DB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/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pre- and post-projec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the monitoring plan for sus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e results to the steering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knowledge to hospital staff and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C79A8-8237-43B8-8077-81C488E8F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updated project ch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pre- and post-project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completed target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Presentation to Senior L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the presentation as you move through the PI project ph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low systematic PI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having team members present specific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your presentation with an opportunity to recognize the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119CA-2925-4AF6-B425-AC76C64D1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Your Team Cele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ebrate team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r to you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ze your th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eam members to share key les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615F-0CCB-4420-8356-7E46497C5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interview to document expectations, concerns, perceived assets, and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interview to assess progress and actual versus expected exper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interview to document qualitative and quant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staff’s perception of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’s value compared wit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 support, patient impact, staff satisfaction, and overall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ies for improvement in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come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tion errors after dis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time spent on new process compared with old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rocess changes, such as calls to physicians, efficienc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0230-BA6D-46BD-AF45-0444C31E8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: Summary 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pected Out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how to design an ideal future state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best practice solutions that include system redesign of the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how to initiate a monitoring plan for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ussion of hospital-based case stud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ing of the importance of staff celebration and application of the knowledge transfer framework across the hospital o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ession to Launch Check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1–3 deliverables accomp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process map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test schedu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deployment plan c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 presentation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onitoring plan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etrics identified and plan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inclusion criteria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identifying patients and notifying Discharge Advocate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involvement and communication plan determi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are Plan process finalized (what data to include and how to gather 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923B2-FFC4-4E3E-A093-D9B73D3B7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 to Date (Module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es to finalize Patient Care Plan after discharge order is written in pla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-back methods outl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and performance improvement (PI) staff understand project measurement requirements and are prepared to gather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for transmitting discharge summary and Patient Care Plan to primary care physician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 for teaching frontline staff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an ideal future state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alize best practice solutions that include system redesign of the discharge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te the monitoring plan for sustain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e staff accomplishments and discuss the application of the knowledge transfer framework across the hospital o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978FF-D8BF-46B6-9446-6AD7A0FB7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4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the ideal process m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instorming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 improv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ing the final deployment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ing the monitoring p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 the team 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 Improvement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ing, Shewhart, 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(Stud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n Six Sig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 Current State May Have Looked Like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Chart of patient admission, care, and discharg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 Process Map: Patient Discha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on of patient discharge process by profession – physician, nurse, pharmacy, 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3216A-67C0-4386-A553-595C753E0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E3F6-8DFF-4603-A0BB-0BC179E8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DF08-0F45-419C-BA3B-6B374185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C29-8BF0-4437-9B39-AE72219C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70D4-64C8-412B-B83B-1638869D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85D2-6BAC-4E4C-8F67-14069941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53B5-F2E2-477D-8948-8C364EF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7A1C-4C96-4488-BA45-ED552E9A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125E-D904-4C39-A415-0B5F66F3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6FE0-231C-4D41-BF7D-11E4344D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E359-E910-465B-A7AF-0EC1FD9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A97-3B11-43FA-83FC-E10E50CB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694-7086-4F6D-8521-793E1325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95D2-7515-44C2-851E-0EF455B9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1B9C-8695-4D27-9FBA-2D2A07E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E10D-E2D3-4186-B4EF-FF582FAF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65CA-4444-4DB7-BB9A-BF0049DA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B62C-182B-4F2C-9EA8-3438624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88DB9-27B9-40C4-9A2B-DC9C3C58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2B47-27B7-4F49-9C6F-71342AE0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FD6B0-4E40-44B3-8752-A1E3A8B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5568-D0DD-44DD-A8D1-CB846C56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51DB-2075-4273-B86D-8549C46D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B51-61A2-4DF7-8A51-BFD850CA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48C9-28AD-4BD4-A2F9-B6023E9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5F1C-FA68-45C7-94FD-3D44E7DC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A16C-A3CC-4029-9BC0-E3956A8F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2F49C-A1BE-4E6A-A441-3D0FF36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3D96C-D5D6-41AC-9521-160014E8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1391-9374-445B-8C5E-42840DA4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979D7-898C-4728-B3FC-9C04DA65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7203-1AFE-4BF8-8B08-CC39E5A4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5CFB8-E2DB-4867-97BA-351262D5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4C6-8AFC-4A75-BD36-26C75C1E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9A645-DC93-41AB-8067-0548D373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3514-CF93-4912-90A8-65FCB2A6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5503-847A-424F-A728-3168377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6B318-FBB2-433F-A3FE-2D51A7E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72C9-5577-4AD9-9358-E5E52B5C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AEA5E-6D5A-49F4-8B85-DD63CB28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0C3D-5880-449C-8222-DDA3811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2F7C-DE54-406C-B692-91936F3D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30BC-F61D-4942-8328-50860A2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B34D-824E-4967-AC75-1DFABE1E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34D-EFFE-416F-BF22-06234A72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A4671-6469-478F-AD49-8E428871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CC5-C1A9-466A-B40E-19C3D938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4FA-ABA9-480D-8D5F-0379667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D95-FB9F-4AF9-8B4C-2EDD7C71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161-CDF4-4C5F-A8B0-05078E34740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6030-86D5-4408-948B-72063786C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9C68-A8DB-40F6-86F2-148C05EB6A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386-F86B-4537-8826-C22D5821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B363-E32C-4A47-B53B-83F3A921231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22C4-DEAD-48DE-A37E-14D955F716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166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68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965-2D4A-48AE-8E28-B36124BD318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0395-51B7-4842-963E-FCD35575B7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288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90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7737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-Engineering Patient Discharge: The Hospital La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fine Your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deal Future Stat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itiate a new high-level process m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disciplinar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admission is the start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hospital care provision is the end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each discipline what steps it will now take to prepare the patient for dis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Process map that outlines patient discharge process in the ideal state, identifying information and communication flow.&#13;&#10;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uble Check for Failure Mod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235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re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ong seq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y or late 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identification or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1080" y="1523880"/>
            <a:ext cx="43102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counting or calcul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lo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reading or mis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tran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rect route, position, or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47560" y="-76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urrent State Data Analysi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120" y="1676160"/>
            <a:ext cx="7993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baseline data from 5 to 10 patients, if 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expected to actual time stamps (process metr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completed Patient Care Plans as def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current state outcome met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rics for Target Pop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90720" y="1599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metrics (readmission r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ial metr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metrics – time sta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metrics – Patient Care Plan comple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 and post data – frontline staff, physicians, and patient surve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eck/Impro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t causes of var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ed in Analyze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k in relative impor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 potential solutions for each root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e root causes with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signing a Pilot Laun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 baseline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 employees on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results of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results of pilo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to proceed to full-scale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ployment Plan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ew team mission and vi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view strategic challen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gn strategic objectives with action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roles and go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stablish communication p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ign tactics with time horiz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termine next ste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ployment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74" name="Object 3"/>
          <p:cNvGraphicFramePr/>
          <p:nvPr/>
        </p:nvGraphicFramePr>
        <p:xfrm>
          <a:off x="762120" y="1523880"/>
          <a:ext cx="74674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5" name="Object 3" descr="Sample graph template to map out deployment plan&#13;&#10;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467480" cy="4572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st-Implementati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Data Coll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" y="15238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ollect data regularl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ek help from quality department for data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 (Module 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ap of current discharge process comple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care practitioner (PCP) referral base def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are Plan structure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charter initi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es for training frontline staff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0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rvey Your Custom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57200" y="152388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ssess perceptions of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ntline staf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care physicia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alyze result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t/Contro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14475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 pre- and post-projec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 the monitoring plan for sustain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 results to the steering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er knowledge to hospital staff and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5280" indent="-395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ecutive Summa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updated project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pre- and post-project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completed target 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9840" y="425160"/>
            <a:ext cx="670572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ject Presentati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Senior Leade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the presentation as you move through the PI project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systematic PI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having team members present specific 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0560" indent="-520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k your presentation with an opportunity to recognize 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lanning Your Team Celebr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team su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er to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ze your th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team members to share key les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liminary interview to document expectations, concerns, perceived assets, and b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 interview to assess progress and actual versus expected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interview to document qualitative and quantitative imp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litative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523880"/>
            <a:ext cx="799308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staff’s perception of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’s value compared with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support, patient impact, staff satisfaction, and overall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pro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ies for improvement in disse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antitative Impa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160" y="1600200"/>
            <a:ext cx="7993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5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come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errors after dis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5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5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ff time spent on new process compared with ol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-376560">
              <a:lnSpc>
                <a:spcPct val="100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rocess changes, such as calls to physicians, efficiency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dule 4: Summary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ected Outcom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how to design an ideal future state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best practice solutions that include system redesign of the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how to initiate a monitoring plan for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hospital-based case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of the importance of staff celebration and application of the knowledge transfer framework across the hospital o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8580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ion to Launch Checkli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4920" y="16765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ules 1–3 deliverables accomplis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process map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 test schedu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deployment plan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 presentation draf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63640" indent="-863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monitoring plan in 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Module 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metrics identified and plan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inclusion criteria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for identifying patients and notifying Discharge Advocate def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disciplinary involvement and communication plan determi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Care Plan process finalized (what data to include and how to gather 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complishments to Dat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Module 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5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es to finalize Patient Care Plan after discharge order is written in pl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-back methods out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nd performance improvement (PI) staff understand project measurement requirements and are prepared to gathe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for transmitting discharge summary and Patient Care Plan to primary care physician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s for teaching frontline staff fi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 Objectiv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09120" y="144792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an ideal future state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ize best practice solutions that include system redesign of the discharg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e the monitoring plan for sustain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ate staff accomplishments and discuss the application of the knowledge transfer framework across the hospital o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e 4 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120" y="1600200"/>
            <a:ext cx="79930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he ideal process 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ng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ing the final deployment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the monitoring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ing the team cele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1720" indent="-44172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formance  Improvement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ing, Shewhart, L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2590920"/>
            <a:ext cx="4040280" cy="34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(Stud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n Six Sig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7960" y="2590920"/>
            <a:ext cx="4041720" cy="29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Flow Chart of patient admission, care, and discharge process&#13;&#10;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38862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our Current State May Have Looked Like Th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Illustration of patient discharge process by profession – physician, nurse, pharmacy, DA&#13;&#10;"/>
          <p:cNvPicPr/>
          <p:nvPr/>
        </p:nvPicPr>
        <p:blipFill>
          <a:blip r:embed="rId1"/>
          <a:stretch/>
        </p:blipFill>
        <p:spPr>
          <a:xfrm>
            <a:off x="-81000" y="533520"/>
            <a:ext cx="9307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45:16Z</dcterms:created>
  <dc:creator>shforsyt</dc:creator>
  <dc:description/>
  <dc:language>en-US</dc:language>
  <cp:lastModifiedBy>emily.moser</cp:lastModifiedBy>
  <dcterms:modified xsi:type="dcterms:W3CDTF">2011-04-04T14:48:49Z</dcterms:modified>
  <cp:revision>558</cp:revision>
  <dc:subject/>
  <dc:title>Slide 1</dc:title>
</cp:coreProperties>
</file>