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8AA5-5E33-4DF4-94FF-D458831C3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08A-E2C2-4B63-ADCE-6DE1BAA5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RED: Module 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ing for the redesign of your discharg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0911-67F4-4FA1-8A01-5CFE0544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8425-5DD3-4FCD-A904-710D4120E0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06668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inciples of the Re-Engineered Hospital Discharge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 written discharge plan provided to patient prior to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information in patient’s language and literacy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inforcement of plan with patient after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ility of case management staff outside of limited daytime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 quality improvement of discharge 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BBE98C-B0B2-489F-8E0C-AB96F4D54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Improvemen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ing, Shewhart, 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(Stud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n 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98D4-7CC2-4F9F-B5D3-112F5E42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e Your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ram of Hierarchy with Oversight Committee at the top, Champion in the middle, and Project Team on the bott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2B0D-340B-4F5A-920A-2675DAD2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RED Oversight Committee – St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e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champ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 and review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376D-55BE-4D1E-9C1D-F1886D3A3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phasize Process, Focus on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eally matters to the organization? Achieve bottom-lin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measure the impact of th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has the project contributed this year and will contribute in future ye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58DB-CD87-4032-B50B-54A937903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es the 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s project and 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s candidates fo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s projects week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s barriers and supplies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7E8C-2FCA-42BC-8DA6-9BF5AE3D8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ject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’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69A1-5E1F-43A8-925A-55A99615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eam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educated in PI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etent and confident facili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bjective and neutral to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s an organized plan for th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sults foc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Physician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es with senior lea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es with medical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physician perspective to the project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sts in the elimination of system barr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ieves in the Project RED intervention and value of improving discharg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FB3-4C52-489E-8E2E-7BD5D08B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715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d to oversee patient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s all discharge activities within patie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s team activities and discharge planning rounds with primary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s discharge focus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completion of discharge plan and demonstrated learning by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5BFC-1940-46B6-A154-40666FD2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-Engineering Discharge Project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oal of this self-learning course is to help hospitals across the country implement Project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D improves the discharge process to assist patients more safely care for themselves at ho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o prevent read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notified when patients in target population are admitted/diagn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s action steps associated with Project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s Patient Care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es patient and family about condition, medications, other treatments, post-discharge plans, and follow up ordered by the physic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s plan with patient and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cts measurement data specific to project and patient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’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s patient plan of care based on critical path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and/or participates in discharge planning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potential date of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performance improve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physician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es admission medications with medications from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es with care team specific to discharge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es medications upon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s with patient medication questio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a Team, Answer the Following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ur project scope manage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we have PI structure including oversight steering committee; project champion; DA; pharmacist; team members; team leader; scheduled dates, times, and resources needed for the meeting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we alerted ad hoc resources such as finance, medical records, IT, education dept, etc., as need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missing and who will be responsi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5347-9808-4B64-95DB-D25B3602F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the Team Ch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eam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key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blem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AIM statement (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patient and organization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project targets and mile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 senior leadership sanc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Team Ch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: Table gives an example of a team char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304560" y="4267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the Curren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 a high-level proce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parti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dmission is the star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ospital care provision is the end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discipline what steps it takes to prepare the patient fo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 Current State May Look Like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low image identifying the steps in between admission and patient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Process Map: Patient Dis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: Image of swim lane diagram, identifying specific steps by role: Physician, Nurse, DA, Pharmac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7109-ACF2-4FBA-A63E-625ED034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Process Map i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ze the work flow in the eyes of the pat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efects exist?  Where are communication breakdowns, failure to hand off informati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re do delays occu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your Project RED gap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we have omission , selection, documentation, communication, administration failur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steps in this process would the patient be willing to “pay fo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123B-71DA-459F-A74E-896CF0AE5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se overview modules 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ic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improvement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le cla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PI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D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Your Gap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ple Current Stat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instruction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teaching on day of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discharge advo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appt schedu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post DC phone c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PCP DC Summ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RED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uidelin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tanding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DC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C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summary t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DC phon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365C-3A1D-47FA-97D9-F592BF44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A496-9D95-4A96-A82F-ACA4EB82AA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206662-3A04-4C82-BE2C-7EBF16BBC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llenges to Implement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edical Team 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y medical team means discharge receives low priority in the work schedule of inpatient clinic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is relegated to least-experienced team 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-minute tests/consultations result in delay of final discharge plan and medication li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ccurate medication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medication reconciliation started on the day of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llenges to Implement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ospital Related</a:t>
            </a:r>
            <a:br>
              <a:rPr sz="1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resources and financial incentives to sustain discharge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ized discharge papers are not personalized or in patient’s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to change by cli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essure to fill beds as soon as they are empt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AA43-FEFB-43CB-863E-3A53086B0B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s to Implementation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atient 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with n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or no insurance cover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pay for medication co-p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it times when calling healt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discharge is less effective because staff are teaching patients who are anxious to lea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15F332-5CA5-4AA6-AB56-95250AB9F1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Graphic image of fishbone diagram, analyzing the causes for patient readmission, including materials, discharge process, communication,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5EE0-DCFA-4100-89A0-8897DBC5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7F12-0223-4CCE-93BB-77C1F7CB4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C6F-1CBD-4471-BCD5-D2F060A60C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DC91-A07A-4CB6-9CC5-994883752D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  <a:ea typeface="Arial"/>
              </a:rPr>
              <a:t>rocess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ime to notify DA about new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ime from admission to first patient visit by DA (initiation of care plan) – only for patients who meet all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atients’ PCPs notified within 24 hours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follow-up phone calls made within 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follow-up calls requiring second call by pharmacist (if non-pharmacist makes first c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atients completing post-discharge survey (30 days after dis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7A3F-D847-4FFA-9844-716711B3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FA3A-091C-4DBB-8A12-9C5A1B2D48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9F5E-EA30-4DC2-A7B7-CBBE1B5D78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  <a:ea typeface="Arial"/>
              </a:rPr>
              <a:t>Process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ion of care plan detai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medication lis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care needs included (e.g., exercise, diet, main problem, when do I call do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follow-up appointments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pre-arranged discharge resources identified (e.g., home health, durable medical equi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pending tests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 Metrics for Targe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st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day unplanned all-cause readmission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t of second LOS (read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/post data: Patient experience related to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/Post data: Frontline staff survey related to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6EEB-14A1-4F75-BD4A-77FEE1192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Pause A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igh-level process map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n you will draw/redraw your high-level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failures are you predic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easurements do you have in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57E-57CB-4FF1-B297-7E206568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C168-31D6-4086-81BB-23FB0E4B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0226-D51E-40FA-ABDF-6D0011C7D8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D Check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opted by National Quality Forum as one of 30 US  "Safe Practices" (SP-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en mutually reinforcing compon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Medication reconcil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concile discharge plan with national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Outstand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Post-discharg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Written discharg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What to do if problem a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Patient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Assess patient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Discharge summary sent t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elephone rei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956702-A581-4E5E-8E40-77E9C0B91C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cipant’s Training Program: Facilitated Implementation P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information and strategies for designing and implementing  improvement processes ove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on how to operationalize specific discharge planning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omprehensive systematic performance improvement project plan that will include timelines and strategies for use immediately following completion of the four-module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7A83-0162-4E40-BA08-A5A9EEDF9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oject RED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 DA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patients for hospital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patients safely transition from hospital to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patient self-health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patients after discharge through follow-up phon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99AC-22D9-4E99-A8DD-7E8A545101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lanning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Physicians and administrators making rounds, taking notes, and collect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3E6B-F557-42E8-B16D-EF356E3B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the Discharge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al – Use template for DA to enter all requir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template to your IT Department and request that they integrate with exi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 discharge planning software that is integrated with your exi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Template for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, downloadable, fill-able PDF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Project RED After-Hospital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on your server for easy access by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with your current systems as 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copies available from 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hrq.gov/qual/goinghomeguid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AHRQ Template for Care Plan book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8802-740A-4F39-A697-A4462A7A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sual: After Hospital 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u.edu/fammed/projectred/toolki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After Hospital Care Plan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61DF-4F51-4840-A70A-3E8D35FE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Graph of sample medications list for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84D0-59E0-48CD-826F-DE7FFFAA9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 –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graph of medications for patient, color coded and time of da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D3F9-DFE7-4153-AF72-7F0B69C20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 –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graph of medications for patient, color coded and time of day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CA7B-373A-4FCE-9BF0-9BF2389FC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document for follow up appointment schedule.  Color coded and by date/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6CA3-CD84-48F2-AC93-E580A2BA0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template for patient questions and concerns to record and follow up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lan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 of discharge planning with patient education and discharge instructions as th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381E-2352-4AA8-95A5-0C37FC422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mple "patient condition" information sh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1C7D-B6DC-4B7E-8D6F-1CE285A1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Map of BMC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Discharg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 curren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 name/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 of DC med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 of prescri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etary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 limi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 DC appointment, if kn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 Discharge Plan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hard copy care plan (language specif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calendars in lay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morning, afternoon, and evening meds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questions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 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tests an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3C41-537A-4061-9AC4-1D43B7FC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DEA0-582E-4491-A921-64159CF73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iminate Documentation Time and Re-W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l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should flow from the medical record to the care provider who nee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should flow from one practice setting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that is documented can be time stamped and assessed for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harge care plan could be automated and flow to the hands of the care team and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or Communication with PCP and Lack of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spital discharge process is often characterized by poor communication and a lack of coordination between the hospital and the PCP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atients are discharged, they often do not know what medications their physicians have prescribed, when their follow-up appointments should take place, and, in some cases, why they were hospit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ary Care Physician Referral 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 will identify the PCP referral b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P satisfaction will be assessed prior to project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 champion will communicate with PCPs abou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Ps will advise how to handle  their off-shift  and weekend pati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-Discharge Phone C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who will call your patient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when the follow-up call will be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script for c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 process for off shifts and week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F3E6-6E8D-4365-A119-EBD69E8A1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: Summary 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pected Outco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ign your strategic pri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an infrastructure that will promote communication, understanding of team progress, and documentation of the patient care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 roles of executive sponsor, project team leader, DA, physician champion and pharmacist in the redesigned discharg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a systematic performance improvement process that will facilitate knowledge transfer and sustainabl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bed Project RED key principles,  including application of the Discharge Care Plan, communication with PCPs and implementing post DC phone ca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ession to Module 2 Check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moving to Module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your current state proce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he primary physician referral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atient Care Pla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 the project ch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ates for training frontline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 Modules 1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1 – Getting sta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2 – Patient admission care and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 – Patient discharge and follow-up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 – Preparing to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BCDB-6C58-4798-8821-A293397F5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: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al strategic priorities that will align with local, regional, and nation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 systematic performance improvement process to facilitate knowledge transfer and sustainabl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roles of executive sponsor, project team leader, discharge advocate, physician champion, and pharmacist in the redesigned discharg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n understanding of Project RED’s 11 compo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87D2-4404-4261-898A-F0D09205D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riorities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patient outco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cost/revenue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CAHPS sc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for changes to CMS  reimbursement penalties for high readmission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nurse/provider time u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 portability of PHI across the continuum of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relationship with P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E47A-7B7D-41CB-9946-C74581772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8EB6-BB97-4FC0-AE57-5F26A80A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80AC-FF91-4CAF-9071-4346782857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inciples of the Re-Engineered Hospital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licit delineation of roles and responsi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process initiation upon ad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 education throughout hospit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ly accurate information flow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PCP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Among hospital tea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► Back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CP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 patient discharge summary prior to dischar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E4EB8C-9C2B-4377-83C3-23FBD17A89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B8A-EDC9-48B8-96E2-5280A6CE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DD0-62E8-4F6C-822D-3B5ED7F9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058-0BD4-4AE7-836B-4B15AE72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914-C242-4AD3-AFBA-9F6456E7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5C40-A124-40C4-9177-9EEE6F20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B7CE-32EA-4418-A3F0-461B39E0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2137-7E1F-47B1-9B8C-2EB56A45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D4DD-484D-47A2-BAED-F038C8C7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CC72-933F-497F-8A22-B1BF1B48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736B-0C0D-43E0-8807-EC0C3F14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BF95-3D43-4916-8553-56C8968C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3B2-ABD7-4CB2-8B9B-77BDCA30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B106-D5FA-46E5-8733-EEDB05F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968B-C495-4B7D-B8B9-2518C54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A51A-FAD3-47F9-B81A-6C1C401D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AB3C-1701-4126-BAC0-E77D8887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E24A-4664-46A6-B1EA-DCD3502C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A809-459E-4857-843D-7080CA62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D253-7D1C-48B7-AB04-CFB1D170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33F6B-05D1-4E77-8C22-32932C0E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FDD4-C8D9-4CC5-B504-52B018E9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AE2D-01AD-4359-965F-92947A74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F1C-6410-48CA-ABC9-1DBDC4F4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65AC-94E9-4AD9-99FB-C961FC03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7363-7D70-4F73-BE88-64B13CB0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A91C-FE5F-47C3-8F4E-76A48AF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2B7C8-D82F-4C1F-8AB7-97E67477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3E76-5459-454C-AF98-C3B6BBD0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EA13-B3A1-4DEE-8B74-09DE08E1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FF7E-F85D-4FA0-AD99-D95DC21A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AC0-0B4B-4863-91E1-760FAF0C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D23A-06CF-44A1-BD18-B1319870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543-54EF-46D4-A8AA-60A023A5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782A-17C0-424E-8907-2EE377C4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064F-25C5-42CF-9F3B-002D83FC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0E8A-B132-4907-AD3A-EE709B5F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0594-A22C-4AC0-99B9-FFB7B24F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EB4CC-57EE-42B8-BF10-7DA5A480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4B853-5C83-4AC2-A572-3F303473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B67D-5D1D-4C00-BC37-823ADDAA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20C1-8E59-4E7E-A76D-C3043E0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24BB-C78C-4BA1-9EA4-7CB300F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5458-AD9A-4657-9109-C2A96AC8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1D2-C053-4946-A39D-C97423F1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38DD1-BCF8-41E7-BAC7-78110504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6CE-D057-4883-80F7-C62AEC51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9AF0-037F-441E-A222-5BA312BD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F8A73-12ED-46A0-8B14-545BE05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966DE-E610-421B-AFE9-F2862496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C4194-FF2D-48B7-9A20-E7515D2B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DDA43-7EED-4E57-B58A-5A745F96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6C754-FB7D-4007-8534-34B911E1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5B6A5-4CEE-4C6C-B9CD-7DF7CA1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843-A5FD-41BB-AFF9-B85619C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F0730-1305-4525-82A4-F27D7258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D48ED-5DFA-4603-99E3-33EF2807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9C744-B504-40AE-969D-37983CBB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9BAD0-2F2F-4657-B83D-600BCDBC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6B2BE-AC31-465E-BA12-713C7BAB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799-B691-4762-B1E9-082ADAE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BDAB-6FFD-4120-B655-5917AD38FE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0ADE-CD86-4E06-A87E-41FD78B9B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81D0-C6D7-40FB-8DAE-3DED428882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0361-96FE-4A92-B0F8-5E6C68BC2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505B-AAEA-4779-B2F9-C036F75362A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B57C-01B7-4F85-8510-9B2CA5EA69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66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8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475D-6D38-4705-8A56-15DD59753BB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F834-1730-4B51-B594-D187FC6ECD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28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90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31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3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2108-F3E6-4B80-93AC-D99352F4E095}" type="datetime"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434F-EE3B-4252-AA55-852D25933320}" type="slidenum"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RED: Module 1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ing to Redesign Your Discharge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352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written discharge plan provided to patient prior to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information in patient’s language and literacy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ement of plan with patient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case management staff outside of limited daytime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quality improvement of discharge 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371600" y="228600"/>
            <a:ext cx="7772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Principles of the Re-Engineered Hospital Dischar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(continu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rformance Improvemen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ing, Shewhart, 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(Stu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n Six Sig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6978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termine Your Infrastructur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2679480" y="14778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s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>
            <a:off x="2286000" y="251460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228600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15"/>
          <p:cNvSpPr/>
          <p:nvPr/>
        </p:nvSpPr>
        <p:spPr>
          <a:xfrm flipV="1">
            <a:off x="4648320" y="2209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6"/>
          <p:cNvSpPr/>
          <p:nvPr/>
        </p:nvSpPr>
        <p:spPr>
          <a:xfrm>
            <a:off x="6934320" y="2514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1245960" y="330660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mp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839160" y="480060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19"/>
          <p:cNvSpPr/>
          <p:nvPr/>
        </p:nvSpPr>
        <p:spPr>
          <a:xfrm>
            <a:off x="1523880" y="441972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20"/>
          <p:cNvSpPr/>
          <p:nvPr/>
        </p:nvSpPr>
        <p:spPr>
          <a:xfrm>
            <a:off x="152388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21"/>
          <p:cNvSpPr/>
          <p:nvPr/>
        </p:nvSpPr>
        <p:spPr>
          <a:xfrm>
            <a:off x="37339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2"/>
          <p:cNvSpPr/>
          <p:nvPr/>
        </p:nvSpPr>
        <p:spPr>
          <a:xfrm>
            <a:off x="586728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3"/>
          <p:cNvSpPr/>
          <p:nvPr/>
        </p:nvSpPr>
        <p:spPr>
          <a:xfrm>
            <a:off x="792468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24"/>
          <p:cNvSpPr/>
          <p:nvPr/>
        </p:nvSpPr>
        <p:spPr>
          <a:xfrm>
            <a:off x="6934320" y="3886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5894280" y="320040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mp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24"/>
          <p:cNvSpPr/>
          <p:nvPr/>
        </p:nvSpPr>
        <p:spPr>
          <a:xfrm>
            <a:off x="220968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3048840" y="480060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5030280" y="480060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7163640" y="480060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ject RED Oversight Committee - Stee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date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champ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and review 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05120" y="272520"/>
            <a:ext cx="6324480" cy="94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Emphasize Process,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Focus on Results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5440" y="1371240"/>
            <a:ext cx="8001000" cy="47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ally matters to the organization? Achieve bottom-lin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we measure the impact of the proj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has the project contributed this year and will contribute in future yea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Champ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s the 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s project and 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s candidates for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s projects wee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s barriers and supplies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roject Tea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533520" y="1752480"/>
            <a:ext cx="7993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champ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harge advo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’s physic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c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Team Leader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33160" y="1752480"/>
            <a:ext cx="7993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s educated in PI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competent and confident facilit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objective and neutral to 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s an organized plan for the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results fo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Physician Champ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120" y="1523520"/>
            <a:ext cx="79930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es with senior lea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es with medical sta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physician perspective to the project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ists in the elimination of system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ieves in the Project RED intervention and value of improving discharge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Advoc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676160"/>
            <a:ext cx="3919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oversee patient discharge pr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all discharge activities within patien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team activities and discharge planning rounds with primary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1440" y="16761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s discharge focus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s completion of discharge plan and demonstrated learning by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-Engineering Discharge Project R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oal of this self-learning course is to help hospitals across the country implement Project 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RED improves the discharge process to assist patients more safely care for themselves at ho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prevent readmi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Advoc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otified when patients in target population are admitted/diagn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action steps associated with Project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Patient Car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s patient and family about condition, medications, other treatments, post-discharge plans, and follow up ordered by the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plan with patient and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s measurement data specific to project and patien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’s Physicia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90360" y="152388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patient plan of care based on critical path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and/or participates in discharge planning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s potential date of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he performance improvemen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armaci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es physician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s admission medications with medications from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es with care team specific to discharge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s medications upon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s with patient medication ques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6697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 a Team, Answer the Following Ques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09120" y="1447920"/>
            <a:ext cx="7993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our project scope manage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have PI structure including oversight steering committee; project champion; DA; pharmacist; team members; team leader; scheduled dates, times, and resources needed for the meet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we alerted ad hoc resources such as finance, medical records, IT, education dept, etc., as nee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missing and who will be responsi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velop the Team Chart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team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key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problem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AIM statement (mi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atient and organization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project targets and mile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 senior leadership san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Team Chart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4" name="Object 3"/>
          <p:cNvGraphicFramePr/>
          <p:nvPr/>
        </p:nvGraphicFramePr>
        <p:xfrm>
          <a:off x="152280" y="1295280"/>
          <a:ext cx="88394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8394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fine the Current St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e a high-level process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disciplinar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admission is the start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hospital care provision is the end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each discipline what steps it takes to prepare the patient for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Process flow image identifying the steps in between admission and patient discharge"/>
          <p:cNvPicPr/>
          <p:nvPr/>
        </p:nvPicPr>
        <p:blipFill>
          <a:blip r:embed="rId1"/>
          <a:stretch/>
        </p:blipFill>
        <p:spPr>
          <a:xfrm>
            <a:off x="533520" y="1752480"/>
            <a:ext cx="7924680" cy="419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r Current State May Look Like Th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Graphic image of swim lane diagram, identifying specific steps by role - Physician, Nurse, DA, Pharmacist"/>
          <p:cNvPicPr/>
          <p:nvPr/>
        </p:nvPicPr>
        <p:blipFill>
          <a:blip r:embed="rId1"/>
          <a:stretch/>
        </p:blipFill>
        <p:spPr>
          <a:xfrm>
            <a:off x="-81000" y="533520"/>
            <a:ext cx="93074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ce the Process Map is Complete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240" y="1371600"/>
            <a:ext cx="83739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the work flow in the eyes of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fects exist?  Where are communication breakdowns, failure to hand off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 delays occu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Project RED gap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have omission , selection, documentation, communication, administration fail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in this process would the patient be willing to “pay for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e 1 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overview modules 1-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c prior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ormance improvement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le clar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stematic PI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RED compon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stablish Your Gap Analys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 fontScale="8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Current Stat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instruction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teaching on day of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ischarge advo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ppt schedu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ost DC phon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CP DC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2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 fontScale="62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RED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44720" y="1828440"/>
            <a:ext cx="4041720" cy="429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 reconcil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guidelin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-up appoin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tanding t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DC servi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ten DC car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 summary to P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DC phon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 to Implementation:</a:t>
            </a:r>
            <a:br>
              <a:rPr sz="36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edical Team Relat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y medical team means discharge receives low priority in the work schedule of inpatient clinic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is relegated to least-experienced team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-minute tests/consultations result in delay of final discharge plan and medication lis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curate medication reconcil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medication reconciliation started on the day of dischar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05120" y="761760"/>
            <a:ext cx="6858000" cy="88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 to Implementation:</a:t>
            </a:r>
            <a:br>
              <a:rPr sz="36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ospital Related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resources and financial incentives to sustain discharg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d discharge papers are not personalized or in patient’s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 to change by cli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pressure to fill beds as soon as they are empty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 to Implementation: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atient Relat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with no P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or no insurance cove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y for medication co-p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wait times when calling health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discharge is less effective because staff are teaching patients who are anxious to leav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Graphic image of fishbone diagram, analyzing the causes for patient readmission, including materials, discharge process, cfommunication, people"/>
          <p:cNvPicPr/>
          <p:nvPr/>
        </p:nvPicPr>
        <p:blipFill>
          <a:blip r:embed="rId2"/>
          <a:stretch/>
        </p:blipFill>
        <p:spPr>
          <a:xfrm>
            <a:off x="-69840" y="-55440"/>
            <a:ext cx="9285120" cy="69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Arial"/>
              </a:rPr>
              <a:t>Process Metr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ime to notify DA about new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ime from admission to first patient visit by DA (initiation of care plan) – only for patients who meet all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patients’ PCPs notified within 24 hours dischar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follow-up phone calls made within 4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follow-up calls requiring second call by pharmacist (if non-pharmacist makes first c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patients completing post-discharge survey (30 days after dischar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Arial"/>
              </a:rPr>
              <a:t>Process Metr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432720" indent="-432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ion of care plan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medication list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care needs included (e.g., exercise, diet, main problem, when to call do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follow-up appointments li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pre-arranged discharge resources identified (e.g., home health, durable medical equi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pending tests li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come Metrics for Target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length of st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-day unplanned all-cause readmission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st of second LOS (readmi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/post data: Patient experience related to discharg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/post data: Frontline staff survey related to discharg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t Us Pause A Mo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high-level process map compa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en you will draw/redraw your high-level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ailures are you predic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easurements do you have in p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D Checkli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en mutually reinforcing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Medication reconcil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Reconcile discharge plan with national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Follow-up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Outstanding te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Post-discharg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Written discharg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What to do if problem a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Patient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Assess patient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Discharge summary sent to P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phone reinfor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5029200" y="2895480"/>
            <a:ext cx="3809880" cy="178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opted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tional Quality F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 one of 30 U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Safe Practices" (SP-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cipant’s Training Program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Facilitated Implementation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120" y="1447920"/>
            <a:ext cx="79930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and strategies for designing and implementing  improvement processes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on how to operationalize specific discharge plannin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rehensive systematic performance improvement project plan that will include timelines and strategies for use immediately following completion of the four-modul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oject RED Compon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52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able DA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patients for hospital dischar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patients safely transition from hospital to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atient self-health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patients after discharge through follow-up phone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harge Planning Roun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4" name="Content Placeholder 3" descr="Physicians and administrators making rounds, taking notes and collecting data.&#13;&#10;DC Rounds.jpg"/>
          <p:cNvPicPr/>
          <p:nvPr/>
        </p:nvPicPr>
        <p:blipFill>
          <a:blip r:embed="rId1"/>
          <a:stretch/>
        </p:blipFill>
        <p:spPr>
          <a:xfrm>
            <a:off x="990720" y="1676520"/>
            <a:ext cx="701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erating the Discharge Care Pla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– Use template for DA to enter all requir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template to your IT Department and request that they integrate with existing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 discharge planning software that is integrated with your existing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Image of AHRQ Template for Care Plan booklet"/>
          <p:cNvPicPr/>
          <p:nvPr/>
        </p:nvPicPr>
        <p:blipFill>
          <a:blip r:embed="rId1"/>
          <a:srcRect l="36220" t="30956" r="34345" b="8040"/>
          <a:stretch/>
        </p:blipFill>
        <p:spPr>
          <a:xfrm>
            <a:off x="378000" y="1444680"/>
            <a:ext cx="3411360" cy="44197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 Template for Care Pla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, downloadable, fill-able PDF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Project RED After-Hospital Car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 on your server for easy access by 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 with your current systems as 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copies available from AHR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762120" y="5943600"/>
            <a:ext cx="77724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hrq.gov/qual/goinghomeguide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Sample After Hospital Care Plan document"/>
          <p:cNvPicPr/>
          <p:nvPr/>
        </p:nvPicPr>
        <p:blipFill>
          <a:blip r:embed="rId1"/>
          <a:stretch/>
        </p:blipFill>
        <p:spPr>
          <a:xfrm>
            <a:off x="762120" y="1523880"/>
            <a:ext cx="763272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2" name="Text Box 3"/>
          <p:cNvSpPr/>
          <p:nvPr/>
        </p:nvSpPr>
        <p:spPr>
          <a:xfrm>
            <a:off x="1600200" y="304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Visual: After Hospital Care Pl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bu.edu/fammed/projectred/toolki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4" name="Picture 3" descr="Graph of sample medications list for patient"/>
          <p:cNvPicPr/>
          <p:nvPr/>
        </p:nvPicPr>
        <p:blipFill>
          <a:blip r:embed="rId1"/>
          <a:stretch/>
        </p:blipFill>
        <p:spPr>
          <a:xfrm>
            <a:off x="990720" y="1374840"/>
            <a:ext cx="73911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Sample graph of medications for patient, color coded and time of day specific."/>
          <p:cNvPicPr/>
          <p:nvPr/>
        </p:nvPicPr>
        <p:blipFill>
          <a:blip r:embed="rId1"/>
          <a:stretch/>
        </p:blipFill>
        <p:spPr>
          <a:xfrm>
            <a:off x="838080" y="1447920"/>
            <a:ext cx="7705800" cy="5244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s - Continu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Sample graph of medications for patient, color coded and time of day specific"/>
          <p:cNvPicPr/>
          <p:nvPr/>
        </p:nvPicPr>
        <p:blipFill>
          <a:blip r:embed="rId1"/>
          <a:stretch/>
        </p:blipFill>
        <p:spPr>
          <a:xfrm>
            <a:off x="762120" y="1371600"/>
            <a:ext cx="7769160" cy="52452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s - Continu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Sample document for follow up appointment schedule.  Color coded and by date/time."/>
          <p:cNvPicPr/>
          <p:nvPr/>
        </p:nvPicPr>
        <p:blipFill>
          <a:blip r:embed="rId1"/>
          <a:stretch/>
        </p:blipFill>
        <p:spPr>
          <a:xfrm>
            <a:off x="838080" y="1447920"/>
            <a:ext cx="7486920" cy="52084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llow-up Appoint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Sample template for patient questions and concerns to record and follow up on."/>
          <p:cNvPicPr/>
          <p:nvPr/>
        </p:nvPicPr>
        <p:blipFill>
          <a:blip r:embed="rId1"/>
          <a:stretch/>
        </p:blipFill>
        <p:spPr>
          <a:xfrm>
            <a:off x="1143000" y="1523880"/>
            <a:ext cx="6764400" cy="5203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Ques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Plan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685800" y="38098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228600" y="38862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 Admi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 flipV="1">
            <a:off x="6858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 flipV="1">
            <a:off x="16002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9"/>
          <p:cNvSpPr/>
          <p:nvPr/>
        </p:nvSpPr>
        <p:spPr>
          <a:xfrm flipV="1">
            <a:off x="807732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 flipV="1">
            <a:off x="52578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1066680" y="312408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 &amp; 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x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2"/>
          <p:cNvSpPr/>
          <p:nvPr/>
        </p:nvSpPr>
        <p:spPr>
          <a:xfrm flipH="1">
            <a:off x="838080" y="1143000"/>
            <a:ext cx="3810240" cy="228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13"/>
          <p:cNvSpPr/>
          <p:nvPr/>
        </p:nvSpPr>
        <p:spPr>
          <a:xfrm>
            <a:off x="4572000" y="1143000"/>
            <a:ext cx="4191120" cy="26668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4"/>
          <p:cNvSpPr/>
          <p:nvPr/>
        </p:nvSpPr>
        <p:spPr>
          <a:xfrm>
            <a:off x="1600200" y="4876920"/>
            <a:ext cx="6858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1600200" y="50292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EDU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6"/>
          <p:cNvSpPr/>
          <p:nvPr/>
        </p:nvSpPr>
        <p:spPr>
          <a:xfrm>
            <a:off x="1600200" y="40384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7"/>
          <p:cNvSpPr/>
          <p:nvPr/>
        </p:nvSpPr>
        <p:spPr>
          <a:xfrm>
            <a:off x="4876920" y="40384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72428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Order Writt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5257800" y="419112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5257800" y="39625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1"/>
          <p:cNvSpPr/>
          <p:nvPr/>
        </p:nvSpPr>
        <p:spPr>
          <a:xfrm>
            <a:off x="5334120" y="426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2"/>
          <p:cNvSpPr/>
          <p:nvPr/>
        </p:nvSpPr>
        <p:spPr>
          <a:xfrm>
            <a:off x="7543800" y="3886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Ev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3"/>
          <p:cNvSpPr/>
          <p:nvPr/>
        </p:nvSpPr>
        <p:spPr>
          <a:xfrm>
            <a:off x="5032080" y="502920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SCHARGE INSTRU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3886200" y="525780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8763120" y="3809880"/>
            <a:ext cx="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8001000" y="5486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ost-D/C Follow-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formation About Cond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34" name="Picture 2" descr="Sample &quot;patient condition&quot; information sheet."/>
          <p:cNvPicPr/>
          <p:nvPr/>
        </p:nvPicPr>
        <p:blipFill>
          <a:blip r:embed="rId1"/>
          <a:stretch/>
        </p:blipFill>
        <p:spPr>
          <a:xfrm>
            <a:off x="838080" y="1523880"/>
            <a:ext cx="72313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15"/>
          <p:cNvGraphicFramePr/>
          <p:nvPr/>
        </p:nvGraphicFramePr>
        <p:xfrm>
          <a:off x="1295280" y="1515960"/>
          <a:ext cx="647712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15960"/>
                    <a:ext cx="647712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836360" y="533520"/>
            <a:ext cx="6697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cation of Appoint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TextBox 3"/>
          <p:cNvSpPr/>
          <p:nvPr/>
        </p:nvSpPr>
        <p:spPr>
          <a:xfrm>
            <a:off x="1523880" y="6396120"/>
            <a:ext cx="475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are Discharge Inform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4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curr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2057400"/>
            <a:ext cx="4040280" cy="39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name/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of DC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of prescri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tary recommend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ity lim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 DC appointment, if 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498920" cy="4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 Discharge Plan 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266720" y="2057400"/>
            <a:ext cx="4498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hard copy care plan (language specif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tion calendars in lay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morning, afternoon, and evening meds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questions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eduled follow-up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ding test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tion of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iminate Documentation Tim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d Re-Wri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144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should flow from the medical record to the care provider who need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should flow from one practice setting 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that is documented can be time stamped and assessed for 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harge care plan could be automated and flow to the hands of the care team and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39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or Communication with PCP and Lack of Coordin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spital discharge process is often characterized by poor communication and a lack of coordination between the hospital and the PCP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patients are discharged, they often do not know what medications their physicians have prescribed, when their follow-up appointments should take place, and, in some cases, why they were hospit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52480" y="272520"/>
            <a:ext cx="6858000" cy="7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Care Physician Referral B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7848720" cy="542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ers will identify the PCP referral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CP satisfaction will be assessed prior to project la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ian champion will communicate with PCPs about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CPs will advise how to handle  their off-shift  and weekend patient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t-Discharge Phone Cal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61760" y="1600200"/>
            <a:ext cx="78404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who will call your patient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when the follow-up call will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cript for c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process for off shifts and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e 1: Summary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ected Outco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gn your strategic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 infrastructure that will promote communication, understanding of team progress, and documentation of the patient car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roles of executive sponsor, project team leader, DA, physician champion and pharmacist in the redesigned discharg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systematic performance improvement process that will facilitate knowledge transfer and sustainable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ed Project RED key principles,  including application of the Discharge Care Plan, communication with PCPs and implementing post DC phone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ession to Module 2 Checkli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-3765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moving to Module 2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your current state process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the primary physician referral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Patient Care Plan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e the project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dates for training frontline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rse Overview Modules 1- 4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ule 1 – Getting star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ule 2 – Patient admiss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e and trea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ule 3 – Patient discharge and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llow-up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ule 4 – Preparing to laun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e 1: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176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organizational strategic priorities that will align with local, regional, and national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systematic performance improvement process to facilitate knowledge transfer and sustainable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he roles of executive sponsor, project team leader, discharge advocate, physician champion, and pharmacist in the redesigned discharg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n understanding of Project RED’s 11 compon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ategic Prior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09120" y="16761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atient outco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cost/revenue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HCAHPS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for changes to CMS  reimbursement penalties for high readmission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nurse/provider tim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portability of PHI across the continuum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relationship with PC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icit delineation of roles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process initiation upon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education throughout 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ly accurate information flow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om PCP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Among hospital tea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► Back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C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buClr>
                <a:srgbClr val="ffff99"/>
              </a:buClr>
              <a:buSzPct val="9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patient discharge summary prior to dischar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1371600" y="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Principles of the Re-Engineered Hospital Dischar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5:45:16Z</dcterms:created>
  <dc:creator>shforsyt</dc:creator>
  <dc:description/>
  <dc:language>en-US</dc:language>
  <cp:lastModifiedBy>emily.moser</cp:lastModifiedBy>
  <dcterms:modified xsi:type="dcterms:W3CDTF">2011-03-24T19:04:39Z</dcterms:modified>
  <cp:revision>530</cp:revision>
  <dc:subject/>
  <dc:title>Slide 1</dc:title>
</cp:coreProperties>
</file>