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E61-F8CD-4021-A6A7-932019AB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1415-74BF-44A4-930B-99767A58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: Module 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paring for the redesign of your discharg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B9B7-A195-400F-94E6-5C252E21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87D7-A016-4B0D-BBE7-673FC9EBEB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06668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inciples of the Re-Engineered Hospital Discharge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rehensive written discharge plan provided to patient prior to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formation in patient’s language and literacy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inforcement of plan with patient after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ailability of case management staff outside of limited daytime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 quality improvement of discharge 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437D6E5-731D-4D53-A86D-DBC5489E93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Improvemen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ing, Shewhart, 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(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n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979D-349E-4A09-8846-BE75FAB39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e Your Infra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gram of Hierarchy with Oversight Committee at the top, Champion in the middle, and Project Team on the botto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A45-2677-4E0D-9F20-6F3D0823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RED Oversight Committee – St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e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champ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 and review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CB4C-B793-418C-A2D4-195681EB5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Process, Focus on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really matters to the organization? Achieve bottom-line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we measure the impact of th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has the project contributed this year and will contribute in future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13BD-F495-4082-922D-0B7C6F1D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the 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s project and sc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s candidates fo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 projects wee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s barriers and supplies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1FC1-A0A0-465E-A579-39429A60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 Sigma Forum, Post Conference Worksh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30, 200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ies.ncsu.edu/leanhealth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475F-2D8A-4D3E-B89F-F8813BF5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eam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educated in PI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etent and confident facilit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bjective and neutral to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an organized plan for th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sults foc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Physician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with senior lea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es with medical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physician perspective to the project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s in the elimination of system barr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lieves in the Project RED intervention and value of improving discharg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0396-21AC-40AE-9973-C66ED031D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ed to oversee patient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all discharge activities within patie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s team activities and discharge planning rounds with primary 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s discharge focus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s completion of discharge plan and demonstrated learning by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75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EAD5-1CB2-4886-916F-1AC011820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-Engineering Discharge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oal of this self-learning course is to help hospitals across the country implement Project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 improves the discharge process to assist patients more safely care for themselves at h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o prevent readmi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Advo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notified when patients in target population are admitted/diagno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action steps associated with Project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s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ucates patient and family about condition, medications, other treatments, post-discharge plans, and follow up ordered by the physic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s plan with patient and fam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ects measurement data specific to project and patient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’s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s patient plan of care based on critical path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and/or participates in 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s potential date of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performance improve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es physician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admission medications with medications from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s with care team specific to discharge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nciles medications upon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s with patient medication questio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a Team, Answer the Following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ur project scope manage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we have PI structure including oversight steering committee; project champion; DA; pharmacist; team members; team leader; scheduled dates, times, and resources needed for the meeting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we alerted ad hoc resources such as finance, medical records, IT, education dept, etc., as neede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missing and who will be responsi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C8D-43CD-4AEE-B384-6DBF46346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the Team Ch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eam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key stak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blem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AIM statement (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patient and organization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project targets and 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re senior leadership sanc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Team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: Table gives an example of a team char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304560" y="4267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he Curren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a high-level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parti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dmission is the star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ospital care provision is the end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discipline what steps it takes to prepare the patient fo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Current State May Look Like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phi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low image identifying the steps in between admission and patient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Process Map: Patient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: Image of swim lane diagram, identifying specific steps by role: Physician, Nurse, DA, Pharmac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C3B-6B72-4B59-BF48-FF361AF11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Process Map i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lyze the work flow in the eyes of the pat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defects exist?  Where are communication breakdowns, failure to hand off informatio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re do delays occu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your Project RED gaps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 we have omission , selection, documentation, communication, administration failure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steps in this process would the patient be willing to “pay fo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E26-76B1-4481-A319-E8ACDAEE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se overview modules 1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improvement 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 clar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atic PI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Your Gap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Current Stat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instruction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teaching on day of discha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discharge advo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appt schedu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post DC phone 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PCP DC Summ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 RE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uidelin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tanding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DC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C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summary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 DC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134-E8F1-49EB-A40D-328842E6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DAEB-3E62-48A1-81B2-2BB423EE20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7CDBA9-4C28-448C-9C6E-7116A10A9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llenges to Implementa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edical Team 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 medical team means discharge receives low priority in the work schedule of inpatient clinici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is relegated to least-experienced team 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-minute tests/consultations result in delay of final discharge plan and medication li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ccurate medication reconcil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medication reconciliation started on the day of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ospital Related</a:t>
            </a:r>
            <a:br>
              <a:rPr sz="1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resources and financial incentives to sustain discharge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ized discharge papers are not personalized or in patient’s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 to change by clin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essure to fill beds as soon as they are empt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0B7-CF59-4799-935C-C0C2E441B9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s to Implementation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atient 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with n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or no insurance cove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pay for medication co-p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it times when calling health ce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discharge is less effective because staff are teaching patients who are anxious to leav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5AEE10-734A-4855-B2AC-BFAC87459D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Graphic image of fishbone diagram, analyzing the causes for patient readmission, including materials, discharge process, communication,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4C1-D29C-4499-817F-E3A2A74B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F5B-211F-4EF1-8412-E12C1117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518C-D09F-4C0C-86E1-273C4BB830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F03B-B340-41A7-A2B4-6BFF3827C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304920" y="4343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Book Antiqua"/>
              </a:rPr>
              <a:t>P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Arial"/>
              </a:rPr>
              <a:t>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to notify DA about new ad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’ PCPs notified within 24 hours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phone calls made within 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patients completing post-discharge survey (30 days after dis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856A-68B9-42A3-8F7E-46A3F263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C072-9BB6-46EA-BF84-9D2A487FB4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26E4-8187-40E8-8223-9450BF5D9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ion of care plan detai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medication list inclu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care needs included (e.g., exercise, diet, main problem, when do I call doct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follow-up appointmen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 of care plans with pending tests li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st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-day unplanned all-cause readmission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t of second LOS (read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Patient experience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/Post data: Frontline staff survey related to discharge pr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022E-2C17-4ECC-8E56-17A0DA6B9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Pause A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igh-level process map compa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n you will draw/redraw your high-level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failures are you predic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easurements do you have in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607D-252D-4F0B-BAD3-D56F88F0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6237-B574-4707-BB41-7C6EC383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C66-08AB-4197-9574-A8D25E974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opted by National Quality Forum as one of 30 US  "Safe Practices" (SP-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en mutually reinforcing componen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Medication reconcil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concile discharge plan with national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Outstanding tes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Post-discharg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Written discharg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What to do if problem a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Patient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Assess patient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Discharge summary sent to P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elephone rei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539324-C74D-4BE6-A734-4F2BA91CF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cipant’s Training Program: Facilitated Implementation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information and strategies for designing and implementing  improvement processes ove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on how to operationalize specific discharge planning proc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omprehensive systematic performance improvement project plan that will include timelines and strategies for use immediately following completion of the four-modul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2FC-1908-4107-B521-77EEA5717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oject RE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DA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patients for hospital dis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patients safely transition from hospital to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patient self-health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patients after discharge through follow-up phon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78E-5DAF-4EBE-8353-C4FA26DA8D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Physicians and administrators making rounds, taking notes, and collect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36D9-33EC-4601-985F-3587E7BA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the Discharge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– Use template for DA to enter all requir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template to your IT Department and request that they integrate with exi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 discharge planning software that is integrated with your exis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Template for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, downloadable, fill-able PDF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Project RED After-Hospital Care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on your server for easy access by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with your current systems as 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copies available from AH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hrq.gov/qual/goinghomeguid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AHRQ Template for Care Plan book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AAB-9D57-418F-9183-79927233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sual: After Hospital C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u.edu/fammed/projectred/toolki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After Hospital Care Plan doc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D9C6-DA14-4832-A5B8-67F90FE2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Graph of sample medications list for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44EF-F163-43B4-A49F-317EBC2EE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 –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of medications for patient, color coded and time of day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A4F-8459-4C2C-A41B-8FC6D2DF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s –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of medications for patient, color coded and time of day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4A73-A706-4EAF-9A83-AE96D7785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document for follow up appointment schedule.  Color coded and by date/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5180-231D-43C0-844E-130E2B9AA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template for patient questions and concerns to record and follow up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harge Plan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c of discharge planning with patient education and discharge instructions as the found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DD48-C1DD-4A2E-BFF7-D6C77715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About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mple "patient condition" information sh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F21D-C805-4DED-8403-EF8DC61A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Map of BMC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Discharg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st current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name/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of DC med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of prescri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etary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 limi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 DC appointment, if kn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 Discharge Plan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hard copy care plan (language specif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calendars in lay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ily morning, afternoon, and evening meds ident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questio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 follow-up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tests and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BC12-C72E-4F54-BAA7-790B9EE7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3503-731B-42CE-8B94-69439FDD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liminate Documentation Time and Re-W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should flow from the medical record to the care provider who need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should flow from one practice sett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that is documented can be time stamped and assessed for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harge care plan could be automated and flow to the hands of the care team and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or Communication with PCP and Lack of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spital discharge process is often characterized by poor communication and a lack of coordination between the hospital and the PCP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atients are discharged, they often do not know what medications their physicians have prescribed, when their follow-up appointments should take place, and, in some cases, why they were hospit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mary Care Physician Referral B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 will identify the PCP referral b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P satisfaction will be assessed prior to project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 champion will communicate with PCPs abou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Ps will advise how to handle  their off-shift  and weekend patient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-Discharge Phone C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who will call your patient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when the follow-up call will be m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script for c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process for off shifts and week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B6FA-617B-4061-8DF6-18B04425C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: Summary 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pected Outco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ign your strategic pri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n infrastructure that will promote communication, understanding of team progress, and documentation of the patient care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 roles of executive sponsor, project team leader, DA, physician champion and pharmacist in the redesigned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a systematic performance improvement process that will facilitate knowledge transfer and sustainabl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bed Project RED key principles,  including application of the Discharge Care Plan, communication with PCPs and implementing post DC phone ca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ession to Module 2 Check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moving to Module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your current state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the primary physician referral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atient Care Pla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the projec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ates for training frontlin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 Overview Modules 1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1 – Getting sta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2 – Patient admission care and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3 – Patient discharge and follow-up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4 – Preparing to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E31-A67D-4F2F-A80E-C8882973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: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al strategic priorities that will align with local, regional, and nation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systematic performance improvement process to facilitate knowledge transfer and sustainable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roles of executive sponsor, project team leader, discharge advocate, physician champion, and pharmacist in the redesigned discharg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n understanding of Project RED’s 11 compo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EFBF-CBEC-4E4C-9EB1-A2AB7EB4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ic Priorities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patient outcom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cost/revenue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CAHPS sc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for changes to CMS  reimbursement penalties for high readmission 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nurse/provider time uti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 portability of PHI across the continuum of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relationship with PC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200-5203-4505-9ED8-D7E3B0E1B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A42F-1778-4DFA-A2A4-C967F28A7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E6B5-97F4-43BE-A034-6AFF064B12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Principles of the Re-Engineered Hospital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licit delineation of roles and responsi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harge process initiation upon ad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 education throughout hospit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ly accurate information flow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PCP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Among hospital team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► Back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CP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te patient discharge summary prior to dischar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F7109E1-5075-486E-8E4F-C7B678DF42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B17-BFF5-4F28-B75A-7AC84BDE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845-989E-4A47-A7FE-0C06D0D7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B31-90D4-4490-B11C-F09BF367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03D2-4939-4317-8E77-F48648B4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168C-C864-4EA0-9086-7918DE42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A45A-B20F-4540-9947-52849B67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97FD-0926-4418-9C60-7C2D4F49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15B-247C-42D0-9342-BC6B853F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FF41-490D-437E-B9FF-EECAD407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EC6D-EB9A-40A2-AC2F-53AEFFB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7B5E-7AEE-43A6-BA43-B9202E21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E4D-E5FF-4E6E-B2EC-0036EF7F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EF0-4269-4B7C-A0FF-C05FE425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180A-07AF-4871-BDA6-A2D8C2E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20FC-93E5-47C4-8E86-90708645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7330-651B-4101-BD7E-4AEB09E8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09C9-9B6C-48CF-B624-9606DF4D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FD338-107D-4BE6-A336-F38C1AF0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6CB3-5E0E-4DCC-A9B9-592421B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E1E1F-2FD8-4F43-AC57-6BE88BF7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53F8-C46B-4BA8-A8ED-E61D9C25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19B0F-C81B-437D-9A00-F353D209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2C4-D9A2-4ED3-B6F6-1BD2BFE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564B-84C1-4417-890B-350F972A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C907B-787F-44CE-8003-EB2CC17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277E-DB72-4081-9B03-E99C27ED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C2E2-611E-4AD7-92F5-366E58B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D839B-38C1-431B-98EC-8A3495C5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28E1-4EC2-4770-8AF2-1E2EB23D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C0802-3C6C-410D-8DBB-1A25072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44F-A3AF-4C74-BE08-ADC5E8C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4D511-B4D1-4B1A-BF1F-C0C0A38D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E78-173B-44BF-BC86-C0206A7C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F6C77-4453-441E-833F-02FD7799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1526-3679-4C46-96DE-3FFC1B54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C310E-D75F-4820-AC76-5B9A1EE6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31B7-2A55-4C63-8E97-8EA5F556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00426-F882-4826-A787-CF22D87D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15358-82FD-4AC5-97F5-1869986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0A151-5851-4BA9-921D-C0F40DEB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6F65-86AF-4112-95A7-7C330BA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5C482-C168-49FF-8A16-FA355DE9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8472-C3DB-41EA-8AC8-924AC964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E65-AB71-4848-89B0-D0C35C8D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B4B71-A76D-4FE4-BE66-71288F2B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AB8-4DF1-43F8-B776-A15E473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E0A8B-2F03-44FD-9E83-C93D77B2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D1CB-1CAD-4A41-92B7-3B5F9828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07D1-B336-481D-AC80-E969D530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58DE-8AE1-4DD6-8A0A-BF507474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61447-0B14-43B6-A30F-7F468BC4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45C83-F93F-45EA-B6BE-73E0DA93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9BE7-F507-496C-9B55-A673F35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0C3-223C-46CA-B09C-FF5B5D55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EE03F-294E-489B-B647-384EA1A5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4E95A-B03E-4BEE-96F3-76A1629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1D69-B639-45EB-81CE-2998FCD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16D5-04A7-4EEC-A7C1-298F4B62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FC98-C5ED-4AA9-8008-51BB258B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E4D-3AEE-459B-AE9C-6422337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ACFC-CC3D-4BCA-B63E-05D897DBFE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3F9-953A-434A-A4A5-4E9F3A1A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8704-8834-487B-B421-980DE13025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4E76-6DE6-4B1A-9EE2-457740A7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439-AE8A-4742-B65D-3BED24A84F6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B89-5121-44D4-8F4C-6A6D74D228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52F3-75B8-4A9A-BFBD-A2EC7426CEA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BA30-20F1-4033-9F2A-7425B66A90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31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3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473A-FD7A-4F41-BD2F-47BD127F528C}" type="datetime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CAF5-65A2-4E7F-ADA2-78922954474C}" type="slidenum"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RED: Module 1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ing to Redesign Your Discharg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53352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written discharge plan provided to patient prior to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nformation in patient’s language and literacy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ement of plan with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ility of case management staff outside of limited daytime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quality improvement of discharge 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1371600" y="228600"/>
            <a:ext cx="77724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 of the Re-Engineered Hospital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(continu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formance Improv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ing, Shewhart, 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(Stu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n Six 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6978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termine Your Infrastructur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2679480" y="147780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sigh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13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14"/>
          <p:cNvSpPr/>
          <p:nvPr/>
        </p:nvSpPr>
        <p:spPr>
          <a:xfrm>
            <a:off x="2286000" y="25146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15"/>
          <p:cNvSpPr/>
          <p:nvPr/>
        </p:nvSpPr>
        <p:spPr>
          <a:xfrm flipV="1">
            <a:off x="4648320" y="22093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16"/>
          <p:cNvSpPr/>
          <p:nvPr/>
        </p:nvSpPr>
        <p:spPr>
          <a:xfrm>
            <a:off x="693432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1245960" y="33066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83916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1523880" y="4419720"/>
            <a:ext cx="6400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20"/>
          <p:cNvSpPr/>
          <p:nvPr/>
        </p:nvSpPr>
        <p:spPr>
          <a:xfrm>
            <a:off x="15238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37339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2"/>
          <p:cNvSpPr/>
          <p:nvPr/>
        </p:nvSpPr>
        <p:spPr>
          <a:xfrm>
            <a:off x="58672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3"/>
          <p:cNvSpPr/>
          <p:nvPr/>
        </p:nvSpPr>
        <p:spPr>
          <a:xfrm>
            <a:off x="792468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6934320" y="38862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5894280" y="3200400"/>
            <a:ext cx="20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22096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8"/>
          <p:cNvSpPr/>
          <p:nvPr/>
        </p:nvSpPr>
        <p:spPr>
          <a:xfrm>
            <a:off x="304884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503028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7163640" y="4800600"/>
            <a:ext cx="144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1722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ject RED Oversight Committee - Stee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date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champ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eive and review up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05120" y="272520"/>
            <a:ext cx="6324480" cy="94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Emphasize Process, </a:t>
            </a:r>
            <a:br>
              <a:rPr sz="3400"/>
            </a:b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Focus on Results</a:t>
            </a:r>
            <a:endParaRPr b="1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85440" y="1371240"/>
            <a:ext cx="80010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really matters to the organization? Achieve bottom-line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measure the impact of the proje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has the project contributed this year and will contribute in future yea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Champ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the 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s project and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s candidates for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s projects week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es barriers and supplies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 Project Tea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533520" y="1752480"/>
            <a:ext cx="7993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champ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advoc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physic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rmac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Team Leader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533160" y="17524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omes educated in PI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competent and confident facilit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objective and neutral to th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tes an organized plan for 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results fo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6960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ject Physician Champ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120" y="1523520"/>
            <a:ext cx="79930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es with senior lea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es with medical sta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physician perspective to the project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ists in the elimination of system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lieves in the Project RED intervention and value of improving discharge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09480" y="1676160"/>
            <a:ext cx="3919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to oversee patient discharge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ll discharge activities within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s team activities and discharge planning rounds with primary M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1440" y="1676160"/>
            <a:ext cx="39211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discharge focus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s completion of discharge plan and demonstrated learning by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-Engineering Discharge Project R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oal of this self-learning course is to help hospitals across the country implement Project R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RED improves the discharge process to assist patients more safely care for themselves at home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to prevent readmis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64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Advoc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notified when patients in target population are admitted/diagn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action steps associated with Project 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s patient and family about condition, medications, other treatments, post-discharge plans, and follow up ordered by the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plan with patient an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s measurement data specific to project and patient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’s Physicia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90360" y="152388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s patient plan of care based on critical path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s and/or participates in discharge planning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es potential date of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he performance improvement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es physician 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admission medications with medications from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es with care team specific to discharge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ciles medications upon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ts with patient medication ques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6697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a Team, Answer the Following Ques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09120" y="1447920"/>
            <a:ext cx="7993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ur project scope manage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have PI structure including oversight steering committee; project champion; DA; pharmacist; team members; team leader; scheduled dates, times, and resources needed for the meet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we alerted ad hoc resources such as finance, medical records, IT, education dept, etc., as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missing and who will be responsi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velop the Team Charte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eam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key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problem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AIM statement (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atient and organization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project targets and mile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quire senior leadership san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Team Chart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4" name="Object 3"/>
          <p:cNvGraphicFramePr/>
          <p:nvPr/>
        </p:nvGraphicFramePr>
        <p:xfrm>
          <a:off x="152280" y="1295280"/>
          <a:ext cx="88394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394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e the Current St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a high-level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disciplinar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dmission is the star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ospital care provision is the end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each discipline what steps it takes to prepare the patient fo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Process flow image identifying the steps in between admission and patient discharge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419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Current State May Look Like Th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Graphic image of swim lane diagram, identifying specific steps by role - Physician, Nurse, DA, Pharmacist"/>
          <p:cNvPicPr/>
          <p:nvPr/>
        </p:nvPicPr>
        <p:blipFill>
          <a:blip r:embed="rId1"/>
          <a:stretch/>
        </p:blipFill>
        <p:spPr>
          <a:xfrm>
            <a:off x="-81000" y="533520"/>
            <a:ext cx="930744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ce the Process Map is Completed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28240" y="1371600"/>
            <a:ext cx="83739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work flow in the eyes of the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fects exist?  Where are communication breakdowns, failure to hand off inform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delays occu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Project RED gap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have omission , selection, documentation, communication, administration failur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teps in this process would the patient be willing to “pay for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1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urse overview modules 1-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c prior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ance improvement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clar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ystematic PI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stablish Your Gap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87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ple Current St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instruction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harge teaching on day of dis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ischarge advo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t schedu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ost DC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CP DC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2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 fontScale="62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 RED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44720" y="1828440"/>
            <a:ext cx="404172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 reconcil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guidelin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-up appoin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tanding te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DC servi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DC car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cont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d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C summary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8960" indent="-4089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DC phon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6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Medical Team Relat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y medical team means discharge receives low priority in the work schedule of inpatient clinic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is relegated to least-experienced team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-minute tests/consultations result in delay of final discharge plan and medication list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accurate medication reconcil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medication reconciliation started on the day of dischar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05120" y="761760"/>
            <a:ext cx="6858000" cy="88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6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Hospital Related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resources and financial incentives to sustain discharge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zed discharge papers are not personalized or in patient’s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ance to change by clin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pressure to fill beds as soon as they are empty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allenges to Implementation: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atient Relat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with no PC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or no insurance cove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to pay for medication co-p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wait times when calling health ce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discharge is less effective because staff are teaching patients who are anxious to leav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Graphic image of fishbone diagram, analyzing the causes for patient readmission, including materials, discharge process, cfommunication, people"/>
          <p:cNvPicPr/>
          <p:nvPr/>
        </p:nvPicPr>
        <p:blipFill>
          <a:blip r:embed="rId2"/>
          <a:stretch/>
        </p:blipFill>
        <p:spPr>
          <a:xfrm>
            <a:off x="-69840" y="-55440"/>
            <a:ext cx="9285120" cy="69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ime to notify DA about new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time from admission to first patient visit by DA (initiation of care plan) – only for patients who meet all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patients’ PCPs notified within 24 hours dischar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follow-up phone calls made within 48 h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follow-up calls requiring second call by pharmacist (if non-pharmacist makes first c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patients completing post-discharge survey (30 days after disch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Arial"/>
              </a:rPr>
              <a:t>Process Metr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432720" indent="-432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ion of care plan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medication list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care needs included (e.g., exercise, diet, main problem, when to call doct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follow-up appointments l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pre-arranged discharge resources identified (e.g., home health, durable medical equip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9840" indent="-378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cent of care plans with pending tests li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come Metrics for 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length of st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-day unplanned all-cause readmission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st of second LOS (readmi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Patient experience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/post data: Frontline staff survey related to discharg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t Us Pause A Mo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high-level process map compa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when you will draw/redraw your high-level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ailures are you predic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easurements do you have in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 Checklis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2516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en mutually reinforcing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Medication reconcili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Reconcile discharge plan with national guid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Outstanding 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Post-discharg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 Written dischar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 What to do if problem a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 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 Assess patient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 Discharge summary sent to PC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ephone reinforc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5029200" y="2895480"/>
            <a:ext cx="3809880" cy="178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opted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tional Quality F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 one of 30 U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"Safe Practices" (SP-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ticipant’s Training Program: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Facilitated Implementation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9120" y="144792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and strategies for designing and implementing  improvement processes ove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on how to operationalize specific discharge planning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3640" indent="-4136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rehensive systematic performance improvement project plan that will include timelines and strategies for use immediately following completion of the four-modul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oject RED Compon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52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DA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patients for hospital discha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patients safely transition from hospital to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atient self-health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patients after discharge through follow-up phon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harge Planning Roun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4" name="Content Placeholder 3" descr="Physicians and administrators making rounds, taking notes and collecting data.&#13;&#10;DC Rounds.jpg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erating the Discharge 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– Use template for DA to enter all requir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template to your IT Department and request that they integrate with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chas discharge planning software that is integrated with your existing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Image of AHRQ Template for Care Plan booklet"/>
          <p:cNvPicPr/>
          <p:nvPr/>
        </p:nvPicPr>
        <p:blipFill>
          <a:blip r:embed="rId1"/>
          <a:srcRect l="36220" t="30956" r="34345" b="8040"/>
          <a:stretch/>
        </p:blipFill>
        <p:spPr>
          <a:xfrm>
            <a:off x="378000" y="1444680"/>
            <a:ext cx="3411360" cy="44197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 Template for Care Pla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, downloadable, fill-able PDF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Project RED After-Hospital Car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re on your server for easy access by 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e with your current systems as 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copies available from AHRQ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762120" y="5943600"/>
            <a:ext cx="77724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ahrq.gov/qual/goinghomeguid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Sample After Hospital Care Plan document"/>
          <p:cNvPicPr/>
          <p:nvPr/>
        </p:nvPicPr>
        <p:blipFill>
          <a:blip r:embed="rId1"/>
          <a:stretch/>
        </p:blipFill>
        <p:spPr>
          <a:xfrm>
            <a:off x="762120" y="1523880"/>
            <a:ext cx="7632720" cy="517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2" name="Text Box 3"/>
          <p:cNvSpPr/>
          <p:nvPr/>
        </p:nvSpPr>
        <p:spPr>
          <a:xfrm>
            <a:off x="1600200" y="3049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A Visual: After Hospital Care Pl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bu.edu/fammed/projectred/toolki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4" name="Picture 3" descr="Graph of sample medications list for patient"/>
          <p:cNvPicPr/>
          <p:nvPr/>
        </p:nvPicPr>
        <p:blipFill>
          <a:blip r:embed="rId1"/>
          <a:stretch/>
        </p:blipFill>
        <p:spPr>
          <a:xfrm>
            <a:off x="990720" y="1374840"/>
            <a:ext cx="739116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3" descr="Sample graph of medications for patient, color coded and time of day specific."/>
          <p:cNvPicPr/>
          <p:nvPr/>
        </p:nvPicPr>
        <p:blipFill>
          <a:blip r:embed="rId1"/>
          <a:stretch/>
        </p:blipFill>
        <p:spPr>
          <a:xfrm>
            <a:off x="838080" y="1447920"/>
            <a:ext cx="7705800" cy="52448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 - Continu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Sample graph of medications for patient, color coded and time of day specific"/>
          <p:cNvPicPr/>
          <p:nvPr/>
        </p:nvPicPr>
        <p:blipFill>
          <a:blip r:embed="rId1"/>
          <a:stretch/>
        </p:blipFill>
        <p:spPr>
          <a:xfrm>
            <a:off x="762120" y="1371600"/>
            <a:ext cx="7769160" cy="524520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tions - Continue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Sample document for follow up appointment schedule.  Color coded and by date/time."/>
          <p:cNvPicPr/>
          <p:nvPr/>
        </p:nvPicPr>
        <p:blipFill>
          <a:blip r:embed="rId1"/>
          <a:stretch/>
        </p:blipFill>
        <p:spPr>
          <a:xfrm>
            <a:off x="838080" y="1447920"/>
            <a:ext cx="7486920" cy="5208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ollow-up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Sample template for patient questions and concerns to record and follow up on."/>
          <p:cNvPicPr/>
          <p:nvPr/>
        </p:nvPicPr>
        <p:blipFill>
          <a:blip r:embed="rId1"/>
          <a:stretch/>
        </p:blipFill>
        <p:spPr>
          <a:xfrm>
            <a:off x="1143000" y="1523880"/>
            <a:ext cx="6764400" cy="5203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Ques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harge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4"/>
          <p:cNvSpPr/>
          <p:nvPr/>
        </p:nvSpPr>
        <p:spPr>
          <a:xfrm>
            <a:off x="685800" y="3809880"/>
            <a:ext cx="8001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228600" y="38862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tient Ad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 flipV="1">
            <a:off x="685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 flipV="1">
            <a:off x="16002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9"/>
          <p:cNvSpPr/>
          <p:nvPr/>
        </p:nvSpPr>
        <p:spPr>
          <a:xfrm flipV="1">
            <a:off x="807732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 flipV="1">
            <a:off x="5257800" y="3733560"/>
            <a:ext cx="0" cy="152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1066680" y="3124080"/>
            <a:ext cx="1143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 &amp; 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x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 flipH="1">
            <a:off x="838080" y="1143000"/>
            <a:ext cx="3810240" cy="22860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13"/>
          <p:cNvSpPr/>
          <p:nvPr/>
        </p:nvSpPr>
        <p:spPr>
          <a:xfrm>
            <a:off x="4572000" y="1143000"/>
            <a:ext cx="4191120" cy="26668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4"/>
          <p:cNvSpPr/>
          <p:nvPr/>
        </p:nvSpPr>
        <p:spPr>
          <a:xfrm>
            <a:off x="1600200" y="4876920"/>
            <a:ext cx="6858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1600200" y="50292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6"/>
          <p:cNvSpPr/>
          <p:nvPr/>
        </p:nvSpPr>
        <p:spPr>
          <a:xfrm>
            <a:off x="160020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7"/>
          <p:cNvSpPr/>
          <p:nvPr/>
        </p:nvSpPr>
        <p:spPr>
          <a:xfrm>
            <a:off x="4876920" y="4038480"/>
            <a:ext cx="0" cy="11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8"/>
          <p:cNvSpPr/>
          <p:nvPr/>
        </p:nvSpPr>
        <p:spPr>
          <a:xfrm>
            <a:off x="472428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Order Writt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5257800" y="4191120"/>
            <a:ext cx="228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5257800" y="3962520"/>
            <a:ext cx="0" cy="2286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1"/>
          <p:cNvSpPr/>
          <p:nvPr/>
        </p:nvSpPr>
        <p:spPr>
          <a:xfrm>
            <a:off x="5334120" y="4267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2"/>
          <p:cNvSpPr/>
          <p:nvPr/>
        </p:nvSpPr>
        <p:spPr>
          <a:xfrm>
            <a:off x="7543800" y="38862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scharge Ev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3"/>
          <p:cNvSpPr/>
          <p:nvPr/>
        </p:nvSpPr>
        <p:spPr>
          <a:xfrm>
            <a:off x="5032080" y="502920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SCHARGE INSTRU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3886200" y="5257800"/>
            <a:ext cx="10666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8763120" y="3809880"/>
            <a:ext cx="0" cy="16002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8001000" y="54864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Post-D/C Follow-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formation About Cond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34" name="Picture 2" descr="Sample &quot;patient condition&quot; information sheet."/>
          <p:cNvPicPr/>
          <p:nvPr/>
        </p:nvPicPr>
        <p:blipFill>
          <a:blip r:embed="rId1"/>
          <a:stretch/>
        </p:blipFill>
        <p:spPr>
          <a:xfrm>
            <a:off x="838080" y="1523880"/>
            <a:ext cx="7231320" cy="49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15"/>
          <p:cNvGraphicFramePr/>
          <p:nvPr/>
        </p:nvGraphicFramePr>
        <p:xfrm>
          <a:off x="1295280" y="1515960"/>
          <a:ext cx="647712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15960"/>
                    <a:ext cx="647712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836360" y="533520"/>
            <a:ext cx="6697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cation of Appoint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TextBox 3"/>
          <p:cNvSpPr/>
          <p:nvPr/>
        </p:nvSpPr>
        <p:spPr>
          <a:xfrm>
            <a:off x="1523880" y="6396120"/>
            <a:ext cx="475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are Discharge Inform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current 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2057400"/>
            <a:ext cx="4040280" cy="399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name/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of DC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of prescri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etary recommend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lim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 DC appointment, if kn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498920" cy="44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 Discharge Plan Compon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266720" y="2057400"/>
            <a:ext cx="4498920" cy="40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hard copy care plan (language specif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tion calendars in lay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morning, afternoon, and evening meds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question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eduled follow-up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test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tion of appoint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7680" indent="-4276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998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minate Documentation Time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Re-Writ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9144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hould flow from the medical record to the care provider who needs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should flow from one practice setting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that is documented can be time stamped and assessed for accu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charge care plan could be automated and flow to the hands of the care team and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39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or Communication with PCP and Lack of Coordin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spital discharge process is often characterized by poor communication and a lack of coordination between the hospital and the PCP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atients are discharged, they often do not know what medications their physicians have prescribed, when their follow-up appointments should take place, and, in some cases, why they were hospit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2520"/>
            <a:ext cx="68580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imary Care Physician Referral B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7848720" cy="542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aders will identify the PCP referral 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P satisfaction will be assessed prior to project laun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ian champion will communicate with PCPs about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CPs will advise how to handle  their off-shift  and weekend patient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t-Discharge Phone Cal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1760" y="1600200"/>
            <a:ext cx="78404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who will call your patient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when the follow-up call will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script for c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process for off shifts and week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1: Summary</a:t>
            </a:r>
            <a:br>
              <a:rPr sz="36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ected Outco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gn your strategic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 infrastructure that will promote communication, understanding of team progress, and documentation of the patient care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roles of executive sponsor, project team leader, DA, physician champion and pharmacist in the redesigned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systematic performance improvement process that will facilitate knowledge transfer and sustainable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bed Project RED key principles,  including application of the Discharge Care Plan, communication with PCPs and implementing post DC phon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ion to Module 2 Checkl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-3765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moving to Module 2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your current state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the primary physician referral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the Patient Care Plan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the project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6560" indent="-376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dates for training frontlin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urse Overview Modules 1- 4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1 – Getting star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2 – Patient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e and treat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3 – Patient discharge an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llow-up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dule 4 – Preparing to la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1: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1760" y="15235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organizational strategic priorities that will align with local, regional, and nation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systematic performance improvement process to facilitate knowledge transfer and sustainable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he roles of executive sponsor, project team leader, discharge advocate, physician champion, and pharmacist in the redesigned discharge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n understanding of Project RED’s 11 compon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rategic Prior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09120" y="1676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patient outco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cost/revenue manag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HCAHPS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for changes to CMS  reimbursement penalties for high readmission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nurse/provider time ut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portability of PHI across the continuum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relationship with PC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icit delineation of roles and respon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harge process initiation upon ad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00"/>
              </a:spcAft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education throughout hospit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ly accurate information flow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om PCP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mong hospital tea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► Back t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C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buClr>
                <a:srgbClr val="ffff99"/>
              </a:buClr>
              <a:buSzPct val="9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patient discharge summary prior to dischar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1371600" y="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ＭＳ Ｐゴシック"/>
              </a:rPr>
              <a:t>Principles of the Re-Engineered Hospital Dischar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3-24T19:04:39Z</dcterms:modified>
  <cp:revision>530</cp:revision>
  <dc:subject/>
  <dc:title>Slide 1</dc:title>
</cp:coreProperties>
</file>