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CA67-5481-492F-A941-9A6A66D6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9ED-7D51-466F-BC77-77012A9C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A0BA-853F-48A7-B8E9-605C68C7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AF60-41F9-46AE-859D-97A7F4E3F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8810-363B-4DAE-A88B-4BCD9DFB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BB96-8BF3-4367-A031-978EF74A3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4503-6C58-4CBC-8290-868BB5226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7B316-45F6-4E80-BCD9-8807B57CB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5E03-9582-409C-A97D-465D4C320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58CA-9F65-4F51-9D39-25B5F3D88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399-9179-4FE8-90EB-25EF0CE89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138-3E5C-41B8-ABC6-2F9A37A021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D0F-49FD-4BB2-BE99-649E608A03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B1A-A392-48AC-98ED-1C38E75505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3AC-C423-420C-A1AD-4533AC4D2E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4708-EF96-4F08-B525-DA6085E277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E9A-7821-4FE5-AF72-1B0AC9CE4E5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959-C3B1-435D-AE3B-4168465D1E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374-2B3F-419E-ABFA-C9A23CE1E2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386-870D-4A64-83CA-2FA4F44CAE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317-9EDE-4EA0-8BA9-D976A24746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F12-D0E1-478D-A7B0-7E3E004602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85C-355A-48B7-AE3E-905D5398510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8B6C-C3F5-4C59-95EF-6F0D4C71C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C7F2A-9823-4347-B0F0-5E8A56A5A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5AC7-F373-419B-A713-89730A115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CC0F-F6A9-44D6-9776-19BA97018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869F7-F480-41CB-9080-FBEAF64C0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73EF-C213-4BCA-AB23-DFBDD4801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5461-EF1B-4F83-90B5-957E38510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CVELogoWithoutAHRQ.gif"/>
          <p:cNvPicPr/>
          <p:nvPr/>
        </p:nvPicPr>
        <p:blipFill>
          <a:blip r:embed="rId2"/>
          <a:stretch/>
        </p:blipFill>
        <p:spPr>
          <a:xfrm>
            <a:off x="609480" y="5638680"/>
            <a:ext cx="210672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VELogoWithoutAHRQ.gif"/>
          <p:cNvPicPr/>
          <p:nvPr/>
        </p:nvPicPr>
        <p:blipFill>
          <a:blip r:embed="rId2"/>
          <a:stretch/>
        </p:blipFill>
        <p:spPr>
          <a:xfrm>
            <a:off x="609480" y="5638680"/>
            <a:ext cx="2106720" cy="743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4DB-6D4F-47B2-8C15-D7026259C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762120" y="1676520"/>
            <a:ext cx="807696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CVELogoWithoutAHRQ.gif"/>
          <p:cNvPicPr/>
          <p:nvPr/>
        </p:nvPicPr>
        <p:blipFill>
          <a:blip r:embed="rId2"/>
          <a:stretch/>
        </p:blipFill>
        <p:spPr>
          <a:xfrm>
            <a:off x="762120" y="533520"/>
            <a:ext cx="2809800" cy="990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Market Scan &amp; Sustainability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Calibri"/>
              </a:rPr>
              <a:t>Working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294920" y="426708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 Health Care Quality Corpo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ard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ptember 17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art II: Market Scan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ummar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orporation Niche: Recognition and respect for multi-stakeholder approach; not aware of “competitors” having that qua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ing that Quality Corporation doesn’t think “too sma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cautions against taking on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perception that “nobody” leading or innovating across stakeholder groups in key areas; innovations may be viewed as internally foc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interest in access, value, and affordability, out of 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deas have come out of Oregon, but collaborative execution has been a challenge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1AC-E18B-472A-840C-2CD823A317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arket Scan Highlights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State Health Re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e energy around reform recommendations; expecting some key components to move for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ing nonprofits and public-private partnerships to have a significant role in executing on those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 state to take “partner/buy” vs. “design/build”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ing opinions about the Quality Instit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additional promotion of Quality Corporation to position for future opportun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38A8-82B2-4843-835B-E7C2E060BA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art III: Survey Results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Feedback on Current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Rectangle 3"/>
          <p:cNvGraphicFramePr/>
          <p:nvPr/>
        </p:nvGraphicFramePr>
        <p:xfrm>
          <a:off x="152280" y="1150920"/>
          <a:ext cx="9144000" cy="531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50920"/>
                    <a:ext cx="91440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95A-C2C9-440B-8B27-692104EAB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ighest Value Current Programs 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by Type of Stakeho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0" y="5257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&gt;&gt; Caution: Number of respondents in each category is small &lt;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5638680"/>
            <a:ext cx="4876560" cy="5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  <a:ea typeface="Arial"/>
              </a:rPr>
              <a:t>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ighest rating within that stakeholder group (may be t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d by at least one respondent as “low/no valu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380880" y="888840"/>
            <a:ext cx="8915400" cy="430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92A-84B7-4107-8F4F-17C1C98EA8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urvey Results</a:t>
            </a:r>
            <a:br>
              <a:rPr sz="32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Value of Future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228600" y="963720"/>
            <a:ext cx="8991720" cy="60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CBC-DD3F-47C5-92F0-A4B47F621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bjectives for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Inputs: Recap of Three 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odel Insights from Case Stu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Market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f Stakeholder Priority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Committe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recommendations, 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evaluation of effort (weigh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ction: Discuss &amp; Finalize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66A-C7F9-4EEC-8A02-ACA05E3F4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ustainability Plan Criter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s the Mission: Leads to real solutions for improving health care quality through better information and increased community-wide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s and responds to compelling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s the unique value of the Quality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s tangible value to stakeholders within a timeframe that will keep their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s the expectations of f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acts the attention of potential new fu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a sustainable position for the Quality Corporation mission and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A01-F3F9-4E64-9FEB-26363A4921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art I: Business Model Insights</a:t>
            </a:r>
            <a:br>
              <a:rPr sz="3600"/>
            </a:b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Linking Value with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33960" y="1981080"/>
            <a:ext cx="1981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al Quality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Repo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al QI;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1AA8-6CCA-47B5-8E1D-D6C71663C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6"/>
          <p:cNvSpPr/>
          <p:nvPr/>
        </p:nvSpPr>
        <p:spPr>
          <a:xfrm>
            <a:off x="457200" y="1447920"/>
            <a:ext cx="9067680" cy="9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4" descr=""/>
          <p:cNvPicPr/>
          <p:nvPr/>
        </p:nvPicPr>
        <p:blipFill>
          <a:blip r:embed="rId1"/>
          <a:stretch/>
        </p:blipFill>
        <p:spPr>
          <a:xfrm>
            <a:off x="228600" y="1558800"/>
            <a:ext cx="6781680" cy="344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9C5-039F-4993-83BE-BAF5194787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How are Collaboratives Funded?</a:t>
            </a:r>
            <a:br>
              <a:rPr sz="3200"/>
            </a:b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Consolidated View of Six Organizations Studi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00200" y="1528920"/>
            <a:ext cx="5867280" cy="40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301-CC68-4CE8-91C3-5391E0FD23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Puget Sound Health Alli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BB2F-F929-44FB-A538-76DAE954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CS2 Chart 2.2.png"/>
          <p:cNvPicPr/>
          <p:nvPr/>
        </p:nvPicPr>
        <p:blipFill>
          <a:blip r:embed="rId1"/>
          <a:srcRect l="-1704" t="5152" r="0" b="0"/>
          <a:stretch/>
        </p:blipFill>
        <p:spPr>
          <a:xfrm>
            <a:off x="4572000" y="1523880"/>
            <a:ext cx="3897360" cy="4002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CS2 Chart 2.1.png"/>
          <p:cNvPicPr/>
          <p:nvPr/>
        </p:nvPicPr>
        <p:blipFill>
          <a:blip r:embed="rId2"/>
          <a:stretch/>
        </p:blipFill>
        <p:spPr>
          <a:xfrm>
            <a:off x="457200" y="1447920"/>
            <a:ext cx="3992400" cy="4217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525744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D6EF-9A99-44AD-8537-42A94E01B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alifornia Quality Collaborativ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280C-5D82-48EF-8E8F-E8A7A2F11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CS1 Chart 1.1.png"/>
          <p:cNvPicPr/>
          <p:nvPr/>
        </p:nvPicPr>
        <p:blipFill>
          <a:blip r:embed="rId1"/>
          <a:srcRect l="-285" t="5087" r="0" b="0"/>
          <a:stretch/>
        </p:blipFill>
        <p:spPr>
          <a:xfrm>
            <a:off x="990720" y="1752480"/>
            <a:ext cx="3457440" cy="3768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3"/>
          <p:cNvSpPr>
            <a:spLocks noGrp="1"/>
          </p:cNvSpPr>
          <p:nvPr>
            <p:ph type="title"/>
          </p:nvPr>
        </p:nvSpPr>
        <p:spPr>
          <a:xfrm>
            <a:off x="5028840" y="1219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" descr="CS1 Chart 1.2.png"/>
          <p:cNvPicPr/>
          <p:nvPr/>
        </p:nvPicPr>
        <p:blipFill>
          <a:blip r:embed="rId2"/>
          <a:srcRect l="-823" t="5087" r="0" b="0"/>
          <a:stretch/>
        </p:blipFill>
        <p:spPr>
          <a:xfrm>
            <a:off x="4343400" y="1752480"/>
            <a:ext cx="4125960" cy="3768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C63-113C-456B-A16E-272AE30C6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alifornia Cooperative Healthcare Reporting Initi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4F38-6F3E-43C9-BC8D-9463D06B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44756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title"/>
          </p:nvPr>
        </p:nvSpPr>
        <p:spPr>
          <a:xfrm>
            <a:off x="5181480" y="167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CS1 Chart 1.3.png"/>
          <p:cNvPicPr/>
          <p:nvPr/>
        </p:nvPicPr>
        <p:blipFill>
          <a:blip r:embed="rId1"/>
          <a:stretch/>
        </p:blipFill>
        <p:spPr>
          <a:xfrm>
            <a:off x="838080" y="1905120"/>
            <a:ext cx="3899160" cy="3768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S1 Chart 1.4.png"/>
          <p:cNvPicPr/>
          <p:nvPr/>
        </p:nvPicPr>
        <p:blipFill>
          <a:blip r:embed="rId2"/>
          <a:stretch/>
        </p:blipFill>
        <p:spPr>
          <a:xfrm>
            <a:off x="5029200" y="1905120"/>
            <a:ext cx="3294000" cy="3768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E8D-FA16-4B74-A598-13AF60613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80"/>
                </a:solidFill>
                <a:latin typeface="Arial"/>
              </a:rPr>
              <a:t>Pittsburgh Regional Health Initiative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704-AA13-4A32-8CCA-4671D60C9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21896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Sourc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title"/>
          </p:nvPr>
        </p:nvSpPr>
        <p:spPr>
          <a:xfrm>
            <a:off x="5257440" y="1523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ses of Fu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S3 Chart 3.1.png"/>
          <p:cNvPicPr/>
          <p:nvPr/>
        </p:nvPicPr>
        <p:blipFill>
          <a:blip r:embed="rId1"/>
          <a:stretch/>
        </p:blipFill>
        <p:spPr>
          <a:xfrm>
            <a:off x="1066680" y="1900080"/>
            <a:ext cx="3294360" cy="3662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CS3 Chart 3.2.png"/>
          <p:cNvPicPr/>
          <p:nvPr/>
        </p:nvPicPr>
        <p:blipFill>
          <a:blip r:embed="rId2"/>
          <a:stretch/>
        </p:blipFill>
        <p:spPr>
          <a:xfrm>
            <a:off x="5334120" y="1676520"/>
            <a:ext cx="3294000" cy="3965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E40-03EB-4192-A380-4732FC9E3F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9:58:24Z</dcterms:created>
  <dc:creator>clarson</dc:creator>
  <dc:description/>
  <dc:language>en-US</dc:language>
  <cp:lastModifiedBy>william.hyde</cp:lastModifiedBy>
  <dcterms:modified xsi:type="dcterms:W3CDTF">2009-03-26T19:31:14Z</dcterms:modified>
  <cp:revision>82</cp:revision>
  <dc:subject/>
  <dc:title>PowerPoint Presentation</dc:title>
</cp:coreProperties>
</file>