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C6C4-5548-4353-9550-A1B53B953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91B3-E5C8-4340-BAFA-E6B912BF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FD2C-F76D-4C75-960A-6419EABC7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3DF-154B-41ED-BE32-F0A81278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0006-C477-4F1A-AE5B-F2D97A1DC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70BE-724E-4441-89DF-F92990046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B77B-D965-4716-9D25-CA3307D80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D50A-B1A8-4C03-BAF2-E3CD33014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900B-97A0-497A-B2A2-24E4FD777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940F-0AAF-471C-B9EE-7431757E7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FFC-A23E-40C2-A862-18F147E82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CBE-AE75-44E1-ADFA-A70F2772C6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842-700A-488C-95C5-5659D47B16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D6D-EB65-4B72-8C66-7500A2B5F8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C75-E048-4A45-960F-9D7497BA1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7368-B5AF-4EDE-876F-6D2AE762A2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635-40F8-43F7-9E44-5D2B255244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B93-11E2-4FE0-9DDD-B69BCFCFCE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7B5-9509-4FB7-B5AE-3009B82F7D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5FB-C7C3-4954-BD0A-C2B5D964C5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810-1A45-4BEB-AC57-BE7B4218CF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AEB-E822-4F0F-988F-21806F6244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90B-6336-4483-A648-E0A4D47087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690C-697A-44A4-BD27-0E6B2D3DF6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6B18-088E-44BC-A5D7-C4F69FB10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CDFF-ABAC-4D0F-B01A-06F86618A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EBFE-AB7F-4AF1-8DAF-D80F4801D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13B9-1523-45C1-8EF7-C2251FA5B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2945-421A-43AE-AEFC-729D4FEEE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B70A-4919-49A0-B38A-AD9DE3CCA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CVELogoWithoutAHRQ.gif"/>
          <p:cNvPicPr/>
          <p:nvPr/>
        </p:nvPicPr>
        <p:blipFill>
          <a:blip r:embed="rId2"/>
          <a:stretch/>
        </p:blipFill>
        <p:spPr>
          <a:xfrm>
            <a:off x="609480" y="5638680"/>
            <a:ext cx="21067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VELogoWithoutAHRQ.gif"/>
          <p:cNvPicPr/>
          <p:nvPr/>
        </p:nvPicPr>
        <p:blipFill>
          <a:blip r:embed="rId2"/>
          <a:stretch/>
        </p:blipFill>
        <p:spPr>
          <a:xfrm>
            <a:off x="609480" y="5638680"/>
            <a:ext cx="2106720" cy="743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303-EAEF-457C-B0B1-21E467EC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762120" y="1676520"/>
            <a:ext cx="807696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CVELogoWithoutAHRQ.gif"/>
          <p:cNvPicPr/>
          <p:nvPr/>
        </p:nvPicPr>
        <p:blipFill>
          <a:blip r:embed="rId2"/>
          <a:stretch/>
        </p:blipFill>
        <p:spPr>
          <a:xfrm>
            <a:off x="762120" y="533520"/>
            <a:ext cx="2809800" cy="990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Market Scan &amp; Sustainability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Working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94920" y="426708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 Health Care Quality Corpo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ard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ptember 17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Part II: Market Scan</a:t>
            </a:r>
            <a:br>
              <a:rPr sz="36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ummar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orporation Niche: Recognition and respect for multi-stakeholder approach; not aware of “competitors” having that qua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ing that Quality Corporation doesn’t think “too sma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cautions against taking on to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perception that “nobody” leading or innovating across stakeholder groups in key areas; innovations may be viewed as internally foc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interest in access, value, and affordability, out of 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deas have come out of Oregon, but collaborative execution has been a challenge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E0B-CD79-4594-8713-C12F03EC4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arket Scan Highlights</a:t>
            </a:r>
            <a:br>
              <a:rPr sz="36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tate Health Re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e energy around reform recommendations; expecting some key components to move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ing nonprofits and public-private partnerships to have a significant role in executing on those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 state to take “partner/buy” vs. “design/build”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opinions about the Quality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additional promotion of Quality Corporation to position for future opportun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D1C-42CD-486D-BFA0-6D88E2958E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rt III: Survey Results</a:t>
            </a:r>
            <a:br>
              <a:rPr sz="32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Feedback on Curre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Rectangle 3"/>
          <p:cNvGraphicFramePr/>
          <p:nvPr/>
        </p:nvGraphicFramePr>
        <p:xfrm>
          <a:off x="152280" y="1150920"/>
          <a:ext cx="914400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50920"/>
                    <a:ext cx="91440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402-863C-46DF-9A30-DE60261FB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ighest Value Current Programs </a:t>
            </a:r>
            <a:br>
              <a:rPr sz="32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by Type of Stakeho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0" y="5257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gt;&gt; Caution: Number of respondents in each category is small &lt;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5638680"/>
            <a:ext cx="4876560" cy="5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  <a:ea typeface="Arial"/>
              </a:rPr>
              <a:t>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est rating within that stakeholder group (may be t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d by at least one respondent as “low/no valu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380880" y="888840"/>
            <a:ext cx="8915400" cy="430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CCB-2528-48D8-86F0-F2F90C052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urvey Results</a:t>
            </a:r>
            <a:br>
              <a:rPr sz="32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alue of Futur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228600" y="963720"/>
            <a:ext cx="8991720" cy="60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EB9-BBC4-4194-B7A7-AFFFB7731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bjectives for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Inputs: Recap of Three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odel Insights from Case Stu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Market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Stakeholder Priority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Committe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recommendations, 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evaluation of effort (weigh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ction: Discuss &amp; Finaliz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DFD-FD31-406C-BE41-487E2049D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ustainability Plan Crite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the Mission: Leads to real solutions for improving health care quality through better information and increased community-wide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s and responds to compelling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s the unique value of the Qualit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tangible value to stakeholders within a timeframe that will keep thei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s the expectations of f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acts the attention of potential new f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a sustainable position for the Quality Corporation mission and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A8E-CA4B-4ECE-8B19-0523C6DB8C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Part I: Business Model Insights</a:t>
            </a:r>
            <a:br>
              <a:rPr sz="36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Linking Value with Fu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33960" y="1981080"/>
            <a:ext cx="198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al Quality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al QI;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75C4-E3F7-42F0-93C9-7AC5BA2E0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457200" y="1447920"/>
            <a:ext cx="9067680" cy="9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1"/>
          <a:stretch/>
        </p:blipFill>
        <p:spPr>
          <a:xfrm>
            <a:off x="228600" y="1558800"/>
            <a:ext cx="6781680" cy="34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38E-EB8E-4163-85BB-E46CF4AEE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ow are Collaboratives Funded?</a:t>
            </a:r>
            <a:br>
              <a:rPr sz="3200"/>
            </a:b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nsolidated View of Six Organizations Stud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528920"/>
            <a:ext cx="5867280" cy="40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93B-5A79-4EC3-9CFF-79CD1A32B4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uget Sound Health Alli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6B4-DC0A-4375-88E4-A8A90333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CS2 Chart 2.2.png"/>
          <p:cNvPicPr/>
          <p:nvPr/>
        </p:nvPicPr>
        <p:blipFill>
          <a:blip r:embed="rId1"/>
          <a:srcRect l="-1704" t="5152" r="0" b="0"/>
          <a:stretch/>
        </p:blipFill>
        <p:spPr>
          <a:xfrm>
            <a:off x="4572000" y="1523880"/>
            <a:ext cx="3897360" cy="400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S2 Chart 2.1.png"/>
          <p:cNvPicPr/>
          <p:nvPr/>
        </p:nvPicPr>
        <p:blipFill>
          <a:blip r:embed="rId2"/>
          <a:stretch/>
        </p:blipFill>
        <p:spPr>
          <a:xfrm>
            <a:off x="457200" y="1447920"/>
            <a:ext cx="3992400" cy="4217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title"/>
          </p:nvPr>
        </p:nvSpPr>
        <p:spPr>
          <a:xfrm>
            <a:off x="525744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EA4-2881-4A28-9085-AD9DE51955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alifornia Quality Collaborativ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BDF-0E7E-4CF2-AC9F-6F9723D34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CS1 Chart 1.1.png"/>
          <p:cNvPicPr/>
          <p:nvPr/>
        </p:nvPicPr>
        <p:blipFill>
          <a:blip r:embed="rId1"/>
          <a:srcRect l="-285" t="5087" r="0" b="0"/>
          <a:stretch/>
        </p:blipFill>
        <p:spPr>
          <a:xfrm>
            <a:off x="990720" y="1752480"/>
            <a:ext cx="3457440" cy="3768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502884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CS1 Chart 1.2.png"/>
          <p:cNvPicPr/>
          <p:nvPr/>
        </p:nvPicPr>
        <p:blipFill>
          <a:blip r:embed="rId2"/>
          <a:srcRect l="-823" t="5087" r="0" b="0"/>
          <a:stretch/>
        </p:blipFill>
        <p:spPr>
          <a:xfrm>
            <a:off x="4343400" y="1752480"/>
            <a:ext cx="4125960" cy="3768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02B-3DC6-4261-B6E1-C49046418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alifornia Cooperative Healthcare Reporting Initia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C554-2E16-4FE4-801D-33140E639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44756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CS1 Chart 1.3.png"/>
          <p:cNvPicPr/>
          <p:nvPr/>
        </p:nvPicPr>
        <p:blipFill>
          <a:blip r:embed="rId1"/>
          <a:stretch/>
        </p:blipFill>
        <p:spPr>
          <a:xfrm>
            <a:off x="838080" y="1905120"/>
            <a:ext cx="3899160" cy="376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CS1 Chart 1.4.png"/>
          <p:cNvPicPr/>
          <p:nvPr/>
        </p:nvPicPr>
        <p:blipFill>
          <a:blip r:embed="rId2"/>
          <a:stretch/>
        </p:blipFill>
        <p:spPr>
          <a:xfrm>
            <a:off x="5029200" y="1905120"/>
            <a:ext cx="3294000" cy="3768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41F-DB29-44AD-9511-0464CC539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Arial"/>
              </a:rPr>
              <a:t>Pittsburgh Regional Health Initiativ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7FDD-193D-4EF7-BB79-E8E608ACF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1896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CS3 Chart 3.1.png"/>
          <p:cNvPicPr/>
          <p:nvPr/>
        </p:nvPicPr>
        <p:blipFill>
          <a:blip r:embed="rId1"/>
          <a:stretch/>
        </p:blipFill>
        <p:spPr>
          <a:xfrm>
            <a:off x="1066680" y="1900080"/>
            <a:ext cx="3294360" cy="3662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CS3 Chart 3.2.png"/>
          <p:cNvPicPr/>
          <p:nvPr/>
        </p:nvPicPr>
        <p:blipFill>
          <a:blip r:embed="rId2"/>
          <a:stretch/>
        </p:blipFill>
        <p:spPr>
          <a:xfrm>
            <a:off x="5334120" y="1676520"/>
            <a:ext cx="3294000" cy="3965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AF0-6736-447B-9203-61576CB4B7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9:58:24Z</dcterms:created>
  <dc:creator>clarson</dc:creator>
  <dc:description/>
  <dc:language>en-US</dc:language>
  <cp:lastModifiedBy>william.hyde</cp:lastModifiedBy>
  <dcterms:modified xsi:type="dcterms:W3CDTF">2009-03-26T19:31:14Z</dcterms:modified>
  <cp:revision>82</cp:revision>
  <dc:subject/>
  <dc:title>PowerPoint Presentation</dc:title>
</cp:coreProperties>
</file>