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667-841D-4042-9505-F4C13BDE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D98-E53E-4640-A406-B2BA18A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907-5953-4172-B602-54D8B047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8C5-E386-4963-935C-03F8E128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A1C-3554-4965-BF84-5FB5EEB4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C45-A824-4388-8BD3-EB77569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AD7-11E9-4699-959F-26EE48EE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9C0-48E5-4A43-AE6B-1400C71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8CE-77A0-4B52-B63A-3E8E6B3E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2BF-C917-4262-8E96-0428EE6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824-8A0A-4CC3-8A25-49DF113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1F6-C5B2-4E5A-8419-DAFE090A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A536-2252-496E-A2A5-58C25D4B5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RTALITY MEASUREMENT IN THE EMR ERA:  WHAT REAL TIME LAB AND CLINICAL DATA CAN CONTRIBUTE TO PRECISION AND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abriel J. Escobar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ta Render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hn D. Greene,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la N. Gardner,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ricia Kipnis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vember 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TEGORIZATION OF INTRA-HOSPITAL TRANSFERS TO A HIGHER LEV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st-surgical (OR/P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CU, OR/P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planned (wa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CU, wa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U, TC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testing patterns (blood gases, lactate, troponin I, blood cul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 tested during 16 hour (12-4) time window surrounding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uring time window but not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before and during tim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st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41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e42410"/>
                </a:solidFill>
                <a:latin typeface="Arial Narrow"/>
              </a:rPr>
              <a:t>time of transfer to higher level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410"/>
                </a:solidFill>
                <a:latin typeface="Arial Narrow"/>
              </a:rPr>
              <a:t>                 </a:t>
            </a:r>
            <a:r>
              <a:rPr b="0" lang="en-US" sz="2000" spc="-1" strike="noStrike">
                <a:solidFill>
                  <a:srgbClr val="e4241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----------- |---------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2 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------</a:t>
            </a:r>
            <a:r>
              <a:rPr b="0" lang="en-US" sz="2800" spc="-1" strike="noStrike">
                <a:solidFill>
                  <a:srgbClr val="e42410"/>
                </a:solidFill>
                <a:latin typeface="Symbol"/>
                <a:ea typeface="Symbol"/>
              </a:rPr>
              <a:t>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4 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|------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G or BC or troponin I or lactat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index test obtained in 16 hour window (12 hrs before to 4 hours after transfer to higher level of care) patient is considered to have been tested, otherwise patient is considered “not tes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another test is located within 24-48 hours (depending on test type) preceding index test, the patient is considered “previously tes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another test is not located within 24-48 hours preceding index test, the patient is considered “newly tes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FIRST HOSPIT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3520" y="1828800"/>
          <a:ext cx="7467480" cy="2743200"/>
        </p:xfrm>
        <a:graphic>
          <a:graphicData uri="http://schemas.openxmlformats.org/drawingml/2006/table">
            <a:tbl>
              <a:tblPr/>
              <a:tblGrid>
                <a:gridCol w="1904760"/>
                <a:gridCol w="1295640"/>
                <a:gridCol w="1523880"/>
                <a:gridCol w="1295280"/>
                <a:gridCol w="14479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/P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S (medi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S (medi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y (mean,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y (mean,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INTRA-HOSPITAL TRANSFER TYPE –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828800"/>
          <a:ext cx="7924680" cy="2527200"/>
        </p:xfrm>
        <a:graphic>
          <a:graphicData uri="http://schemas.openxmlformats.org/drawingml/2006/table">
            <a:tbl>
              <a:tblPr/>
              <a:tblGrid>
                <a:gridCol w="3176640"/>
                <a:gridCol w="1166760"/>
                <a:gridCol w="865080"/>
                <a:gridCol w="1244520"/>
                <a:gridCol w="14716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 in TCU or 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dmit to ICU 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d unplanned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dmit to TCU 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d unplanned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INTRA-HOSPITAL TRANSFER TYPE –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1819440"/>
          <a:ext cx="7772400" cy="2066760"/>
        </p:xfrm>
        <a:graphic>
          <a:graphicData uri="http://schemas.openxmlformats.org/drawingml/2006/table">
            <a:tbl>
              <a:tblPr/>
              <a:tblGrid>
                <a:gridCol w="3551040"/>
                <a:gridCol w="1020960"/>
                <a:gridCol w="990360"/>
                <a:gridCol w="1371600"/>
                <a:gridCol w="83844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surgical transfers to TCU or 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INTRA-HOSPITAL TRANSFER TYPE –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1828800"/>
          <a:ext cx="7696080" cy="2011320"/>
        </p:xfrm>
        <a:graphic>
          <a:graphicData uri="http://schemas.openxmlformats.org/drawingml/2006/table">
            <a:tbl>
              <a:tblPr/>
              <a:tblGrid>
                <a:gridCol w="3470040"/>
                <a:gridCol w="1008000"/>
                <a:gridCol w="1030320"/>
                <a:gridCol w="1262160"/>
                <a:gridCol w="92556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planned transfer to TCU or 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EMR For Unplanned Transfers in 17 Kaiser Permanente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457200" y="1752480"/>
            <a:ext cx="8458200" cy="4330800"/>
            <a:chOff x="457200" y="1752480"/>
            <a:chExt cx="8458200" cy="4330800"/>
          </a:xfrm>
        </p:grpSpPr>
        <p:sp>
          <p:nvSpPr>
            <p:cNvPr id="73" name="AutoShape 4"/>
            <p:cNvSpPr/>
            <p:nvPr/>
          </p:nvSpPr>
          <p:spPr>
            <a:xfrm>
              <a:off x="457200" y="1752480"/>
              <a:ext cx="845820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511200" y="1806480"/>
              <a:ext cx="8350200" cy="4233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1079640" y="2031840"/>
              <a:ext cx="7675560" cy="33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1079640" y="2031840"/>
              <a:ext cx="7675560" cy="3300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8"/>
            <p:cNvSpPr/>
            <p:nvPr/>
          </p:nvSpPr>
          <p:spPr>
            <a:xfrm>
              <a:off x="1036800" y="5332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9"/>
            <p:cNvSpPr/>
            <p:nvPr/>
          </p:nvSpPr>
          <p:spPr>
            <a:xfrm>
              <a:off x="1036800" y="46688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036800" y="40147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036800" y="334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2"/>
            <p:cNvSpPr/>
            <p:nvPr/>
          </p:nvSpPr>
          <p:spPr>
            <a:xfrm>
              <a:off x="1036800" y="2695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3"/>
            <p:cNvSpPr/>
            <p:nvPr/>
          </p:nvSpPr>
          <p:spPr>
            <a:xfrm>
              <a:off x="1036800" y="20318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1079640" y="5332320"/>
              <a:ext cx="767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5"/>
            <p:cNvSpPr/>
            <p:nvPr/>
          </p:nvSpPr>
          <p:spPr>
            <a:xfrm flipV="1">
              <a:off x="107964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6"/>
            <p:cNvSpPr/>
            <p:nvPr/>
          </p:nvSpPr>
          <p:spPr>
            <a:xfrm flipV="1">
              <a:off x="15084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V="1">
              <a:off x="193680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 flipV="1">
              <a:off x="23544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9"/>
            <p:cNvSpPr/>
            <p:nvPr/>
          </p:nvSpPr>
          <p:spPr>
            <a:xfrm flipV="1">
              <a:off x="278316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 flipV="1">
              <a:off x="321156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 flipV="1">
              <a:off x="364176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 flipV="1">
              <a:off x="405936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448812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491652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534528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577368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619308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662148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 flipV="1">
              <a:off x="705024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 flipV="1">
              <a:off x="74790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 flipV="1">
              <a:off x="789624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2"/>
            <p:cNvSpPr/>
            <p:nvPr/>
          </p:nvSpPr>
          <p:spPr>
            <a:xfrm flipV="1">
              <a:off x="832644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 flipV="1">
              <a:off x="87552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4"/>
            <p:cNvSpPr/>
            <p:nvPr/>
          </p:nvSpPr>
          <p:spPr>
            <a:xfrm flipV="1">
              <a:off x="1293840" y="3446280"/>
              <a:ext cx="1800" cy="57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5"/>
            <p:cNvSpPr/>
            <p:nvPr/>
          </p:nvSpPr>
          <p:spPr>
            <a:xfrm>
              <a:off x="1260720" y="3446280"/>
              <a:ext cx="75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 flipV="1">
              <a:off x="1722600" y="3724200"/>
              <a:ext cx="1440" cy="279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690920" y="372420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8"/>
            <p:cNvSpPr/>
            <p:nvPr/>
          </p:nvSpPr>
          <p:spPr>
            <a:xfrm flipV="1">
              <a:off x="2140200" y="3520800"/>
              <a:ext cx="1440" cy="29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9"/>
            <p:cNvSpPr/>
            <p:nvPr/>
          </p:nvSpPr>
          <p:spPr>
            <a:xfrm>
              <a:off x="2108160" y="352116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 flipV="1">
              <a:off x="2568600" y="3220920"/>
              <a:ext cx="1800" cy="41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2536920" y="322092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 flipV="1">
              <a:off x="2997360" y="3243240"/>
              <a:ext cx="1440" cy="395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965680" y="32432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 flipV="1">
              <a:off x="3427560" y="3317400"/>
              <a:ext cx="1440" cy="2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3394080" y="331776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 flipV="1">
              <a:off x="3856320" y="3114720"/>
              <a:ext cx="1440" cy="449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3822840" y="311472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 flipV="1">
              <a:off x="4273560" y="3232080"/>
              <a:ext cx="1800" cy="33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4241880" y="323208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0"/>
            <p:cNvSpPr/>
            <p:nvPr/>
          </p:nvSpPr>
          <p:spPr>
            <a:xfrm flipV="1">
              <a:off x="4702320" y="3178080"/>
              <a:ext cx="1440" cy="300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4670640" y="317808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 flipV="1">
              <a:off x="5131080" y="3392640"/>
              <a:ext cx="1440" cy="8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099040" y="339264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4"/>
            <p:cNvSpPr/>
            <p:nvPr/>
          </p:nvSpPr>
          <p:spPr>
            <a:xfrm flipV="1">
              <a:off x="5559480" y="2975040"/>
              <a:ext cx="1800" cy="36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5"/>
            <p:cNvSpPr/>
            <p:nvPr/>
          </p:nvSpPr>
          <p:spPr>
            <a:xfrm>
              <a:off x="5527800" y="29750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6"/>
            <p:cNvSpPr/>
            <p:nvPr/>
          </p:nvSpPr>
          <p:spPr>
            <a:xfrm flipV="1">
              <a:off x="5978520" y="2749320"/>
              <a:ext cx="1800" cy="57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5945400" y="2749680"/>
              <a:ext cx="75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 flipV="1">
              <a:off x="6407280" y="2523960"/>
              <a:ext cx="1440" cy="72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6375600" y="252396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 flipV="1">
              <a:off x="6836040" y="2674440"/>
              <a:ext cx="1440" cy="492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1"/>
            <p:cNvSpPr/>
            <p:nvPr/>
          </p:nvSpPr>
          <p:spPr>
            <a:xfrm>
              <a:off x="6804000" y="2674800"/>
              <a:ext cx="74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2"/>
            <p:cNvSpPr/>
            <p:nvPr/>
          </p:nvSpPr>
          <p:spPr>
            <a:xfrm flipV="1">
              <a:off x="7264440" y="2769840"/>
              <a:ext cx="1800" cy="37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3"/>
            <p:cNvSpPr/>
            <p:nvPr/>
          </p:nvSpPr>
          <p:spPr>
            <a:xfrm>
              <a:off x="7232760" y="277020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 flipV="1">
              <a:off x="7693200" y="2556000"/>
              <a:ext cx="1440" cy="568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5"/>
            <p:cNvSpPr/>
            <p:nvPr/>
          </p:nvSpPr>
          <p:spPr>
            <a:xfrm>
              <a:off x="7661520" y="255600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6"/>
            <p:cNvSpPr/>
            <p:nvPr/>
          </p:nvSpPr>
          <p:spPr>
            <a:xfrm flipV="1">
              <a:off x="8112240" y="2513160"/>
              <a:ext cx="1440" cy="568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7"/>
            <p:cNvSpPr/>
            <p:nvPr/>
          </p:nvSpPr>
          <p:spPr>
            <a:xfrm>
              <a:off x="8078760" y="251316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8"/>
            <p:cNvSpPr/>
            <p:nvPr/>
          </p:nvSpPr>
          <p:spPr>
            <a:xfrm flipV="1">
              <a:off x="8541000" y="2395440"/>
              <a:ext cx="1440" cy="439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9"/>
            <p:cNvSpPr/>
            <p:nvPr/>
          </p:nvSpPr>
          <p:spPr>
            <a:xfrm>
              <a:off x="8507520" y="239544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0"/>
            <p:cNvSpPr/>
            <p:nvPr/>
          </p:nvSpPr>
          <p:spPr>
            <a:xfrm>
              <a:off x="1293840" y="4025880"/>
              <a:ext cx="1800" cy="438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1"/>
            <p:cNvSpPr/>
            <p:nvPr/>
          </p:nvSpPr>
          <p:spPr>
            <a:xfrm>
              <a:off x="1260720" y="4464000"/>
              <a:ext cx="75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2"/>
            <p:cNvSpPr/>
            <p:nvPr/>
          </p:nvSpPr>
          <p:spPr>
            <a:xfrm>
              <a:off x="1722600" y="4003560"/>
              <a:ext cx="1440" cy="236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3"/>
            <p:cNvSpPr/>
            <p:nvPr/>
          </p:nvSpPr>
          <p:spPr>
            <a:xfrm>
              <a:off x="1690920" y="424008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4"/>
            <p:cNvSpPr/>
            <p:nvPr/>
          </p:nvSpPr>
          <p:spPr>
            <a:xfrm>
              <a:off x="2140200" y="382104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5"/>
            <p:cNvSpPr/>
            <p:nvPr/>
          </p:nvSpPr>
          <p:spPr>
            <a:xfrm>
              <a:off x="2108160" y="407844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6"/>
            <p:cNvSpPr/>
            <p:nvPr/>
          </p:nvSpPr>
          <p:spPr>
            <a:xfrm>
              <a:off x="2568600" y="3638520"/>
              <a:ext cx="1800" cy="35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7"/>
            <p:cNvSpPr/>
            <p:nvPr/>
          </p:nvSpPr>
          <p:spPr>
            <a:xfrm>
              <a:off x="2536920" y="399240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8"/>
            <p:cNvSpPr/>
            <p:nvPr/>
          </p:nvSpPr>
          <p:spPr>
            <a:xfrm>
              <a:off x="2997360" y="3638520"/>
              <a:ext cx="1440" cy="33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9"/>
            <p:cNvSpPr/>
            <p:nvPr/>
          </p:nvSpPr>
          <p:spPr>
            <a:xfrm>
              <a:off x="2965680" y="397188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0"/>
            <p:cNvSpPr/>
            <p:nvPr/>
          </p:nvSpPr>
          <p:spPr>
            <a:xfrm>
              <a:off x="3427560" y="3606840"/>
              <a:ext cx="1440" cy="257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1"/>
            <p:cNvSpPr/>
            <p:nvPr/>
          </p:nvSpPr>
          <p:spPr>
            <a:xfrm>
              <a:off x="3394080" y="38638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82"/>
            <p:cNvSpPr/>
            <p:nvPr/>
          </p:nvSpPr>
          <p:spPr>
            <a:xfrm>
              <a:off x="3856320" y="3564000"/>
              <a:ext cx="1440" cy="37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3"/>
            <p:cNvSpPr/>
            <p:nvPr/>
          </p:nvSpPr>
          <p:spPr>
            <a:xfrm>
              <a:off x="3822840" y="394020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4"/>
            <p:cNvSpPr/>
            <p:nvPr/>
          </p:nvSpPr>
          <p:spPr>
            <a:xfrm>
              <a:off x="4273560" y="3564000"/>
              <a:ext cx="1800" cy="288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5"/>
            <p:cNvSpPr/>
            <p:nvPr/>
          </p:nvSpPr>
          <p:spPr>
            <a:xfrm>
              <a:off x="4241880" y="385272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86"/>
            <p:cNvSpPr/>
            <p:nvPr/>
          </p:nvSpPr>
          <p:spPr>
            <a:xfrm>
              <a:off x="4702320" y="3478320"/>
              <a:ext cx="1440" cy="279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7"/>
            <p:cNvSpPr/>
            <p:nvPr/>
          </p:nvSpPr>
          <p:spPr>
            <a:xfrm>
              <a:off x="4670640" y="375768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8"/>
            <p:cNvSpPr/>
            <p:nvPr/>
          </p:nvSpPr>
          <p:spPr>
            <a:xfrm>
              <a:off x="5131080" y="3478320"/>
              <a:ext cx="1440" cy="8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9"/>
            <p:cNvSpPr/>
            <p:nvPr/>
          </p:nvSpPr>
          <p:spPr>
            <a:xfrm>
              <a:off x="5099040" y="356400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0"/>
            <p:cNvSpPr/>
            <p:nvPr/>
          </p:nvSpPr>
          <p:spPr>
            <a:xfrm>
              <a:off x="5559480" y="3338640"/>
              <a:ext cx="1800" cy="32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1"/>
            <p:cNvSpPr/>
            <p:nvPr/>
          </p:nvSpPr>
          <p:spPr>
            <a:xfrm>
              <a:off x="5527800" y="36608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92"/>
            <p:cNvSpPr/>
            <p:nvPr/>
          </p:nvSpPr>
          <p:spPr>
            <a:xfrm>
              <a:off x="5978520" y="3328920"/>
              <a:ext cx="1800" cy="48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3"/>
            <p:cNvSpPr/>
            <p:nvPr/>
          </p:nvSpPr>
          <p:spPr>
            <a:xfrm>
              <a:off x="5945400" y="3809880"/>
              <a:ext cx="75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4"/>
            <p:cNvSpPr/>
            <p:nvPr/>
          </p:nvSpPr>
          <p:spPr>
            <a:xfrm>
              <a:off x="6407280" y="3252600"/>
              <a:ext cx="1440" cy="57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5"/>
            <p:cNvSpPr/>
            <p:nvPr/>
          </p:nvSpPr>
          <p:spPr>
            <a:xfrm>
              <a:off x="6375600" y="383220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6"/>
            <p:cNvSpPr/>
            <p:nvPr/>
          </p:nvSpPr>
          <p:spPr>
            <a:xfrm>
              <a:off x="6836040" y="3166920"/>
              <a:ext cx="1440" cy="41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7"/>
            <p:cNvSpPr/>
            <p:nvPr/>
          </p:nvSpPr>
          <p:spPr>
            <a:xfrm>
              <a:off x="6804000" y="358632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8"/>
            <p:cNvSpPr/>
            <p:nvPr/>
          </p:nvSpPr>
          <p:spPr>
            <a:xfrm>
              <a:off x="7264440" y="3146400"/>
              <a:ext cx="1800" cy="33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9"/>
            <p:cNvSpPr/>
            <p:nvPr/>
          </p:nvSpPr>
          <p:spPr>
            <a:xfrm>
              <a:off x="7232760" y="347832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0"/>
            <p:cNvSpPr/>
            <p:nvPr/>
          </p:nvSpPr>
          <p:spPr>
            <a:xfrm>
              <a:off x="7693200" y="3124080"/>
              <a:ext cx="1440" cy="48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1"/>
            <p:cNvSpPr/>
            <p:nvPr/>
          </p:nvSpPr>
          <p:spPr>
            <a:xfrm>
              <a:off x="7661520" y="36068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02"/>
            <p:cNvSpPr/>
            <p:nvPr/>
          </p:nvSpPr>
          <p:spPr>
            <a:xfrm>
              <a:off x="8112240" y="3081240"/>
              <a:ext cx="1440" cy="47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03"/>
            <p:cNvSpPr/>
            <p:nvPr/>
          </p:nvSpPr>
          <p:spPr>
            <a:xfrm>
              <a:off x="8078760" y="355284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04"/>
            <p:cNvSpPr/>
            <p:nvPr/>
          </p:nvSpPr>
          <p:spPr>
            <a:xfrm>
              <a:off x="8541000" y="2835360"/>
              <a:ext cx="144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5"/>
            <p:cNvSpPr/>
            <p:nvPr/>
          </p:nvSpPr>
          <p:spPr>
            <a:xfrm>
              <a:off x="8507520" y="32320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6"/>
            <p:cNvSpPr/>
            <p:nvPr/>
          </p:nvSpPr>
          <p:spPr>
            <a:xfrm>
              <a:off x="1251000" y="398304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07"/>
            <p:cNvSpPr/>
            <p:nvPr/>
          </p:nvSpPr>
          <p:spPr>
            <a:xfrm>
              <a:off x="1679760" y="3960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08"/>
            <p:cNvSpPr/>
            <p:nvPr/>
          </p:nvSpPr>
          <p:spPr>
            <a:xfrm>
              <a:off x="2097360" y="37782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09"/>
            <p:cNvSpPr/>
            <p:nvPr/>
          </p:nvSpPr>
          <p:spPr>
            <a:xfrm>
              <a:off x="2525760" y="35956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0"/>
            <p:cNvSpPr/>
            <p:nvPr/>
          </p:nvSpPr>
          <p:spPr>
            <a:xfrm>
              <a:off x="2954520" y="35956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11"/>
            <p:cNvSpPr/>
            <p:nvPr/>
          </p:nvSpPr>
          <p:spPr>
            <a:xfrm>
              <a:off x="3384720" y="35640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2"/>
            <p:cNvSpPr/>
            <p:nvPr/>
          </p:nvSpPr>
          <p:spPr>
            <a:xfrm>
              <a:off x="3813120" y="3521160"/>
              <a:ext cx="8604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3"/>
            <p:cNvSpPr/>
            <p:nvPr/>
          </p:nvSpPr>
          <p:spPr>
            <a:xfrm>
              <a:off x="4230720" y="352116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14"/>
            <p:cNvSpPr/>
            <p:nvPr/>
          </p:nvSpPr>
          <p:spPr>
            <a:xfrm>
              <a:off x="4659480" y="34354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5"/>
            <p:cNvSpPr/>
            <p:nvPr/>
          </p:nvSpPr>
          <p:spPr>
            <a:xfrm>
              <a:off x="5087880" y="3435480"/>
              <a:ext cx="8604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16"/>
            <p:cNvSpPr/>
            <p:nvPr/>
          </p:nvSpPr>
          <p:spPr>
            <a:xfrm>
              <a:off x="5516640" y="32958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17"/>
            <p:cNvSpPr/>
            <p:nvPr/>
          </p:nvSpPr>
          <p:spPr>
            <a:xfrm>
              <a:off x="5935680" y="3286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18"/>
            <p:cNvSpPr/>
            <p:nvPr/>
          </p:nvSpPr>
          <p:spPr>
            <a:xfrm>
              <a:off x="6364440" y="3209760"/>
              <a:ext cx="85680" cy="86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19"/>
            <p:cNvSpPr/>
            <p:nvPr/>
          </p:nvSpPr>
          <p:spPr>
            <a:xfrm>
              <a:off x="6793200" y="31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20"/>
            <p:cNvSpPr/>
            <p:nvPr/>
          </p:nvSpPr>
          <p:spPr>
            <a:xfrm>
              <a:off x="7221600" y="310356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21"/>
            <p:cNvSpPr/>
            <p:nvPr/>
          </p:nvSpPr>
          <p:spPr>
            <a:xfrm>
              <a:off x="7650360" y="308124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22"/>
            <p:cNvSpPr/>
            <p:nvPr/>
          </p:nvSpPr>
          <p:spPr>
            <a:xfrm>
              <a:off x="8069400" y="30384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3"/>
            <p:cNvSpPr/>
            <p:nvPr/>
          </p:nvSpPr>
          <p:spPr>
            <a:xfrm>
              <a:off x="8498160" y="279252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24"/>
            <p:cNvSpPr/>
            <p:nvPr/>
          </p:nvSpPr>
          <p:spPr>
            <a:xfrm>
              <a:off x="896760" y="5246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5"/>
            <p:cNvSpPr/>
            <p:nvPr/>
          </p:nvSpPr>
          <p:spPr>
            <a:xfrm>
              <a:off x="896760" y="4583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6"/>
            <p:cNvSpPr/>
            <p:nvPr/>
          </p:nvSpPr>
          <p:spPr>
            <a:xfrm>
              <a:off x="896760" y="3929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7"/>
            <p:cNvSpPr/>
            <p:nvPr/>
          </p:nvSpPr>
          <p:spPr>
            <a:xfrm>
              <a:off x="896760" y="3263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28"/>
            <p:cNvSpPr/>
            <p:nvPr/>
          </p:nvSpPr>
          <p:spPr>
            <a:xfrm>
              <a:off x="896760" y="261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9"/>
            <p:cNvSpPr/>
            <p:nvPr/>
          </p:nvSpPr>
          <p:spPr>
            <a:xfrm>
              <a:off x="896760" y="1946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0"/>
            <p:cNvSpPr/>
            <p:nvPr/>
          </p:nvSpPr>
          <p:spPr>
            <a:xfrm>
              <a:off x="1238760" y="5451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1"/>
            <p:cNvSpPr/>
            <p:nvPr/>
          </p:nvSpPr>
          <p:spPr>
            <a:xfrm>
              <a:off x="1646280" y="545148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2"/>
            <p:cNvSpPr/>
            <p:nvPr/>
          </p:nvSpPr>
          <p:spPr>
            <a:xfrm>
              <a:off x="206496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3"/>
            <p:cNvSpPr/>
            <p:nvPr/>
          </p:nvSpPr>
          <p:spPr>
            <a:xfrm>
              <a:off x="249372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4"/>
            <p:cNvSpPr/>
            <p:nvPr/>
          </p:nvSpPr>
          <p:spPr>
            <a:xfrm>
              <a:off x="2953080" y="5451480"/>
              <a:ext cx="9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5"/>
            <p:cNvSpPr/>
            <p:nvPr/>
          </p:nvSpPr>
          <p:spPr>
            <a:xfrm>
              <a:off x="335088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6"/>
            <p:cNvSpPr/>
            <p:nvPr/>
          </p:nvSpPr>
          <p:spPr>
            <a:xfrm>
              <a:off x="3813480" y="5451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37"/>
            <p:cNvSpPr/>
            <p:nvPr/>
          </p:nvSpPr>
          <p:spPr>
            <a:xfrm>
              <a:off x="419868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8"/>
            <p:cNvSpPr/>
            <p:nvPr/>
          </p:nvSpPr>
          <p:spPr>
            <a:xfrm>
              <a:off x="4659480" y="545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9"/>
            <p:cNvSpPr/>
            <p:nvPr/>
          </p:nvSpPr>
          <p:spPr>
            <a:xfrm>
              <a:off x="5013720" y="545148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40"/>
            <p:cNvSpPr/>
            <p:nvPr/>
          </p:nvSpPr>
          <p:spPr>
            <a:xfrm>
              <a:off x="5527440" y="5451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1"/>
            <p:cNvSpPr/>
            <p:nvPr/>
          </p:nvSpPr>
          <p:spPr>
            <a:xfrm>
              <a:off x="5935680" y="54514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2"/>
            <p:cNvSpPr/>
            <p:nvPr/>
          </p:nvSpPr>
          <p:spPr>
            <a:xfrm>
              <a:off x="6352200" y="54514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3"/>
            <p:cNvSpPr/>
            <p:nvPr/>
          </p:nvSpPr>
          <p:spPr>
            <a:xfrm>
              <a:off x="6793200" y="5451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44"/>
            <p:cNvSpPr/>
            <p:nvPr/>
          </p:nvSpPr>
          <p:spPr>
            <a:xfrm>
              <a:off x="7189560" y="54514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45"/>
            <p:cNvSpPr/>
            <p:nvPr/>
          </p:nvSpPr>
          <p:spPr>
            <a:xfrm>
              <a:off x="7638120" y="5451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6"/>
            <p:cNvSpPr/>
            <p:nvPr/>
          </p:nvSpPr>
          <p:spPr>
            <a:xfrm>
              <a:off x="8069400" y="5451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47"/>
            <p:cNvSpPr/>
            <p:nvPr/>
          </p:nvSpPr>
          <p:spPr>
            <a:xfrm>
              <a:off x="8507160" y="5451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667760" y="5697360"/>
              <a:ext cx="48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9"/>
            <p:cNvSpPr/>
            <p:nvPr/>
          </p:nvSpPr>
          <p:spPr>
            <a:xfrm rot="16200000">
              <a:off x="-373680" y="3407040"/>
              <a:ext cx="2507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bserved to expected mortality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at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0"/>
            <p:cNvSpPr/>
            <p:nvPr/>
          </p:nvSpPr>
          <p:spPr>
            <a:xfrm>
              <a:off x="511200" y="1806480"/>
              <a:ext cx="8350200" cy="4233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LAPSED HOSPITAL LENGTH OF STAY AT TIME OF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8077320" cy="2994120"/>
        </p:xfrm>
        <a:graphic>
          <a:graphicData uri="http://schemas.openxmlformats.org/drawingml/2006/table">
            <a:tbl>
              <a:tblPr/>
              <a:tblGrid>
                <a:gridCol w="2971800"/>
                <a:gridCol w="5105520"/>
              </a:tblGrid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OS (days) @ time of death (median, me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, 6.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U/ICU Direct Ad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, 10.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Surgical Transf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, 21.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planned Transf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, 17.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XT EMR CHALLENGE: IDENTIFICATION OF DNR/COMFORT CARE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lloway &amp; Qu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tality is a good quality measure for individuals with acute illness who are not supposed to die but is a poor quality measure for the majority of patients with multiple chronic diseases who are near the end of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ken alone, short-term mortality measures essentially treat death as a medical failure and reinforce avoiding death at all c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 use of EMRs could permit excluding these patients from analyses (or separating them for different types of analy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CLUSIONS –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idence base for use of physiologic data in risk adjustment is overwhel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entities, the VA system and Kaiser Permanente, are already employing physiologic-based risk adjustment opera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uses of physiologic data (e.g., multivariable template matching for targeted case-control studies; VA’s use of change in serum creatinine) make the use of these data even more comp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mportant question is not “Should one employ automated physiology-based risk-adjustment?” but, rather, “Is it possible to convince different institutions to standardize data definitions so as to permit larger collaborative studie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OPICS TO BE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 of readily available enhanc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physiolog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in progress: use of bed history data combined with laborat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CLUSIONS –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tities such as IHI and AHRQ should be creating incentives for use of these data, rather than simply reinforcing the use of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 all hospitals have the capability to employ these data, but for those that do, IHI/AHRQ should encourage creation of networks that collaborate to employ data from EM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ture research using EMRs should emphasize capture of DNR/comfort car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terans Administration Risk Adjusted Mortality in the IC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 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nosis, comorbid disease, source of admission, worst of 11 lab values (Na, Glu, BUN, Cr, ALB, Bili, WBC, Hct, pH / PaCO2, Pa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arate models predict death at 30 days and at hospital dis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 in addition of physiolog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e validity / improved discrimination calibration to fairly portray risk and outco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xpected advantage of using lab values in 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create metrics related to lab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hyperglycemi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c rate/ patient days on hypoglycemic ag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cute kidney injury (AK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link relationshi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nin with mortality in medical patients and/ or beta blocker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F readmission rates with ACE A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4572000" y="1854360"/>
          <a:ext cx="4330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54360"/>
                    <a:ext cx="4330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5"/>
          <p:cNvSpPr/>
          <p:nvPr/>
        </p:nvSpPr>
        <p:spPr>
          <a:xfrm>
            <a:off x="4271400" y="144792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VA  ICU Standardized 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28600" y="649116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 Inpatient Evaluation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data and VA I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ortality measures tell you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djusted mortality at hospital discharge or at  30 – days for ICU and acute care patients (Are the admission criteria similar; acces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djusted mort at hospital discharge or at 30-days for ICU and Acute care patients (The difference may address issues of alternative access for placement for chronic acute illness/ futile ca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djusted mortality of patients transferred from the ward to the ICU (ability to detect and rescue deteriorating patie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djusted mortality graphed against SMR may tell you about risk of underperforming hospital (vulnerability of the healthcare organization and patie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the VA ICU mortalit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every quarter; web based; regional access with national benchmarks stratified by level and type of 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on the grounds,” Targeted site visits, identification of unmeasured variables, Review of low predicted mortality patients who die, use of evidenced based practices,  recommendations, follow-up in 6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mix index (ICU pred mort/ all ICU pred mor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bed turns, Track severity at ICUs with more limi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groups of patients for ICU LOS reduction (&lt; 2.5% pred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effectiveness of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, S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4267080" cy="2133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ssociation of hyperglycemia with mortality varies by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3"/>
          <p:cNvGraphicFramePr/>
          <p:nvPr/>
        </p:nvGraphicFramePr>
        <p:xfrm>
          <a:off x="4572000" y="3637080"/>
          <a:ext cx="44956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637080"/>
                    <a:ext cx="44956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4"/>
          <p:cNvGraphicFramePr/>
          <p:nvPr/>
        </p:nvGraphicFramePr>
        <p:xfrm>
          <a:off x="4572000" y="380880"/>
          <a:ext cx="4495680" cy="30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80880"/>
                    <a:ext cx="44956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5"/>
          <p:cNvGraphicFramePr/>
          <p:nvPr/>
        </p:nvGraphicFramePr>
        <p:xfrm>
          <a:off x="0" y="3713040"/>
          <a:ext cx="4495680" cy="314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13040"/>
                    <a:ext cx="44956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6"/>
          <p:cNvSpPr/>
          <p:nvPr/>
        </p:nvSpPr>
        <p:spPr>
          <a:xfrm flipV="1">
            <a:off x="5715000" y="3809880"/>
            <a:ext cx="0" cy="2438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 flipV="1">
            <a:off x="1295280" y="3809880"/>
            <a:ext cx="0" cy="2438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715000" y="609480"/>
            <a:ext cx="0" cy="2438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08080" y="1104840"/>
          <a:ext cx="8727840" cy="4648320"/>
        </p:xfrm>
        <a:graphic>
          <a:graphicData uri="http://schemas.openxmlformats.org/drawingml/2006/table">
            <a:tbl>
              <a:tblPr/>
              <a:tblGrid>
                <a:gridCol w="2292120"/>
                <a:gridCol w="1711440"/>
                <a:gridCol w="1905120"/>
                <a:gridCol w="1447560"/>
                <a:gridCol w="1371600"/>
              </a:tblGrid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Categ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ds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E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n, 310,32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912 (10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KI (n, 244,5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06 (6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(3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44 (3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 (n, 52,7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12 (19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 (2.15 – 2.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 (6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(5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I (n, 7,7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59 (43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 (5.74 – 6.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6 (8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 (8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II (n, 3,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52 (62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1 (11.5 – 13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 (9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 (10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II-D (n, 1,98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3 (59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 (7.24 – 9.0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 (10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 (10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52"/>
          <p:cNvSpPr/>
          <p:nvPr/>
        </p:nvSpPr>
        <p:spPr>
          <a:xfrm>
            <a:off x="114480" y="5943600"/>
            <a:ext cx="8915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I – confidence limits; AKI – acute kidney injury; OMELOS – observed  minus expected length of stay; SD – standard dev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380880" y="228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mild renal injury (Cr &gt;0.3 mg/dL) increases mortality risk and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rticles Cited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Zimmerman JE, Kramer AA, McNair DS, et al. Acute Physiology and Chronic Health Evaluation (APACHE) IV: hospital mortality assessment for today's critically ill patients. Critical Care Medicine 2006;34:1297-1310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nder ML, Kim HM, Welsh DE, et al. Automated intensive care unit risk adjustment: results from a National Veterans Affairs study. Critical Care Medicine 2003;31:1638-1646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lance LG, Dick AW, Osler TM, et al. Accuracy of hospital report cards based on administrative data. Health Services Research 2006;41:1413-1437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olloway RG, Quill TE. Mortality as a measure of quality. Implications for palliative and end-of-life care. JAMA 2007; 298:802-804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abak YP, Johannes RS, Silber JH. Using automated clinical data for risk adjustment. Development and validation of six disease-specific mortality predictive models for pay-for performance. Medical Care 2007; 45:789-805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ine M, Jordan HS, Elixhauser A, et al. Enhancement of claims data to improve risk adjustment of hospital mortality. JAMA 2007;297:71-76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scobar GJ, Greene JD, Scheirer P, Gardner M, Draper D, Kipnis P. Risk Adjusting Hospital Inpatient Mortality Using Automated Inpatient, Outpatient, and Laboratory Databases. Medical Care 2008; 46(3):232-2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Y SHOULD WE SETTLE FOR THE LOWEST COMMON DENOMIN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lling data are driven by need for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 propensity to being “gam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ding creep”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ny diagnoses strongly associated with outcome can be present on admission, e.g., stroke, DVT,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5100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LANCE ET AL.: IMPACT OF PRESENT ON ADMISSION CODING ON PERFORMANCE RAN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OA coding modifier showed that diagnoses associated with complications were present on admission only 10 – 22% of the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bsence of POA coding led to 33 – 40% of low performing hospitals not being detected for these condi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AB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oronary angioplas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Hip replac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reating complications as pre-existing conditions gives poor-performing hospitals ‘credit’ for their complications and may cause some hospitals that are delivering low-quality care to be misclassified as average- or high-performing hospitals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ALUE OF INCORPORATING PHYSIOLOG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reasingly available, particularly in hospital ch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ch less expensive than manual chart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ave tremendous face validity with cli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vely easy to combine with oth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either for disease-specific models (e.g., Fine PSI for community acquired pneumonia) or for global risk adjustment (e.g., VA or Kaiser Permanente risk adjustment methodolo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ATIVE CONTRIBUTION OF PHYSIOLOGIC DATA TO OVERALL MODE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rational use of laboratory data first occurred in the 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der et al. – 29,377 consecutive first ICU admissions in 17 VA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 accounted for 74% of model predic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agnosis accounted for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immerman et al. – 110,558 ICU admissions in 45 U.S.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 accounted for 65% of model predic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agnosis accounted for 1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INE ET AL.: USE OF LABORATORY DATA FOR NON-ICU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ntified effect of adding POA coding, laboratory data, and vital signs data for 5 conditions and 3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 restricted to ICU; N ranged from 5309 for AAA to 200,506 for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erage effect of adding predictors, as evidenced by change in c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risk adjustm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ive mode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mode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+ lab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+ labs + V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ABAK ET AL.: DEFINITIVE QUANTIFICATION OF VALUE OF LABORATO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ed 6 disease-specific mortality predictive models for pay-for-performance (ischemic &amp; hemorrhagic stroke, pneumonia, CHF, and sep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4,903 admissions in 2000-2003 across 71 hospitals that imported laborat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ntified relative contribution with omega 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 were between 2 and 67 times more important in predicting mortality than ICD-9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ly models where laboratory data were less important were those for stroke, where altered mental status recordings were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EARCH IN PROGRESS:  COMBINING LABORATORY DATA WITH ANOTHER EMR MARKER, BE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7,922 hospitalizations at 19 Kaiser Permanente hospitals, 11/1/06 – 1/3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severity scored using laboratory acute physiology score (LAPS) and pre-admission comorbidity point score (C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loys time stamps for patient arrival at different units (ward, OR/PAR, TCU, I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ines mortality of intra-hospital transfers combined with laboratory test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09-01-12T15:05:44Z</dcterms:modified>
  <cp:revision>1</cp:revision>
  <dc:subject/>
  <dc:title>MORTALITY MEASUREMENT IN THE EMR ERA:  WHAT REAL TIME LAB AND CLINICAL DATA CAN CONTRIBUTE TO PRECISION AND PREDICTION</dc:title>
</cp:coreProperties>
</file>