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DDA1-EDFF-4E1C-9320-9490ECA16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B05C-17E6-43C5-BD07-07C37C22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EBCA-B850-4A87-B9B9-2A76F5C00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C34B-4AA8-4303-BFA5-5667379B2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5F06-FEDC-40BA-92FB-EC11F4CA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14C6-C14C-454E-AFFA-C631CB21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D635-16D4-4F53-A0B4-232CA165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B0A0-3F4A-44DF-97D0-7B88876B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3A5E-21B3-4742-B43D-CA7C8E4E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ACDF-C33E-4DCE-9357-74337916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2E35-EAA8-4DB2-8320-EF9F5EE6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6B73-DEF1-46FD-85EC-4E62BD56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3F88-02ED-4890-A825-7F8E2F950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ORTALITY MEASUREMENT IN THE EMR ERA:  WHAT REAL TIME LAB AND CLINICAL DATA CAN CONTRIBUTE TO PRECISION AND PRE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abriel J. Escobar, 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rta Render, 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John D. Greene, 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rla N. Gardner, 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tricia Kipnis, Ph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vember 3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ATEGORIZATION OF INTRA-HOSPITAL TRANSFERS TO A HIGHER LEVEL OF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ost-surgical (OR/PA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TCU, OR/PA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C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planned (war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TCU, war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CU, TCU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C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aboratory testing patterns (blood gases, lactate, troponin I, blood cul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t tested during 16 hour (12-4) time window surrounding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ed during time window but not 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ed before and during time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esting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2410"/>
                </a:solidFill>
                <a:latin typeface="Arial Narrow"/>
              </a:rPr>
              <a:t>           </a:t>
            </a:r>
            <a:r>
              <a:rPr b="0" lang="en-US" sz="2000" spc="-1" strike="noStrike">
                <a:solidFill>
                  <a:srgbClr val="e42410"/>
                </a:solidFill>
                <a:latin typeface="Arial Narrow"/>
              </a:rPr>
              <a:t>time of transfer to higher level of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2410"/>
                </a:solidFill>
                <a:latin typeface="Arial Narrow"/>
              </a:rPr>
              <a:t>                 </a:t>
            </a:r>
            <a:r>
              <a:rPr b="0" lang="en-US" sz="2000" spc="-1" strike="noStrike">
                <a:solidFill>
                  <a:srgbClr val="e42410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-------------- |---------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2 h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---------</a:t>
            </a:r>
            <a:r>
              <a:rPr b="0" lang="en-US" sz="2800" spc="-1" strike="noStrike">
                <a:solidFill>
                  <a:srgbClr val="e42410"/>
                </a:solidFill>
                <a:latin typeface="Symbol"/>
                <a:ea typeface="Symbol"/>
              </a:rPr>
              <a:t>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---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4 h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---|------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ime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--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G or BC or troponin I or lactat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f index test obtained in 16 hour window (12 hrs before to 4 hours after transfer to higher level of care) patient is considered to have been tested, otherwise patient is considered “not test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f another test is located within 24-48 hours (depending on test type) preceding index test, the patient is considered “previously test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f another test is not located within 24-48 hours preceding index test, the patient is considered “newly test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OUTCOMES BASED ON FIRST HOSPITAL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33520" y="1828800"/>
          <a:ext cx="7467480" cy="2743200"/>
        </p:xfrm>
        <a:graphic>
          <a:graphicData uri="http://schemas.openxmlformats.org/drawingml/2006/table">
            <a:tbl>
              <a:tblPr/>
              <a:tblGrid>
                <a:gridCol w="1904760"/>
                <a:gridCol w="1295640"/>
                <a:gridCol w="1523880"/>
                <a:gridCol w="1295280"/>
                <a:gridCol w="144792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/P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,4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1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9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PS (media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S (media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tality (mean,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tality (mean,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OUTCOMES BASED ON INTRA-HOSPITAL TRANSFER TYPE –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33520" y="1828800"/>
          <a:ext cx="7924680" cy="2527200"/>
        </p:xfrm>
        <a:graphic>
          <a:graphicData uri="http://schemas.openxmlformats.org/drawingml/2006/table">
            <a:tbl>
              <a:tblPr/>
              <a:tblGrid>
                <a:gridCol w="3176640"/>
                <a:gridCol w="1166760"/>
                <a:gridCol w="865080"/>
                <a:gridCol w="1244520"/>
                <a:gridCol w="147168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th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E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er in TCU or IC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,2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admit to ICU (al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9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enced unplanned trans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4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admit to TCU (al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.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enced unplanned trans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OUTCOMES BASED ON INTRA-HOSPITAL TRANSFER TYPE –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33520" y="1819440"/>
          <a:ext cx="7772400" cy="2066760"/>
        </p:xfrm>
        <a:graphic>
          <a:graphicData uri="http://schemas.openxmlformats.org/drawingml/2006/table">
            <a:tbl>
              <a:tblPr/>
              <a:tblGrid>
                <a:gridCol w="3551040"/>
                <a:gridCol w="1020960"/>
                <a:gridCol w="990360"/>
                <a:gridCol w="1371600"/>
                <a:gridCol w="83844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th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E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-surgical transfers to TCU or IC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Tes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1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ly Tes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iously Tes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OUTCOMES BASED ON INTRA-HOSPITAL TRANSFER TYPE –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33520" y="1828800"/>
          <a:ext cx="7696080" cy="2011320"/>
        </p:xfrm>
        <a:graphic>
          <a:graphicData uri="http://schemas.openxmlformats.org/drawingml/2006/table">
            <a:tbl>
              <a:tblPr/>
              <a:tblGrid>
                <a:gridCol w="3470040"/>
                <a:gridCol w="1008000"/>
                <a:gridCol w="1030320"/>
                <a:gridCol w="1262160"/>
                <a:gridCol w="92556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th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E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planned transfer to TCU or IC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Tes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1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ly Tes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iously Tes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3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OEMR For Unplanned Transfers in 17 Kaiser Permanente Hosp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3"/>
          <p:cNvGrpSpPr/>
          <p:nvPr/>
        </p:nvGrpSpPr>
        <p:grpSpPr>
          <a:xfrm>
            <a:off x="457200" y="1752480"/>
            <a:ext cx="8458200" cy="4330800"/>
            <a:chOff x="457200" y="1752480"/>
            <a:chExt cx="8458200" cy="4330800"/>
          </a:xfrm>
        </p:grpSpPr>
        <p:sp>
          <p:nvSpPr>
            <p:cNvPr id="73" name="AutoShape 4"/>
            <p:cNvSpPr/>
            <p:nvPr/>
          </p:nvSpPr>
          <p:spPr>
            <a:xfrm>
              <a:off x="457200" y="1752480"/>
              <a:ext cx="8458200" cy="433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>
              <a:off x="511200" y="1806480"/>
              <a:ext cx="8350200" cy="42339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1079640" y="2031840"/>
              <a:ext cx="7675560" cy="33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"/>
            <p:cNvSpPr/>
            <p:nvPr/>
          </p:nvSpPr>
          <p:spPr>
            <a:xfrm>
              <a:off x="1079640" y="2031840"/>
              <a:ext cx="7675560" cy="33004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8"/>
            <p:cNvSpPr/>
            <p:nvPr/>
          </p:nvSpPr>
          <p:spPr>
            <a:xfrm>
              <a:off x="1036800" y="53323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9"/>
            <p:cNvSpPr/>
            <p:nvPr/>
          </p:nvSpPr>
          <p:spPr>
            <a:xfrm>
              <a:off x="1036800" y="46688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0"/>
            <p:cNvSpPr/>
            <p:nvPr/>
          </p:nvSpPr>
          <p:spPr>
            <a:xfrm>
              <a:off x="1036800" y="40147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1"/>
            <p:cNvSpPr/>
            <p:nvPr/>
          </p:nvSpPr>
          <p:spPr>
            <a:xfrm>
              <a:off x="1036800" y="334944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2"/>
            <p:cNvSpPr/>
            <p:nvPr/>
          </p:nvSpPr>
          <p:spPr>
            <a:xfrm>
              <a:off x="1036800" y="26956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3"/>
            <p:cNvSpPr/>
            <p:nvPr/>
          </p:nvSpPr>
          <p:spPr>
            <a:xfrm>
              <a:off x="1036800" y="203184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4"/>
            <p:cNvSpPr/>
            <p:nvPr/>
          </p:nvSpPr>
          <p:spPr>
            <a:xfrm>
              <a:off x="1079640" y="5332320"/>
              <a:ext cx="767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5"/>
            <p:cNvSpPr/>
            <p:nvPr/>
          </p:nvSpPr>
          <p:spPr>
            <a:xfrm flipV="1">
              <a:off x="1079640" y="5331960"/>
              <a:ext cx="144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6"/>
            <p:cNvSpPr/>
            <p:nvPr/>
          </p:nvSpPr>
          <p:spPr>
            <a:xfrm flipV="1">
              <a:off x="1508400" y="5331960"/>
              <a:ext cx="144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7"/>
            <p:cNvSpPr/>
            <p:nvPr/>
          </p:nvSpPr>
          <p:spPr>
            <a:xfrm flipV="1">
              <a:off x="1936800" y="5331960"/>
              <a:ext cx="180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8"/>
            <p:cNvSpPr/>
            <p:nvPr/>
          </p:nvSpPr>
          <p:spPr>
            <a:xfrm flipV="1">
              <a:off x="2354400" y="5331960"/>
              <a:ext cx="144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9"/>
            <p:cNvSpPr/>
            <p:nvPr/>
          </p:nvSpPr>
          <p:spPr>
            <a:xfrm flipV="1">
              <a:off x="2783160" y="5331960"/>
              <a:ext cx="144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20"/>
            <p:cNvSpPr/>
            <p:nvPr/>
          </p:nvSpPr>
          <p:spPr>
            <a:xfrm flipV="1">
              <a:off x="3211560" y="5331960"/>
              <a:ext cx="180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1"/>
            <p:cNvSpPr/>
            <p:nvPr/>
          </p:nvSpPr>
          <p:spPr>
            <a:xfrm flipV="1">
              <a:off x="3641760" y="5331960"/>
              <a:ext cx="180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2"/>
            <p:cNvSpPr/>
            <p:nvPr/>
          </p:nvSpPr>
          <p:spPr>
            <a:xfrm flipV="1">
              <a:off x="4059360" y="5331960"/>
              <a:ext cx="144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 flipV="1">
              <a:off x="4488120" y="5331960"/>
              <a:ext cx="144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24"/>
            <p:cNvSpPr/>
            <p:nvPr/>
          </p:nvSpPr>
          <p:spPr>
            <a:xfrm flipV="1">
              <a:off x="4916520" y="5331960"/>
              <a:ext cx="180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5"/>
            <p:cNvSpPr/>
            <p:nvPr/>
          </p:nvSpPr>
          <p:spPr>
            <a:xfrm flipV="1">
              <a:off x="5345280" y="5331960"/>
              <a:ext cx="144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6"/>
            <p:cNvSpPr/>
            <p:nvPr/>
          </p:nvSpPr>
          <p:spPr>
            <a:xfrm flipV="1">
              <a:off x="5773680" y="5331960"/>
              <a:ext cx="180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7"/>
            <p:cNvSpPr/>
            <p:nvPr/>
          </p:nvSpPr>
          <p:spPr>
            <a:xfrm flipV="1">
              <a:off x="6193080" y="5331960"/>
              <a:ext cx="144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8"/>
            <p:cNvSpPr/>
            <p:nvPr/>
          </p:nvSpPr>
          <p:spPr>
            <a:xfrm flipV="1">
              <a:off x="6621480" y="5331960"/>
              <a:ext cx="180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9"/>
            <p:cNvSpPr/>
            <p:nvPr/>
          </p:nvSpPr>
          <p:spPr>
            <a:xfrm flipV="1">
              <a:off x="7050240" y="5331960"/>
              <a:ext cx="144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 flipV="1">
              <a:off x="7479000" y="5331960"/>
              <a:ext cx="144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31"/>
            <p:cNvSpPr/>
            <p:nvPr/>
          </p:nvSpPr>
          <p:spPr>
            <a:xfrm flipV="1">
              <a:off x="7896240" y="5331960"/>
              <a:ext cx="180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2"/>
            <p:cNvSpPr/>
            <p:nvPr/>
          </p:nvSpPr>
          <p:spPr>
            <a:xfrm flipV="1">
              <a:off x="8326440" y="5331960"/>
              <a:ext cx="180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3"/>
            <p:cNvSpPr/>
            <p:nvPr/>
          </p:nvSpPr>
          <p:spPr>
            <a:xfrm flipV="1">
              <a:off x="8755200" y="5331960"/>
              <a:ext cx="144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34"/>
            <p:cNvSpPr/>
            <p:nvPr/>
          </p:nvSpPr>
          <p:spPr>
            <a:xfrm flipV="1">
              <a:off x="1293840" y="3446280"/>
              <a:ext cx="1800" cy="579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35"/>
            <p:cNvSpPr/>
            <p:nvPr/>
          </p:nvSpPr>
          <p:spPr>
            <a:xfrm>
              <a:off x="1260720" y="3446280"/>
              <a:ext cx="759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6"/>
            <p:cNvSpPr/>
            <p:nvPr/>
          </p:nvSpPr>
          <p:spPr>
            <a:xfrm flipV="1">
              <a:off x="1722600" y="3724200"/>
              <a:ext cx="1440" cy="279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37"/>
            <p:cNvSpPr/>
            <p:nvPr/>
          </p:nvSpPr>
          <p:spPr>
            <a:xfrm>
              <a:off x="1690920" y="3724200"/>
              <a:ext cx="74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38"/>
            <p:cNvSpPr/>
            <p:nvPr/>
          </p:nvSpPr>
          <p:spPr>
            <a:xfrm flipV="1">
              <a:off x="2140200" y="3520800"/>
              <a:ext cx="1440" cy="29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39"/>
            <p:cNvSpPr/>
            <p:nvPr/>
          </p:nvSpPr>
          <p:spPr>
            <a:xfrm>
              <a:off x="2108160" y="3521160"/>
              <a:ext cx="74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40"/>
            <p:cNvSpPr/>
            <p:nvPr/>
          </p:nvSpPr>
          <p:spPr>
            <a:xfrm flipV="1">
              <a:off x="2568600" y="3220920"/>
              <a:ext cx="1800" cy="417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2536920" y="3220920"/>
              <a:ext cx="74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 flipV="1">
              <a:off x="2997360" y="3243240"/>
              <a:ext cx="1440" cy="395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965680" y="3243240"/>
              <a:ext cx="74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44"/>
            <p:cNvSpPr/>
            <p:nvPr/>
          </p:nvSpPr>
          <p:spPr>
            <a:xfrm flipV="1">
              <a:off x="3427560" y="3317400"/>
              <a:ext cx="1440" cy="289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45"/>
            <p:cNvSpPr/>
            <p:nvPr/>
          </p:nvSpPr>
          <p:spPr>
            <a:xfrm>
              <a:off x="3394080" y="3317760"/>
              <a:ext cx="76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46"/>
            <p:cNvSpPr/>
            <p:nvPr/>
          </p:nvSpPr>
          <p:spPr>
            <a:xfrm flipV="1">
              <a:off x="3856320" y="3114720"/>
              <a:ext cx="1440" cy="449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47"/>
            <p:cNvSpPr/>
            <p:nvPr/>
          </p:nvSpPr>
          <p:spPr>
            <a:xfrm>
              <a:off x="3822840" y="3114720"/>
              <a:ext cx="76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48"/>
            <p:cNvSpPr/>
            <p:nvPr/>
          </p:nvSpPr>
          <p:spPr>
            <a:xfrm flipV="1">
              <a:off x="4273560" y="3232080"/>
              <a:ext cx="1800" cy="331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49"/>
            <p:cNvSpPr/>
            <p:nvPr/>
          </p:nvSpPr>
          <p:spPr>
            <a:xfrm>
              <a:off x="4241880" y="3232080"/>
              <a:ext cx="74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0"/>
            <p:cNvSpPr/>
            <p:nvPr/>
          </p:nvSpPr>
          <p:spPr>
            <a:xfrm flipV="1">
              <a:off x="4702320" y="3178080"/>
              <a:ext cx="1440" cy="300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1"/>
            <p:cNvSpPr/>
            <p:nvPr/>
          </p:nvSpPr>
          <p:spPr>
            <a:xfrm>
              <a:off x="4670640" y="3178080"/>
              <a:ext cx="74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2"/>
            <p:cNvSpPr/>
            <p:nvPr/>
          </p:nvSpPr>
          <p:spPr>
            <a:xfrm flipV="1">
              <a:off x="5131080" y="3392640"/>
              <a:ext cx="1440" cy="8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53"/>
            <p:cNvSpPr/>
            <p:nvPr/>
          </p:nvSpPr>
          <p:spPr>
            <a:xfrm>
              <a:off x="5099040" y="3392640"/>
              <a:ext cx="74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54"/>
            <p:cNvSpPr/>
            <p:nvPr/>
          </p:nvSpPr>
          <p:spPr>
            <a:xfrm flipV="1">
              <a:off x="5559480" y="2975040"/>
              <a:ext cx="1800" cy="363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55"/>
            <p:cNvSpPr/>
            <p:nvPr/>
          </p:nvSpPr>
          <p:spPr>
            <a:xfrm>
              <a:off x="5527800" y="2975040"/>
              <a:ext cx="74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56"/>
            <p:cNvSpPr/>
            <p:nvPr/>
          </p:nvSpPr>
          <p:spPr>
            <a:xfrm flipV="1">
              <a:off x="5978520" y="2749320"/>
              <a:ext cx="1800" cy="579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57"/>
            <p:cNvSpPr/>
            <p:nvPr/>
          </p:nvSpPr>
          <p:spPr>
            <a:xfrm>
              <a:off x="5945400" y="2749680"/>
              <a:ext cx="75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58"/>
            <p:cNvSpPr/>
            <p:nvPr/>
          </p:nvSpPr>
          <p:spPr>
            <a:xfrm flipV="1">
              <a:off x="6407280" y="2523960"/>
              <a:ext cx="1440" cy="728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59"/>
            <p:cNvSpPr/>
            <p:nvPr/>
          </p:nvSpPr>
          <p:spPr>
            <a:xfrm>
              <a:off x="6375600" y="2523960"/>
              <a:ext cx="74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60"/>
            <p:cNvSpPr/>
            <p:nvPr/>
          </p:nvSpPr>
          <p:spPr>
            <a:xfrm flipV="1">
              <a:off x="6836040" y="2674440"/>
              <a:ext cx="1440" cy="492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61"/>
            <p:cNvSpPr/>
            <p:nvPr/>
          </p:nvSpPr>
          <p:spPr>
            <a:xfrm>
              <a:off x="6804000" y="2674800"/>
              <a:ext cx="74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62"/>
            <p:cNvSpPr/>
            <p:nvPr/>
          </p:nvSpPr>
          <p:spPr>
            <a:xfrm flipV="1">
              <a:off x="7264440" y="2769840"/>
              <a:ext cx="1800" cy="37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63"/>
            <p:cNvSpPr/>
            <p:nvPr/>
          </p:nvSpPr>
          <p:spPr>
            <a:xfrm>
              <a:off x="7232760" y="2770200"/>
              <a:ext cx="74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64"/>
            <p:cNvSpPr/>
            <p:nvPr/>
          </p:nvSpPr>
          <p:spPr>
            <a:xfrm flipV="1">
              <a:off x="7693200" y="2556000"/>
              <a:ext cx="1440" cy="568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65"/>
            <p:cNvSpPr/>
            <p:nvPr/>
          </p:nvSpPr>
          <p:spPr>
            <a:xfrm>
              <a:off x="7661520" y="2556000"/>
              <a:ext cx="74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66"/>
            <p:cNvSpPr/>
            <p:nvPr/>
          </p:nvSpPr>
          <p:spPr>
            <a:xfrm flipV="1">
              <a:off x="8112240" y="2513160"/>
              <a:ext cx="1440" cy="568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67"/>
            <p:cNvSpPr/>
            <p:nvPr/>
          </p:nvSpPr>
          <p:spPr>
            <a:xfrm>
              <a:off x="8078760" y="2513160"/>
              <a:ext cx="76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68"/>
            <p:cNvSpPr/>
            <p:nvPr/>
          </p:nvSpPr>
          <p:spPr>
            <a:xfrm flipV="1">
              <a:off x="8541000" y="2395440"/>
              <a:ext cx="1440" cy="439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69"/>
            <p:cNvSpPr/>
            <p:nvPr/>
          </p:nvSpPr>
          <p:spPr>
            <a:xfrm>
              <a:off x="8507520" y="2395440"/>
              <a:ext cx="76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70"/>
            <p:cNvSpPr/>
            <p:nvPr/>
          </p:nvSpPr>
          <p:spPr>
            <a:xfrm>
              <a:off x="1293840" y="4025880"/>
              <a:ext cx="1800" cy="438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71"/>
            <p:cNvSpPr/>
            <p:nvPr/>
          </p:nvSpPr>
          <p:spPr>
            <a:xfrm>
              <a:off x="1260720" y="4464000"/>
              <a:ext cx="75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72"/>
            <p:cNvSpPr/>
            <p:nvPr/>
          </p:nvSpPr>
          <p:spPr>
            <a:xfrm>
              <a:off x="1722600" y="4003560"/>
              <a:ext cx="1440" cy="236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73"/>
            <p:cNvSpPr/>
            <p:nvPr/>
          </p:nvSpPr>
          <p:spPr>
            <a:xfrm>
              <a:off x="1690920" y="4240080"/>
              <a:ext cx="74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74"/>
            <p:cNvSpPr/>
            <p:nvPr/>
          </p:nvSpPr>
          <p:spPr>
            <a:xfrm>
              <a:off x="2140200" y="3821040"/>
              <a:ext cx="1440" cy="257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75"/>
            <p:cNvSpPr/>
            <p:nvPr/>
          </p:nvSpPr>
          <p:spPr>
            <a:xfrm>
              <a:off x="2108160" y="4078440"/>
              <a:ext cx="74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76"/>
            <p:cNvSpPr/>
            <p:nvPr/>
          </p:nvSpPr>
          <p:spPr>
            <a:xfrm>
              <a:off x="2568600" y="3638520"/>
              <a:ext cx="1800" cy="353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77"/>
            <p:cNvSpPr/>
            <p:nvPr/>
          </p:nvSpPr>
          <p:spPr>
            <a:xfrm>
              <a:off x="2536920" y="3992400"/>
              <a:ext cx="74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78"/>
            <p:cNvSpPr/>
            <p:nvPr/>
          </p:nvSpPr>
          <p:spPr>
            <a:xfrm>
              <a:off x="2997360" y="3638520"/>
              <a:ext cx="1440" cy="33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79"/>
            <p:cNvSpPr/>
            <p:nvPr/>
          </p:nvSpPr>
          <p:spPr>
            <a:xfrm>
              <a:off x="2965680" y="3971880"/>
              <a:ext cx="74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80"/>
            <p:cNvSpPr/>
            <p:nvPr/>
          </p:nvSpPr>
          <p:spPr>
            <a:xfrm>
              <a:off x="3427560" y="3606840"/>
              <a:ext cx="1440" cy="257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81"/>
            <p:cNvSpPr/>
            <p:nvPr/>
          </p:nvSpPr>
          <p:spPr>
            <a:xfrm>
              <a:off x="3394080" y="3863880"/>
              <a:ext cx="76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82"/>
            <p:cNvSpPr/>
            <p:nvPr/>
          </p:nvSpPr>
          <p:spPr>
            <a:xfrm>
              <a:off x="3856320" y="3564000"/>
              <a:ext cx="1440" cy="37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83"/>
            <p:cNvSpPr/>
            <p:nvPr/>
          </p:nvSpPr>
          <p:spPr>
            <a:xfrm>
              <a:off x="3822840" y="3940200"/>
              <a:ext cx="76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84"/>
            <p:cNvSpPr/>
            <p:nvPr/>
          </p:nvSpPr>
          <p:spPr>
            <a:xfrm>
              <a:off x="4273560" y="3564000"/>
              <a:ext cx="1800" cy="288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85"/>
            <p:cNvSpPr/>
            <p:nvPr/>
          </p:nvSpPr>
          <p:spPr>
            <a:xfrm>
              <a:off x="4241880" y="3852720"/>
              <a:ext cx="74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86"/>
            <p:cNvSpPr/>
            <p:nvPr/>
          </p:nvSpPr>
          <p:spPr>
            <a:xfrm>
              <a:off x="4702320" y="3478320"/>
              <a:ext cx="1440" cy="279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87"/>
            <p:cNvSpPr/>
            <p:nvPr/>
          </p:nvSpPr>
          <p:spPr>
            <a:xfrm>
              <a:off x="4670640" y="3757680"/>
              <a:ext cx="74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88"/>
            <p:cNvSpPr/>
            <p:nvPr/>
          </p:nvSpPr>
          <p:spPr>
            <a:xfrm>
              <a:off x="5131080" y="3478320"/>
              <a:ext cx="1440" cy="8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89"/>
            <p:cNvSpPr/>
            <p:nvPr/>
          </p:nvSpPr>
          <p:spPr>
            <a:xfrm>
              <a:off x="5099040" y="3564000"/>
              <a:ext cx="74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90"/>
            <p:cNvSpPr/>
            <p:nvPr/>
          </p:nvSpPr>
          <p:spPr>
            <a:xfrm>
              <a:off x="5559480" y="3338640"/>
              <a:ext cx="1800" cy="322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91"/>
            <p:cNvSpPr/>
            <p:nvPr/>
          </p:nvSpPr>
          <p:spPr>
            <a:xfrm>
              <a:off x="5527800" y="3660840"/>
              <a:ext cx="74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92"/>
            <p:cNvSpPr/>
            <p:nvPr/>
          </p:nvSpPr>
          <p:spPr>
            <a:xfrm>
              <a:off x="5978520" y="3328920"/>
              <a:ext cx="1800" cy="480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93"/>
            <p:cNvSpPr/>
            <p:nvPr/>
          </p:nvSpPr>
          <p:spPr>
            <a:xfrm>
              <a:off x="5945400" y="3809880"/>
              <a:ext cx="759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94"/>
            <p:cNvSpPr/>
            <p:nvPr/>
          </p:nvSpPr>
          <p:spPr>
            <a:xfrm>
              <a:off x="6407280" y="3252600"/>
              <a:ext cx="1440" cy="579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95"/>
            <p:cNvSpPr/>
            <p:nvPr/>
          </p:nvSpPr>
          <p:spPr>
            <a:xfrm>
              <a:off x="6375600" y="3832200"/>
              <a:ext cx="74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96"/>
            <p:cNvSpPr/>
            <p:nvPr/>
          </p:nvSpPr>
          <p:spPr>
            <a:xfrm>
              <a:off x="6836040" y="3166920"/>
              <a:ext cx="1440" cy="419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97"/>
            <p:cNvSpPr/>
            <p:nvPr/>
          </p:nvSpPr>
          <p:spPr>
            <a:xfrm>
              <a:off x="6804000" y="3586320"/>
              <a:ext cx="74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98"/>
            <p:cNvSpPr/>
            <p:nvPr/>
          </p:nvSpPr>
          <p:spPr>
            <a:xfrm>
              <a:off x="7264440" y="3146400"/>
              <a:ext cx="1800" cy="331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99"/>
            <p:cNvSpPr/>
            <p:nvPr/>
          </p:nvSpPr>
          <p:spPr>
            <a:xfrm>
              <a:off x="7232760" y="3478320"/>
              <a:ext cx="74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00"/>
            <p:cNvSpPr/>
            <p:nvPr/>
          </p:nvSpPr>
          <p:spPr>
            <a:xfrm>
              <a:off x="7693200" y="3124080"/>
              <a:ext cx="1440" cy="482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01"/>
            <p:cNvSpPr/>
            <p:nvPr/>
          </p:nvSpPr>
          <p:spPr>
            <a:xfrm>
              <a:off x="7661520" y="3606840"/>
              <a:ext cx="74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02"/>
            <p:cNvSpPr/>
            <p:nvPr/>
          </p:nvSpPr>
          <p:spPr>
            <a:xfrm>
              <a:off x="8112240" y="3081240"/>
              <a:ext cx="1440" cy="471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03"/>
            <p:cNvSpPr/>
            <p:nvPr/>
          </p:nvSpPr>
          <p:spPr>
            <a:xfrm>
              <a:off x="8078760" y="3552840"/>
              <a:ext cx="76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04"/>
            <p:cNvSpPr/>
            <p:nvPr/>
          </p:nvSpPr>
          <p:spPr>
            <a:xfrm>
              <a:off x="8541000" y="2835360"/>
              <a:ext cx="1440" cy="396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5"/>
            <p:cNvSpPr/>
            <p:nvPr/>
          </p:nvSpPr>
          <p:spPr>
            <a:xfrm>
              <a:off x="8507520" y="3232080"/>
              <a:ext cx="76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06"/>
            <p:cNvSpPr/>
            <p:nvPr/>
          </p:nvSpPr>
          <p:spPr>
            <a:xfrm>
              <a:off x="1251000" y="3983040"/>
              <a:ext cx="85680" cy="8568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07"/>
            <p:cNvSpPr/>
            <p:nvPr/>
          </p:nvSpPr>
          <p:spPr>
            <a:xfrm>
              <a:off x="1679760" y="3960720"/>
              <a:ext cx="85680" cy="8568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08"/>
            <p:cNvSpPr/>
            <p:nvPr/>
          </p:nvSpPr>
          <p:spPr>
            <a:xfrm>
              <a:off x="2097360" y="3778200"/>
              <a:ext cx="85680" cy="8568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09"/>
            <p:cNvSpPr/>
            <p:nvPr/>
          </p:nvSpPr>
          <p:spPr>
            <a:xfrm>
              <a:off x="2525760" y="3595680"/>
              <a:ext cx="85680" cy="8568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10"/>
            <p:cNvSpPr/>
            <p:nvPr/>
          </p:nvSpPr>
          <p:spPr>
            <a:xfrm>
              <a:off x="2954520" y="3595680"/>
              <a:ext cx="85680" cy="8568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11"/>
            <p:cNvSpPr/>
            <p:nvPr/>
          </p:nvSpPr>
          <p:spPr>
            <a:xfrm>
              <a:off x="3384720" y="3564000"/>
              <a:ext cx="85680" cy="8568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12"/>
            <p:cNvSpPr/>
            <p:nvPr/>
          </p:nvSpPr>
          <p:spPr>
            <a:xfrm>
              <a:off x="3813120" y="3521160"/>
              <a:ext cx="86040" cy="8568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13"/>
            <p:cNvSpPr/>
            <p:nvPr/>
          </p:nvSpPr>
          <p:spPr>
            <a:xfrm>
              <a:off x="4230720" y="3521160"/>
              <a:ext cx="85680" cy="8568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14"/>
            <p:cNvSpPr/>
            <p:nvPr/>
          </p:nvSpPr>
          <p:spPr>
            <a:xfrm>
              <a:off x="4659480" y="3435480"/>
              <a:ext cx="85680" cy="8568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15"/>
            <p:cNvSpPr/>
            <p:nvPr/>
          </p:nvSpPr>
          <p:spPr>
            <a:xfrm>
              <a:off x="5087880" y="3435480"/>
              <a:ext cx="86040" cy="8568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16"/>
            <p:cNvSpPr/>
            <p:nvPr/>
          </p:nvSpPr>
          <p:spPr>
            <a:xfrm>
              <a:off x="5516640" y="3295800"/>
              <a:ext cx="85680" cy="8568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17"/>
            <p:cNvSpPr/>
            <p:nvPr/>
          </p:nvSpPr>
          <p:spPr>
            <a:xfrm>
              <a:off x="5935680" y="3286080"/>
              <a:ext cx="85680" cy="8568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18"/>
            <p:cNvSpPr/>
            <p:nvPr/>
          </p:nvSpPr>
          <p:spPr>
            <a:xfrm>
              <a:off x="6364440" y="3209760"/>
              <a:ext cx="85680" cy="860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19"/>
            <p:cNvSpPr/>
            <p:nvPr/>
          </p:nvSpPr>
          <p:spPr>
            <a:xfrm>
              <a:off x="6793200" y="3124080"/>
              <a:ext cx="85680" cy="8568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20"/>
            <p:cNvSpPr/>
            <p:nvPr/>
          </p:nvSpPr>
          <p:spPr>
            <a:xfrm>
              <a:off x="7221600" y="3103560"/>
              <a:ext cx="85680" cy="8568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21"/>
            <p:cNvSpPr/>
            <p:nvPr/>
          </p:nvSpPr>
          <p:spPr>
            <a:xfrm>
              <a:off x="7650360" y="3081240"/>
              <a:ext cx="85680" cy="8568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22"/>
            <p:cNvSpPr/>
            <p:nvPr/>
          </p:nvSpPr>
          <p:spPr>
            <a:xfrm>
              <a:off x="8069400" y="3038400"/>
              <a:ext cx="85680" cy="8568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23"/>
            <p:cNvSpPr/>
            <p:nvPr/>
          </p:nvSpPr>
          <p:spPr>
            <a:xfrm>
              <a:off x="8498160" y="2792520"/>
              <a:ext cx="85680" cy="8568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24"/>
            <p:cNvSpPr/>
            <p:nvPr/>
          </p:nvSpPr>
          <p:spPr>
            <a:xfrm>
              <a:off x="896760" y="5246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25"/>
            <p:cNvSpPr/>
            <p:nvPr/>
          </p:nvSpPr>
          <p:spPr>
            <a:xfrm>
              <a:off x="896760" y="4583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26"/>
            <p:cNvSpPr/>
            <p:nvPr/>
          </p:nvSpPr>
          <p:spPr>
            <a:xfrm>
              <a:off x="896760" y="3929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27"/>
            <p:cNvSpPr/>
            <p:nvPr/>
          </p:nvSpPr>
          <p:spPr>
            <a:xfrm>
              <a:off x="896760" y="32637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28"/>
            <p:cNvSpPr/>
            <p:nvPr/>
          </p:nvSpPr>
          <p:spPr>
            <a:xfrm>
              <a:off x="896760" y="2610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29"/>
            <p:cNvSpPr/>
            <p:nvPr/>
          </p:nvSpPr>
          <p:spPr>
            <a:xfrm>
              <a:off x="896760" y="1946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30"/>
            <p:cNvSpPr/>
            <p:nvPr/>
          </p:nvSpPr>
          <p:spPr>
            <a:xfrm>
              <a:off x="1238760" y="54514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31"/>
            <p:cNvSpPr/>
            <p:nvPr/>
          </p:nvSpPr>
          <p:spPr>
            <a:xfrm>
              <a:off x="1646280" y="545148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*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2"/>
            <p:cNvSpPr/>
            <p:nvPr/>
          </p:nvSpPr>
          <p:spPr>
            <a:xfrm>
              <a:off x="2064960" y="5451480"/>
              <a:ext cx="14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*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33"/>
            <p:cNvSpPr/>
            <p:nvPr/>
          </p:nvSpPr>
          <p:spPr>
            <a:xfrm>
              <a:off x="2493720" y="5451480"/>
              <a:ext cx="14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*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34"/>
            <p:cNvSpPr/>
            <p:nvPr/>
          </p:nvSpPr>
          <p:spPr>
            <a:xfrm>
              <a:off x="2953080" y="5451480"/>
              <a:ext cx="9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*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35"/>
            <p:cNvSpPr/>
            <p:nvPr/>
          </p:nvSpPr>
          <p:spPr>
            <a:xfrm>
              <a:off x="3350880" y="5451480"/>
              <a:ext cx="14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*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36"/>
            <p:cNvSpPr/>
            <p:nvPr/>
          </p:nvSpPr>
          <p:spPr>
            <a:xfrm>
              <a:off x="3813480" y="54514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37"/>
            <p:cNvSpPr/>
            <p:nvPr/>
          </p:nvSpPr>
          <p:spPr>
            <a:xfrm>
              <a:off x="4198680" y="5451480"/>
              <a:ext cx="14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*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38"/>
            <p:cNvSpPr/>
            <p:nvPr/>
          </p:nvSpPr>
          <p:spPr>
            <a:xfrm>
              <a:off x="4659480" y="54514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39"/>
            <p:cNvSpPr/>
            <p:nvPr/>
          </p:nvSpPr>
          <p:spPr>
            <a:xfrm>
              <a:off x="5013720" y="5451480"/>
              <a:ext cx="25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40"/>
            <p:cNvSpPr/>
            <p:nvPr/>
          </p:nvSpPr>
          <p:spPr>
            <a:xfrm>
              <a:off x="5527440" y="5451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41"/>
            <p:cNvSpPr/>
            <p:nvPr/>
          </p:nvSpPr>
          <p:spPr>
            <a:xfrm>
              <a:off x="5935680" y="545148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42"/>
            <p:cNvSpPr/>
            <p:nvPr/>
          </p:nvSpPr>
          <p:spPr>
            <a:xfrm>
              <a:off x="6352200" y="545148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43"/>
            <p:cNvSpPr/>
            <p:nvPr/>
          </p:nvSpPr>
          <p:spPr>
            <a:xfrm>
              <a:off x="6793200" y="54514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44"/>
            <p:cNvSpPr/>
            <p:nvPr/>
          </p:nvSpPr>
          <p:spPr>
            <a:xfrm>
              <a:off x="7189560" y="54514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*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45"/>
            <p:cNvSpPr/>
            <p:nvPr/>
          </p:nvSpPr>
          <p:spPr>
            <a:xfrm>
              <a:off x="7638120" y="54514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46"/>
            <p:cNvSpPr/>
            <p:nvPr/>
          </p:nvSpPr>
          <p:spPr>
            <a:xfrm>
              <a:off x="8069400" y="54514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47"/>
            <p:cNvSpPr/>
            <p:nvPr/>
          </p:nvSpPr>
          <p:spPr>
            <a:xfrm>
              <a:off x="8507160" y="5451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48"/>
            <p:cNvSpPr/>
            <p:nvPr/>
          </p:nvSpPr>
          <p:spPr>
            <a:xfrm>
              <a:off x="4667760" y="5697360"/>
              <a:ext cx="485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acil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49"/>
            <p:cNvSpPr/>
            <p:nvPr/>
          </p:nvSpPr>
          <p:spPr>
            <a:xfrm rot="16200000">
              <a:off x="-373680" y="3407040"/>
              <a:ext cx="2507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bserved to expected mortality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at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50"/>
            <p:cNvSpPr/>
            <p:nvPr/>
          </p:nvSpPr>
          <p:spPr>
            <a:xfrm>
              <a:off x="511200" y="1806480"/>
              <a:ext cx="8350200" cy="4233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LAPSED HOSPITAL LENGTH OF STAY AT TIME OF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57200" y="1752480"/>
          <a:ext cx="8077320" cy="2994120"/>
        </p:xfrm>
        <a:graphic>
          <a:graphicData uri="http://schemas.openxmlformats.org/drawingml/2006/table">
            <a:tbl>
              <a:tblPr/>
              <a:tblGrid>
                <a:gridCol w="2971800"/>
                <a:gridCol w="5105520"/>
              </a:tblGrid>
              <a:tr h="52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OS (days) @ time of death (median, mean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S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d Pat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, 6.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8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U/ICU Direct Adm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, 10.1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19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-Surgical Transf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, 21.8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3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planned Transf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, 17.9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2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NEXT EMR CHALLENGE: IDENTIFICATION OF DNR/COMFORT CARE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olloway &amp; Qu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rtality is a good quality measure for individuals with acute illness who are not supposed to die but is a poor quality measure for the majority of patients with multiple chronic diseases who are near the end of thei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aken alone, short-term mortality measures essentially treat death as a medical failure and reinforce avoiding death at all cos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reful use of EMRs could permit excluding these patients from analyses (or separating them for different types of analy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ONCLUSIONS –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vidence base for use of physiologic data in risk adjustment is overwhel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wo entities, the VA system and Kaiser Permanente, are already employing physiologic-based risk adjustment operatio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ther uses of physiologic data (e.g., multivariable template matching for targeted case-control studies; VA’s use of change in serum creatinine) make the use of these data even more comp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important question is not “Should one employ automated physiology-based risk-adjustment?” but, rather, “Is it possible to convince different institutions to standardize data definitions so as to permit larger collaborative studies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OPICS TO BE COV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alue of readily available enhancem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OA 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aborator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ther physiologic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ork in progress: use of bed history data combined with laborator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ONCLUSIONS –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tities such as IHI and AHRQ should be creating incentives for use of these data, rather than simply reinforcing the use of administr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t all hospitals have the capability to employ these data, but for those that do, IHI/AHRQ should encourage creation of networks that collaborate to employ data from EM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uture research using EMRs should emphasize capture of DNR/comfort care 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terans Administration Risk Adjusted Mortality in the IC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k mod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gnosis, comorbid disease, source of admission, worst of 11 lab values (Na, Glu, BUN, Cr, ALB, Bili, WBC, Hct, pH / PaCO2, Pa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arate models predict death at 30 days and at hospital discha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 in addition of physiolog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e validity / improved discrimination calibration to fairly portray risk and outcom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expected advantage of using lab values in mod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create metrics related to labs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hyperglycemi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glycemic rate/ patient days on hypoglycemic ag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acute kidney injury (AK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link relationship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onin with mortality in medical patients and/ or beta blocker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F readmission rates with ACE A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4"/>
          <p:cNvGraphicFramePr/>
          <p:nvPr/>
        </p:nvGraphicFramePr>
        <p:xfrm>
          <a:off x="4572000" y="1854360"/>
          <a:ext cx="4330800" cy="387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854360"/>
                    <a:ext cx="4330800" cy="38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Text Box 5"/>
          <p:cNvSpPr/>
          <p:nvPr/>
        </p:nvSpPr>
        <p:spPr>
          <a:xfrm>
            <a:off x="4271400" y="1447920"/>
            <a:ext cx="500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gate VA  ICU Standardized Mortality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228600" y="6491160"/>
            <a:ext cx="40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A Inpatient Evaluation Ce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tality data and VA I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mortality measures tell you different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djusted mortality at hospital discharge or at  30 – days for ICU and acute care patients (Are the admission criteria similar; acces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adjusted mort at hospital discharge or at 30-days for ICU and Acute care patients (The difference may address issues of alternative access for placement for chronic acute illness/ futile car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djusted mortality of patients transferred from the ward to the ICU (ability to detect and rescue deteriorating patient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djusted mortality graphed against SMR may tell you about risk of underperforming hospital (vulnerability of the healthcare organization and patient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of the VA ICU mortality mea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ed every quarter; web based; regional access with national benchmarks stratified by level and type of I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on the grounds,” Targeted site visits, identification of unmeasured variables, Review of low predicted mortality patients who die, use of evidenced based practices,  recommendations, follow-up in 6 mon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mix index (ICU pred mort/ all ICU pred mor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ed bed turns, Track severity at ICUs with more limite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ing groups of patients for ICU LOS reduction (&lt; 2.5% pred morta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effectiveness of initiati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S, SC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4267080" cy="2133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ssociation of hyperglycemia with mortality varies by diagn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Object 3"/>
          <p:cNvGraphicFramePr/>
          <p:nvPr/>
        </p:nvGraphicFramePr>
        <p:xfrm>
          <a:off x="4572000" y="3637080"/>
          <a:ext cx="4495680" cy="31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637080"/>
                    <a:ext cx="4495680" cy="31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4"/>
          <p:cNvGraphicFramePr/>
          <p:nvPr/>
        </p:nvGraphicFramePr>
        <p:xfrm>
          <a:off x="4572000" y="380880"/>
          <a:ext cx="4495680" cy="308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380880"/>
                    <a:ext cx="4495680" cy="30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5"/>
          <p:cNvGraphicFramePr/>
          <p:nvPr/>
        </p:nvGraphicFramePr>
        <p:xfrm>
          <a:off x="0" y="3713040"/>
          <a:ext cx="4495680" cy="3144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713040"/>
                    <a:ext cx="449568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Line 6"/>
          <p:cNvSpPr/>
          <p:nvPr/>
        </p:nvSpPr>
        <p:spPr>
          <a:xfrm flipV="1">
            <a:off x="5715000" y="3809880"/>
            <a:ext cx="0" cy="243864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7"/>
          <p:cNvSpPr/>
          <p:nvPr/>
        </p:nvSpPr>
        <p:spPr>
          <a:xfrm flipV="1">
            <a:off x="1295280" y="3809880"/>
            <a:ext cx="0" cy="243864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 flipV="1">
            <a:off x="5715000" y="609480"/>
            <a:ext cx="0" cy="243864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08080" y="1104840"/>
          <a:ext cx="8727840" cy="4648320"/>
        </p:xfrm>
        <a:graphic>
          <a:graphicData uri="http://schemas.openxmlformats.org/drawingml/2006/table">
            <a:tbl>
              <a:tblPr/>
              <a:tblGrid>
                <a:gridCol w="2292120"/>
                <a:gridCol w="1711440"/>
                <a:gridCol w="1905120"/>
                <a:gridCol w="1447560"/>
                <a:gridCol w="1371600"/>
              </a:tblGrid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 Catego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tality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ds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5% C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(S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EL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(S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 (n, 310,32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912 (10.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KI (n, 244,5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106 (6.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 (3.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.44 (3.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 I (n, 52,77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212 (19.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2 (2.15 – 2.2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 (6.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 (5.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 II (n, 7,74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59 (43.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9 (5.74 – 6.4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6 (8.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 (8.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 III (n, 3,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52 (62.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51 (11.5 – 13.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 (9.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3 (10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 III-D (n, 1,98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83 (59.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8 (7.24 – 9.03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2 (10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 (10.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Text Box 52"/>
          <p:cNvSpPr/>
          <p:nvPr/>
        </p:nvSpPr>
        <p:spPr>
          <a:xfrm>
            <a:off x="114480" y="5943600"/>
            <a:ext cx="89154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I – confidence limits; AKI – acute kidney injury; OMELOS – observed  minus expected length of stay; SD – standard devi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3"/>
          <p:cNvSpPr/>
          <p:nvPr/>
        </p:nvSpPr>
        <p:spPr>
          <a:xfrm>
            <a:off x="380880" y="2286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mild renal injury (Cr &gt;0.3 mg/dL) increases mortality risk and 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rticles Cited: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Zimmerman JE, Kramer AA, McNair DS, et al. Acute Physiology and Chronic Health Evaluation (APACHE) IV: hospital mortality assessment for today's critically ill patients. Critical Care Medicine 2006;34:1297-1310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ender ML, Kim HM, Welsh DE, et al. Automated intensive care unit risk adjustment: results from a National Veterans Affairs study. Critical Care Medicine 2003;31:1638-1646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Glance LG, Dick AW, Osler TM, et al. Accuracy of hospital report cards based on administrative data. Health Services Research 2006;41:1413-1437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Holloway RG, Quill TE. Mortality as a measure of quality. Implications for palliative and end-of-life care. JAMA 2007; 298:802-804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Tabak YP, Johannes RS, Silber JH. Using automated clinical data for risk adjustment. Development and validation of six disease-specific mortality predictive models for pay-for performance. Medical Care 2007; 45:789-805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ine M, Jordan HS, Elixhauser A, et al. Enhancement of claims data to improve risk adjustment of hospital mortality. JAMA 2007;297:71-76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scobar GJ, Greene JD, Scheirer P, Gardner M, Draper D, Kipnis P. Risk Adjusting Hospital Inpatient Mortality Using Automated Inpatient, Outpatient, and Laboratory Databases. Medical Care 2008; 46(3):232-23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WHY SHOULD WE SETTLE FOR THE LOWEST COMMON DENOMINAT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illing data are driven by need for reimbur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igh propensity to being “gam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ding creep”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ny diagnoses strongly associated with outcome can be present on admission, e.g., stroke, DVT, pressure ul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51000"/>
            <a:ext cx="838188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LANCE ET AL.: IMPACT OF PRESENT ON ADMISSION CODING ON PERFORMANCE RANK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spcAft>
                <a:spcPts val="575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POA coding modifier showed that diagnoses associated with complications were present on admission only 10 – 22% of the ti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spcAft>
                <a:spcPts val="575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Absence of POA coding led to 33 – 40% of low performing hospitals not being detected for these condi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CAB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Coronary angioplas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Hip replace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AM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spcAft>
                <a:spcPts val="575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Treating complications as pre-existing conditions gives poor-performing hospitals ‘credit’ for their complications and may cause some hospitals that are delivering low-quality care to be misclassified as average- or high-performing hospitals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VALUE OF INCORPORATING PHYSIOLOGIC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creasingly available, particularly in hospital ch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uch less expensive than manual chart abs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ave tremendous face validity with clin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latively easy to combine with othe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an be used either for disease-specific models (e.g., Fine PSI for community acquired pneumonia) or for global risk adjustment (e.g., VA or Kaiser Permanente risk adjustment methodolog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LATIVE CONTRIBUTION OF PHYSIOLOGIC DATA TO OVERALL MODEL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perational use of laboratory data first occurred in the I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nder et al. – 29,377 consecutive first ICU admissions in 17 VA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aboratory data accounted for 74% of model predictive 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agnosis accounted for 1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Zimmerman et al. – 110,558 ICU admissions in 45 U.S.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aboratory data accounted for 65% of model predictive 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agnosis accounted for 1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INE ET AL.: USE OF LABORATORY DATA FOR NON-ICU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Quantified effect of adding POA coding, laboratory data, and vital signs data for 5 conditions and 3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t restricted to ICU; N ranged from 5309 for AAA to 200,506 for C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verage effect of adding predictors, as evidenced by change in c statis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 risk adjustmen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.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ministrative model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.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OA model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.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OA + lab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.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OA + labs + VS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.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ABAK ET AL.: DEFINITIVE QUANTIFICATION OF VALUE OF LABORATORY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valuated 6 disease-specific mortality predictive models for pay-for-performance (ischemic &amp; hemorrhagic stroke, pneumonia, CHF, and sep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94,903 admissions in 2000-2003 across 71 hospitals that imported laborator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Quantified relative contribution with omega stat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aboratory data were between 2 and 67 times more important in predicting mortality than ICD-9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nly models where laboratory data were less important were those for stroke, where altered mental status recordings were more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SEARCH IN PROGRESS:  COMBINING LABORATORY DATA WITH ANOTHER EMR MARKER, BED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07,922 hospitalizations at 19 Kaiser Permanente hospitals, 11/1/06 – 1/31/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l severity scored using laboratory acute physiology score (LAPS) and pre-admission comorbidity point score (CO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mploys time stamps for patient arrival at different units (ward, OR/PAR, TCU, IC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amines mortality of intra-hospital transfers combined with laboratory test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09-01-12T15:05:44Z</dcterms:modified>
  <cp:revision>1</cp:revision>
  <dc:subject/>
  <dc:title>MORTALITY MEASUREMENT IN THE EMR ERA:  WHAT REAL TIME LAB AND CLINICAL DATA CAN CONTRIBUTE TO PRECISION AND PREDICTION</dc:title>
</cp:coreProperties>
</file>