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1DAC-5EC3-488F-8CA6-634442497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2906-CDB6-44F4-AA69-DC3121841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2583-653A-4A95-8F2F-8B4959BC2C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7893-9E57-4FF8-8E40-FF1DEDDD60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872E-BFE0-4FCF-A548-502362059E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EB13-2418-4410-BAAF-1FA24CB25F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66960" cy="342612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F860-EC64-4AED-86E7-5A2A65BA41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CC74-9494-4C4E-B6AA-2C65448F73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7721-9D56-4799-9BC5-EBC65C74E1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059E-2120-428C-B426-0B15345DF1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5BE1-3A9D-4C95-AC20-B756006511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5520" cy="342612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615D-C3B1-4A52-A0EB-7DE3C77266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698F-A271-4C00-BF4B-98E39E5BAE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9183-D1EC-462B-ADBD-AA07F25D0F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E342-01C1-4939-862B-E95D0C3607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66960" cy="342612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A7BE-C1CA-4C5A-8D10-A95537DF07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2D53-A440-469A-8D7C-0F83EBD2C1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3890-78F2-446F-B83C-C278493F95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A68B-F690-4233-99D3-EDCFDB3B34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B169-7F48-4A6F-9AC5-F01244C048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5520" cy="34261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F32E-869F-4F77-B9FD-1DF8328CD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66960" cy="342612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5" name="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7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lnSpc>
                <a:spcPct val="90000"/>
              </a:lnSpc>
              <a:spcBef>
                <a:spcPts val="751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89" name="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91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131" name="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33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4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174" name="Line 5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6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42920" y="317520"/>
            <a:ext cx="1428840" cy="67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emergencypreparedness@academyhealth.org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emergencypreparedness@academyhealth.org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mailto:emergencypreparedness@academyhealth.org" TargetMode="External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academyhealth.org/knowledgetransfer/EPWebcasts.htm" TargetMode="External"/><Relationship Id="rId2" Type="http://schemas.openxmlformats.org/officeDocument/2006/relationships/hyperlink" Target="http://www.academyhealth.org/knowledgetransfer/EPWebcasts.htm" TargetMode="External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ahrq.gov/prep/" TargetMode="External"/><Relationship Id="rId2" Type="http://schemas.openxmlformats.org/officeDocument/2006/relationships/hyperlink" Target="http://www.ahrq.gov/prep/" TargetMode="External"/><Relationship Id="rId3" Type="http://schemas.openxmlformats.org/officeDocument/2006/relationships/hyperlink" Target="http://www.ahrq.gov/prep/" TargetMode="External"/><Relationship Id="rId4" Type="http://schemas.openxmlformats.org/officeDocument/2006/relationships/hyperlink" Target="http://www.ahrq.gov/prep/" TargetMode="External"/><Relationship Id="rId5" Type="http://schemas.openxmlformats.org/officeDocument/2006/relationships/hyperlink" Target="http://www.academyhealth.org/knowledgetransfer/EPWebcasts.htm" TargetMode="External"/><Relationship Id="rId6" Type="http://schemas.openxmlformats.org/officeDocument/2006/relationships/hyperlink" Target="http://www.academyhealth.org/knowledgetransfer/EPWebcasts.htm" TargetMode="External"/><Relationship Id="rId7" Type="http://schemas.openxmlformats.org/officeDocument/2006/relationships/hyperlink" Target="mailto:emergencypreparedness@academyhealth.org" TargetMode="External"/><Relationship Id="rId8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22093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Lessons Learned from the Field of Emergency Preparedn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52280" y="4266720"/>
            <a:ext cx="868680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ursday, November 6,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2:00-1:30 pm 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6697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oles and Responsibility for Alternate Care Sit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06904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alifornia Emergency Services Act recognizes the role of the State and its political subdivisions to mitigate the effects of an emergenc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this authority, local governments can contract with local public and private entities to establish an AC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 the CDPH Pandemic Influenza Response Plan, local health departments (LHD) are responsible for identifying and planning for the operations of government authorized AC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NOT the expectation that LHDs operate AC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l govern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s the responsibility to set-up and operate ACS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EB53-A104-4963-9225-4FDC278203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ment of an Alternate Care Site Planning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for public and private part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ad participation across stakeholder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p from existing healthcare providers is cri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hazards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A3EB-B513-4D98-9787-7C016B645D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05120" y="380880"/>
            <a:ext cx="6697440" cy="8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lanning for Alternate Care Si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80720" y="30492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atient Care in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lternate Care Sit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tandard of Care is a moving target based on what a reasonable person with like training would do under similar circumstan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lthcare delivery in alternate care sites will vary from traditional hospital care and will be dependent on available resourc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d on local surge needs, each identified ACS will include some mix of the following types of pati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pat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pat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ical/Ac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DD85-C1BE-4FF6-8050-1F3C5EF84F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057040" y="30492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tate Alternate Care Site Cach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alternate care site cache of supplies and equipment was designed using an all-hazards approach to provide for 10-14 days of care for 50 patients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ch ACS Cache contain items separated into 9 groups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V Flu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ndages and Wound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way Intervention and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mobi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ient Bedding, Gowns, Cots, Miscellaneo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care Provider Personal Protective Equipment (PP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 Suppl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Suppl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brillators and Associated Supplies – A special group that will be vendor managed off-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A0B8-9DC4-4849-B923-F0F1A2CB5E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0440" indent="-460440">
              <a:lnSpc>
                <a:spcPct val="85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ernate Care Sites are a last resort when the healthcare delivery system cannot meet patient care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85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ernate Care Sites pose a difficult challeng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85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ivity in meeting this need is necess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85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important to capitalize on models that have already been develo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85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ifornia is working with local government to better understand how the State can he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C3A9-C946-4713-A9D0-D0A88854B92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oll Question #1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short poll will appear on your screen.  Please take a few seconds to answer the poll and provide valuable feedback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you are unable to respond to the poll during this event, please e-mail your answer to </a:t>
            </a:r>
            <a:r>
              <a:rPr b="0" lang="en-US" sz="36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emergencypreparedness@academyhealth.org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170560" y="640080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EC4C-D47C-46CD-B0EA-FE1AF0C1B1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Question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1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pose a question to the Panelists, please post it in th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Q&amp;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nel on the right hand side of your screen and press sen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xpand or decrease the size of any panel on the right hand side of your screen, click the arrow shape in the upper-left corner of the pane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pose a question to WebEx’s technical support, you can also post it in that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Q&amp;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anel and press send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you can di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1-866-229-323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322840" y="640080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DC05-7B1C-4798-BDC0-163D97AABD4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-228600" y="3962160"/>
            <a:ext cx="9144000" cy="144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8128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cie McAnau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uty Department 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ssouri Department of Health and Senior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20D5-DB12-4CD7-B3FD-748318C2D87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190512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source Allocation in an Emergency:  Using AHRQ Tools to Enhance State Planning Eff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lanning Scenario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ndemic Influen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Madrid Fau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terrorism 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cal 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osive Events (Including Dirty Bomb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8458200" y="6400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523A-1A55-483B-AF2F-23201855A0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issouri Healthcare System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5867280" cy="2743200"/>
          </a:xfrm>
          <a:prstGeom prst="rect">
            <a:avLst/>
          </a:prstGeom>
          <a:noFill/>
          <a:ln w="12600">
            <a:solidFill>
              <a:srgbClr val="00b0f0">
                <a:alpha val="0"/>
              </a:srgbClr>
            </a:solidFill>
            <a:miter/>
          </a:ln>
        </p:spPr>
        <p:txBody>
          <a:bodyPr lIns="90360" rIns="90360" tIns="44280" bIns="44280" anchor="t">
            <a:normAutofit fontScale="94000"/>
          </a:bodyPr>
          <a:p>
            <a:pPr marL="437040" indent="-43704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0 Federally Qualified Health Cen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23 acute care hospita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6 children’s hospita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3 designated trauma cen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 pediatric trauma cent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7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7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7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8458200" y="6400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9D34-5EDE-4BF3-A17C-A51D26257B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4114800"/>
            <a:ext cx="5029200" cy="24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,169 long term care facili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16 ambulance servic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93 home health agenc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98 ambulatory surgical cen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4 psychiatric hospita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115056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162560" cy="52178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8246880" y="640080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1188-7C89-4C7B-8002-20B64391F4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92468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ealth Care Systems Readiness/ Scarce Resource Allocation Committees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50292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itial planning efforts addressed pandemic influen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the subcommittee finished its initial efforts, the focus changed to allocation of scarce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8534520" y="6400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1067-0C1C-48CD-A90B-73B31F7D42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9" descr="MPj04393450000[1]"/>
          <p:cNvPicPr/>
          <p:nvPr/>
        </p:nvPicPr>
        <p:blipFill>
          <a:blip r:embed="rId1"/>
          <a:stretch/>
        </p:blipFill>
        <p:spPr>
          <a:xfrm>
            <a:off x="5334120" y="2286000"/>
            <a:ext cx="3473280" cy="33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7560" y="800280"/>
            <a:ext cx="7543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Agency for Healthcare Research and Quality (AHRQ) Tools</a:t>
            </a:r>
            <a:br>
              <a:rPr sz="3400"/>
            </a:br>
            <a:endParaRPr b="1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580920" y="2057040"/>
            <a:ext cx="48085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 Medical Care with Scarce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ed Standards of Care in Mass Casualty 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8534520" y="6400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8D7E-7B5C-4D9C-A77C-A0E55F5D88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5" descr="j0286068"/>
          <p:cNvPicPr/>
          <p:nvPr/>
        </p:nvPicPr>
        <p:blipFill>
          <a:blip r:embed="rId1"/>
          <a:stretch/>
        </p:blipFill>
        <p:spPr>
          <a:xfrm>
            <a:off x="914400" y="2133720"/>
            <a:ext cx="239220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ltered Standards of Ca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216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did we need to know to develop plans that provided an effective and fair medical response to a mass casualty event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25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ere there key principles that professionals had agreed upon that should inform our planning for mass casualty event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25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were the critical issues that we needed to consider and address in planning for the provision of health and medical care  in a mass casualty event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8534520" y="6400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2947-E47D-4387-9F20-E875FE1C9E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66974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ss Medical Care with Scarce Resour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52280" y="2362320"/>
            <a:ext cx="5943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-hospital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pital and Acute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native Care 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lliative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52CD-E30D-4F1A-8C1C-4BC4B4368F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5" descr="j0186002"/>
          <p:cNvPicPr/>
          <p:nvPr/>
        </p:nvPicPr>
        <p:blipFill>
          <a:blip r:embed="rId1"/>
          <a:stretch/>
        </p:blipFill>
        <p:spPr>
          <a:xfrm>
            <a:off x="5334120" y="2590920"/>
            <a:ext cx="281772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05120" y="30492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ss Medical Care with Scarce Resour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0694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l framework utilized by Scarce Resource Allocation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ouraged local public health agencies to utilize the tool in their discussions with their local emergency planning committe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tilized the mass medical care tool to inform discussions with representatives of the trial attorneys assoc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A277-83EA-4B04-9C7F-F357E63FCD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lanning Outcom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74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46400" indent="-4464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ntilator-Allocation Protoc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wide Emergency Medical Services Work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ss-Departmental Statute &amp; Regulations Work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ndemic “grief” training for managers and supervis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ion of a statewide ethics consort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1220-DF7E-4FFD-94A4-FD187AFEAD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alleng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ferring outcomes created with tools to rural Missouri sett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ting buy-in from non-public health state partners on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 of public awareness regarding the limitations of the health car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diatric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DEEF-9D55-4F98-97FE-43314F53D0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oll Question #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16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short poll will appear on your screen.  Please take a few seconds to share your feedback with AHRQ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you are unable to respond to the poll during this event, please e-mail your answer to </a:t>
            </a:r>
            <a:r>
              <a:rPr b="0" lang="en-US" sz="36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emergencypreparedness@academyhealth.org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170560" y="640080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843F-57E1-4F77-958D-75A75C51BC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151920" y="3124080"/>
            <a:ext cx="899172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8128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istian Fe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ltman Hospit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or of Safety and Emergency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kron Regional Hospital Assoc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ergency Management Chair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534520" y="6400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9BB8-2E2E-4579-B1EB-F03F42CADE2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16765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ventorying Emergency Preparedness Resources: A Regional Approach to Resource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43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mergency Preparedness Resource Inventory Tool (EPRI) Description and Us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RI is an internet-based tool enabling first responders, healthcare and private / public entities the ability to compile an inventory of critical resources via a public domain database to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flexible access to inventory data via a websi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the ability to make emergency requests and tabulate respon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tes reports on quantity, location, discipline and availabil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ets ASPR (Assistant Secretary for Preparedness and Response) guidelines for tracking of grant funded purcha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8534520" y="6400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C0D6-0BD2-4A98-99F5-DAF7CAAFD4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Question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1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pose a question to the Panelists, please post it in th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Q&amp;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nel on the right hand side of your screen and press sen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xpand or decrease the size of any panel on the right hand side of your screen, click the arrow shape in the upper-left corner of the pane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pose a question to WebEx’s technical support, you can also post it in that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Q&amp;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anel and press send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you can di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1-866-229-323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246880" y="640080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8070-04B9-44AB-B160-1CC2B251A1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697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gional Implement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6108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2360" indent="-4323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ication of a region-wide iss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36864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ablished objectives with attainable deadli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2360" indent="-4323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ment of a multidisciplinary committe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36864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gional Coordinators, Emergency Management Agencies (EMA), Public Health, Hospit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2360" indent="-4323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ion of various resource management tools or response tools with included resource management components over a 9 month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2360" indent="-4323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ols evaluated on the following crite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36864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fford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36864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stomiz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36864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et Ba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36864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36864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stomer Suppor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36864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893C-7473-49E0-B2E4-E56CF30DE4B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73915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gional Implementation Cont’d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ied EPRI as the emergency resource tool of choice based on the following crite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20680" indent="-6094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cost while existing contracts are in pl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20680" indent="-6094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 ba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20680" indent="-6094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mote (internet) hos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20680" indent="-6094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ility to back up information and hosting site redunda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20680" indent="-6094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ssword protected with various user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20680" indent="-6094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ong reporting capabilities for all discipl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20680" indent="-6094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IMS (National Incident Management System) compli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20680" indent="-6094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stomizable and able to integrate with various file 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20680" indent="-6094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n ended infrastructure for mapping tie-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20680" indent="-6094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e tech support while under con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F0E1-5CC3-49EE-BA09-44C91BEBAF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7543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gional Implementation Cont’d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46612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399960" indent="-3999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ed findings to regional steering committee for approval to move forw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ied workgroups within specific disciplines to identify resources for in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9520" indent="-3409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lthcare – All ASPR funded purchases over $250.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9520" indent="-3409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 Health – All CDC (Center for Disease Control) funded purchases over $250.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9520" indent="-3409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A – All NIMS identified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ed with Abt Associates to develop training modules and user manu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region specific standard operating procedures and guidelines and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ed with Abt Associates to load initial data such as demographics and cont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8534520" y="6400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6C20-E932-432A-81C5-8599B0E1E7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6201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gional Implementation Cont’d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216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ied a  pilot group to use for a 1 month period in order to identify operational opportunities for improv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lot test group consisted of the follow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 Hospit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Health Depart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E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lot group evaluations to be completed by December 1, 2008. A full report to the regional steering committee during the December mee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ll media campaign to begin December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2008 in order to spark interest and engagement among various discipline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8458200" y="6400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CD99-C758-47E9-BE4E-5226B47296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66974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uture Pla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06904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quarter of 2009 all 33 regional hospitals will go live with EPR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20680" indent="-6094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age to be tied back to ASPR funding 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 Health to be on-line by mid-summer of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As to be brought on-line as demand exi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PRI effectively in 2009 regional exerci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EPRI to all county emergency operations centers within the reg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2061-FEB8-49A9-AA8E-5DDB7524F6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uture Plans Cont’d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06904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with regional fire and police entities to provide data or pull data from the State of Ohio response pla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implementation assistance to other Ohio regions, so all state healthcare organizations have access to, and provide data for, EPR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collaboratively with adjacent state regions to develop a multi-state EPRI t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e to promote the implementation and usage of EPRI to all interested par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5B04-5AC5-4C41-AE98-6DF3F79970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halleng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minating “Resource Silo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overstepping the EMA’s autho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output at a regional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mination of grant fu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stem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7EAA-E4B1-452C-BA03-4E87737710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trategi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tinue to provide a secure method of data input, tracking and reporting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ss importance of EPRI being a tool to assist EMAs in resource identification and acquisi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tinue to engage regional participants through projects that benefit individual entiti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nk long term when developing regional based tools and how they will be funde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 key contacts and “system owners” that are funded by the region or have region interests in min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CA21-1244-43CF-9CDD-4F24510214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oll Question #3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29764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short poll will appear on your screen.  We appreciate your feedback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you are unable to respond to the poll during this event, please e-mail your answer to </a:t>
            </a:r>
            <a:r>
              <a:rPr b="0" lang="en-US" sz="36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emergencypreparedness@academyhealth.org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E201-EB48-4714-84FE-BF3C20AFE1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Q&amp;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276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f you have a question for any of today’s presenters, Terri Gill, Nancie McAnaugh, or Christian Feller, please type it into the </a:t>
            </a:r>
            <a:r>
              <a:rPr b="0" i="1" lang="en-US" sz="3400" spc="-1" strike="noStrike">
                <a:solidFill>
                  <a:srgbClr val="ffff00"/>
                </a:solidFill>
                <a:latin typeface="Arial"/>
              </a:rPr>
              <a:t>Q&amp;A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panel to the right and press send.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70560" y="640080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8186-DFC4-4351-8D36-20C75E69D1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812880" indent="-8128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tion,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Cindy DiBias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ing and Preparing Alternate Care Sites,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Terri Gi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ource Allocation in an Emergency,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Nancie McAnaug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orying Emergency Preparedness Resources,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Christian Fel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&amp;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763120" y="6400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8D36-8429-4435-9BEE-D6BE91FA42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ext Webcast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blic Health Emergency Preparedness: Planning and Practicing for a Disas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inter 20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learn more go to the Webcast Web page at: </a:t>
            </a:r>
            <a:r>
              <a:rPr b="0" lang="en-US" sz="32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fafd00"/>
                </a:solidFill>
                <a:uFillTx/>
                <a:latin typeface="Arial"/>
                <a:hlinkClick r:id="rId2"/>
              </a:rPr>
              <a:t>www.academyhealth.org/knowledgetransfer/EPWebcasts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204A-7217-4592-9423-44AF485223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For more information about….</a:t>
            </a:r>
            <a:endParaRPr b="1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day’s event including a recording and transcript, go to: 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Arial"/>
                <a:hlinkClick r:id="rId2"/>
              </a:rPr>
              <a:t>www.ahrq.gov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Arial"/>
                <a:hlinkClick r:id="rId3"/>
              </a:rPr>
              <a:t>/prep/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HRQ’s suite of emergency preparedness tools, go to: 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Arial"/>
                <a:hlinkClick r:id="rId4"/>
              </a:rPr>
              <a:t>http://www.ahrq.gov/prep/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ublic Health Emergency Preparedness: Planning and Practicing for a Disast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please visit our Web site at: 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Arial"/>
                <a:hlinkClick r:id="rId5"/>
              </a:rPr>
              <a:t>http://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Arial"/>
                <a:hlinkClick r:id="rId6"/>
              </a:rPr>
              <a:t>www.academyhealth.org/knowledgetransfer/EPWebcasts.h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have a question regarding future Webcasts or utilizing AHRQ tools please e-mail us at 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Arial"/>
                <a:hlinkClick r:id="rId7"/>
              </a:rPr>
              <a:t>emergencypreparedness@academyhealth.or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8933-6F4C-4DE4-BEC2-F565435791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ank you!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rief feedback form will pop up when you close your browser. Please take a few moments to give us your feedback on today’s ev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170560" y="640080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4D28-733A-4423-8BFA-364180F5D9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560" y="3429000"/>
            <a:ext cx="838188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8128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ri Gi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ior Emergency Services Coordin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ergency Preparedness Off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ifornia Department of Public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763120" y="6400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3B1A-B5F6-4A44-91F2-D42EBF24AB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175248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dentifying and Preparing Government Authorized Alternate Care Sites in Califor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057040" y="380520"/>
            <a:ext cx="6697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lifornia Surge Standards and Guidelines Projec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rge Standards and Guidelines Projec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1749"/>
              </a:spcBef>
              <a:spcAft>
                <a:spcPts val="876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vened a broad group of stakeholders and interested parties to develop comprehensive guidelines and standards for surge capacity plann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1749"/>
              </a:spcBef>
              <a:spcAft>
                <a:spcPts val="876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ed standards and guidelines that would serve as the basis for emergency planning and oper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763120" y="6400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599E-624D-4AF7-A834-20C9296921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697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lternate Care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focus of the Surge Standards and Guidelines Project was to look beyond hospitals for surge capac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d Alternate Cares Sites (ACSs) to reflect the legal requirements and operational needs for the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government-authorized ACS is a location not currently providing healthcare servic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patient and inpatient care will va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specific sites are not part of the assets of an existing fac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763120" y="6400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4CAD-49B7-4517-A322-EBF170BE4A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99840" y="380520"/>
            <a:ext cx="7543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Rocky Mountain Regional Care Model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1384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ocky Mountain Regional Care Model for Bioterrorist Events was used to identify areas to focus on to plan for surge in Alternate Care Sites includ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e Se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oritized components to determine which items were critical and which could be reasonably accommodat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odel helped us to develop tools specific to Californ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763120" y="6400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FA77-E4E2-42C0-B73D-AC59281064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057040" y="22860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alifornia’s Defin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06904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ifornia’s definitions are based on an operational approach to surge planning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s recognize that all licensed healthcare facilities and expansions of such facilities must operate under existing/modified statutory and regulatory standards and that government authorized alternate care sites are not governed by these statutes and regul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AE64-32EE-4402-82E0-6676600371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17:59:45Z</dcterms:created>
  <dc:creator>JDeLaMar</dc:creator>
  <dc:description/>
  <dc:language>en-US</dc:language>
  <cp:lastModifiedBy>kgriffith</cp:lastModifiedBy>
  <dcterms:modified xsi:type="dcterms:W3CDTF">2008-11-04T19:14:09Z</dcterms:modified>
  <cp:revision>110</cp:revision>
  <dc:subject/>
  <dc:title>Nine States Use AHRQ QIs for Public Hospital Reporting</dc:title>
</cp:coreProperties>
</file>