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6BAB-187E-4AF2-89E9-AC595006E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5FCE-B53B-4C49-9D73-B58699808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30DE-C486-4480-ACC8-E732349261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B6CF-4422-4986-A721-B66262EE7F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6B2D-7B9D-460C-B556-113E2D2D64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4E9A-2019-4DC6-8800-ECD7F6A1AA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66960" cy="3426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6FA5-EF00-4638-A53D-6857C189D8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E8D3-37BC-4749-98A1-56B09208E8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B63B-42F9-4CEE-9654-CC23E04365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8ADA-6608-4B1D-A487-36203DF26E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1ADB-FF49-41CA-A0D7-FD558A0600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04F6-4297-47DF-BAAB-57AF27DFC7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E1F5-AC04-49E7-B7DD-88255D60E4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F1C4-86F3-4FDF-A878-B033DAD926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A048-0109-4C3D-ABD5-9F4D02A2CA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66960" cy="34261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225D-9C2D-4378-A1D9-053616B33D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98DB-9038-4F1B-B3B1-B9C843CE48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AD61-A1F9-47BC-B969-666EA613AE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727A-7C49-4D4B-9F8E-071A49895D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1F02-5138-40E8-9929-37B7A8B52D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D241-2FF0-47CA-99B5-57463A78B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9480" y="687240"/>
            <a:ext cx="4566960" cy="34261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89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91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1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3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174" name="Line 5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42920" y="317520"/>
            <a:ext cx="142884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emergencypreparedness@academyhealth.org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emergencypreparedness@academyhealth.org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mailto:emergencypreparedness@academyhealth.org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academyhealth.org/knowledgetransfer/EPWebcasts.htm" TargetMode="External"/><Relationship Id="rId2" Type="http://schemas.openxmlformats.org/officeDocument/2006/relationships/hyperlink" Target="http://www.academyhealth.org/knowledgetransfer/EPWebcasts.htm" TargetMode="Externa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ahrq.gov/prep/" TargetMode="External"/><Relationship Id="rId2" Type="http://schemas.openxmlformats.org/officeDocument/2006/relationships/hyperlink" Target="http://www.ahrq.gov/prep/" TargetMode="External"/><Relationship Id="rId3" Type="http://schemas.openxmlformats.org/officeDocument/2006/relationships/hyperlink" Target="http://www.ahrq.gov/prep/" TargetMode="External"/><Relationship Id="rId4" Type="http://schemas.openxmlformats.org/officeDocument/2006/relationships/hyperlink" Target="http://www.ahrq.gov/prep/" TargetMode="External"/><Relationship Id="rId5" Type="http://schemas.openxmlformats.org/officeDocument/2006/relationships/hyperlink" Target="http://www.academyhealth.org/knowledgetransfer/EPWebcasts.htm" TargetMode="External"/><Relationship Id="rId6" Type="http://schemas.openxmlformats.org/officeDocument/2006/relationships/hyperlink" Target="http://www.academyhealth.org/knowledgetransfer/EPWebcasts.htm" TargetMode="External"/><Relationship Id="rId7" Type="http://schemas.openxmlformats.org/officeDocument/2006/relationships/hyperlink" Target="mailto:emergencypreparedness@academyhealth.org" TargetMode="External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2093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Lessons Learned from the Field of Emergency Preparedn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52280" y="4266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ursday, November 6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2:00-1:30 pm 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oles and Responsibility for Alternate Care Si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690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lifornia Emergency Services Act recognizes the role of the State and its political subdivisions to mitigate the effects of an emergenc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this authority, local governments can contract with local public and private entities to establish an A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the CDPH Pandemic Influenza Response Plan, local health departments (LHD) are responsible for identifying and planning for the operations of government authorized AC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NOT the expectation that LHDs operate AC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l govern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s the responsibility to set-up and operate AC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A66F-20A8-441C-B4B2-17E5B20A80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an Alternate Care Site Plannin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public and private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ad participation across stakeholde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from existing healthcare providers is 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hazard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E458-24C2-44D2-A2CF-8F2C0AF823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05120" y="380880"/>
            <a:ext cx="669744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ning for Alternate Care Si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tient Care i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ternate Care Si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ndard of Care is a moving target based on what a reasonable person with like training would do under similar circumst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care delivery in alternate care sites will vary from traditional hospital care and will be dependent on available resour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local surge needs, each identified ACS will include some mix of the following types of pati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at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/Ac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E9B0-1ADF-46AD-826E-26680229C5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te Alternate Care Site Cach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lternate care site cache of supplies and equipment was designed using an all-hazards approach to provide for 10-14 days of care for 50 patient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ACS Cache contain items separated into 9 group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 Flu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ndages and Woun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way Intervention an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b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Bedding, Gowns, Cots, Miscellane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care Provider Personal Protective Equipment (PP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 Supp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 Supp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brillators and Associated Supplies – A special group that will be vendor managed off-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3D05-EB49-45D2-BC10-130D53A27C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e Care Sites are a last resort when the healthcare delivery system cannot meet patient care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e Care Sites pose a difficult challeng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vity in meeting this need is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capitalize on models that have already been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is working with local government to better understand how the State can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E7A6-4BCC-4E28-8D71-6E134A9B3C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ll Question #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hort poll will appear on your screen.  Please take a few seconds to answer the poll and provide valuable feedback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are unable to respond to the poll during this event, please e-mail your answer to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emergencypreparedness@academyhealth.or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17056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CA18-A4C3-42F4-99B2-444B47BA89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1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ose a question to the Panelists, please post it in th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Q&amp;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el on the right hand side of your screen and press se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and or decrease the size of any panel on the right hand side of your screen, click the arrow shape in the upper-left corner of the pan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ose a question to WebEx’s technical support, you can also post it in that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Q&amp;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nel and press send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you can d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1-866-229-323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32284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F247-58E6-458D-8336-9B0FF41577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-228600" y="39621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ncie McAna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uty Department Dir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ouri Department of Health and Senior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D924C-208A-4037-8287-CE6D2AD51D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905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ource Allocation in an Emergency:  Using AHRQ Tools to Enhance State Planning Eff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ning Scenario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emic Influen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Madrid Fa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terrorism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sive Events (Including Dirty Bomb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8458200" y="6400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A333-7404-403F-85F3-2AE5726E7D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issouri Healthcare Syste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867280" cy="2743200"/>
          </a:xfrm>
          <a:prstGeom prst="rect">
            <a:avLst/>
          </a:prstGeom>
          <a:noFill/>
          <a:ln w="12600">
            <a:solidFill>
              <a:srgbClr val="00b0f0">
                <a:alpha val="0"/>
              </a:srgbClr>
            </a:solidFill>
            <a:miter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 Federally Qualified Health Cen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23 acute care hospi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6 children’s hospi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3 designated trauma cen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 pediatric trauma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458200" y="6400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5BEB-72AD-45F1-B74C-4B5AAB6653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4114800"/>
            <a:ext cx="502920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,169 long term care facil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16 ambulance servic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93 home health agenc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98 ambulatory surgical cen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4 psychiatric hospit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15056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5217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24688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714A-C3E5-4B5E-AE8D-982D989B91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92468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ealth Care Systems Readiness/ Scarce Resource Allocation Committe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l planning efforts addressed pandemic influen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subcommittee finished its initial efforts, the focus changed to allocation of scarce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AF4B-618B-461D-A4EB-49B8D79288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9" descr="MPj04393450000[1]"/>
          <p:cNvPicPr/>
          <p:nvPr/>
        </p:nvPicPr>
        <p:blipFill>
          <a:blip r:embed="rId1"/>
          <a:stretch/>
        </p:blipFill>
        <p:spPr>
          <a:xfrm>
            <a:off x="5334120" y="2286000"/>
            <a:ext cx="3473280" cy="33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7560" y="80028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Agency for Healthcare Research and Quality (AHRQ) Tools</a:t>
            </a:r>
            <a:br>
              <a:rPr sz="3400"/>
            </a:b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580920" y="2057040"/>
            <a:ext cx="48085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Medical Care with Scarce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ed Standards of Care in Mass Casualty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C8E3-5BCF-4942-BF56-F7E41DFCCC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5" descr="j0286068"/>
          <p:cNvPicPr/>
          <p:nvPr/>
        </p:nvPicPr>
        <p:blipFill>
          <a:blip r:embed="rId1"/>
          <a:stretch/>
        </p:blipFill>
        <p:spPr>
          <a:xfrm>
            <a:off x="914400" y="2133720"/>
            <a:ext cx="23922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tered Standards of Ca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21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did we need to know to develop plans that provided an effective and fair medical response to a mass casualty event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re there key principles that professionals had agreed upon that should inform our planning for mass casualty event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were the critical issues that we needed to consider and address in planning for the provision of health and medical care  in a mass casualty ev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20A0-9E6E-401C-9554-1F38695942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ss Medical Care with Scarce Resour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5943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hospit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and Acut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Care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lliativ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12BE-53F0-4BF9-ADA1-205008FC3D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5" descr="j0186002"/>
          <p:cNvPicPr/>
          <p:nvPr/>
        </p:nvPicPr>
        <p:blipFill>
          <a:blip r:embed="rId1"/>
          <a:stretch/>
        </p:blipFill>
        <p:spPr>
          <a:xfrm>
            <a:off x="5334120" y="2590920"/>
            <a:ext cx="28177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ss Medical Care with Scarce Resour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69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 framework utilized by Scarce Resource Alloca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d local public health agencies to utilize the tool in their discussions with their local emergency planning committ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d the mass medical care tool to inform discussions with representatives of the trial attorneys assoc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1967-FE81-4910-AF78-FBA139C7A0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ning Outcom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74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ilator-Allocation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wide Emergency Medical Services Work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-Departmental Statute &amp; Regulations Work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emic “grief” training for managers and supervi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 of a statewide ethics consort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DBC0-E79A-4571-8BFD-0A94F792E2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lleng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ring outcomes created with tools to rural Missouri set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buy-in from non-public health state partners 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public awareness regarding the limitations of the health car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diatric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8A2A-6B85-4E54-8799-C0B5781C33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ll Question #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16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hort poll will appear on your screen.  Please take a few seconds to share your feedback with AHRQ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are unable to respond to the poll during this event, please e-mail your answer to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emergencypreparedness@academyhealth.org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7056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4B58-BEF2-4A5F-AD91-6B7462654D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3124080"/>
            <a:ext cx="8991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128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 Fe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ltman Hos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 of Safety and Emergenc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ron Regional Hospital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cy Management Chai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1C92-2155-44CE-B23F-7E91010651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6765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ventorying Emergency Preparedness Resources: A Regional Approach to Resourc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mergency Preparedness Resource Inventory Tool (EPRI) Description and Us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RI is an internet-based tool enabling first responders, healthcare and private / public entities the ability to compile an inventory of critical resources via a public domain database to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flexible access to inventory data via a webs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the ability to make emergency requests and tabulate respon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s reports on quantity, location, discipline and availabi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s ASPR (Assistant Secretary for Preparedness and Response) guidelines for tracking of grant funded purch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0B16-F7EE-4CCD-970C-DAE17CAD6F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stion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1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ose a question to the Panelists, please post it in the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Q&amp;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el on the right hand side of your screen and press se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and or decrease the size of any panel on the right hand side of your screen, click the arrow shape in the upper-left corner of the pan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pose a question to WebEx’s technical support, you can also post it in that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Q&amp;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nel and press send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you can d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1-866-229-3239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4688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5EA4-62C0-410C-91B8-ACC51BEEA7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5704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onal Implement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-432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cation of a region-wide 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blished objectives with attainable deadli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of a multidisciplinary committ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onal Coordinators, Emergency Management Agencies (EMA), Public Health, Hospit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of various resource management tools or response tools with included resource management components over a 9 month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 evaluated on the following crite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ford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iz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Suppor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7920" indent="-36864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2DD0-9631-40BF-88A3-F444120189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onal Implementation Cont’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d EPRI as the emergency resource tool of choice based on the following crite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cost while existing contracts are in pl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b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(internet) hos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back up information and hosting site redunda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 protected with various user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ong reporting capabilities for all discip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MS (National Incident Management System) compli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able and able to integrate with various file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 ended infrastructure for mapping tie-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 tech support while under con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F4D4-CD33-4950-A1C0-33F0179BE9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onal Implementation Cont’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4661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ed findings to regional steering committee for approval to move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d workgroups within specific disciplines to identify resources fo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care – All ASPR funded purchases over $250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 Health – All CDC (Center for Disease Control) funded purchases over $250.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A – All NIMS identified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ed with Abt Associates to develop training modules and user man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region specific standard operating procedures and guidelines and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ed with Abt Associates to load initial data such as demographics and 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A601-80BD-4DC5-B9D3-BC72901359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6201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ional Implementation Cont’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21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ed a  pilot group to use for a 1 month period in order to identify operational opportunities for impr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lot test group consisted of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Hospi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Health Depart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E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lot group evaluations to be completed by December 1, 2008. A full report to the regional steering committee during the December me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 media campaign to begin December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2008 in order to spark interest and engagement among various discipline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8458200" y="6400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4F8-75E5-4971-A6B3-7E21FF56A9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Pla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690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quarter of 2009 all 33 regional hospitals will go live with EPR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ge to be tied back to ASPR funding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Health to be on-line by mid-summer of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s to be brought on-line as demand exi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PRI effectively in 2009 regional exerci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EPRI to all county emergency operations centers within the reg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D2E9-CE93-43F5-A940-850BB59D2C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Plans Cont’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690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ith regional fire and police entities to provide data or pull data from the State of Ohio response pl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implementation assistance to other Ohio regions, so all state healthcare organizations have access to, and provide data for, EPR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collaboratively with adjacent state regions to develop a multi-state EPRI t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 to promote the implementation and usage of EPRI to all interested pa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D8B8-806C-4AE6-9C36-A7C05ECE1E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ing “Resource Silo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overstepping the EMA’s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output at a regional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ion of grant f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D813-CC85-4FFC-805A-6C793F4C16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rategi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e to provide a secure method of data input, tracking and report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ss importance of EPRI being a tool to assist EMAs in resource identification and acquisi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inue to engage regional participants through projects that benefit individual ent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nk long term when developing regional based tools and how they will be fund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key contacts and “system owners” that are funded by the region or have region interests in min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90E7-29BE-4751-A631-FC2F250CB9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ll Question #3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2976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short poll will appear on your screen.  We appreciate your feedback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are unable to respond to the poll during this event, please e-mail your answer to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emergencypreparedness@academyhealth.or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193D-CD6D-474B-83C0-493F6CB027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&amp;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f you have a question for any of today’s presenters, Terri Gill, Nancie McAnaugh, or Christian Feller, please type it into the </a:t>
            </a:r>
            <a:r>
              <a:rPr b="0" i="1" lang="en-US" sz="3400" spc="-1" strike="noStrike">
                <a:solidFill>
                  <a:srgbClr val="ffff00"/>
                </a:solidFill>
                <a:latin typeface="Arial"/>
              </a:rPr>
              <a:t>Q&amp;A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panel to the right and press send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7056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CC3A-BDAA-4D07-8EE0-1E84F71D3B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,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indy DiBias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ing and Preparing Alternate Care Sites,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Terri Gi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 Allocation in an Emergency,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Nancie McAnaug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orying Emergency Preparedness Resources,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Christian Fe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8CCB-DE48-484A-925C-47C202E58B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xt Webcast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Health Emergency Preparedness: Planning and Practicing for a Disas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ter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more go to the Webcast Web page at: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academyhealth.org/knowledgetransfer/EPWebcast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836C-8099-465F-9337-DFC087DE87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For more information about….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day’s event including a recording and transcript, go to: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ahrq.gov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/prep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’s suite of emergency preparedness tools, go to: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http://www.ahrq.gov/prep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blic Health Emergency Preparedness: Planning and Practicing for a Disas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please visit our Web site at: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www.academyhealth.org/knowledgetransfer/EPWebcasts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question regarding future Webcasts or utilizing AHRQ tools please e-mail us at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7"/>
              </a:rPr>
              <a:t>emergencypreparedness@academyhealth.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CDC7-2FC4-4E06-9F76-025F488441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rief feedback form will pop up when you close your browser. Please take a few moments to give us your feedback on today’s e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70560" y="640080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DFF2-7C2B-4DD5-A04F-EA287C26BE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560" y="3429000"/>
            <a:ext cx="838188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ri G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ior Emergency Services Coordin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cy Preparedness Off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Department of Public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9A06-CF8F-44F0-8D7B-76AC746911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17524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dentifying and Preparing Government Authorized Alternate Care Sites in Califo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lifornia Surge Standards and Guidelines Projec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rge Standards and Guidelines Proje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ed a broad group of stakeholders and interested parties to develop comprehensive guidelines and standards for surge capacity plann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749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standards and guidelines that would serve as the basis for emergency planning and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B661-D3C7-46CA-BDE1-71767545AB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lternate Care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focus of the Surge Standards and Guidelines Project was to look beyond hospitals for surge capa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d Alternate Cares Sites (ACSs) to reflect the legal requirements and operational needs for the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overnment-authorized ACS is a location not currently providing healthcare servi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atient and inpatient care will va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specific sites are not part of the assets of an existing fac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E787-132E-4B19-A3FA-2C4A903C1F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3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Rocky Mountain Regional Care Mod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138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cky Mountain Regional Care Model for Bioterrorist Events was used to identify areas to focus on to plan for surge in Alternate Care Sites includ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 Se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oritized components to determine which items were critical and which could be reasonably accommoda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del helped us to develop tools specific to Califor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763120" y="6400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D7D4-249A-4DCA-B77A-480BFA1F90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lifornia’s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6904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ifornia’s definitions are based on an operational approach to surge planning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s recognize that all licensed healthcare facilities and expansions of such facilities must operate under existing/modified statutory and regulatory standards and that government authorized alternate care sites are not governed by these statutes and regul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61048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DC16-5D7B-48FC-999B-FD7E54DF7B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7:59:45Z</dcterms:created>
  <dc:creator>JDeLaMar</dc:creator>
  <dc:description/>
  <dc:language>en-US</dc:language>
  <cp:lastModifiedBy>kgriffith</cp:lastModifiedBy>
  <dcterms:modified xsi:type="dcterms:W3CDTF">2008-11-04T19:14:09Z</dcterms:modified>
  <cp:revision>110</cp:revision>
  <dc:subject/>
  <dc:title>Nine States Use AHRQ QIs for Public Hospital Reporting</dc:title>
</cp:coreProperties>
</file>