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873-FE62-4578-9D7C-85BFABC7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32D-740F-4EB6-B897-B493FB55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443-3538-4E64-928E-9BA0E027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D86-7199-433F-8AF4-2248D244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BBA-3464-4897-874B-9E75922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BD8-5A2A-4379-A439-17488A56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4D7-6D32-4E3A-9594-9A38D3A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BC5-A2E8-433A-8774-52A4CD7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534-13F8-490B-87EA-83427048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859-2DA8-425E-AF66-D6F5EFF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479-7B17-4802-8B5F-E384C1B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CFF-12C5-4A84-8C4A-A7CE0E16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170C-2567-4D3F-B663-7A0EEDD89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70F9-7ED6-4948-8172-9AA693006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C32-7241-4631-8F47-979F8D4AE8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5CE-4890-431D-8C08-4E95087464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E6F-BEB2-41AC-BB81-3C9F7D9323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27C-1D61-490C-84D9-9F95CE120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E04-014E-4E4D-8936-218544E28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D2E-18AB-426E-A29E-13760262B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57E-DF07-415A-A53D-667919385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5"/>
          <p:cNvGrpSpPr/>
          <p:nvPr/>
        </p:nvGrpSpPr>
        <p:grpSpPr>
          <a:xfrm>
            <a:off x="1293840" y="152280"/>
            <a:ext cx="6402240" cy="6469200"/>
            <a:chOff x="1293840" y="152280"/>
            <a:chExt cx="6402240" cy="646920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>
              <a:off x="1293840" y="152280"/>
              <a:ext cx="6402240" cy="45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"/>
            <p:cNvPicPr/>
            <p:nvPr/>
          </p:nvPicPr>
          <p:blipFill>
            <a:blip r:embed="rId2"/>
            <a:srcRect l="0" t="19673" r="0" b="0"/>
            <a:stretch/>
          </p:blipFill>
          <p:spPr>
            <a:xfrm>
              <a:off x="1293840" y="2940480"/>
              <a:ext cx="6402240" cy="36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2D1-3869-4B03-A1EE-9AB10CEF8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777960" y="76320"/>
            <a:ext cx="7467480" cy="6637320"/>
            <a:chOff x="777960" y="76320"/>
            <a:chExt cx="7467480" cy="6637320"/>
          </a:xfrm>
        </p:grpSpPr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777960" y="76320"/>
              <a:ext cx="7467480" cy="51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"/>
            <p:cNvPicPr/>
            <p:nvPr/>
          </p:nvPicPr>
          <p:blipFill>
            <a:blip r:embed="rId2"/>
            <a:srcRect l="0" t="46016" r="0" b="0"/>
            <a:stretch/>
          </p:blipFill>
          <p:spPr>
            <a:xfrm>
              <a:off x="777960" y="3919320"/>
              <a:ext cx="7467480" cy="279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D27-0896-448C-8F2B-B5EBE98419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1"/>
          <p:cNvGrpSpPr/>
          <p:nvPr/>
        </p:nvGrpSpPr>
        <p:grpSpPr>
          <a:xfrm>
            <a:off x="2743200" y="152280"/>
            <a:ext cx="3624120" cy="6553440"/>
            <a:chOff x="2743200" y="152280"/>
            <a:chExt cx="3624120" cy="655344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0" t="0" r="0" b="12158"/>
            <a:stretch/>
          </p:blipFill>
          <p:spPr>
            <a:xfrm>
              <a:off x="2743200" y="152280"/>
              <a:ext cx="3624120" cy="22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"/>
            <p:cNvPicPr/>
            <p:nvPr/>
          </p:nvPicPr>
          <p:blipFill>
            <a:blip r:embed="rId2"/>
            <a:srcRect l="0" t="13596" r="0" b="0"/>
            <a:stretch/>
          </p:blipFill>
          <p:spPr>
            <a:xfrm>
              <a:off x="2743200" y="2430360"/>
              <a:ext cx="362412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"/>
            <p:cNvPicPr/>
            <p:nvPr/>
          </p:nvPicPr>
          <p:blipFill>
            <a:blip r:embed="rId3"/>
            <a:srcRect l="0" t="14644" r="0" b="0"/>
            <a:stretch/>
          </p:blipFill>
          <p:spPr>
            <a:xfrm>
              <a:off x="2743200" y="4492080"/>
              <a:ext cx="3624120" cy="22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8AB-8BC6-435F-A971-8C30418A1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4:36:11Z</dcterms:created>
  <dc:creator> </dc:creator>
  <dc:description/>
  <dc:language>en-US</dc:language>
  <cp:lastModifiedBy>Denise Dougherty</cp:lastModifiedBy>
  <dcterms:modified xsi:type="dcterms:W3CDTF">2009-10-21T13:13:35Z</dcterms:modified>
  <cp:revision>8</cp:revision>
  <dc:subject/>
  <dc:title>Slide 1</dc:title>
</cp:coreProperties>
</file>