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A1B-997B-40FB-BA46-A5D836A1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922-5AE3-452D-8250-F728B6AA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4551-F71B-4263-A840-061F6F90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289-F0D0-4016-AD4E-A09C026F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871B-23F5-4149-98AF-5888786E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8A6-06C9-43FC-A530-F30228DC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7B2-0B75-4FAC-BA06-B82DCFFC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352-5547-4656-801D-56833285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789B-F086-4AB2-BDE8-3E48A075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7E1-D41B-4BE7-88F1-2FCB8000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141-A11F-4CA5-9452-2D723717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F96-D140-4CBF-8F8E-A3F19BCA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7FA5-6DAD-4440-80A2-35245DF737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32D5-5481-46FB-A2C3-D9A467A73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8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77D-5F24-4311-8464-217F5EDD32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8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509-95FB-4DE4-ADE1-26B8EF98DB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8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681-A40A-4D8E-AEFF-71085146CA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8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8F9-BE56-4402-89DF-EFACAB5AB6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8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155-2735-4824-8EE4-DEBF2F96F3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8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1D6-CE0B-4B3C-8225-03B6265430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88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84B-CB90-41A6-BE4F-673027F09B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5"/>
          <p:cNvGrpSpPr/>
          <p:nvPr/>
        </p:nvGrpSpPr>
        <p:grpSpPr>
          <a:xfrm>
            <a:off x="1293840" y="152280"/>
            <a:ext cx="6402240" cy="6469200"/>
            <a:chOff x="1293840" y="152280"/>
            <a:chExt cx="6402240" cy="6469200"/>
          </a:xfrm>
        </p:grpSpPr>
        <p:pic>
          <p:nvPicPr>
            <p:cNvPr id="48" name="Picture 2" descr=""/>
            <p:cNvPicPr/>
            <p:nvPr/>
          </p:nvPicPr>
          <p:blipFill>
            <a:blip r:embed="rId1"/>
            <a:stretch/>
          </p:blipFill>
          <p:spPr>
            <a:xfrm>
              <a:off x="1293840" y="152280"/>
              <a:ext cx="6402240" cy="45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3" descr=""/>
            <p:cNvPicPr/>
            <p:nvPr/>
          </p:nvPicPr>
          <p:blipFill>
            <a:blip r:embed="rId2"/>
            <a:srcRect l="0" t="19673" r="0" b="0"/>
            <a:stretch/>
          </p:blipFill>
          <p:spPr>
            <a:xfrm>
              <a:off x="1293840" y="2940480"/>
              <a:ext cx="6402240" cy="368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CBE-C26F-4C12-8DAF-7BF7AE7F2E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5"/>
          <p:cNvGrpSpPr/>
          <p:nvPr/>
        </p:nvGrpSpPr>
        <p:grpSpPr>
          <a:xfrm>
            <a:off x="777960" y="76320"/>
            <a:ext cx="7467480" cy="6637320"/>
            <a:chOff x="777960" y="76320"/>
            <a:chExt cx="7467480" cy="6637320"/>
          </a:xfrm>
        </p:grpSpPr>
        <p:pic>
          <p:nvPicPr>
            <p:cNvPr id="51" name="Picture 2" descr=""/>
            <p:cNvPicPr/>
            <p:nvPr/>
          </p:nvPicPr>
          <p:blipFill>
            <a:blip r:embed="rId1"/>
            <a:stretch/>
          </p:blipFill>
          <p:spPr>
            <a:xfrm>
              <a:off x="777960" y="76320"/>
              <a:ext cx="7467480" cy="51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3" descr=""/>
            <p:cNvPicPr/>
            <p:nvPr/>
          </p:nvPicPr>
          <p:blipFill>
            <a:blip r:embed="rId2"/>
            <a:srcRect l="0" t="46016" r="0" b="0"/>
            <a:stretch/>
          </p:blipFill>
          <p:spPr>
            <a:xfrm>
              <a:off x="777960" y="3919320"/>
              <a:ext cx="7467480" cy="279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FD9-579B-4C71-966C-170C0CB8C6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1"/>
          <p:cNvGrpSpPr/>
          <p:nvPr/>
        </p:nvGrpSpPr>
        <p:grpSpPr>
          <a:xfrm>
            <a:off x="2743200" y="152280"/>
            <a:ext cx="3624120" cy="6553440"/>
            <a:chOff x="2743200" y="152280"/>
            <a:chExt cx="3624120" cy="6553440"/>
          </a:xfrm>
        </p:grpSpPr>
        <p:pic>
          <p:nvPicPr>
            <p:cNvPr id="54" name="Picture 9" descr=""/>
            <p:cNvPicPr/>
            <p:nvPr/>
          </p:nvPicPr>
          <p:blipFill>
            <a:blip r:embed="rId1"/>
            <a:srcRect l="0" t="0" r="0" b="12158"/>
            <a:stretch/>
          </p:blipFill>
          <p:spPr>
            <a:xfrm>
              <a:off x="2743200" y="152280"/>
              <a:ext cx="3624120" cy="22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8" descr=""/>
            <p:cNvPicPr/>
            <p:nvPr/>
          </p:nvPicPr>
          <p:blipFill>
            <a:blip r:embed="rId2"/>
            <a:srcRect l="0" t="13596" r="0" b="0"/>
            <a:stretch/>
          </p:blipFill>
          <p:spPr>
            <a:xfrm>
              <a:off x="2743200" y="2430360"/>
              <a:ext cx="3624120" cy="224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7" descr=""/>
            <p:cNvPicPr/>
            <p:nvPr/>
          </p:nvPicPr>
          <p:blipFill>
            <a:blip r:embed="rId3"/>
            <a:srcRect l="0" t="14644" r="0" b="0"/>
            <a:stretch/>
          </p:blipFill>
          <p:spPr>
            <a:xfrm>
              <a:off x="2743200" y="4492080"/>
              <a:ext cx="3624120" cy="221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F9B4-A476-4D28-B64F-4B61EC467D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4:36:11Z</dcterms:created>
  <dc:creator> </dc:creator>
  <dc:description/>
  <dc:language>en-US</dc:language>
  <cp:lastModifiedBy>Denise Dougherty</cp:lastModifiedBy>
  <dcterms:modified xsi:type="dcterms:W3CDTF">2009-10-21T13:13:35Z</dcterms:modified>
  <cp:revision>8</cp:revision>
  <dc:subject/>
  <dc:title>Slide 1</dc:title>
</cp:coreProperties>
</file>