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E0A-73AF-4C99-8006-98A26ABB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EC8-FD33-4283-83F2-260EEE04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B1A-8AC9-4A1C-9374-FE861ADC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B7F-530F-4706-B2F9-28252449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1A0B-602D-4638-9C4B-F23248A1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866F-B3F4-4B92-9FB2-F8D74F4A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A6D5-2662-4981-A058-3DC64193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24CD-6D4C-4617-9212-1F78EC05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20D9-CACE-4809-84C6-FC6FA640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765A-56EC-4AF5-A14D-15D82591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90A3-F19D-4F24-97DD-20B4CB9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86D-F38C-4CE0-B53F-6EEFB7C5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0B4D-3CCB-4EC9-8B95-350DC175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2A44-C8F4-4E17-8225-AFBCE646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D26D-F7F8-4901-AB22-F7F94E6F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84F0-7883-4645-9497-9191EE45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99C0-88E7-411A-A0E3-E2C68DA0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073-C966-47F5-92B6-0D75D46C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10C-D8EB-48AE-9FA7-A09D75A8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E56-747C-474D-A4F6-E5EFD66D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348-1F01-45AD-A017-68D73418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B83-2C5E-4BF7-883D-BC3C4BDE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D5A-EDE3-4C36-8E36-7EE36769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4CB-2DFF-4C9E-BFE0-2BCDD7E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4DFC-A46A-4FC2-807B-EEEA829ED3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5E88-FE7A-472B-B49F-73ACE1B4D3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ccp.org/profiles/index_32.html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HRQ National Advisory Council on Healthcare Research and Quality Subcommittee on Children’s Healthcare Quality Measures for Medicaid and CHIP Programs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8960" y="39625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ta Mangione-Smith and Jeffrey Sch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7 &amp; 18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nsus on Criteria 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e assesses an aspect of health care where there are known disp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e set should represent a balanced portfolio of measures and be consistent with the intent of the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on performance for the core set of measures should have the potential to transform care for our Nation’s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nsus on Criteria 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measures recommended for inclusion in  the core s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vel of scientific evidence supporting the measure will be re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USPSTF grades A, B, C, or I; Level I, II, I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vel of expected burden for obtaining the data needed to score the measure will be re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, moderate, hi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lphi Scoring Process Completed by Subcommittee Membe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5800" y="1800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scored on a 9-point 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-9 Measure definitely valid, feasible, and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6 Measure has uncertain validity, feasibility, or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3 Measure is not valid, feasible, or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with a Validity scor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7 p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with Feasibility and Importance sco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4 p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lphi Round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mpleted at July 2009 me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ed validity, feasibility, and importance of measure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n u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State Medicaid and CHIP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lphi Scoring Process Completed by Subcommittee Membe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lphi Round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mpleted, Monday September 1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reparation for second mee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 groups of measures were asses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that had passing scores for validity, feasibility, and importance in Delphi Round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that were judged to be “controversial” during scoring for validity and feasibility in Delphi Rou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identified through environmental scans but that were not included on the original list of measures scored during Delphi Round 1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nominated by SNAC members, Federal partner agencies, and the public, between July 24th and August 24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65/121 Measures Passed Delphi Round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on and Health Promotion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Acute Conditions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/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Chronic Conditions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Experiences with Care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tegrated Health Care Systems: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Services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Status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Enrollment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Meeting 9/17-9/18: Goal is to identify a parsimonious, core, grounded, and balanced set of measures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 meas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d Delphi Round 2 and will be discussed for final inclusion at the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ing grid developed to track the following constru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g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vered by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spariti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n performance on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tes/Typ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f care addressed by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pects of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re Continuum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ddressed by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g. Outpatient, Inpatient, Mental Health, De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pects of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stem Continuum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ddressed by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g. Structure, Process, Outcomes, Effici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ypes of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tities Us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g. Medicaid programs, health plans, clinics/providers, research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ta Sourc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g. Administrative, Medical Records, Surve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Process for this Meeting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mination and VFI proc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VFI = Validity, feasibility, and importanc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 interval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 to select only one of “nearly same”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Process for this meeting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u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and confirm “domains” on the balancing 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ffirm the concepts of a “core, grounded, parsimonious” set of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measures by legislative category (e.g prevention, health promotion – PH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k order within each category or subcateg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ain top 33% in each categ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this set on the balancing grid after the meeting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Process for this meeting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a unified “whol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balancing grid from Thurs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and acknowledge h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te/rank remaining measures as a whole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n the balancing grid for varying numbers of measures (10-15-20-2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number for a parsimonious s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te for a set by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group comments about the nominated core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Picture 7" descr="Chip 5 13 0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tential Impact of Core Measures Identification Work: 48% of America’s Children Under 19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  AHRQ based on:  Coverage estimates:  Based on 2008 national participant and spending data derived from CMS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. Census Current Population Survey data sources, reported in National Center on Children in Poverty, </a:t>
            </a:r>
            <a:r>
              <a:rPr b="0" lang="en-US" sz="1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nccp.org/profiles/index_32.html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P estimates are for number of children in separate SCHIP programs.  Medicaid estimates include children in Medicaid SCHIP program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verage estimates reflect Medicaid and CHIP enrollees whether or not they received health care services. Total number of children under 19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polated from U.S. Census Bureau figures for number of children 17 and under (73.9 million) and 19 and under (83 million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954000" y="1371600"/>
          <a:ext cx="7074000" cy="4529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0" y="1371600"/>
                    <a:ext cx="70740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r char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re set of measures that when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N TOGETHER – USED TO ESTIMATE THE OVERALL NATIONAL QUALITY OF HEALTH CARE FOR CHILDRE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nceptual Framework – Guiding Determination of the Scope for Core Measurement Se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ound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mediate 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spir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n towards recommending more grounded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ound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0-25, currently feasible, many already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mediate categ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#?, good specifications, some States already using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piratio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needed measures to fill in the g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cope for Core Measurement Se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realistic about staffing/funding needs for collecting/analyzing/reporting availab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ehensive effort to find good measures for all service categories, duration of enrollment, and other aspects of care required by the legislation; however, if no good measures currently exist for a given aspect of care, a measure will not be recommended for the core 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 measures not currently used by Medicaid/C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tate and national measurement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ose measures that are acti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be clear steps a State, plan, or provider can take to improve on performance – the measure should inform what these steps need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nsus on Criteria 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must be supported by scientific evidence or, where evidence is insufficient, by expert consens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must support a link betwe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and outcomes of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and processes of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 and outcomes of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asure must represent an aspect of care that is under the control of health care providers an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asure should truly assess what it purports to mea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supported by evidence from unpublished data should be considered for i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nsus on Criteria 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necessary to score the measure must be available to State Medicaid and CHIP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data, medical records data, surve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specifications must be available for the measure that allow for reliable and unbiased scoring of the measure across State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nsus on Criteria 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sure should be acti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the condition to the Nation should be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systems are clearly accountable for the quality problem assessed by th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ent of the quality problem should be substa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be documented variation in performance on th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sure should be representative of a class of quality problems:  “sentinel measure” of quality of care provided for preventive care, mental health care, or dental car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9:54:35Z</dcterms:created>
  <dc:creator>PWJSS01</dc:creator>
  <dc:description/>
  <dc:language>en-US</dc:language>
  <cp:lastModifiedBy>DHHS</cp:lastModifiedBy>
  <dcterms:modified xsi:type="dcterms:W3CDTF">2009-10-19T16:09:31Z</dcterms:modified>
  <cp:revision>19</cp:revision>
  <dc:subject/>
  <dc:title>AHRQ National Advisory Council on Healthcare Research and Quality Subcommittee on Children’s Healthcare Quality Measures for Medicaid and CHIP Programs </dc:title>
</cp:coreProperties>
</file>