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B0A-A360-4FFD-B35F-25ED480D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1A4-2021-4927-8BAC-7FC8D373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05D-DF5F-4EFE-B213-4B10D24C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48F-BD66-4625-848D-92B38BAF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3DD-453D-47F3-9DCF-E43FE223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B94-1E34-478D-8FB9-83642ECA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5B6F-68AA-49CD-AADF-2C6B4FA3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DD62B-537E-4225-8239-FDF06B4C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828E-5C78-4A93-BA59-C3F81CC0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CF8-2699-4755-9D6D-AF51246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6DA-894A-491A-8A66-BBC7E10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4E6-BFE1-498A-8A23-56EF6CC6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A719-9C08-47E7-A54F-23D4CCC7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DA78-2B17-4C1D-B240-7661B86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FE3D-AC71-4D33-BEA4-2A7B34D7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F150-7734-45F9-95AB-DEB88E4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44DF-CB75-4E98-8BC9-146F40F5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D28-9530-44E9-8C43-AEA92CE6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1F95-219B-4987-9136-38376C32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1BF-CE33-473B-B14A-B9D278B6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472-E38C-4D85-8E81-D7763879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506B-452D-41DC-863A-7B647616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791-D337-481A-A097-CAFE42B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3E5-6E00-4D8E-996C-DE4CD10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2556-87F1-4770-B90E-586A8D737F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07FC-38FE-45BF-A511-3822C09A44F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cp.org/profiles/index_32.html" TargetMode="External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AHRQ National Advisory Council on Healthcare Research and Quality Subcommittee on Children’s Healthcare Quality Measures for Medicaid and CHIP Programs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89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ta Mangione-Smith and Jeffrey Sc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7 &amp; 18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sure assesses an aspect of health care where there are known dispa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e set should represent a balanced portfolio of measures and be consistent with the intent of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on performance for the core set of measures should have the potential to transform care for our Nation’s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ll measures recommended for inclusion in  the core s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vel of scientific evidence supporting the measure will be 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USPSTF grades A, B, C, or I; Level I, II, I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vel of expected burden for obtaining the data needed to score the measure will be repor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, moderate, hi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phi Scoring Process Completed by Subcommittee Membe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5800" y="1800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scored on a 9-point s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-9 Measure definitely valid, feasible,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6 Measure has uncertain validity, feasibility, or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3 Measure is not valid, feasible, or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with a Validity scor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7 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with Feasibility and Importance sco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4 p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phi Round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ted at July 2009 mee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ed validity, feasibility, and importance of measures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n 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State Medicaid and CHIP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lphi Scoring Process Completed by Subcommittee Member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phi Round 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mpleted, Monday September 1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reparation for second meet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 groups of measures were asses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at had passing scores for validity, feasibility, and importance in Delphi Round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that were judged to be “controversial” during scoring for validity and feasibility in Delphi Roun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identified through environmental scans but that were not included on the original list of measures scored during Delphi Round 1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nominated by SNAC members, Federal partner agencies, and the public, between July 24th and August 24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65/121 Measures Passed Delphi Round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 and Health Promotion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7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Acute Condition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/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of Chronic Conditions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Experiences with Care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grated Health Care Systems: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Services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Status: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 of Enrollment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Meeting 9/17-9/18: Goal is to identify a parsimonious, core, grounded, and balanced set of measures</a:t>
            </a: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 measu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ssed Delphi Round 2 and will be discussed for final inclusion at the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ing grid developed to track the following constr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g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ver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spariti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in performance on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ites/Typ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f care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s of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re Continuum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Outpatient, Inpatient, Mental Health, Dent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pects of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stem Continuum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addressed by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Structure, Process, Outcomes, Effici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tities Us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Medicaid programs, health plans, clinics/providers, researche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ata Source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 the meas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Administrative, Medical Records, Surve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mination and VFI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VFI = Validity, feasibility, and importanc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view interva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to select only one of “nearly same”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u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and confirm “domains” on the balancing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ffirm the concepts of a “core, grounded, parsimonious” set of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measures by legislative category (e.g prevention, health promotion – PH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k order within each category or sub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ain top 33% in each categ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this set on the balancing grid after the meeting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Process for this meet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a unified “whol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balancing grid from Thurs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and acknowledge ho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/rank remaining measures as a whol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n the balancing grid for varying numbers of measures (10-15-20-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the number for a parsimonious s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te for a set by 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group comments about the nominated cor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Picture 7" descr="Chip 5 13 08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otential Impact of Core Measures Identification Work: 48% of America’s Children Under 19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s:   AHRQ based on:  Coverage estimates:  Based on 2008 national participant and spending data derived from CMS an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.S. Census Current Population Survey data sources, reported in National Center on Children in Poverty, </a:t>
            </a:r>
            <a:r>
              <a:rPr b="0" lang="en-US" sz="1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nccp.org/profiles/index_32.html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P estimates are for number of children in separate SCHIP programs.  Medicaid estimates include children in Medicaid SCHIP programs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verage estimates reflect Medicaid and CHIP enrollees whether or not they received health care services. Total number of children under 19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polated from U.S. Census Bureau figures for number of children 17 and under (73.9 million) and 19 and under (83 million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954000" y="1371600"/>
          <a:ext cx="7074000" cy="4529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0" y="1371600"/>
                    <a:ext cx="70740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r char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re set of measures that when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N TOGETHER – USED TO ESTIMATE THE OVERALL NATIONAL QUALITY OF HEALTH CARE FOR CHILDRE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nceptual Framework – Guiding Determination of the Scope for Core Measurement Se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ound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mediate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spirat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n towards recommending more grounded meas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ound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0-25, currently feasible, many already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mediate categ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#?, good specifications, some States already using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pirat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needed measures to fill in the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cope for Core Measurement Se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realistic about staffing/funding needs for collecting/analyzing/reporting availabl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rehensive effort to find good measures for all service categories, duration of enrollment, and other aspects of care required by the legislation; however, if no good measures currently exist for a given aspect of care, a measure will not be recommended for the core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measures not currently used by Medicaid/C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e and national measurement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ose measures that are act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4190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clear steps a State, plan, or provider can take to improve on performance – the measure should inform what these steps need to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alid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must be supported by scientific evidence or, where evidence is insufficient, by expert consens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must support a link betwe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and outcom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and process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 and outcomes of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must represent an aspect of care that is under the control of health care providers an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easure should truly assess what it purports to mea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s supported by evidence from unpublished data should be considered for i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necessary to score the measure must be available to State Medicaid and CHIP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ata, medical records data, surve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specifications must be available for the measure that allow for reliable and unbiased scoring of the measure across States and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ensus on Criteria 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should be acti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the condition to the Nation should be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lth care systems are clearly accountable for the quality problem assessed by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tent of the quality problem should be substa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should be documented variation in performance on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should be representative of a class of quality problems:  “sentinel measure” of quality of care provided for preventive care, mental health care, or dental car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9:54:35Z</dcterms:created>
  <dc:creator>PWJSS01</dc:creator>
  <dc:description/>
  <dc:language>en-US</dc:language>
  <cp:lastModifiedBy>DHHS</cp:lastModifiedBy>
  <dcterms:modified xsi:type="dcterms:W3CDTF">2009-10-19T16:09:31Z</dcterms:modified>
  <cp:revision>19</cp:revision>
  <dc:subject/>
  <dc:title>AHRQ National Advisory Council on Healthcare Research and Quality Subcommittee on Children’s Healthcare Quality Measures for Medicaid and CHIP Programs </dc:title>
</cp:coreProperties>
</file>