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31840" y="691920"/>
            <a:ext cx="4595760" cy="34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30080" y="8803800"/>
            <a:ext cx="93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1C212AA-85BE-4AD1-8AE6-D862A7EFC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ministrative bu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779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IPRA Quality Measure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C Subcommittee 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13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Advisory Committee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leen Lohr, P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othy Brei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087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y Features of the SNAC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Proces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takeholders per CHIP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comment including public nominations of meas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d on measures in use per CHIP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-informed (per CHIPRA) SNAC Delphi processes June and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4120" y="2928960"/>
            <a:ext cx="2133360" cy="1646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1832040" cy="120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477120" y="4495680"/>
            <a:ext cx="24825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eptual Framework for Scope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Core Measurement Se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Ground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termediat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piration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nsus of the subcommittee to focus on choosing grounded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-25, currently feasible, many already in 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mediate categ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 = ?, good specifications, some states already using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pirat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eeded measures to fill in the g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ensus on Criteri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must b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upported by scientific ev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, where evidence is insufficient, b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ert 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must support a link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ucture to process to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asure must represent an aspect of care that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der the 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health care providers an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asure should tru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sess what it purports to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supported by evidence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published 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ould be considered for i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ensus on Criteri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ata necessary to score the measure must be available to state Medicaid and CHIP progr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8600" indent="-294840">
              <a:lnSpc>
                <a:spcPct val="9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ministrative data, medical records data, survey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858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ailed specifications must be available for the measure that allow for reliable and unbiased scoring of the measure across states and institu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ensus on Criteri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easure should be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ction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f the condition to the nation should be hig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care systems are clearly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ccountab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for the quality problem assessed by the meas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extent of the quality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roble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hould be substant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e should be documented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variati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 performance on the meas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easure should be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representa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f a class of quality problems:  “sentinel measure” of QOC provided for preventive care, mental health care, or dental care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ensus on Criteri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55840" indent="-27000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easure assesses an aspect of health care where there are known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dispar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55840" indent="-27000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ore set should represent a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balance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ortfolio of measures and be consistent with the intent of the legis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55840" indent="-27000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ing on performance for the core set of measures should have the potential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ransfor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are for our nation’s child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C Recommended Quality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114800"/>
            <a:ext cx="8915400" cy="18288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by </a:t>
            </a:r>
            <a:r>
              <a:rPr b="1" lang="en-US" sz="2400" spc="-1" strike="noStrike">
                <a:solidFill>
                  <a:srgbClr val="0000f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Arial"/>
              </a:rPr>
              <a:t>Ranking based on SNAC Priority Scor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Arial"/>
              </a:rPr>
              <a:t>Legislative Topic, Condition, Age Group, Setting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Arial"/>
              </a:rPr>
              <a:t>Source of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mended Topics by Rank (per SNAC priority score) (I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   Immunizations for 2 year-olds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   Frequency of ongoing prenatal care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   Emergency Department Utilization - Average number of emergency room visits per member per reporting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   Annual number of asthma patients (&gt; 1 year-old) with &gt; 1 asthma-related ER visit (S/AL Medicaid Progr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   Body Mass Index documentation 2-18 year olds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   Well-Child Visits (three NCQA measures): (1) first 15 months of life; (2) third, fourth, fifth and sixth years of life; (3) Adolesc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    Total eligibles receiving preventive dental services  (EPSDT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    Adolescent immunization (NCQA revised for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   HEDIS CAHPS 4.0 including supplements for children with chronic conditions and Medicaid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   Timeliness of prenatal care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mended Topics by Rank (per SNAC priority score) (II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live births weighing less than 2,500 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s of screening using standardized screening tools for potential delays in social and emotional develop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 care for children prescribed attention-deficit/hyperactivity disorder (ADHD) (Medication Continuation and Maintenance Phase – 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dental visit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 and adolescent Major Depressive Disorder (MDD) - suicide risk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hemoglobin A1C testing (all children and adolescents diagnosed with diabe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mended Topics by Rank (per SNAC priority score) (III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hlamydia screening 16-20 year-old females (NCQA  measur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llowup after hospitalization for mental illness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esarean rate for low-risk first birth wom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cess to primary care practitioners, by age and to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e of clinician &amp; group primary care CAHPS survey for practitioners participating in Medicaid and CHIP (CAHPS family of meas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EPSDT eligibles who received dental treatment services (EPSD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diatric catheter-associated blood stream infection rates (PICU/NIC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haryngitis: appropriate testing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Otitis media with effusion: avoidance of inappropriate use of systemic antimicrobi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IPRA – Title IV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517760"/>
            <a:ext cx="761976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ltiple Conditions Represented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280" y="1676520"/>
          <a:ext cx="8762760" cy="5029200"/>
        </p:xfrm>
        <a:graphic>
          <a:graphicData uri="http://schemas.openxmlformats.org/drawingml/2006/table">
            <a:tbl>
              <a:tblPr/>
              <a:tblGrid>
                <a:gridCol w="6850080"/>
                <a:gridCol w="19126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di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e conditions (e.g., vaccine-preventabl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gnancy and childbir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, emotional, mental health condi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per respiratory infec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ccine-preventable diseases (multipl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we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th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be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ually transmitted infec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able infection (e.g., vaccine-preventabl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asure Areas by CHIPRA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gislative Topi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57080" y="1725480"/>
          <a:ext cx="7243560" cy="4065480"/>
        </p:xfrm>
        <a:graphic>
          <a:graphicData uri="http://schemas.openxmlformats.org/drawingml/2006/table">
            <a:tbl>
              <a:tblPr/>
              <a:tblGrid>
                <a:gridCol w="5896080"/>
                <a:gridCol w="1347480"/>
              </a:tblGrid>
              <a:tr h="58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vention/health promo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anagement of acute condi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anagement of chronic condi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amily experiences of ca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vailability/a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uration of enrollment/cove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st integrated health care set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705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st Measures Focus on Prevention/Health Promotion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379520"/>
          <a:ext cx="8912160" cy="49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9520"/>
                    <a:ext cx="891216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st Measures Cross All or Most Age Group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1828800"/>
          <a:ext cx="8610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610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33520" y="548640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  SNAC voted to include all well-child visits (ages 15 mos-13 y) as one measur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inatal measures are for babies; they are not counted separately here 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olescent measur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 but One Measure is for Ambulatory Settings 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4920" y="1371600"/>
          <a:ext cx="8385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385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480" y="56386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 Ambulatory includes Emergency department; dental care; specialty c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pics by Data Sour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676520"/>
          <a:ext cx="76960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6960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828800" y="57150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  Admin = Admin only; Hybrid = admin + cha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irth + =  Medicaid enrollment plus birth certificate data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ther refers to 2 dental EPSDT measures.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Issues Identifie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y the SNAC (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644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ation of duration of enrollmen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ation of the denominator across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 of use of measures for the whole Medicaid/ CHIP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disparitie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Issues Identifie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y the SNAC (I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ty chai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ntegrated health care system (medical h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t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atient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 for substance 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health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of integration of care with services outside of the health car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ther Factors of Interest (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-56664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assessment and improvement for feder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surance) programs i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ard, com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ssues  are very bro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e.g., including dental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ntal health, prevention, populations, settings, etc ..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edicaid and CHIP programs differ marked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what they already do and likely can do at the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range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495720">
              <a:lnSpc>
                <a:spcPct val="85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le funding from their st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495720">
              <a:lnSpc>
                <a:spcPct val="85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data now and/or what is now reported to them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495720">
              <a:lnSpc>
                <a:spcPct val="85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health care systems that deliver care (managed care plans v mostly private practice or whate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495720">
              <a:lnSpc>
                <a:spcPct val="85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ized v. decentralized ways the programs are administered in different states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ther Factors of Interest (I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IPRA quality measurement activity is voluntary at the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epticism that things will stay that way and not become mand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NAC wanted to be careful about numbers of measures, complexity, and other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MS, AHRQ, NAC, and        Subcommittee Ro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2971800"/>
            <a:ext cx="1905120" cy="1143000"/>
          </a:xfrm>
          <a:prstGeom prst="rect">
            <a:avLst/>
          </a:prstGeom>
          <a:solidFill>
            <a:srgbClr val="8a04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rector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HR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447920"/>
            <a:ext cx="83059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ecretar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819520"/>
            <a:ext cx="5029200" cy="16002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HRQ National Advisory Counc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n Healthcare Research and Qual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886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876920"/>
            <a:ext cx="4267080" cy="1600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bcommittee on Children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althcare Quality Measures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caid and CHIP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35812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105520"/>
            <a:ext cx="350532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nters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dicare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dicaid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2590920"/>
            <a:ext cx="486000" cy="2509560"/>
          </a:xfrm>
          <a:prstGeom prst="upDownArrow">
            <a:avLst>
              <a:gd name="adj1" fmla="val 50000"/>
              <a:gd name="adj2" fmla="val 102796"/>
            </a:avLst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429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114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286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5486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0c0c0"/>
          </a:solidFill>
          <a:ln w="2844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ussion Questio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 on the recommended core set or the SNAC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el for the Subcommittees of the fu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 interest in next phases of AHRQ CHIPRA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00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Players for SNAC 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0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NAC Co-Chai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ffrey Schiff, MD, MBA Minnesota Department of Human Serv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ta Mangione-Smith, MD, MPH, University of Washing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HRQ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se Dougherty, PhD, Senior Advisor, Child Health and Quality Improv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C 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othy Brei, MD, FA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athleen Lohr, P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other ~ 20 experts from clinical, Medicaid, CHIP, quality measurement, research, and policy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2960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bcommittee Char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init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 health care quality measurement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Medicaid and CHIP progr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in doing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guidance on criteria for identification of initial cor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guidance on a strategy for identifying additional measures in use for consid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and apply criteria to compilation of measures currently in use by Medicaid/C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9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10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meline to January 1 Posting for Public Com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886200"/>
            <a:ext cx="8839080" cy="0"/>
          </a:xfrm>
          <a:prstGeom prst="line">
            <a:avLst/>
          </a:prstGeom>
          <a:ln w="250920">
            <a:solidFill>
              <a:srgbClr val="cc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705120"/>
            <a:ext cx="830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065480"/>
            <a:ext cx="830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36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15200" y="350496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1920" y="2359080"/>
            <a:ext cx="170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aw passed, CMS-AHRQ partnership establish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752480" y="356040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4240" y="370512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u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5280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r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416400"/>
            <a:ext cx="0" cy="28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4065480"/>
            <a:ext cx="0" cy="14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32280" y="370512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2720" y="426708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committee Meeting #2 (Septemb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35268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771640"/>
            <a:ext cx="163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committee Meeting #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160" y="37051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to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4065480"/>
            <a:ext cx="0" cy="43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62640" y="4508640"/>
            <a:ext cx="1257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sed draft to Secretary (Novemb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828800"/>
            <a:ext cx="126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rst full draft of initial core set for Federal re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16002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nal for posting (Dec. 1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67560" y="2603520"/>
            <a:ext cx="125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sions  if needed (Decemb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001000" y="251424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Points about Process (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45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major criteria for selection of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ically, preferred to leave an "empty chair" than to recommend quality measures that simply were too weak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ght breadth where poss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ght familiarity with or use of measures on part of Medicaid programs and/or SCHIP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ed nothing was going to be perfect  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Points about Process (I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amount of time AHRQ had to do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nse effort AHRQ staff and  the SNAC Co-Chairs over the summer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e involvement, interest, contributions of the people on the subcommittee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able collaboration and collegiality with a sister agency (namely CMS)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NAC Nomination and Scoring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measure 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 I – Validity and 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AC definition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sibility (with reli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of a “core, grounded, and parsimonious”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 measure no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phi II – V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k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v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AC ke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enise Dougherty</cp:lastModifiedBy>
  <cp:lastPrinted>2003-01-21T20:19:23Z</cp:lastPrinted>
  <dcterms:modified xsi:type="dcterms:W3CDTF">2009-11-13T12:49:23Z</dcterms:modified>
  <cp:revision>107</cp:revision>
  <dc:subject/>
  <dc:title>AHRQ Slide Template 2004</dc:title>
</cp:coreProperties>
</file>