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202CC-C351-4F72-8060-1C4DE533F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61FF2-5DED-4412-B9E0-C0635702A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EF6AB-CB6D-4AF3-9A9A-FFCE3F38E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268F7-0444-4852-924D-A170D4E9E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D6624-A44F-4B85-B687-615A95F12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E75C1-E42C-4FB8-9C24-A6501B06E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05D4C-5959-49F6-A811-58F6229BD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26D5D-1067-441B-B27F-025B6E80E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4622B-38AF-40A0-A6F7-991D5A09F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00DED-5706-4D1F-95E6-A6DAC3DBA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47DB7-85EB-4D2D-8B72-0F8F83BE0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D71F5-5667-41C4-8F7B-9A15F512F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74019-7825-428F-9E66-D230CBAC1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25557-C59B-48DF-A737-713D5C4B4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FABCC-1E55-4CD0-ADB9-D623DC3E3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CBF1D-BA06-4477-9F27-B10700289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36504-EAEE-4B5C-BAE2-620991A39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6482E-81BF-4C4A-A029-FD770AA3A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81A68-5DDA-4AF5-9AA8-480A86F63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A5D3F-5A3A-4C86-8B08-E9EC5951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EF459-7835-46C6-AD7F-AC35E64B4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E5384-A996-413C-8702-D11192D61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FC23-046F-419E-97A0-D577EB022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3E62A-1A7A-44C6-801F-20BCC06EA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chiff/Mangione-Smith AHRQ NAC present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607F-8621-4790-B348-B96E7F2A7AE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chiff/Mangione-Smith AHRQ NAC presentation</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04F3-F3AB-4ADB-80E5-206FB27371B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ccp.org/profiles/index_32.html" TargetMode="External"/><Relationship Id="rId2" Type="http://schemas.openxmlformats.org/officeDocument/2006/relationships/package" Target="../embeddings/oleObject1.xlsx"/><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D8EB-703F-4865-ACFB-D43365DF448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914040" y="1371600"/>
            <a:ext cx="7623000" cy="175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AHRQ National Advisory Council on Healthcare Research and Quality Subcommittee on Children’s Healthcare Quality Measures for Medicaid and CHIP Progress Report to AHRQ National Advisory Council, July 24, 2009</a:t>
            </a:r>
            <a:r>
              <a:rPr b="0" lang="en-US" sz="3200" spc="-1" strike="noStrike">
                <a:solidFill>
                  <a:srgbClr val="006633"/>
                </a:solidFill>
                <a:latin typeface="Garamond"/>
              </a:rPr>
              <a:t> </a:t>
            </a:r>
            <a:endParaRPr b="0" lang="en-US" sz="3200" spc="-1" strike="noStrike">
              <a:solidFill>
                <a:srgbClr val="006633"/>
              </a:solidFill>
              <a:latin typeface="Garamond"/>
            </a:endParaRPr>
          </a:p>
        </p:txBody>
      </p:sp>
      <p:sp>
        <p:nvSpPr>
          <p:cNvPr id="88" name="PlaceHolder 2"/>
          <p:cNvSpPr>
            <a:spLocks noGrp="1"/>
          </p:cNvSpPr>
          <p:nvPr>
            <p:ph type="subTitle"/>
          </p:nvPr>
        </p:nvSpPr>
        <p:spPr>
          <a:xfrm>
            <a:off x="1523520" y="4495320"/>
            <a:ext cx="716292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rey Schiff, MD, MBA, Co-Chai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a Mangione-Smith, MD, MPH, Co-Chai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CBE9-4685-4D10-BA9D-3F8933354F4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ope for Core Measurement Set</a:t>
            </a:r>
            <a:endParaRPr b="0" lang="en-US" sz="3800" spc="-1" strike="noStrike">
              <a:solidFill>
                <a:srgbClr val="006633"/>
              </a:solidFill>
              <a:latin typeface="Garamond"/>
            </a:endParaRPr>
          </a:p>
        </p:txBody>
      </p:sp>
      <p:sp>
        <p:nvSpPr>
          <p:cNvPr id="116" name="PlaceHolder 2"/>
          <p:cNvSpPr>
            <a:spLocks noGrp="1"/>
          </p:cNvSpPr>
          <p:nvPr>
            <p:ph/>
          </p:nvPr>
        </p:nvSpPr>
        <p:spPr>
          <a:xfrm>
            <a:off x="457200" y="1294920"/>
            <a:ext cx="8229600" cy="5257800"/>
          </a:xfrm>
          <a:prstGeom prst="rect">
            <a:avLst/>
          </a:prstGeom>
          <a:noFill/>
          <a:ln w="0">
            <a:noFill/>
          </a:ln>
        </p:spPr>
        <p:txBody>
          <a:bodyPr anchor="t">
            <a:normAutofit/>
          </a:bodyPr>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1.</a:t>
            </a:r>
            <a:r>
              <a:rPr b="0" lang="en-US" sz="2000" spc="-1" strike="noStrike">
                <a:solidFill>
                  <a:srgbClr val="000000"/>
                </a:solidFill>
                <a:latin typeface="Arial"/>
              </a:rPr>
              <a:t> Must be realistic about staffing/funding needs for pulling/analyzing/reporting available data</a:t>
            </a: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2.</a:t>
            </a:r>
            <a:r>
              <a:rPr b="0" lang="en-US" sz="2000" spc="-1" strike="noStrike">
                <a:solidFill>
                  <a:srgbClr val="000000"/>
                </a:solidFill>
                <a:latin typeface="Arial"/>
              </a:rPr>
              <a:t> Comprehensive effort to find good measures for all service categories, duration of enrollment, and other aspects of care required by the legislation; however, if no good measures currently exist for a given aspect of care, a measure will not be recommended for the core set </a:t>
            </a: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3.</a:t>
            </a:r>
            <a:r>
              <a:rPr b="0" lang="en-US" sz="2000" spc="-1" strike="noStrike">
                <a:solidFill>
                  <a:srgbClr val="000000"/>
                </a:solidFill>
                <a:latin typeface="Arial"/>
              </a:rPr>
              <a:t> Include measures not currently used by Medicaid/CHIP </a:t>
            </a:r>
            <a:endParaRPr b="0" lang="en-US" sz="2000" spc="-1" strike="noStrike">
              <a:solidFill>
                <a:srgbClr val="000000"/>
              </a:solidFill>
              <a:latin typeface="Arial"/>
            </a:endParaRPr>
          </a:p>
          <a:p>
            <a:pPr lvl="1" marL="763560" indent="-4190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ate and national measurement efforts</a:t>
            </a: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4.</a:t>
            </a:r>
            <a:r>
              <a:rPr b="0" lang="en-US" sz="2000" spc="-1" strike="noStrike">
                <a:solidFill>
                  <a:srgbClr val="000000"/>
                </a:solidFill>
                <a:latin typeface="Arial"/>
              </a:rPr>
              <a:t> Choose measures that are actionable</a:t>
            </a:r>
            <a:endParaRPr b="0" lang="en-US" sz="2000" spc="-1" strike="noStrike">
              <a:solidFill>
                <a:srgbClr val="000000"/>
              </a:solidFill>
              <a:latin typeface="Arial"/>
            </a:endParaRPr>
          </a:p>
          <a:p>
            <a:pPr lvl="1" marL="763560" indent="-4190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should be clear steps a State can take to improve on performance – the measure should inform what these steps need to be</a:t>
            </a:r>
            <a:endParaRPr b="0" lang="en-US" sz="2000" spc="-1" strike="noStrike">
              <a:solidFill>
                <a:srgbClr val="000000"/>
              </a:solidFill>
              <a:latin typeface="Arial"/>
            </a:endParaRPr>
          </a:p>
          <a:p>
            <a:pPr lvl="1" marL="76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AFFF-7CD5-4D81-94D1-EED60B83285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idity</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s must be supported by scientific evidence or, where evidence is insufficient, by expert consensu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s must support a link between:</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outcomes of care</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processes of care</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and outcomes of care</a:t>
            </a:r>
            <a:endParaRPr b="0" lang="en-US" sz="20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asure must represent an aspect of care that is under the control of health care providers and system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asure should truly assess what it purports to measur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s supported by evidence from unpublished data should be considered for inclus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6176-8309-4A15-8998-23DC03428AD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a:t>
            </a:r>
            <a:endParaRPr b="0" lang="en-US" sz="26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necessary to score the measure must be available to State Medicaid and CHIP programs</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data, medical records data, survey data</a:t>
            </a:r>
            <a:endParaRPr b="0" lang="en-US" sz="2400" spc="-1" strike="noStrike">
              <a:solidFill>
                <a:srgbClr val="000000"/>
              </a:solidFill>
              <a:latin typeface="Arial"/>
            </a:endParaRPr>
          </a:p>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specifications must be available for the measure that allow for reliable and unbiased scoring of the measure across States and institu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DD2D-BCB8-4854-B5C6-A69D2E9AB7B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25" name="PlaceHolder 2"/>
          <p:cNvSpPr>
            <a:spLocks noGrp="1"/>
          </p:cNvSpPr>
          <p:nvPr>
            <p:ph/>
          </p:nvPr>
        </p:nvSpPr>
        <p:spPr>
          <a:xfrm>
            <a:off x="457200" y="1447920"/>
            <a:ext cx="8229600" cy="468288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a:t>
            </a:r>
            <a:endParaRPr b="0" lang="en-US" sz="28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asure should be actionabl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of the condition to the Nation should be substantial</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lth care systems are clearly accountable for the quality problem assessed by the measur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tent of the quality problem should be substantial</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should be documented variation in performance on the measur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asure should be representative of a class of quality problems: “sentinel measure” of quality of care provided for preventive care, mental health care, or dental care, etc.</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2CB1-0A08-4B8C-A3EE-958755D0FD4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a:t>
            </a:r>
            <a:endParaRPr b="0" lang="en-US" sz="32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sure assesses an aspect of health care where there are known disparitie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e set should represent a balanced portfolio of measures and be consistent with the intent of the legislatio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on performance for the core set of measures should have the potential to transform care for our Nation’s children</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9C47-6F83-487D-8D00-2B996CC43AF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parency</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all measures recommended for inclusion in  the core set:</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evel of scientific evidence supporting the measure will be reported</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U.S. Preventive Services Task Force grades A, B, C, or I; Level I, II, III </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evel of expected burden for obtaining the data needed to score the measure will be reported</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moderate, high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F98C-A675-43BC-AE60-6FD5D022170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e-Work Process Completed by Sub-Committee Members</a:t>
            </a:r>
            <a:endParaRPr b="0" lang="en-US" sz="38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phi process to assess validity and feasibility of measures in use by State Medicaid and CHIP program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nd 1 completed prior to meet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scored on a 9-point scal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9 – Measure is definitely valid and feasible</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6 – Measure has uncertain validity and feasibility</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 Measure is not valid or feasib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C262-0AE9-401E-BD10-64FE676155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eting July 22, 2009: Discussion of Delphi Round 1 Results</a:t>
            </a:r>
            <a:endParaRPr b="0" lang="en-US" sz="3800" spc="-1" strike="noStrike">
              <a:solidFill>
                <a:srgbClr val="006633"/>
              </a:solidFill>
              <a:latin typeface="Garamond"/>
            </a:endParaRPr>
          </a:p>
        </p:txBody>
      </p:sp>
      <p:sp>
        <p:nvSpPr>
          <p:cNvPr id="137" name="PlaceHolder 2"/>
          <p:cNvSpPr>
            <a:spLocks noGrp="1"/>
          </p:cNvSpPr>
          <p:nvPr>
            <p:ph/>
          </p:nvPr>
        </p:nvSpPr>
        <p:spPr>
          <a:xfrm>
            <a:off x="380880" y="167616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versial measures </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ity or feasibility ratings with substantial disagreement among subcommittee members were discussed</a:t>
            </a:r>
            <a:endParaRPr b="0" lang="en-US" sz="2400" spc="-1" strike="noStrike">
              <a:solidFill>
                <a:srgbClr val="000000"/>
              </a:solidFill>
              <a:latin typeface="Arial"/>
            </a:endParaRPr>
          </a:p>
          <a:p>
            <a:pPr lvl="1" marL="66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nd 2 Delphi process for these controversial measures after meeting delib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3976-4593-4E2D-9D79-736D7162CFA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Meeting July 23, 2009: Assessing Measure Importance</a:t>
            </a:r>
            <a:endParaRPr b="0" lang="en-US" sz="34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aluated importance for measures with passing validity and feasibility in Round 1  </a:t>
            </a:r>
            <a:endParaRPr b="0" lang="en-US" sz="2100" spc="-1" strike="noStrike">
              <a:solidFill>
                <a:srgbClr val="000000"/>
              </a:solidFill>
              <a:latin typeface="Arial"/>
            </a:endParaRPr>
          </a:p>
          <a:p>
            <a:pPr lvl="1" marL="669960" indent="-325440">
              <a:lnSpc>
                <a:spcPct val="9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alidity score of 7-9 </a:t>
            </a:r>
            <a:endParaRPr b="0" lang="en-US" sz="1900" spc="-1" strike="noStrike">
              <a:solidFill>
                <a:srgbClr val="000000"/>
              </a:solidFill>
              <a:latin typeface="Arial"/>
            </a:endParaRPr>
          </a:p>
          <a:p>
            <a:pPr lvl="1" marL="669960" indent="-325440">
              <a:lnSpc>
                <a:spcPct val="9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sibility score of 4-6</a:t>
            </a:r>
            <a:endParaRPr b="0" lang="en-US" sz="19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phi process to assess importance</a:t>
            </a:r>
            <a:endParaRPr b="0" lang="en-US" sz="24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point scale</a:t>
            </a:r>
            <a:endParaRPr b="0" lang="en-US" sz="21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9: Measure of clear importance</a:t>
            </a:r>
            <a:endParaRPr b="0" lang="en-US" sz="19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6: Level of importance uncertain</a:t>
            </a:r>
            <a:endParaRPr b="0" lang="en-US" sz="19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3: Measure does not meet importance criteria</a:t>
            </a:r>
            <a:endParaRPr b="0" lang="en-US" sz="1900" spc="-1" strike="noStrike">
              <a:solidFill>
                <a:srgbClr val="000000"/>
              </a:solidFill>
              <a:latin typeface="Arial"/>
            </a:endParaRPr>
          </a:p>
          <a:p>
            <a:pPr lvl="2" marL="10224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with an importance score of 4 or higher on the 9-point Delphi scale were retained in the preliminary set of core measu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D043-5D61-4DF0-B815-4BA72EAC6FE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asures Having Passing Scores for Validity, Feasibility, and Importance </a:t>
            </a:r>
            <a:endParaRPr b="0" lang="en-US" sz="3800" spc="-1" strike="noStrike">
              <a:solidFill>
                <a:srgbClr val="006633"/>
              </a:solidFill>
              <a:latin typeface="Garamond"/>
            </a:endParaRPr>
          </a:p>
        </p:txBody>
      </p:sp>
      <p:sp>
        <p:nvSpPr>
          <p:cNvPr id="143" name="PlaceHolder 2"/>
          <p:cNvSpPr>
            <a:spLocks noGrp="1"/>
          </p:cNvSpPr>
          <p:nvPr>
            <p:ph/>
          </p:nvPr>
        </p:nvSpPr>
        <p:spPr>
          <a:xfrm>
            <a:off x="533520" y="1523880"/>
            <a:ext cx="8229600" cy="453096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ive Care Measure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of ongoing prenatal care</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ing cessation and preventio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lamydia screening</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izations for 2-year old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lescent immunizatio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za vaccinatio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hild care visit (WCV) rates - first 15 month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V Rates- 3, 4, 5, 6-year old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lescent WCV - overall</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ing screening</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scree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tential Impact of Core Measures Identification Work: 45% of America’s Children under Age 19  </a:t>
            </a:r>
            <a:endParaRPr b="0" lang="en-US" sz="3800" spc="-1" strike="noStrike">
              <a:solidFill>
                <a:srgbClr val="006633"/>
              </a:solidFill>
              <a:latin typeface="Garamond"/>
            </a:endParaRPr>
          </a:p>
        </p:txBody>
      </p:sp>
      <p:sp>
        <p:nvSpPr>
          <p:cNvPr id="90" name=""/>
          <p:cNvSpPr/>
          <p:nvPr/>
        </p:nvSpPr>
        <p:spPr>
          <a:xfrm>
            <a:off x="0" y="5334120"/>
            <a:ext cx="9144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AHRQ, based on: Coverage estimates: Based on 2008 national participant and spending data derived from CMS an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 Census Current Population Survey data sources, reported by the National Center on Children in Poverty, </a:t>
            </a:r>
            <a:r>
              <a:rPr b="0" lang="en-US" sz="1000" spc="-1" strike="noStrike" u="sng">
                <a:solidFill>
                  <a:srgbClr val="996600"/>
                </a:solidFill>
                <a:uFillTx/>
                <a:latin typeface="Arial"/>
                <a:hlinkClick r:id="rId1"/>
              </a:rPr>
              <a:t>http://www.nccp.org/profiles/index_32.html</a:t>
            </a:r>
            <a:r>
              <a:rPr b="0" lang="en-US" sz="1000" spc="-1" strike="noStrike" u="sng">
                <a:solidFill>
                  <a:srgbClr val="000000"/>
                </a:solidFill>
                <a:uFillTx/>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P estimates are for number of children in separate SCHIP programs. Medicaid estimates include children in Medicaid SCHIP program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age estimates reflect Medicaid and CHIP enrollees whether or not they received health care services. Total number of children under 19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polated from U.S. Census Bureau figures for number of children 17 and under (73.9 million) and children 19 and under (83 million). </a:t>
            </a:r>
            <a:endParaRPr b="0" lang="en-US" sz="1000" spc="-1" strike="noStrike">
              <a:solidFill>
                <a:srgbClr val="000000"/>
              </a:solidFill>
              <a:latin typeface="Arial"/>
            </a:endParaRPr>
          </a:p>
        </p:txBody>
      </p:sp>
      <p:graphicFrame>
        <p:nvGraphicFramePr>
          <p:cNvPr id="91" name="Rectangle 3"/>
          <p:cNvGraphicFramePr/>
          <p:nvPr/>
        </p:nvGraphicFramePr>
        <p:xfrm>
          <a:off x="766800" y="914400"/>
          <a:ext cx="7327800" cy="4975200"/>
        </p:xfrm>
        <a:graphic>
          <a:graphicData uri="http://schemas.openxmlformats.org/presentationml/2006/ole">
            <p:oleObj progId="Excel.Sheet.12" r:id="rId2" spid="">
              <p:embed/>
              <p:pic>
                <p:nvPicPr>
                  <p:cNvPr id="92" name="Rectangle 3" descr=""/>
                  <p:cNvPicPr/>
                  <p:nvPr/>
                </p:nvPicPr>
                <p:blipFill>
                  <a:blip r:embed="rId3"/>
                  <a:stretch/>
                </p:blipFill>
                <p:spPr>
                  <a:xfrm>
                    <a:off x="766800" y="914400"/>
                    <a:ext cx="7327800" cy="497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0EEC-3A7C-4B3F-9273-3DFA6C1A767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asures having passing scores for Validity, Feasibility, and Importance</a:t>
            </a:r>
            <a:endParaRPr b="0" lang="en-US" sz="38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ental Care Measures</a:t>
            </a:r>
            <a:endParaRPr b="0" lang="en-US" sz="25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periodic oral health exams </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dental visit </a:t>
            </a:r>
            <a:endParaRPr b="0" lang="en-US" sz="24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ute Care Measures</a:t>
            </a:r>
            <a:endParaRPr b="0" lang="en-US" sz="25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 respiratory infection- Appropriate treatment</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yngitis- Appropriate testing</a:t>
            </a:r>
            <a:endParaRPr b="0" lang="en-US" sz="24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hronic Care Measures</a:t>
            </a:r>
            <a:endParaRPr b="0" lang="en-US" sz="25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hma- Appropriate medications for people with asthm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134F-2874-4034-8CD0-5373E460F29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asures Having Passing Scores for Validity, Feasibility, and Importance</a:t>
            </a:r>
            <a:endParaRPr b="0" lang="en-US" sz="38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al Health Care Measures</a:t>
            </a:r>
            <a:endParaRPr b="0" lang="en-US" sz="24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Deficit/Hyperactivity Disorder (ADHD) care - Initiation phas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D Care - Continuation and maintenance phas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 after hospitalization for mental illness</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ssion management</a:t>
            </a:r>
            <a:endParaRPr b="0" lang="en-US" sz="18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Experiences with Care Measures</a:t>
            </a:r>
            <a:endParaRPr b="0" lang="en-US" sz="24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care Effectiveness Data and Information Set (HEDIS), Consumer Assessment of Healthcare Providers and Systems (CAHPS)</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ealthy children</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hildren with special health care needs</a:t>
            </a:r>
            <a:endParaRPr b="0" lang="en-US" sz="18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and Utilization Measures</a:t>
            </a:r>
            <a:endParaRPr b="0" lang="en-US" sz="24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primary care practitioners, by age and total</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ation of ambulatory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3A20-53E6-4A58-AD6C-47F0B32B291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dditional Measures in Use Proposed During Meeting</a:t>
            </a:r>
            <a:endParaRPr b="0" lang="en-US" sz="38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evidence supporting meas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who is currently using the meas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tain specifications for the meas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phi process for new measures to asses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id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9EAA-BF4D-4C6E-9FA9-235D8FBEB29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lection of Measures Recommended for Inclusion in the Final Core Set</a:t>
            </a:r>
            <a:br>
              <a:rPr sz="3800"/>
            </a:br>
            <a:endParaRPr b="0" lang="en-US" sz="3800" spc="-1" strike="noStrike">
              <a:solidFill>
                <a:srgbClr val="006633"/>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ptember 2009 meeting: </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rther discuss and rate importance for preliminary core set and new measures identified as valid and feasible</a:t>
            </a:r>
            <a:endParaRPr b="0" lang="en-US" sz="26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rive at the most parsimonious set of measures that when assessed together will provide valid estimates of the overall national quality of health care for children insured by Medicaid and CHI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DB9B-E287-47C6-BE8D-9E6C41D8821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0" lang="en-US" sz="3800" spc="-1" strike="noStrike">
                <a:solidFill>
                  <a:srgbClr val="006633"/>
                </a:solidFill>
                <a:latin typeface="Garamond"/>
              </a:rPr>
              <a:t>Our View of the Opportunity Presented by the Legislation</a:t>
            </a:r>
            <a:endParaRPr b="0" lang="en-US" sz="3800" spc="-1" strike="noStrike">
              <a:solidFill>
                <a:srgbClr val="006633"/>
              </a:solidFill>
              <a:latin typeface="Garamond"/>
            </a:endParaRPr>
          </a:p>
        </p:txBody>
      </p:sp>
      <p:sp>
        <p:nvSpPr>
          <p:cNvPr id="158"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term focus on health care quality for children beyond CHIP</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portunity to bring together efforts of disparate organizations/parts of government to create focus and move the child health quality agenda forwar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support from the NAC to build the bridge toward our aspirational long-term vision of being able to rigorously and comprehensively assess and improve on health care quality for the Nation’s childr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8783-6BF7-4B1C-ADBA-27AF7E28295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ublic Law 111-3  Title IV- Strengthening Quality of Care and Health Outcomes</a:t>
            </a: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401 Child Health Quality Improvement Activities for Children Enrolled in Medicaid or CHI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1139A Child Health Quality Measur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January 1, 2010, the Secretary shall identify and publish for general comment an initial, recommended core set of child health quality measures for use b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E509-1886-49FF-A72C-1EBFBD1F388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ublic Law 111-3 Title IV (continued)</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core set that includes (but is not limited to):</a:t>
            </a:r>
            <a:endParaRPr b="0" lang="en-US" sz="2600" spc="-1" strike="noStrike">
              <a:solidFill>
                <a:srgbClr val="000000"/>
              </a:solidFill>
              <a:latin typeface="Arial"/>
            </a:endParaRPr>
          </a:p>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1.</a:t>
            </a:r>
            <a:r>
              <a:rPr b="0" lang="en-US" sz="2600" spc="-1" strike="noStrike">
                <a:solidFill>
                  <a:srgbClr val="000000"/>
                </a:solidFill>
                <a:latin typeface="Arial"/>
              </a:rPr>
              <a:t>   Presence and duration of health insurance</a:t>
            </a:r>
            <a:endParaRPr b="0" lang="en-US" sz="2600" spc="-1" strike="noStrike">
              <a:solidFill>
                <a:srgbClr val="000000"/>
              </a:solidFill>
              <a:latin typeface="Arial"/>
            </a:endParaRPr>
          </a:p>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2.</a:t>
            </a:r>
            <a:r>
              <a:rPr b="0" lang="en-US" sz="2600" spc="-1" strike="noStrike">
                <a:solidFill>
                  <a:srgbClr val="000000"/>
                </a:solidFill>
                <a:latin typeface="Arial"/>
              </a:rPr>
              <a:t>   Availability and effectiveness of</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ntive services</a:t>
            </a:r>
            <a:endParaRPr b="0" lang="en-US" sz="22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s for acute conditions </a:t>
            </a:r>
            <a:endParaRPr b="0" lang="en-US" sz="22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s to promote healthy birth, prevent and treat premature birth, detect the presence or risk of conditions that could adversely affect growth and development</a:t>
            </a:r>
            <a:endParaRPr b="0" lang="en-US" sz="22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ments to correct and ameliorate the effects of chronic physical and mental conditions</a:t>
            </a:r>
            <a:endParaRPr b="0" lang="en-US" sz="2200" spc="-1" strike="noStrike">
              <a:solidFill>
                <a:srgbClr val="000000"/>
              </a:solidFill>
              <a:latin typeface="Arial"/>
            </a:endParaRPr>
          </a:p>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F156-8A29-489D-89E6-D9F43E87849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ublic Law 111-3 Title IV (continued)</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re set (continued)</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3.</a:t>
            </a:r>
            <a:r>
              <a:rPr b="0" lang="en-US" sz="2200" spc="-1" strike="noStrike">
                <a:solidFill>
                  <a:srgbClr val="cc9900"/>
                </a:solidFill>
                <a:latin typeface="Arial"/>
              </a:rPr>
              <a:t> </a:t>
            </a:r>
            <a:r>
              <a:rPr b="0" lang="en-US" sz="3000" spc="-1" strike="noStrike">
                <a:solidFill>
                  <a:srgbClr val="000000"/>
                </a:solidFill>
                <a:latin typeface="Arial"/>
              </a:rPr>
              <a:t>Availability of care </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bulatory</a:t>
            </a:r>
            <a:endParaRPr b="0" lang="en-US" sz="26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patient</a:t>
            </a:r>
            <a:endParaRPr b="0" lang="en-US" sz="26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4.</a:t>
            </a:r>
            <a:r>
              <a:rPr b="0" lang="en-US" sz="3000" spc="-1" strike="noStrike">
                <a:solidFill>
                  <a:srgbClr val="000000"/>
                </a:solidFill>
                <a:latin typeface="Arial"/>
              </a:rPr>
              <a:t>Taken together – Used to estimate the overall national quality of health care for children</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ing children with special health care needs and comparing disparate popul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3CAA-B20F-4CDD-B5E5-AD7B44F8F2A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ublic Law 111-3 (continued)</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1.</a:t>
            </a:r>
            <a:r>
              <a:rPr b="0" lang="en-US" sz="2600" spc="-1" strike="noStrike">
                <a:solidFill>
                  <a:srgbClr val="000000"/>
                </a:solidFill>
                <a:latin typeface="Arial"/>
              </a:rPr>
              <a:t> Encourage voluntary and standardized reporti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2.</a:t>
            </a:r>
            <a:r>
              <a:rPr b="0" lang="en-US" sz="2600" spc="-1" strike="noStrike">
                <a:solidFill>
                  <a:srgbClr val="000000"/>
                </a:solidFill>
                <a:latin typeface="Arial"/>
              </a:rPr>
              <a:t> Particular attention to techniques that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 the timeliness and accuracy of provider reporting</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ourage provider complianc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ourage successful quality improvement strategies, and</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efficiency in data collection using HIT</a:t>
            </a: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3.</a:t>
            </a:r>
            <a:r>
              <a:rPr b="0" lang="en-US" sz="2600" spc="-1" strike="noStrike">
                <a:solidFill>
                  <a:srgbClr val="000000"/>
                </a:solidFill>
                <a:latin typeface="Arial"/>
              </a:rPr>
              <a:t> Valid, reliable, and evidence-base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4.</a:t>
            </a:r>
            <a:r>
              <a:rPr b="0" lang="en-US" sz="2600" spc="-1" strike="noStrike">
                <a:solidFill>
                  <a:srgbClr val="000000"/>
                </a:solidFill>
                <a:latin typeface="Arial"/>
              </a:rPr>
              <a:t> Allow families and health care providers to understand the quality of ca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C491-C4F4-435B-83BE-D0BB03904A6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Subcommittee on Children’s Healthcare Quality Measures for Medicaid and CHIP Programs</a:t>
            </a:r>
            <a:endParaRPr b="0" lang="en-US" sz="34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Membership includes</a:t>
            </a:r>
            <a:endParaRPr b="0" lang="en-US" sz="25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wo NAC member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P direct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tle V direct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wo Medicaid Medical Director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ganizational member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merican Academy of Pediatrics, American Board of Pediatrics, American Academy of Family Physicians, March of Dimes, National Academy for State Health Policy, National Association of Children’s Hospitals and Related Institutions, National Association of State Medicaid Directors, National Association of Pediatric Nurse Practitioner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s with expertise in dental care, mental health and chemical dependency, community health centers, children with special health needs, disparities, quality measuremen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00AF-CE24-427A-BC58-5A4DEB83BD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of the First Meeting</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ch consensus on the scope of the core measurement se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ch consensus on definitions for evaluation criteria:</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sibility</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c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a preliminary core set of quality measures that meet these criteri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blish the group process for arriving at the final recommended core set of quality measures by September 30, 2009</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914D-B34F-41F5-BFA2-F89CD479F89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nceptual Framework – Guiding Determination of the Scope for Core Measurement Set</a:t>
            </a:r>
            <a:endParaRPr b="0" lang="en-US" sz="3800" spc="-1" strike="noStrike">
              <a:solidFill>
                <a:srgbClr val="006633"/>
              </a:solidFill>
              <a:latin typeface="Garamond"/>
            </a:endParaRPr>
          </a:p>
        </p:txBody>
      </p:sp>
      <p:sp>
        <p:nvSpPr>
          <p:cNvPr id="113" name="PlaceHolder 2"/>
          <p:cNvSpPr>
            <a:spLocks noGrp="1"/>
          </p:cNvSpPr>
          <p:nvPr>
            <p:ph/>
          </p:nvPr>
        </p:nvSpPr>
        <p:spPr>
          <a:xfrm>
            <a:off x="457200" y="23270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rounded </a:t>
            </a:r>
            <a:r>
              <a:rPr b="0" lang="en-US" sz="4600" spc="-1" strike="noStrike">
                <a:solidFill>
                  <a:srgbClr val="000000"/>
                </a:solidFill>
                <a:latin typeface="Arial"/>
                <a:ea typeface="Arial"/>
              </a:rPr>
              <a:t>→ </a:t>
            </a:r>
            <a:r>
              <a:rPr b="0" lang="en-US" sz="2800" spc="-1" strike="noStrike">
                <a:solidFill>
                  <a:srgbClr val="000000"/>
                </a:solidFill>
                <a:latin typeface="Arial"/>
                <a:ea typeface="Arial"/>
              </a:rPr>
              <a:t>Intermediate </a:t>
            </a:r>
            <a:r>
              <a:rPr b="0" lang="en-US" sz="4600" spc="-1" strike="noStrike">
                <a:solidFill>
                  <a:srgbClr val="000000"/>
                </a:solidFill>
                <a:latin typeface="Arial"/>
                <a:ea typeface="Arial"/>
              </a:rPr>
              <a:t>→</a:t>
            </a:r>
            <a:r>
              <a:rPr b="0" lang="en-US" sz="2800" spc="-1" strike="noStrike">
                <a:solidFill>
                  <a:srgbClr val="000000"/>
                </a:solidFill>
                <a:latin typeface="Arial"/>
                <a:ea typeface="Arial"/>
              </a:rPr>
              <a:t> Aspirational </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easure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Measure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Measur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n towards recommending more grounded measure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nded</a:t>
            </a:r>
            <a:r>
              <a:rPr b="0" lang="en-US" sz="2200" spc="-1" strike="noStrike">
                <a:solidFill>
                  <a:srgbClr val="000000"/>
                </a:solidFill>
                <a:latin typeface="Arial"/>
              </a:rPr>
              <a:t>:10-25, currently feasible, many already in plac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mediate category</a:t>
            </a:r>
            <a:r>
              <a:rPr b="0" lang="en-US" sz="2200" spc="-1" strike="noStrike">
                <a:solidFill>
                  <a:srgbClr val="000000"/>
                </a:solidFill>
                <a:latin typeface="Arial"/>
              </a:rPr>
              <a:t>: number to be determined, good specifications, some States already using them</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irational</a:t>
            </a:r>
            <a:r>
              <a:rPr b="0" lang="en-US" sz="2200" spc="-1" strike="noStrike">
                <a:solidFill>
                  <a:srgbClr val="000000"/>
                </a:solidFill>
                <a:latin typeface="Arial"/>
              </a:rPr>
              <a:t>: needed measures to fill in the gap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1:54:59Z</dcterms:created>
  <dc:creator>Child Health Institute</dc:creator>
  <dc:description/>
  <dc:language>en-US</dc:language>
  <cp:lastModifiedBy>DHHS</cp:lastModifiedBy>
  <dcterms:modified xsi:type="dcterms:W3CDTF">2009-08-05T14:13:59Z</dcterms:modified>
  <cp:revision>47</cp:revision>
  <dc:subject/>
  <dc:title>AHRQ National Advisory Council on Healthcare Research and Quality Subcommittee on Children’s Healthcare Quality Measures for Medicaid and CHIP Programs Progress Report</dc:title>
</cp:coreProperties>
</file>