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7157C-8664-4AB5-BF57-FD8502141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99850-8B74-4234-A38B-4C9824A24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94DB6-64D1-428A-BD8D-C352E58CF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DF60C-A61B-48DA-B346-75601DFE3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B5D6C0-1285-40B5-8C26-543E0853BC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DF212-DE2B-4F7E-B2DE-C2E8A57BA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23F47-25DA-4B59-88EA-AAE718B5D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BF6B8-168B-4C82-B680-037DF1109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60F58-6AC1-47D0-8F30-2FBDC4954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C1E6C-9B8F-4935-A7F2-29B48CFE5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DA083-D15E-458B-9189-17E44EC76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1FA50-2389-4B4A-8C17-E00981873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669FC-839E-4D00-9CDB-927050F76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42DEE-830C-43A1-BDC0-2B4CC9859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3F4B0-630B-4C39-96E5-24B0DFB02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AF876C-BDA4-476D-A630-7DA05C1885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D52FC9-954C-49BD-ABBE-BB395A9E36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2EE8C-1DD8-47A9-8A69-92EB4B0C0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F89A3-8062-4152-B9F0-D9C91BDA8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3B2A8-12F4-41B1-9798-1C0B0C029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D0DFA-0E3B-42E7-8382-8C06F34C6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B134D-3476-4DCF-BED9-BFD12DF3E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859A0-09B7-4A03-A8DE-B53CC37FE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05A91-97B9-4AFC-A1E3-AA4427D94D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chiff/Mangione-Smith AHRQ NAC presentatio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B474-0EBD-45C5-B199-EC045B90A14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Schiff/Mangione-Smith AHRQ NAC presentation</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8239D-3255-4B0F-9D27-D6C9DF3D38B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nccp.org/profiles/index_32.html" TargetMode="External"/><Relationship Id="rId2" Type="http://schemas.openxmlformats.org/officeDocument/2006/relationships/package" Target="../embeddings/oleObject1.xlsx"/><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36F1E-A5AB-4E7C-9B65-3122891F81B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87" name="PlaceHolder 1"/>
          <p:cNvSpPr>
            <a:spLocks noGrp="1"/>
          </p:cNvSpPr>
          <p:nvPr>
            <p:ph type="title"/>
          </p:nvPr>
        </p:nvSpPr>
        <p:spPr>
          <a:xfrm>
            <a:off x="914040" y="1371600"/>
            <a:ext cx="7623000" cy="1752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AHRQ National Advisory Council on Healthcare Research and Quality Subcommittee on Children’s Healthcare Quality Measures for Medicaid and CHIP Progress Report to AHRQ National Advisory Council, July 24, 2009</a:t>
            </a:r>
            <a:r>
              <a:rPr b="0" lang="en-US" sz="3200" spc="-1" strike="noStrike">
                <a:solidFill>
                  <a:srgbClr val="006633"/>
                </a:solidFill>
                <a:latin typeface="Garamond"/>
              </a:rPr>
              <a:t> </a:t>
            </a:r>
            <a:endParaRPr b="0" lang="en-US" sz="3200" spc="-1" strike="noStrike">
              <a:solidFill>
                <a:srgbClr val="006633"/>
              </a:solidFill>
              <a:latin typeface="Garamond"/>
            </a:endParaRPr>
          </a:p>
        </p:txBody>
      </p:sp>
      <p:sp>
        <p:nvSpPr>
          <p:cNvPr id="88" name="PlaceHolder 2"/>
          <p:cNvSpPr>
            <a:spLocks noGrp="1"/>
          </p:cNvSpPr>
          <p:nvPr>
            <p:ph type="subTitle"/>
          </p:nvPr>
        </p:nvSpPr>
        <p:spPr>
          <a:xfrm>
            <a:off x="1523520" y="4495320"/>
            <a:ext cx="7162920" cy="1752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ffrey Schiff, MD, MBA, Co-Chai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ta Mangione-Smith, MD, MPH, Co-Chai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A4D1-D91E-439D-AE85-87AFCE8C673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cope for Core Measurement Set</a:t>
            </a:r>
            <a:endParaRPr b="0" lang="en-US" sz="3800" spc="-1" strike="noStrike">
              <a:solidFill>
                <a:srgbClr val="006633"/>
              </a:solidFill>
              <a:latin typeface="Garamond"/>
            </a:endParaRPr>
          </a:p>
        </p:txBody>
      </p:sp>
      <p:sp>
        <p:nvSpPr>
          <p:cNvPr id="116" name="PlaceHolder 2"/>
          <p:cNvSpPr>
            <a:spLocks noGrp="1"/>
          </p:cNvSpPr>
          <p:nvPr>
            <p:ph/>
          </p:nvPr>
        </p:nvSpPr>
        <p:spPr>
          <a:xfrm>
            <a:off x="457200" y="1294920"/>
            <a:ext cx="8229600" cy="5257800"/>
          </a:xfrm>
          <a:prstGeom prst="rect">
            <a:avLst/>
          </a:prstGeom>
          <a:noFill/>
          <a:ln w="0">
            <a:noFill/>
          </a:ln>
        </p:spPr>
        <p:txBody>
          <a:bodyPr anchor="t">
            <a:normAutofit/>
          </a:bodyPr>
          <a:p>
            <a:pPr marL="49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1.</a:t>
            </a:r>
            <a:r>
              <a:rPr b="0" lang="en-US" sz="2000" spc="-1" strike="noStrike">
                <a:solidFill>
                  <a:srgbClr val="000000"/>
                </a:solidFill>
                <a:latin typeface="Arial"/>
              </a:rPr>
              <a:t> Must be realistic about staffing/funding needs for pulling/analyzing/reporting available data</a:t>
            </a:r>
            <a:endParaRPr b="0" lang="en-US" sz="2000" spc="-1" strike="noStrike">
              <a:solidFill>
                <a:srgbClr val="000000"/>
              </a:solidFill>
              <a:latin typeface="Arial"/>
            </a:endParaRPr>
          </a:p>
          <a:p>
            <a:pPr marL="49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2.</a:t>
            </a:r>
            <a:r>
              <a:rPr b="0" lang="en-US" sz="2000" spc="-1" strike="noStrike">
                <a:solidFill>
                  <a:srgbClr val="000000"/>
                </a:solidFill>
                <a:latin typeface="Arial"/>
              </a:rPr>
              <a:t> Comprehensive effort to find good measures for all service categories, duration of enrollment, and other aspects of care required by the legislation; however, if no good measures currently exist for a given aspect of care, a measure will not be recommended for the core set </a:t>
            </a:r>
            <a:endParaRPr b="0" lang="en-US" sz="2000" spc="-1" strike="noStrike">
              <a:solidFill>
                <a:srgbClr val="000000"/>
              </a:solidFill>
              <a:latin typeface="Arial"/>
            </a:endParaRPr>
          </a:p>
          <a:p>
            <a:pPr marL="49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3.</a:t>
            </a:r>
            <a:r>
              <a:rPr b="0" lang="en-US" sz="2000" spc="-1" strike="noStrike">
                <a:solidFill>
                  <a:srgbClr val="000000"/>
                </a:solidFill>
                <a:latin typeface="Arial"/>
              </a:rPr>
              <a:t> Include measures not currently used by Medicaid/CHIP </a:t>
            </a:r>
            <a:endParaRPr b="0" lang="en-US" sz="2000" spc="-1" strike="noStrike">
              <a:solidFill>
                <a:srgbClr val="000000"/>
              </a:solidFill>
              <a:latin typeface="Arial"/>
            </a:endParaRPr>
          </a:p>
          <a:p>
            <a:pPr lvl="1" marL="763560" indent="-4190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State and national measurement efforts</a:t>
            </a:r>
            <a:endParaRPr b="0" lang="en-US" sz="2000" spc="-1" strike="noStrike">
              <a:solidFill>
                <a:srgbClr val="000000"/>
              </a:solidFill>
              <a:latin typeface="Arial"/>
            </a:endParaRPr>
          </a:p>
          <a:p>
            <a:pPr marL="49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4.</a:t>
            </a:r>
            <a:r>
              <a:rPr b="0" lang="en-US" sz="2000" spc="-1" strike="noStrike">
                <a:solidFill>
                  <a:srgbClr val="000000"/>
                </a:solidFill>
                <a:latin typeface="Arial"/>
              </a:rPr>
              <a:t> Choose measures that are actionable</a:t>
            </a:r>
            <a:endParaRPr b="0" lang="en-US" sz="2000" spc="-1" strike="noStrike">
              <a:solidFill>
                <a:srgbClr val="000000"/>
              </a:solidFill>
              <a:latin typeface="Arial"/>
            </a:endParaRPr>
          </a:p>
          <a:p>
            <a:pPr lvl="1" marL="763560" indent="-4190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should be clear steps a State can take to improve on performance – the measure should inform what these steps need to be</a:t>
            </a:r>
            <a:endParaRPr b="0" lang="en-US" sz="2000" spc="-1" strike="noStrike">
              <a:solidFill>
                <a:srgbClr val="000000"/>
              </a:solidFill>
              <a:latin typeface="Arial"/>
            </a:endParaRPr>
          </a:p>
          <a:p>
            <a:pPr lvl="1" marL="76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44F3A-C623-4EB0-8ADA-255885F5D48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sensus on Criteria Definitions</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lidity</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es must be supported by scientific evidence or, where evidence is insufficient, by expert consensu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es must support a link between:</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outcomes of care</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processes of care</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es and outcomes of care</a:t>
            </a:r>
            <a:endParaRPr b="0" lang="en-US" sz="20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easure must represent an aspect of care that is under the control of health care providers and system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easure should truly assess what it purports to measure</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es supported by evidence from unpublished data should be considered for inclusio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28896-A270-4DB0-958A-B20B000F47D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sensus on Criteria Definition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sibility</a:t>
            </a:r>
            <a:endParaRPr b="0" lang="en-US" sz="26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necessary to score the measure must be available to State Medicaid and CHIP programs</a:t>
            </a:r>
            <a:endParaRPr b="0" lang="en-US" sz="2400" spc="-1" strike="noStrike">
              <a:solidFill>
                <a:srgbClr val="000000"/>
              </a:solidFill>
              <a:latin typeface="Arial"/>
            </a:endParaRPr>
          </a:p>
          <a:p>
            <a:pPr lvl="2" marL="1022400" indent="-351000">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data, medical records data, survey data</a:t>
            </a:r>
            <a:endParaRPr b="0" lang="en-US" sz="2400" spc="-1" strike="noStrike">
              <a:solidFill>
                <a:srgbClr val="000000"/>
              </a:solidFill>
              <a:latin typeface="Arial"/>
            </a:endParaRPr>
          </a:p>
          <a:p>
            <a:pPr lvl="2" marL="1022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specifications must be available for the measure that allow for reliable and unbiased scoring of the measure across States and institu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E659-9450-4A22-AE66-C17AE3ABD54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sensus on Criteria Definitions</a:t>
            </a:r>
            <a:endParaRPr b="0" lang="en-US" sz="4200" spc="-1" strike="noStrike">
              <a:solidFill>
                <a:srgbClr val="006633"/>
              </a:solidFill>
              <a:latin typeface="Garamond"/>
            </a:endParaRPr>
          </a:p>
        </p:txBody>
      </p:sp>
      <p:sp>
        <p:nvSpPr>
          <p:cNvPr id="125" name="PlaceHolder 2"/>
          <p:cNvSpPr>
            <a:spLocks noGrp="1"/>
          </p:cNvSpPr>
          <p:nvPr>
            <p:ph/>
          </p:nvPr>
        </p:nvSpPr>
        <p:spPr>
          <a:xfrm>
            <a:off x="457200" y="1447920"/>
            <a:ext cx="8229600" cy="468288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ce</a:t>
            </a:r>
            <a:endParaRPr b="0" lang="en-US" sz="28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easure should be actionable</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st of the condition to the Nation should be substantial</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alth care systems are clearly accountable for the quality problem assessed by the measure</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tent of the quality problem should be substantial</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should be documented variation in performance on the measure</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easure should be representative of a class of quality problems: “sentinel measure” of quality of care provided for preventive care, mental health care, or dental care, etc.</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9DF54-9357-43E4-A367-014BA2945D1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sensus on Criteria Definitions</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ce</a:t>
            </a:r>
            <a:endParaRPr b="0" lang="en-US" sz="32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asure assesses an aspect of health care where there are known disparitie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re set should represent a balanced portfolio of measures and be consistent with the intent of the legislation</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ing on performance for the core set of measures should have the potential to transform care for our Nation’s children</a:t>
            </a:r>
            <a:endParaRPr b="0" lang="en-US" sz="2400" spc="-1" strike="noStrike">
              <a:solidFill>
                <a:srgbClr val="000000"/>
              </a:solidFill>
              <a:latin typeface="Arial"/>
            </a:endParaRPr>
          </a:p>
          <a:p>
            <a:pPr lvl="1" marL="66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4FF1-E81C-42F7-8F22-2DE87C5F283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sensus on Criteria Definitions</a:t>
            </a:r>
            <a:endParaRPr b="0" lang="en-US" sz="4200" spc="-1" strike="noStrike">
              <a:solidFill>
                <a:srgbClr val="006633"/>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nsparency</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all measures recommended for inclusion in  the core set:</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evel of scientific evidence supporting the measure will be reported</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U.S. Preventive Services Task Force grades A, B, C, or I; Level I, II, III </a:t>
            </a:r>
            <a:endParaRPr b="0" lang="en-US" sz="20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evel of expected burden for obtaining the data needed to score the measure will be reported</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moderate, high </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84BEA-6940-49FD-A717-95DE770BF94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re-Work Process Completed by Sub-Committee Members</a:t>
            </a:r>
            <a:endParaRPr b="0" lang="en-US" sz="3800" spc="-1" strike="noStrike">
              <a:solidFill>
                <a:srgbClr val="006633"/>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lphi process to assess validity and feasibility of measures in use by State Medicaid and CHIP program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und 1 completed prior to meeting</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asures scored on a 9-point scale</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9 – Measure is definitely valid and feasible</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6 – Measure has uncertain validity and feasibility</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 – Measure is not valid or feasib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70089-6957-4039-ACC1-F37B67FE02A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eting July 22, 2009: Discussion of Delphi Round 1 Results</a:t>
            </a:r>
            <a:endParaRPr b="0" lang="en-US" sz="3800" spc="-1" strike="noStrike">
              <a:solidFill>
                <a:srgbClr val="006633"/>
              </a:solidFill>
              <a:latin typeface="Garamond"/>
            </a:endParaRPr>
          </a:p>
        </p:txBody>
      </p:sp>
      <p:sp>
        <p:nvSpPr>
          <p:cNvPr id="137" name="PlaceHolder 2"/>
          <p:cNvSpPr>
            <a:spLocks noGrp="1"/>
          </p:cNvSpPr>
          <p:nvPr>
            <p:ph/>
          </p:nvPr>
        </p:nvSpPr>
        <p:spPr>
          <a:xfrm>
            <a:off x="380880" y="1676160"/>
            <a:ext cx="8229600" cy="4530600"/>
          </a:xfrm>
          <a:prstGeom prst="rect">
            <a:avLst/>
          </a:prstGeom>
          <a:noFill/>
          <a:ln w="0">
            <a:noFill/>
          </a:ln>
        </p:spPr>
        <p:txBody>
          <a:bodyPr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versial measures </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ity or feasibility ratings with substantial disagreement among subcommittee members were discussed</a:t>
            </a:r>
            <a:endParaRPr b="0" lang="en-US" sz="2400" spc="-1" strike="noStrike">
              <a:solidFill>
                <a:srgbClr val="000000"/>
              </a:solidFill>
              <a:latin typeface="Arial"/>
            </a:endParaRPr>
          </a:p>
          <a:p>
            <a:pPr lvl="1" marL="669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nd 2 Delphi process for these controversial measures after meeting deliber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11C6-1EB8-47FA-8336-6588B44F4F8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Meeting July 23, 2009: Assessing Measure Importance</a:t>
            </a:r>
            <a:endParaRPr b="0" lang="en-US" sz="34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aluated importance for measures with passing validity and feasibility in Round 1  </a:t>
            </a:r>
            <a:endParaRPr b="0" lang="en-US" sz="2100" spc="-1" strike="noStrike">
              <a:solidFill>
                <a:srgbClr val="000000"/>
              </a:solidFill>
              <a:latin typeface="Arial"/>
            </a:endParaRPr>
          </a:p>
          <a:p>
            <a:pPr lvl="1" marL="669960" indent="-325440">
              <a:lnSpc>
                <a:spcPct val="9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alidity score of 7-9 </a:t>
            </a:r>
            <a:endParaRPr b="0" lang="en-US" sz="1900" spc="-1" strike="noStrike">
              <a:solidFill>
                <a:srgbClr val="000000"/>
              </a:solidFill>
              <a:latin typeface="Arial"/>
            </a:endParaRPr>
          </a:p>
          <a:p>
            <a:pPr lvl="1" marL="669960" indent="-325440">
              <a:lnSpc>
                <a:spcPct val="90000"/>
              </a:lnSpc>
              <a:spcBef>
                <a:spcPts val="47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easibility score of 4-6</a:t>
            </a:r>
            <a:endParaRPr b="0" lang="en-US" sz="1900" spc="-1" strike="noStrike">
              <a:solidFill>
                <a:srgbClr val="000000"/>
              </a:solidFill>
              <a:latin typeface="Arial"/>
            </a:endParaRPr>
          </a:p>
          <a:p>
            <a:pPr lvl="1" marL="669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phi process to assess importance</a:t>
            </a:r>
            <a:endParaRPr b="0" lang="en-US" sz="2400" spc="-1" strike="noStrike">
              <a:solidFill>
                <a:srgbClr val="000000"/>
              </a:solidFill>
              <a:latin typeface="Arial"/>
            </a:endParaRPr>
          </a:p>
          <a:p>
            <a:pPr lvl="1" marL="669960" indent="-325440">
              <a:lnSpc>
                <a:spcPct val="90000"/>
              </a:lnSpc>
              <a:spcBef>
                <a:spcPts val="5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9-point scale</a:t>
            </a:r>
            <a:endParaRPr b="0" lang="en-US" sz="2100" spc="-1" strike="noStrike">
              <a:solidFill>
                <a:srgbClr val="000000"/>
              </a:solidFill>
              <a:latin typeface="Arial"/>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7-9: Measure of clear importance</a:t>
            </a:r>
            <a:endParaRPr b="0" lang="en-US" sz="1900" spc="-1" strike="noStrike">
              <a:solidFill>
                <a:srgbClr val="000000"/>
              </a:solidFill>
              <a:latin typeface="Arial"/>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4-6: Level of importance uncertain</a:t>
            </a:r>
            <a:endParaRPr b="0" lang="en-US" sz="1900" spc="-1" strike="noStrike">
              <a:solidFill>
                <a:srgbClr val="000000"/>
              </a:solidFill>
              <a:latin typeface="Arial"/>
            </a:endParaRPr>
          </a:p>
          <a:p>
            <a:pPr lvl="2" marL="1022400" indent="-351000">
              <a:lnSpc>
                <a:spcPct val="90000"/>
              </a:lnSpc>
              <a:spcBef>
                <a:spcPts val="47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3: Measure does not meet importance criteria</a:t>
            </a:r>
            <a:endParaRPr b="0" lang="en-US" sz="1900" spc="-1" strike="noStrike">
              <a:solidFill>
                <a:srgbClr val="000000"/>
              </a:solidFill>
              <a:latin typeface="Arial"/>
            </a:endParaRPr>
          </a:p>
          <a:p>
            <a:pPr lvl="2" marL="102240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with an importance score of 4 or higher on the 9-point Delphi scale were retained in the preliminary set of core measur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A305-9603-4FAE-951B-5B526050016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asures Having Passing Scores for Validity, Feasibility, and Importance </a:t>
            </a:r>
            <a:endParaRPr b="0" lang="en-US" sz="3800" spc="-1" strike="noStrike">
              <a:solidFill>
                <a:srgbClr val="006633"/>
              </a:solidFill>
              <a:latin typeface="Garamond"/>
            </a:endParaRPr>
          </a:p>
        </p:txBody>
      </p:sp>
      <p:sp>
        <p:nvSpPr>
          <p:cNvPr id="143" name="PlaceHolder 2"/>
          <p:cNvSpPr>
            <a:spLocks noGrp="1"/>
          </p:cNvSpPr>
          <p:nvPr>
            <p:ph/>
          </p:nvPr>
        </p:nvSpPr>
        <p:spPr>
          <a:xfrm>
            <a:off x="533520" y="1523880"/>
            <a:ext cx="8229600" cy="453096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ventive Care Measures</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of ongoing prenatal care</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oking cessation and prevention</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lamydia screening</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unizations for 2-year olds</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lescent immunization</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uenza vaccination</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child care visit (WCV) rates - first 15 months</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V Rates- 3, 4, 5, 6-year olds</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lescent WCV - overall</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ring screening</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scree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tential Impact of Core Measures Identification Work: 45% of America’s Children under Age 19  </a:t>
            </a:r>
            <a:endParaRPr b="0" lang="en-US" sz="3800" spc="-1" strike="noStrike">
              <a:solidFill>
                <a:srgbClr val="006633"/>
              </a:solidFill>
              <a:latin typeface="Garamond"/>
            </a:endParaRPr>
          </a:p>
        </p:txBody>
      </p:sp>
      <p:sp>
        <p:nvSpPr>
          <p:cNvPr id="90" name=""/>
          <p:cNvSpPr/>
          <p:nvPr/>
        </p:nvSpPr>
        <p:spPr>
          <a:xfrm>
            <a:off x="0" y="5334120"/>
            <a:ext cx="9144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AHRQ, based on: Coverage estimates: Based on 2008 national participant and spending data derived from CMS an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 Census Current Population Survey data sources, reported by the National Center on Children in Poverty, </a:t>
            </a:r>
            <a:r>
              <a:rPr b="0" lang="en-US" sz="1000" spc="-1" strike="noStrike" u="sng">
                <a:solidFill>
                  <a:srgbClr val="996600"/>
                </a:solidFill>
                <a:uFillTx/>
                <a:latin typeface="Arial"/>
                <a:hlinkClick r:id="rId1"/>
              </a:rPr>
              <a:t>http://www.nccp.org/profiles/index_32.html</a:t>
            </a:r>
            <a:r>
              <a:rPr b="0" lang="en-US" sz="1000" spc="-1" strike="noStrike" u="sng">
                <a:solidFill>
                  <a:srgbClr val="000000"/>
                </a:solidFill>
                <a:uFillTx/>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P estimates are for number of children in separate SCHIP programs. Medicaid estimates include children in Medicaid SCHIP program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verage estimates reflect Medicaid and CHIP enrollees whether or not they received health care services. Total number of children under 19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polated from U.S. Census Bureau figures for number of children 17 and under (73.9 million) and children 19 and under (83 million). </a:t>
            </a:r>
            <a:endParaRPr b="0" lang="en-US" sz="1000" spc="-1" strike="noStrike">
              <a:solidFill>
                <a:srgbClr val="000000"/>
              </a:solidFill>
              <a:latin typeface="Arial"/>
            </a:endParaRPr>
          </a:p>
        </p:txBody>
      </p:sp>
      <p:graphicFrame>
        <p:nvGraphicFramePr>
          <p:cNvPr id="91" name="Rectangle 3"/>
          <p:cNvGraphicFramePr/>
          <p:nvPr/>
        </p:nvGraphicFramePr>
        <p:xfrm>
          <a:off x="766800" y="914400"/>
          <a:ext cx="7327800" cy="4975200"/>
        </p:xfrm>
        <a:graphic>
          <a:graphicData uri="http://schemas.openxmlformats.org/presentationml/2006/ole">
            <p:oleObj progId="Excel.Sheet.12" r:id="rId2" spid="">
              <p:embed/>
              <p:pic>
                <p:nvPicPr>
                  <p:cNvPr id="92" name="Rectangle 3" descr=""/>
                  <p:cNvPicPr/>
                  <p:nvPr/>
                </p:nvPicPr>
                <p:blipFill>
                  <a:blip r:embed="rId3"/>
                  <a:stretch/>
                </p:blipFill>
                <p:spPr>
                  <a:xfrm>
                    <a:off x="766800" y="914400"/>
                    <a:ext cx="7327800" cy="497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19F3-19DE-468A-9D30-9D38D038C32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asures having passing scores for Validity, Feasibility, and Importance</a:t>
            </a:r>
            <a:endParaRPr b="0" lang="en-US" sz="38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Dental Care Measures</a:t>
            </a:r>
            <a:endParaRPr b="0" lang="en-US" sz="25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ve periodic oral health exams </a:t>
            </a:r>
            <a:endParaRPr b="0"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dental visit </a:t>
            </a:r>
            <a:endParaRPr b="0" lang="en-US" sz="24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ute Care Measures</a:t>
            </a:r>
            <a:endParaRPr b="0" lang="en-US" sz="25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per respiratory infection- Appropriate treatment</a:t>
            </a:r>
            <a:endParaRPr b="0" lang="en-US" sz="24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ryngitis- Appropriate testing</a:t>
            </a:r>
            <a:endParaRPr b="0" lang="en-US" sz="24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hronic Care Measures</a:t>
            </a:r>
            <a:endParaRPr b="0" lang="en-US" sz="25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thma- Appropriate medications for people with asthma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B35B-3317-4259-B428-ECD04D51C57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asures Having Passing Scores for Validity, Feasibility, and Importance</a:t>
            </a:r>
            <a:endParaRPr b="0" lang="en-US" sz="3800" spc="-1" strike="noStrike">
              <a:solidFill>
                <a:srgbClr val="006633"/>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al Health Care Measures</a:t>
            </a:r>
            <a:endParaRPr b="0" lang="en-US" sz="24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tion-Deficit/Hyperactivity Disorder (ADHD) care - Initiation phase</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HD Care - Continuation and maintenance phase</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 after hospitalization for mental illness</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ssion management</a:t>
            </a:r>
            <a:endParaRPr b="0" lang="en-US" sz="18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Experiences with Care Measures</a:t>
            </a:r>
            <a:endParaRPr b="0" lang="en-US" sz="24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care Effectiveness Data and Information Set (HEDIS), Consumer Assessment of Healthcare Providers and Systems (CAHPS)</a:t>
            </a:r>
            <a:endParaRPr b="0" lang="en-US" sz="1800" spc="-1" strike="noStrike">
              <a:solidFill>
                <a:srgbClr val="000000"/>
              </a:solidFill>
              <a:latin typeface="Arial"/>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healthy children</a:t>
            </a:r>
            <a:endParaRPr b="0" lang="en-US" sz="1800" spc="-1" strike="noStrike">
              <a:solidFill>
                <a:srgbClr val="000000"/>
              </a:solidFill>
              <a:latin typeface="Arial"/>
            </a:endParaRPr>
          </a:p>
          <a:p>
            <a:pPr lvl="2" marL="1022400" indent="-351000">
              <a:lnSpc>
                <a:spcPct val="9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hildren with special health care needs</a:t>
            </a:r>
            <a:endParaRPr b="0" lang="en-US" sz="18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and Utilization Measures</a:t>
            </a:r>
            <a:endParaRPr b="0" lang="en-US" sz="24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primary care practitioners, by age and total</a:t>
            </a:r>
            <a:endParaRPr b="0" lang="en-US" sz="1800" spc="-1" strike="noStrike">
              <a:solidFill>
                <a:srgbClr val="000000"/>
              </a:solidFill>
              <a:latin typeface="Arial"/>
            </a:endParaRPr>
          </a:p>
          <a:p>
            <a:pPr lvl="1" marL="669960" indent="-325440">
              <a:lnSpc>
                <a:spcPct val="90000"/>
              </a:lnSpc>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zation of ambulatory ser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0461-386B-4AC3-A4DF-033358BCFD8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dditional Measures in Use Proposed During Meeting</a:t>
            </a:r>
            <a:endParaRPr b="0" lang="en-US" sz="3800" spc="-1" strike="noStrike">
              <a:solidFill>
                <a:srgbClr val="006633"/>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evidence supporting measu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who is currently using the measu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tain specifications for the measu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lphi process for new measures to asses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lidit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sibilit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ortance</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80081-3A36-4B1F-8C3B-089B744CCC6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election of Measures Recommended for Inclusion in the Final Core Set</a:t>
            </a:r>
            <a:br>
              <a:rPr sz="3800"/>
            </a:br>
            <a:endParaRPr b="0" lang="en-US" sz="3800" spc="-1" strike="noStrike">
              <a:solidFill>
                <a:srgbClr val="006633"/>
              </a:solidFill>
              <a:latin typeface="Garamond"/>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ptember 2009 meeting: </a:t>
            </a:r>
            <a:endParaRPr b="0" lang="en-US" sz="30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rther discuss and rate importance for preliminary core set and new measures identified as valid and feasible</a:t>
            </a:r>
            <a:endParaRPr b="0" lang="en-US" sz="26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rive at the most parsimonious set of measures that when assessed together will provide valid estimates of the overall national quality of health care for children insured by Medicaid and CHI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298F8-CE26-4824-B986-35A151D9851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 </a:t>
            </a:r>
            <a:r>
              <a:rPr b="0" lang="en-US" sz="3800" spc="-1" strike="noStrike">
                <a:solidFill>
                  <a:srgbClr val="006633"/>
                </a:solidFill>
                <a:latin typeface="Garamond"/>
              </a:rPr>
              <a:t>Our View of the Opportunity Presented by the Legislation</a:t>
            </a:r>
            <a:endParaRPr b="0" lang="en-US" sz="3800" spc="-1" strike="noStrike">
              <a:solidFill>
                <a:srgbClr val="006633"/>
              </a:solidFill>
              <a:latin typeface="Garamond"/>
            </a:endParaRPr>
          </a:p>
        </p:txBody>
      </p:sp>
      <p:sp>
        <p:nvSpPr>
          <p:cNvPr id="158" name="PlaceHolder 2"/>
          <p:cNvSpPr>
            <a:spLocks noGrp="1"/>
          </p:cNvSpPr>
          <p:nvPr>
            <p:ph/>
          </p:nvPr>
        </p:nvSpPr>
        <p:spPr>
          <a:xfrm>
            <a:off x="457200" y="2057040"/>
            <a:ext cx="8229600" cy="453060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ng-term focus on health care quality for children beyond CHIP</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portunity to bring together efforts of disparate organizations/parts of government to create focus and move the child health quality agenda forward</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ed support from the NAC to build the bridge toward our aspirational long-term vision of being able to rigorously and comprehensively assess and improve on health care quality for the Nation’s childr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615B-BA3D-4175-BAB5-AC67B8C6186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ublic Law 111-3  Title IV- Strengthening Quality of Care and Health Outcomes</a:t>
            </a:r>
            <a:endParaRPr b="0" lang="en-US" sz="38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tion 401 Child Health Quality Improvement Activities for Children Enrolled in Medicaid or CHI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tion 1139A Child Health Quality Measur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y January 1, 2010, the Secretary shall identify and publish for general comment an initial, recommended core set of child health quality measures for use by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8BCEF-637B-453E-9D5C-654E2867120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ublic Law 111-3 Title IV (continued)</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565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itial core set that includes (but is not limited to):</a:t>
            </a:r>
            <a:endParaRPr b="0" lang="en-US" sz="2600" spc="-1" strike="noStrike">
              <a:solidFill>
                <a:srgbClr val="000000"/>
              </a:solidFill>
              <a:latin typeface="Arial"/>
            </a:endParaRPr>
          </a:p>
          <a:p>
            <a:pPr marL="565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rPr>
              <a:t>1.</a:t>
            </a:r>
            <a:r>
              <a:rPr b="0" lang="en-US" sz="2600" spc="-1" strike="noStrike">
                <a:solidFill>
                  <a:srgbClr val="000000"/>
                </a:solidFill>
                <a:latin typeface="Arial"/>
              </a:rPr>
              <a:t>   Presence and duration of health insurance</a:t>
            </a:r>
            <a:endParaRPr b="0" lang="en-US" sz="2600" spc="-1" strike="noStrike">
              <a:solidFill>
                <a:srgbClr val="000000"/>
              </a:solidFill>
              <a:latin typeface="Arial"/>
            </a:endParaRPr>
          </a:p>
          <a:p>
            <a:pPr marL="565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rPr>
              <a:t>2.</a:t>
            </a:r>
            <a:r>
              <a:rPr b="0" lang="en-US" sz="2600" spc="-1" strike="noStrike">
                <a:solidFill>
                  <a:srgbClr val="000000"/>
                </a:solidFill>
                <a:latin typeface="Arial"/>
              </a:rPr>
              <a:t>   Availability and effectiveness of</a:t>
            </a:r>
            <a:endParaRPr b="0" lang="en-US" sz="2600" spc="-1" strike="noStrike">
              <a:solidFill>
                <a:srgbClr val="000000"/>
              </a:solidFill>
              <a:latin typeface="Arial"/>
            </a:endParaRPr>
          </a:p>
          <a:p>
            <a:pPr lvl="1" marL="831240" indent="-4903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ventive services</a:t>
            </a:r>
            <a:endParaRPr b="0" lang="en-US" sz="2200" spc="-1" strike="noStrike">
              <a:solidFill>
                <a:srgbClr val="000000"/>
              </a:solidFill>
              <a:latin typeface="Arial"/>
            </a:endParaRPr>
          </a:p>
          <a:p>
            <a:pPr lvl="1" marL="831240" indent="-4903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s for acute conditions </a:t>
            </a:r>
            <a:endParaRPr b="0" lang="en-US" sz="2200" spc="-1" strike="noStrike">
              <a:solidFill>
                <a:srgbClr val="000000"/>
              </a:solidFill>
              <a:latin typeface="Arial"/>
            </a:endParaRPr>
          </a:p>
          <a:p>
            <a:pPr lvl="1" marL="831240" indent="-4903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s to promote healthy birth, prevent and treat premature birth, detect the presence or risk of conditions that could adversely affect growth and development</a:t>
            </a:r>
            <a:endParaRPr b="0" lang="en-US" sz="2200" spc="-1" strike="noStrike">
              <a:solidFill>
                <a:srgbClr val="000000"/>
              </a:solidFill>
              <a:latin typeface="Arial"/>
            </a:endParaRPr>
          </a:p>
          <a:p>
            <a:pPr lvl="1" marL="831240" indent="-4903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atments to correct and ameliorate the effects of chronic physical and mental conditions</a:t>
            </a:r>
            <a:endParaRPr b="0" lang="en-US" sz="2200" spc="-1" strike="noStrike">
              <a:solidFill>
                <a:srgbClr val="000000"/>
              </a:solidFill>
              <a:latin typeface="Arial"/>
            </a:endParaRPr>
          </a:p>
          <a:p>
            <a:pPr marL="565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4671B-6368-4084-9251-8A762477561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ublic Law 111-3 Title IV (continued)</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re set (continued)</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rPr>
              <a:t>3.</a:t>
            </a:r>
            <a:r>
              <a:rPr b="0" lang="en-US" sz="2200" spc="-1" strike="noStrike">
                <a:solidFill>
                  <a:srgbClr val="cc9900"/>
                </a:solidFill>
                <a:latin typeface="Arial"/>
              </a:rPr>
              <a:t> </a:t>
            </a:r>
            <a:r>
              <a:rPr b="0" lang="en-US" sz="3000" spc="-1" strike="noStrike">
                <a:solidFill>
                  <a:srgbClr val="000000"/>
                </a:solidFill>
                <a:latin typeface="Arial"/>
              </a:rPr>
              <a:t>Availability of care </a:t>
            </a:r>
            <a:endParaRPr b="0" lang="en-US" sz="30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bulatory</a:t>
            </a:r>
            <a:endParaRPr b="0" lang="en-US" sz="26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patient</a:t>
            </a:r>
            <a:endParaRPr b="0" lang="en-US" sz="26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rPr>
              <a:t>4.</a:t>
            </a:r>
            <a:r>
              <a:rPr b="0" lang="en-US" sz="3000" spc="-1" strike="noStrike">
                <a:solidFill>
                  <a:srgbClr val="000000"/>
                </a:solidFill>
                <a:latin typeface="Arial"/>
              </a:rPr>
              <a:t>Taken together – Used to estimate the overall national quality of health care for children</a:t>
            </a:r>
            <a:endParaRPr b="0" lang="en-US" sz="3000" spc="-1" strike="noStrike">
              <a:solidFill>
                <a:srgbClr val="000000"/>
              </a:solidFill>
              <a:latin typeface="Arial"/>
            </a:endParaRPr>
          </a:p>
          <a:p>
            <a:pPr lvl="1" marL="839880" indent="-4953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luding children with special health care needs and comparing disparate popula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1619-9111-40AA-9826-1CE6C08F514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ublic Law 111-3 (continued)</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rPr>
              <a:t>1.</a:t>
            </a:r>
            <a:r>
              <a:rPr b="0" lang="en-US" sz="2600" spc="-1" strike="noStrike">
                <a:solidFill>
                  <a:srgbClr val="000000"/>
                </a:solidFill>
                <a:latin typeface="Arial"/>
              </a:rPr>
              <a:t> Encourage voluntary and standardized reporting</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rPr>
              <a:t>2.</a:t>
            </a:r>
            <a:r>
              <a:rPr b="0" lang="en-US" sz="2600" spc="-1" strike="noStrike">
                <a:solidFill>
                  <a:srgbClr val="000000"/>
                </a:solidFill>
                <a:latin typeface="Arial"/>
              </a:rPr>
              <a:t> Particular attention to techniques that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sure the timeliness and accuracy of provider reporting</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ourage provider compliance</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ourage successful quality improvement strategies, and</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efficiency in data collection using HIT</a:t>
            </a:r>
            <a:endParaRPr b="0" lang="en-US" sz="2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rPr>
              <a:t>3.</a:t>
            </a:r>
            <a:r>
              <a:rPr b="0" lang="en-US" sz="2600" spc="-1" strike="noStrike">
                <a:solidFill>
                  <a:srgbClr val="000000"/>
                </a:solidFill>
                <a:latin typeface="Arial"/>
              </a:rPr>
              <a:t> Valid, reliable, and evidence-based</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rPr>
              <a:t>4.</a:t>
            </a:r>
            <a:r>
              <a:rPr b="0" lang="en-US" sz="2600" spc="-1" strike="noStrike">
                <a:solidFill>
                  <a:srgbClr val="000000"/>
                </a:solidFill>
                <a:latin typeface="Arial"/>
              </a:rPr>
              <a:t> Allow families and health care providers to understand the quality of car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264F-B123-4CA2-9E62-8E09A861041F}"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33"/>
                </a:solidFill>
                <a:latin typeface="Garamond"/>
              </a:rPr>
              <a:t>Subcommittee on Children’s Healthcare Quality Measures for Medicaid and CHIP Programs</a:t>
            </a:r>
            <a:endParaRPr b="0" lang="en-US" sz="34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Membership includes</a:t>
            </a:r>
            <a:endParaRPr b="0" lang="en-US" sz="25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wo NAC member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IP directo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tle V director</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wo Medicaid Medical Director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rganizational members</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merican Academy of Pediatrics, American Board of Pediatrics, American Academy of Family Physicians, March of Dimes, National Academy for State Health Policy, National Association of Children’s Hospitals and Related Institutions, National Association of State Medicaid Directors, National Association of Pediatric Nurse Practitioners</a:t>
            </a:r>
            <a:endParaRPr b="0" lang="en-US" sz="1900" spc="-1" strike="noStrike">
              <a:solidFill>
                <a:srgbClr val="000000"/>
              </a:solidFill>
              <a:latin typeface="Arial"/>
            </a:endParaRPr>
          </a:p>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s with expertise in dental care, mental health and chemical dependency, community health centers, children with special health needs, disparities, quality measuremen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6D41A-BFB7-4FC4-9F0B-BA3F1C2AA9B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als of the First Meeting</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ch consensus on the scope of the core measurement set</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ach consensus on definitions for evaluation criteria:</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ity</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asibility</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ortance</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ntify a preliminary core set of quality measures that meet these criteri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blish the group process for arriving at the final recommended core set of quality measures by September 30, 2009</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832AB-4A2D-468A-B9B4-4D9009AC341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onceptual Framework – Guiding Determination of the Scope for Core Measurement Set</a:t>
            </a:r>
            <a:endParaRPr b="0" lang="en-US" sz="3800" spc="-1" strike="noStrike">
              <a:solidFill>
                <a:srgbClr val="006633"/>
              </a:solidFill>
              <a:latin typeface="Garamond"/>
            </a:endParaRPr>
          </a:p>
        </p:txBody>
      </p:sp>
      <p:sp>
        <p:nvSpPr>
          <p:cNvPr id="113" name="PlaceHolder 2"/>
          <p:cNvSpPr>
            <a:spLocks noGrp="1"/>
          </p:cNvSpPr>
          <p:nvPr>
            <p:ph/>
          </p:nvPr>
        </p:nvSpPr>
        <p:spPr>
          <a:xfrm>
            <a:off x="457200" y="23270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rounded </a:t>
            </a:r>
            <a:r>
              <a:rPr b="0" lang="en-US" sz="4600" spc="-1" strike="noStrike">
                <a:solidFill>
                  <a:srgbClr val="000000"/>
                </a:solidFill>
                <a:latin typeface="Arial"/>
                <a:ea typeface="Arial"/>
              </a:rPr>
              <a:t>→ </a:t>
            </a:r>
            <a:r>
              <a:rPr b="0" lang="en-US" sz="2800" spc="-1" strike="noStrike">
                <a:solidFill>
                  <a:srgbClr val="000000"/>
                </a:solidFill>
                <a:latin typeface="Arial"/>
                <a:ea typeface="Arial"/>
              </a:rPr>
              <a:t>Intermediate </a:t>
            </a:r>
            <a:r>
              <a:rPr b="0" lang="en-US" sz="4600" spc="-1" strike="noStrike">
                <a:solidFill>
                  <a:srgbClr val="000000"/>
                </a:solidFill>
                <a:latin typeface="Arial"/>
                <a:ea typeface="Arial"/>
              </a:rPr>
              <a:t>→</a:t>
            </a:r>
            <a:r>
              <a:rPr b="0" lang="en-US" sz="2800" spc="-1" strike="noStrike">
                <a:solidFill>
                  <a:srgbClr val="000000"/>
                </a:solidFill>
                <a:latin typeface="Arial"/>
                <a:ea typeface="Arial"/>
              </a:rPr>
              <a:t> Aspirational </a:t>
            </a: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Measures</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Measures</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Measure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n towards recommending more grounded measures</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nded</a:t>
            </a:r>
            <a:r>
              <a:rPr b="0" lang="en-US" sz="2200" spc="-1" strike="noStrike">
                <a:solidFill>
                  <a:srgbClr val="000000"/>
                </a:solidFill>
                <a:latin typeface="Arial"/>
              </a:rPr>
              <a:t>:10-25, currently feasible, many already in place</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rmediate category</a:t>
            </a:r>
            <a:r>
              <a:rPr b="0" lang="en-US" sz="2200" spc="-1" strike="noStrike">
                <a:solidFill>
                  <a:srgbClr val="000000"/>
                </a:solidFill>
                <a:latin typeface="Arial"/>
              </a:rPr>
              <a:t>: number to be determined, good specifications, some States already using them</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irational</a:t>
            </a:r>
            <a:r>
              <a:rPr b="0" lang="en-US" sz="2200" spc="-1" strike="noStrike">
                <a:solidFill>
                  <a:srgbClr val="000000"/>
                </a:solidFill>
                <a:latin typeface="Arial"/>
              </a:rPr>
              <a:t>: needed measures to fill in the gap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2T11:54:59Z</dcterms:created>
  <dc:creator>Child Health Institute</dc:creator>
  <dc:description/>
  <dc:language>en-US</dc:language>
  <cp:lastModifiedBy>DHHS</cp:lastModifiedBy>
  <dcterms:modified xsi:type="dcterms:W3CDTF">2009-08-05T14:13:59Z</dcterms:modified>
  <cp:revision>47</cp:revision>
  <dc:subject/>
  <dc:title>AHRQ National Advisory Council on Healthcare Research and Quality Subcommittee on Children’s Healthcare Quality Measures for Medicaid and CHIP Programs Progress Report</dc:title>
</cp:coreProperties>
</file>