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18F1A6D-7A1F-472A-B267-AD055CDC7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CC54EA9-4E1F-4D38-9D4F-DD97536A3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560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44094B3-61D2-45FC-864E-4A3AFC23E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B685924-EC39-45F8-8739-05CA01392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F972B5E-A728-47A7-B918-292FC19D9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36680" y="974880"/>
            <a:ext cx="4186080" cy="3139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FFC0A19-AB89-4ABD-864F-14850E53B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66E0F87-1314-48CC-A7F0-5E4954B6D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1CB349C-2910-4732-9F23-E6988FFCE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E2832C5-7784-45C8-B593-89655C588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E3F9CF1-1BEE-4793-AA95-17B835BA9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45920" y="4422600"/>
            <a:ext cx="50274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8B4A72D-68FD-4C08-B160-6FB9C397E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C2A2D3D-83F4-4EBB-B03E-F3846A2B5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A46DE48-8599-4622-B839-AD3FC34AC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820440" y="4346280"/>
            <a:ext cx="50274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B08E826-2E72-4C2F-9363-24E82F20F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497480"/>
            <a:ext cx="5029200" cy="3959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889D5BA-5F98-46C2-94D3-371B2A741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F286B4A-5634-4FB1-AD28-E8B80F846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B67CF5B-95AB-441A-807E-A7371F502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00120"/>
            <a:ext cx="4570560" cy="342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34DDBB9-6BBD-4EFA-AB64-9B4F61658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A53B-9C0F-497E-906E-6FD27B9F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B07-2C77-46EE-99FB-69719775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FEF1-DE73-49E8-A0B6-4CD16D13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8186-C341-49A4-B571-26FBE3D5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C9A4-5598-4A7F-8719-B7CE7DEC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7D2E-C205-4B0A-9196-485108CC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E597-4983-4BBF-A3EA-1C6801F0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9690-E85B-4D7F-A63E-C69B279F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E10-EC09-4E96-8F46-566F1CE0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F581-AA26-4D35-B1C6-3E215C22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E925-CDAC-474F-9E8E-EA7D067F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09C2-5B8A-46D9-AD12-3EE4279C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A27A-A2F1-41E0-91E7-0D08DF272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04D7-75B5-48F1-BC76-6CEA446C8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ATIONAL ADVISORY COUNCIL ON HEALTHCARE RESEARCH AND QUALIT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ubcommittee on Quality Measures for Children's Healthcare in Medicaid and CHIP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view of the CMS and AHRQ Partnership for Improving the Quality of Health Care for Children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id and CHIP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indy Mann, Director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nters for Medicaid &amp; State Operations</a:t>
            </a:r>
            <a:br>
              <a:rPr sz="1800"/>
            </a:br>
            <a:br>
              <a:rPr sz="18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rbara Dailey, Dire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ivision of Quality, Evaluation, and Health Outcomes</a:t>
            </a:r>
            <a:br>
              <a:rPr sz="18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ly 22, 2009</a:t>
            </a:r>
            <a:br>
              <a:rPr sz="2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MS Technical Assistance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es &amp; Provi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22093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MS will provide assistance to States as they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dopt  &amp; integrate specific performance measur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reate &amp; implement quality improvement initiativ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tilize &amp; interpret reported measur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se evidence to identify exemplary performers and opportunities for improvement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ovide program and provider repor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upport State initiatives including public reporting and pay for performan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0A15-459A-433A-9A76-8801064B9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61EF-1376-45C6-A179-A1DC24984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6600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livering 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mi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Right C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Every Pers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very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F:\My Pictures\Mattie_MDASpeech.jpg"/>
          <p:cNvPicPr/>
          <p:nvPr/>
        </p:nvPicPr>
        <p:blipFill>
          <a:blip r:embed="rId1"/>
          <a:stretch/>
        </p:blipFill>
        <p:spPr>
          <a:xfrm>
            <a:off x="380880" y="1371600"/>
            <a:ext cx="2752920" cy="1800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Placeholder 10" descr="child.jpg"/>
          <p:cNvPicPr/>
          <p:nvPr/>
        </p:nvPicPr>
        <p:blipFill>
          <a:blip r:embed="rId2"/>
          <a:srcRect l="0" t="7437" r="0" b="7437"/>
          <a:stretch/>
        </p:blipFill>
        <p:spPr>
          <a:xfrm>
            <a:off x="4267080" y="4114800"/>
            <a:ext cx="2826000" cy="198756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MS Foundation for Establishing 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diatric Quality Measures Progra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AHR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Quality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d Care External Quality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diatric Measurement Program for C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y Measures Compen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s with National Stakeho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F820-5834-4162-857B-2D5AC3EE8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905120" y="3049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04920" y="9907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ional Framework for CHIP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dicaid Quality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038480" y="25146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5"/>
          <p:cNvGrpSpPr/>
          <p:nvPr/>
        </p:nvGrpSpPr>
        <p:grpSpPr>
          <a:xfrm>
            <a:off x="1830240" y="3581280"/>
            <a:ext cx="5103360" cy="2731680"/>
            <a:chOff x="1830240" y="3581280"/>
            <a:chExt cx="5103360" cy="2731680"/>
          </a:xfrm>
        </p:grpSpPr>
        <p:sp>
          <p:nvSpPr>
            <p:cNvPr id="126" name="Oval 6"/>
            <p:cNvSpPr/>
            <p:nvPr/>
          </p:nvSpPr>
          <p:spPr>
            <a:xfrm>
              <a:off x="1905480" y="3581280"/>
              <a:ext cx="3618720" cy="2607120"/>
            </a:xfrm>
            <a:prstGeom prst="ellipse">
              <a:avLst/>
            </a:prstGeom>
            <a:solidFill>
              <a:srgbClr val="8585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7"/>
            <p:cNvSpPr/>
            <p:nvPr/>
          </p:nvSpPr>
          <p:spPr>
            <a:xfrm>
              <a:off x="3582000" y="3581280"/>
              <a:ext cx="3263760" cy="2731680"/>
            </a:xfrm>
            <a:prstGeom prst="ellipse">
              <a:avLst/>
            </a:prstGeom>
            <a:solidFill>
              <a:srgbClr val="8585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8"/>
            <p:cNvSpPr/>
            <p:nvPr/>
          </p:nvSpPr>
          <p:spPr>
            <a:xfrm>
              <a:off x="3140280" y="3581280"/>
              <a:ext cx="2558520" cy="2731680"/>
            </a:xfrm>
            <a:prstGeom prst="ellipse">
              <a:avLst/>
            </a:prstGeom>
            <a:solidFill>
              <a:srgbClr val="8585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9"/>
            <p:cNvSpPr/>
            <p:nvPr/>
          </p:nvSpPr>
          <p:spPr>
            <a:xfrm>
              <a:off x="1830240" y="4419360"/>
              <a:ext cx="141156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ational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Quality Improvement Effort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10"/>
            <p:cNvSpPr/>
            <p:nvPr/>
          </p:nvSpPr>
          <p:spPr>
            <a:xfrm>
              <a:off x="5610600" y="4450320"/>
              <a:ext cx="13230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Quality Improvement Effort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11"/>
            <p:cNvSpPr/>
            <p:nvPr/>
          </p:nvSpPr>
          <p:spPr>
            <a:xfrm>
              <a:off x="3493440" y="4078080"/>
              <a:ext cx="185256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oundation of Framework 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sensus on Menu of Goals, Measures, and Interven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15"/>
          <p:cNvSpPr/>
          <p:nvPr/>
        </p:nvSpPr>
        <p:spPr>
          <a:xfrm>
            <a:off x="152280" y="1295280"/>
            <a:ext cx="1600200" cy="52488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HIPRA and Recovery Act Guid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OM Reports on Qual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pt. of Health &amp; Human Services Value-Driven Health Care Initia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gulatory Requir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rants to 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HRQ, Health Resources &amp; Services Admin. (HRSA), Centers for Disease Control &amp; Prevention (CDC), Office of Surgeon General, and External Stakeholder Initiativ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edicare/Medicaid Cross-Cutting Initiativ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MS Medicaid-CHIP Quality Strateg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MS Quality Roadma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7391520" y="1295280"/>
            <a:ext cx="1371600" cy="548856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tate Health IT Pl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ome &amp; Community-Based Services Quality Management Pl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xternal Quality Review Activit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tate Value-Based Purchasing Initiativ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tate Legislative Requir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pproved Medicaid Gra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tate Collaborations, Cross-Agency Initiatives, and Other State-Led Effor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HIP Quality Measur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tate Stud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tate Quality Strateg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1"/>
          <p:cNvSpPr/>
          <p:nvPr/>
        </p:nvSpPr>
        <p:spPr>
          <a:xfrm>
            <a:off x="57150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22"/>
          <p:cNvSpPr/>
          <p:nvPr/>
        </p:nvSpPr>
        <p:spPr>
          <a:xfrm>
            <a:off x="3429000" y="2057400"/>
            <a:ext cx="1905120" cy="914400"/>
          </a:xfrm>
          <a:prstGeom prst="ellipse">
            <a:avLst/>
          </a:prstGeom>
          <a:solidFill>
            <a:srgbClr val="8585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Care, Every Person, Ever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3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1"/>
          <p:cNvSpPr/>
          <p:nvPr/>
        </p:nvSpPr>
        <p:spPr>
          <a:xfrm>
            <a:off x="7924680" y="5943600"/>
            <a:ext cx="0" cy="3049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2"/>
          <p:cNvSpPr/>
          <p:nvPr/>
        </p:nvSpPr>
        <p:spPr>
          <a:xfrm>
            <a:off x="1981080" y="6400800"/>
            <a:ext cx="5257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838080" y="5562720"/>
            <a:ext cx="0" cy="3045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2860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A0E8-42FD-4470-9AAF-1D2D4F7F4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IP Quality Measures Progra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23619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States began collection of data on four core clinical performance measures for the State Child Health Insurance Program (SCHIP)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 child visits in the first 15 months of lif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child visits in the third, fourth, and sixth years of lif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appropriate medications for children with 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’s access to primary care practition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9D38-1B50-470D-BAAA-F473FBC88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2"/>
          <p:cNvSpPr/>
          <p:nvPr/>
        </p:nvSpPr>
        <p:spPr>
          <a:xfrm>
            <a:off x="380880" y="304920"/>
            <a:ext cx="411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33" descr=""/>
          <p:cNvPicPr/>
          <p:nvPr/>
        </p:nvPicPr>
        <p:blipFill>
          <a:blip r:embed="rId3"/>
          <a:stretch/>
        </p:blipFill>
        <p:spPr>
          <a:xfrm>
            <a:off x="1752480" y="1143000"/>
            <a:ext cx="4800600" cy="53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6190-FB82-4B69-BA13-C132438D3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914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ew and Ongoing Partnerships Fuel Our Ability to Support State Quality Effo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 Academy of Pedia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ociation for Community Affiliated P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ociations of State Program Directors (Nat’l Assn. of State Medicaid Directors, Nat’l Assn. of State Directors of Developmental Disabilities Services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okings In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nter for Health Care Strateg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ld and Adolescent Health Measurement Initi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deral Agencies (AHRQ, CDC, HRSA, National Institutes of Health, Substance Abuse and Mental Health Services Administration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ian Health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 of D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Association of Children’s Hospit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Academy for State Health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Initiative for Children’s Healthcare Qua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fice of the National 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any, many mor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8EF5-9712-4C3A-BE9F-B054BEBC2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228b"/>
                </a:solidFill>
                <a:latin typeface="Times New Roman"/>
              </a:rPr>
              <a:t>The Right Care, </a:t>
            </a:r>
            <a:br>
              <a:rPr sz="4000"/>
            </a:br>
            <a:r>
              <a:rPr b="0" lang="en-US" sz="4000" spc="-1" strike="noStrike">
                <a:solidFill>
                  <a:srgbClr val="22228b"/>
                </a:solidFill>
                <a:latin typeface="Times New Roman"/>
              </a:rPr>
              <a:t>For Every Person, </a:t>
            </a:r>
            <a:br>
              <a:rPr sz="4000"/>
            </a:br>
            <a:r>
              <a:rPr b="0" lang="en-US" sz="4000" spc="-1" strike="noStrike">
                <a:solidFill>
                  <a:srgbClr val="22228b"/>
                </a:solidFill>
                <a:latin typeface="Times New Roman"/>
              </a:rPr>
              <a:t>Every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20"/>
          <p:cNvGrpSpPr/>
          <p:nvPr/>
        </p:nvGrpSpPr>
        <p:grpSpPr>
          <a:xfrm>
            <a:off x="533520" y="3200400"/>
            <a:ext cx="7321320" cy="2035080"/>
            <a:chOff x="533520" y="3200400"/>
            <a:chExt cx="7321320" cy="2035080"/>
          </a:xfrm>
        </p:grpSpPr>
        <p:sp>
          <p:nvSpPr>
            <p:cNvPr id="155" name="Rectangle 5"/>
            <p:cNvSpPr/>
            <p:nvPr/>
          </p:nvSpPr>
          <p:spPr>
            <a:xfrm>
              <a:off x="533520" y="3209760"/>
              <a:ext cx="7321320" cy="1610280"/>
            </a:xfrm>
            <a:prstGeom prst="rect">
              <a:avLst/>
            </a:prstGeom>
            <a:solidFill>
              <a:srgbClr val="002e69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Picture 6" descr="5127687-2709x1806.jpg"/>
            <p:cNvPicPr/>
            <p:nvPr/>
          </p:nvPicPr>
          <p:blipFill>
            <a:blip r:embed="rId1"/>
            <a:srcRect l="0" t="5909" r="0" b="11396"/>
            <a:stretch/>
          </p:blipFill>
          <p:spPr>
            <a:xfrm>
              <a:off x="4270320" y="3290400"/>
              <a:ext cx="1455480" cy="1393920"/>
            </a:xfrm>
            <a:prstGeom prst="rect">
              <a:avLst/>
            </a:prstGeom>
            <a:ln w="0">
              <a:noFill/>
            </a:ln>
            <a:effectLst>
              <a:outerShdw dist="431731" dir="2700000" blurRad="0" rotWithShape="0">
                <a:srgbClr val="808080">
                  <a:alpha val="99000"/>
                </a:srgbClr>
              </a:outerShdw>
            </a:effectLst>
          </p:spPr>
        </p:pic>
        <p:pic>
          <p:nvPicPr>
            <p:cNvPr id="157" name="Picture 7" descr="5127733-1806x2709.jpg"/>
            <p:cNvPicPr/>
            <p:nvPr/>
          </p:nvPicPr>
          <p:blipFill>
            <a:blip r:embed="rId2"/>
            <a:srcRect l="22282" t="0" r="9045" b="0"/>
            <a:stretch/>
          </p:blipFill>
          <p:spPr>
            <a:xfrm>
              <a:off x="5846760" y="3287880"/>
              <a:ext cx="1868400" cy="1396440"/>
            </a:xfrm>
            <a:prstGeom prst="rect">
              <a:avLst/>
            </a:prstGeom>
            <a:ln w="0">
              <a:noFill/>
            </a:ln>
            <a:effectLst>
              <a:outerShdw dist="431731" dir="2700000" blurRad="0" rotWithShape="0">
                <a:srgbClr val="808080">
                  <a:alpha val="99000"/>
                </a:srgbClr>
              </a:outerShdw>
            </a:effectLst>
          </p:spPr>
        </p:pic>
        <p:pic>
          <p:nvPicPr>
            <p:cNvPr id="158" name="Picture 8" descr="12459732-2546x1697.jpg"/>
            <p:cNvPicPr/>
            <p:nvPr/>
          </p:nvPicPr>
          <p:blipFill>
            <a:blip r:embed="rId3"/>
            <a:stretch/>
          </p:blipFill>
          <p:spPr>
            <a:xfrm>
              <a:off x="548640" y="3200400"/>
              <a:ext cx="1999440" cy="20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9" descr="5127693-1806x2709.jpg"/>
            <p:cNvPicPr/>
            <p:nvPr/>
          </p:nvPicPr>
          <p:blipFill>
            <a:blip r:embed="rId4"/>
            <a:srcRect l="19237" t="0" r="16553" b="16318"/>
            <a:stretch/>
          </p:blipFill>
          <p:spPr>
            <a:xfrm>
              <a:off x="2033640" y="3282840"/>
              <a:ext cx="2041560" cy="1401480"/>
            </a:xfrm>
            <a:prstGeom prst="rect">
              <a:avLst/>
            </a:prstGeom>
            <a:ln w="0">
              <a:noFill/>
            </a:ln>
            <a:effectLst>
              <a:outerShdw dist="431731" dir="2700000" blurRad="0" rotWithShape="0">
                <a:srgbClr val="808080">
                  <a:alpha val="99000"/>
                </a:srgbClr>
              </a:outerShdw>
            </a:effectLst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S (Centers for Medicare &amp; Medicaid Services) and Health Re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id and CHIP (Children’s Health Insurance Program) Health Care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ing Elig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ing Accessibility and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gnment with Employer-Based Co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ing Transitions in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re-Medicaid Dual-Eligible Individ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raging Successes and Lessons-Learned from Medicare Quality Improvement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1C0C-BF18-4BFC-BEA3-393F25D3E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Time for Action Is 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752480"/>
            <a:ext cx="7467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S and States are committed to improve the quality of care for Medicaid and CHIP benefici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e of Medicine (IOM) and Government Accountability Office reports, as well as many recent articles on quality agree: there is significant opportunity for improvement in the quality of care for children eligible for Medicaid and 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MS vision is successful, more than 48 million low-income children, families, and aged, blind and disabled individuals across the country will move closer toward receiving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ight care, for every person every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F2DB-5AE9-4C05-90CE-DB5A6B003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IP &amp; Medicaid Quality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ion:  The right care, for every person ever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ms:  Make care safe, effective, efficient, person-centered, timely and equi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illars of the CHIP/Medicaid Quality Strate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ress Beneficiary Concerns/ Focus on Patient Centered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 Evidenced-Based Care and Quality Measur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Value-Based Paymen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erage Health Information Technology (Health IT) an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e to Build Effective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seminate Information and Provide Technical As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Equity in the Delivery of 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33D7-C64C-42DF-ADEF-D441FFE11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66688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Children’s Health Insurance Program Reauthorization Ac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CHIPRA)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pportunity 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8AB7-6D5E-4879-B62C-37BEA9790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C2CD-132B-43BB-A1FC-CF4F81886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itle 3"/>
          <p:cNvSpPr/>
          <p:nvPr/>
        </p:nvSpPr>
        <p:spPr>
          <a:xfrm>
            <a:off x="457200" y="228600"/>
            <a:ext cx="76201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IPRA Quality Measures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ounded Rectangle 30"/>
          <p:cNvSpPr/>
          <p:nvPr/>
        </p:nvSpPr>
        <p:spPr>
          <a:xfrm>
            <a:off x="3200400" y="1081080"/>
            <a:ext cx="2514600" cy="4572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dentify and Publish Core Measure S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ounded Rectangle 31"/>
          <p:cNvSpPr/>
          <p:nvPr/>
        </p:nvSpPr>
        <p:spPr>
          <a:xfrm>
            <a:off x="5943600" y="1919160"/>
            <a:ext cx="1905120" cy="4572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ward Demonstration Gr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ounded Rectangle 32"/>
          <p:cNvSpPr/>
          <p:nvPr/>
        </p:nvSpPr>
        <p:spPr>
          <a:xfrm>
            <a:off x="3505320" y="191916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velop EHR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ounded Rectangle 33"/>
          <p:cNvSpPr/>
          <p:nvPr/>
        </p:nvSpPr>
        <p:spPr>
          <a:xfrm>
            <a:off x="990720" y="191916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courage Voluntary Reporting of Core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ounded Rectangle 34"/>
          <p:cNvSpPr/>
          <p:nvPr/>
        </p:nvSpPr>
        <p:spPr>
          <a:xfrm>
            <a:off x="3429000" y="3290760"/>
            <a:ext cx="990720" cy="6098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esign Obes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emonstrat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5"/>
          <p:cNvSpPr/>
          <p:nvPr/>
        </p:nvSpPr>
        <p:spPr>
          <a:xfrm>
            <a:off x="6095880" y="2604960"/>
            <a:ext cx="1600200" cy="228600"/>
          </a:xfrm>
          <a:prstGeom prst="rect">
            <a:avLst/>
          </a:prstGeom>
          <a:solidFill>
            <a:srgbClr val="adadeb"/>
          </a:solidFill>
          <a:ln w="9360">
            <a:solidFill>
              <a:srgbClr val="adade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valuate Core 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6"/>
          <p:cNvSpPr/>
          <p:nvPr/>
        </p:nvSpPr>
        <p:spPr>
          <a:xfrm>
            <a:off x="6095880" y="3747960"/>
            <a:ext cx="1600200" cy="228600"/>
          </a:xfrm>
          <a:prstGeom prst="rect">
            <a:avLst/>
          </a:prstGeom>
          <a:solidFill>
            <a:srgbClr val="adadeb"/>
          </a:solidFill>
          <a:ln w="9360">
            <a:solidFill>
              <a:srgbClr val="adade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mote H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7"/>
          <p:cNvSpPr/>
          <p:nvPr/>
        </p:nvSpPr>
        <p:spPr>
          <a:xfrm>
            <a:off x="6095880" y="3367080"/>
            <a:ext cx="1600200" cy="228600"/>
          </a:xfrm>
          <a:prstGeom prst="rect">
            <a:avLst/>
          </a:prstGeom>
          <a:solidFill>
            <a:srgbClr val="adadeb"/>
          </a:solidFill>
          <a:ln w="9360">
            <a:solidFill>
              <a:srgbClr val="adade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valuate Provider 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8"/>
          <p:cNvSpPr/>
          <p:nvPr/>
        </p:nvSpPr>
        <p:spPr>
          <a:xfrm>
            <a:off x="6095880" y="2986200"/>
            <a:ext cx="1600200" cy="228600"/>
          </a:xfrm>
          <a:prstGeom prst="rect">
            <a:avLst/>
          </a:prstGeom>
          <a:solidFill>
            <a:srgbClr val="adadeb"/>
          </a:solidFill>
          <a:ln w="9360">
            <a:solidFill>
              <a:srgbClr val="adade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valuate EHR Imp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9"/>
          <p:cNvSpPr/>
          <p:nvPr/>
        </p:nvSpPr>
        <p:spPr>
          <a:xfrm>
            <a:off x="6095880" y="4129200"/>
            <a:ext cx="1600200" cy="228600"/>
          </a:xfrm>
          <a:prstGeom prst="rect">
            <a:avLst/>
          </a:prstGeom>
          <a:solidFill>
            <a:srgbClr val="adadeb"/>
          </a:solidFill>
          <a:ln w="9360">
            <a:solidFill>
              <a:srgbClr val="adade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ther State Activ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ounded Rectangle 40"/>
          <p:cNvSpPr/>
          <p:nvPr/>
        </p:nvSpPr>
        <p:spPr>
          <a:xfrm>
            <a:off x="3505320" y="5272200"/>
            <a:ext cx="2057400" cy="533160"/>
          </a:xfrm>
          <a:prstGeom prst="roundRect">
            <a:avLst>
              <a:gd name="adj" fmla="val 16667"/>
            </a:avLst>
          </a:prstGeom>
          <a:solidFill>
            <a:srgbClr val="009973"/>
          </a:solidFill>
          <a:ln w="9360">
            <a:solidFill>
              <a:srgbClr val="00997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stablish a Pediatrics Measures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ounded Rectangle 41"/>
          <p:cNvSpPr/>
          <p:nvPr/>
        </p:nvSpPr>
        <p:spPr>
          <a:xfrm>
            <a:off x="3505320" y="603396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009973"/>
          </a:soli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 Changes to Measures for Broad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Rounded Rectangle 42"/>
          <p:cNvGrpSpPr/>
          <p:nvPr/>
        </p:nvGrpSpPr>
        <p:grpSpPr>
          <a:xfrm>
            <a:off x="3749760" y="4017960"/>
            <a:ext cx="1487520" cy="1096920"/>
            <a:chOff x="3749760" y="4017960"/>
            <a:chExt cx="1487520" cy="1096920"/>
          </a:xfrm>
        </p:grpSpPr>
        <p:pic>
          <p:nvPicPr>
            <p:cNvPr id="76" name="Rounded Rectangle 42" descr=""/>
            <p:cNvPicPr/>
            <p:nvPr/>
          </p:nvPicPr>
          <p:blipFill>
            <a:blip r:embed="rId1"/>
            <a:stretch/>
          </p:blipFill>
          <p:spPr>
            <a:xfrm>
              <a:off x="3749760" y="4017960"/>
              <a:ext cx="14875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857760" y="4102200"/>
              <a:ext cx="1276200" cy="89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Report t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Cong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Rectangle 43"/>
          <p:cNvSpPr/>
          <p:nvPr/>
        </p:nvSpPr>
        <p:spPr>
          <a:xfrm>
            <a:off x="1143000" y="2604960"/>
            <a:ext cx="1600200" cy="290520"/>
          </a:xfrm>
          <a:prstGeom prst="rect">
            <a:avLst/>
          </a:prstGeom>
          <a:solidFill>
            <a:srgbClr val="adadeb"/>
          </a:solidFill>
          <a:ln w="9360">
            <a:solidFill>
              <a:srgbClr val="adade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vide States Technical Assist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4"/>
          <p:cNvSpPr/>
          <p:nvPr/>
        </p:nvSpPr>
        <p:spPr>
          <a:xfrm>
            <a:off x="1143000" y="2986200"/>
            <a:ext cx="1600200" cy="228600"/>
          </a:xfrm>
          <a:prstGeom prst="rect">
            <a:avLst/>
          </a:prstGeom>
          <a:solidFill>
            <a:srgbClr val="adadeb"/>
          </a:solidFill>
          <a:ln w="9360">
            <a:solidFill>
              <a:srgbClr val="adade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dentify Best Pract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5"/>
          <p:cNvSpPr/>
          <p:nvPr/>
        </p:nvSpPr>
        <p:spPr>
          <a:xfrm>
            <a:off x="1143000" y="3367080"/>
            <a:ext cx="1600200" cy="228600"/>
          </a:xfrm>
          <a:prstGeom prst="rect">
            <a:avLst/>
          </a:prstGeom>
          <a:solidFill>
            <a:srgbClr val="adadeb"/>
          </a:solidFill>
          <a:ln w="9360">
            <a:solidFill>
              <a:srgbClr val="adade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nually report meas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traight Connector 46"/>
          <p:cNvSpPr/>
          <p:nvPr/>
        </p:nvSpPr>
        <p:spPr>
          <a:xfrm>
            <a:off x="1905120" y="1689120"/>
            <a:ext cx="510516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Elbow Connector 47"/>
          <p:cNvCxnSpPr>
            <a:stCxn id="66" idx="1"/>
          </p:cNvCxnSpPr>
          <p:nvPr/>
        </p:nvCxnSpPr>
        <p:spPr>
          <a:xfrm flipH="1" flipV="1" rot="10800000">
            <a:off x="989640" y="2147400"/>
            <a:ext cx="2819880" cy="2401200"/>
          </a:xfrm>
          <a:prstGeom prst="bentConnector3">
            <a:avLst>
              <a:gd name="adj1" fmla="val -8094"/>
            </a:avLst>
          </a:prstGeom>
          <a:ln w="936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83" name="Rounded Rectangle 51"/>
          <p:cNvSpPr/>
          <p:nvPr/>
        </p:nvSpPr>
        <p:spPr>
          <a:xfrm>
            <a:off x="4572000" y="3290760"/>
            <a:ext cx="990720" cy="6098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nduct Child Health / Quality Stud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Straight Arrow Connector 52"/>
          <p:cNvCxnSpPr>
            <a:stCxn id="63" idx="2"/>
            <a:endCxn id="65" idx="0"/>
          </p:cNvCxnSpPr>
          <p:nvPr/>
        </p:nvCxnSpPr>
        <p:spPr>
          <a:xfrm flipH="1">
            <a:off x="4455360" y="1539360"/>
            <a:ext cx="3960" cy="38196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85" name="Down Arrow 53"/>
          <p:cNvSpPr/>
          <p:nvPr/>
        </p:nvSpPr>
        <p:spPr>
          <a:xfrm>
            <a:off x="4495680" y="5119560"/>
            <a:ext cx="76320" cy="76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Down Arrow 54"/>
          <p:cNvSpPr/>
          <p:nvPr/>
        </p:nvSpPr>
        <p:spPr>
          <a:xfrm>
            <a:off x="4495680" y="5881680"/>
            <a:ext cx="76320" cy="76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Straight Arrow Connector 56"/>
          <p:cNvCxnSpPr/>
          <p:nvPr/>
        </p:nvCxnSpPr>
        <p:spPr>
          <a:xfrm flipH="1">
            <a:off x="7008120" y="1677600"/>
            <a:ext cx="3960" cy="22932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88" name="Straight Arrow Connector 57"/>
          <p:cNvCxnSpPr/>
          <p:nvPr/>
        </p:nvCxnSpPr>
        <p:spPr>
          <a:xfrm flipH="1">
            <a:off x="1904760" y="1676160"/>
            <a:ext cx="2160" cy="22932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89" name="Straight Connector 58"/>
          <p:cNvSpPr/>
          <p:nvPr/>
        </p:nvSpPr>
        <p:spPr>
          <a:xfrm flipH="1">
            <a:off x="1905120" y="2362320"/>
            <a:ext cx="1440" cy="228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59"/>
          <p:cNvSpPr/>
          <p:nvPr/>
        </p:nvSpPr>
        <p:spPr>
          <a:xfrm flipH="1">
            <a:off x="1905120" y="2819520"/>
            <a:ext cx="14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traight Connector 60"/>
          <p:cNvSpPr/>
          <p:nvPr/>
        </p:nvSpPr>
        <p:spPr>
          <a:xfrm flipH="1">
            <a:off x="1905120" y="3200400"/>
            <a:ext cx="14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traight Connector 61"/>
          <p:cNvSpPr/>
          <p:nvPr/>
        </p:nvSpPr>
        <p:spPr>
          <a:xfrm flipH="1">
            <a:off x="6858000" y="2362320"/>
            <a:ext cx="1440" cy="228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traight Connector 62"/>
          <p:cNvSpPr/>
          <p:nvPr/>
        </p:nvSpPr>
        <p:spPr>
          <a:xfrm flipH="1">
            <a:off x="6858000" y="2819520"/>
            <a:ext cx="14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63"/>
          <p:cNvSpPr/>
          <p:nvPr/>
        </p:nvSpPr>
        <p:spPr>
          <a:xfrm flipH="1">
            <a:off x="6858000" y="3200400"/>
            <a:ext cx="14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traight Connector 64"/>
          <p:cNvSpPr/>
          <p:nvPr/>
        </p:nvSpPr>
        <p:spPr>
          <a:xfrm flipH="1">
            <a:off x="6858000" y="3581280"/>
            <a:ext cx="1440" cy="152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traight Connector 65"/>
          <p:cNvSpPr/>
          <p:nvPr/>
        </p:nvSpPr>
        <p:spPr>
          <a:xfrm flipH="1">
            <a:off x="6858000" y="3962520"/>
            <a:ext cx="14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Shape 67"/>
          <p:cNvCxnSpPr/>
          <p:nvPr/>
        </p:nvCxnSpPr>
        <p:spPr>
          <a:xfrm flipH="1" rot="16200000">
            <a:off x="4875840" y="1904760"/>
            <a:ext cx="724680" cy="1639080"/>
          </a:xfrm>
          <a:prstGeom prst="bentConnector2">
            <a:avLst/>
          </a:prstGeom>
          <a:ln w="9360">
            <a:solidFill>
              <a:srgbClr val="3333cc"/>
            </a:solidFill>
            <a:prstDash val="dash"/>
            <a:miter/>
            <a:tailEnd len="med" type="arrow" w="med"/>
          </a:ln>
        </p:spPr>
      </p:cxnSp>
      <p:cxnSp>
        <p:nvCxnSpPr>
          <p:cNvPr id="98" name="Shape 68"/>
          <p:cNvCxnSpPr/>
          <p:nvPr/>
        </p:nvCxnSpPr>
        <p:spPr>
          <a:xfrm>
            <a:off x="4419360" y="3505320"/>
            <a:ext cx="76680" cy="457920"/>
          </a:xfrm>
          <a:prstGeom prst="bentConnector2">
            <a:avLst/>
          </a:prstGeom>
          <a:ln w="936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99" name="Elbow Connector 69"/>
          <p:cNvCxnSpPr/>
          <p:nvPr/>
        </p:nvCxnSpPr>
        <p:spPr>
          <a:xfrm flipH="1">
            <a:off x="5180760" y="2133360"/>
            <a:ext cx="2667960" cy="2400840"/>
          </a:xfrm>
          <a:prstGeom prst="bentConnector3">
            <a:avLst>
              <a:gd name="adj1" fmla="val -8556"/>
            </a:avLst>
          </a:prstGeom>
          <a:ln w="936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100" name="Straight Connector 76"/>
          <p:cNvSpPr/>
          <p:nvPr/>
        </p:nvSpPr>
        <p:spPr>
          <a:xfrm flipH="1" flipV="1">
            <a:off x="4419360" y="3505320"/>
            <a:ext cx="15228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1295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MS &amp; AHRQ Collaboration for CHIPRA Qualit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1625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ding Initiatives for AHR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2514600"/>
            <a:ext cx="7010640" cy="3657600"/>
          </a:xfrm>
          <a:prstGeom prst="rect">
            <a:avLst/>
          </a:prstGeom>
          <a:noFill/>
          <a:ln w="9360">
            <a:solidFill>
              <a:srgbClr val="22228b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401(a)(1-3) –Initial Core Set of Pediatric Quality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s 401(a)(8) –Core Quality Measures (with (a)(1-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401(b)(1-6) –Pediatric Quality Measuremen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401(f) – Electronic Health Records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401(g) – IOM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7E26-A933-492A-A8A3-086850BFF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295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MS &amp; AHRQ Collaboration for CHIPRA Qualit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0106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ding Initiatives for 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2514600"/>
            <a:ext cx="7010640" cy="3657600"/>
          </a:xfrm>
          <a:prstGeom prst="rect">
            <a:avLst/>
          </a:prstGeom>
          <a:noFill/>
          <a:ln w="9360">
            <a:solidFill>
              <a:srgbClr val="22228b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401(a)(4) – Voluntary Reporting of Quality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401(a)(5) – Identification of Best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s 401(a)(6) – Reports to Con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401(a)(7) – Technical Assistance to States/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401(c) – Annual State Reports 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401(d)(1-4) – Quality Demonstration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5612-AA5A-433E-97F4-0BAB77B62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MS  Strategy for CHIPR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lity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2013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a Pediatrics Measures Program assimilating information learned from CHIPRA Demonstrations and Report to Congress starting in 201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Meas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Health Records and Health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al State Reporting 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ment of Provid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s for Performance-Based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D4FC-3746-43C5-BDA9-46418D7AB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00:20:25Z</dcterms:created>
  <dc:creator>CMS</dc:creator>
  <dc:description/>
  <dc:language>en-US</dc:language>
  <cp:lastModifiedBy> </cp:lastModifiedBy>
  <dcterms:modified xsi:type="dcterms:W3CDTF">2010-03-02T16:18:11Z</dcterms:modified>
  <cp:revision>240</cp:revision>
  <dc:subject/>
  <dc:title>CMS Quality Initiatives  The Saga Continues</dc:title>
</cp:coreProperties>
</file>