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BCA7387-1B42-4C60-95CB-F7BFB3A8A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25447398-B8D8-46D2-AE08-3DC929739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48DC551-0DC9-4EDB-9F71-FE7CE17DE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6556069-18BC-4944-AEB4-209E9D3A5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EBA23B5-2DF9-4A49-AAE7-DA6C3061C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36680" y="974880"/>
            <a:ext cx="4186080" cy="3139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C178823-BD40-4347-B823-691824DFA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AF4D0CF-BE04-44E6-9038-509F5332C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9BECB58-088C-4B0C-9472-FAE81DC4C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6DEC738F-3CA8-432C-96EC-F43DDDED8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37FF49F-94D4-4563-BB2E-A9A8A29E5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5920" y="4422600"/>
            <a:ext cx="5027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A459D560-8199-401C-939F-F59F33405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DB482D7-E8A9-45A2-9B02-443505354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E6FAFE5-110A-46EA-A4EE-113791EA5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20440" y="4346280"/>
            <a:ext cx="5027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0241E1CD-E626-402E-AFA7-136CD8867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497480"/>
            <a:ext cx="5029200" cy="3959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F71411C-6088-48D6-9568-AF0F19A47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7BE78B0-9A72-490C-9C84-1295ED168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7FD8F12-B281-4B6B-99FA-7E580B587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00120"/>
            <a:ext cx="4570560" cy="3427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E2FF41D2-1118-4321-A466-C19D407BF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E27-811E-43E6-B7F1-18FE9F0C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4B1-3077-4184-85AB-53031538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E8B-8947-4103-93F8-32130F32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32E5-BC9E-4466-9802-967D31AB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1B5-8ABC-4068-AAAC-EA8CF19D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C664-A0E2-4AF9-8BDB-A0E4314C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068-2D4D-43E3-9FCB-E36BEDA4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8AD-92E0-4C82-89B8-A9D79064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C7E-49F5-4037-A1DB-514462E8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DB4-9EFD-4470-84AD-72B78365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C14-F01B-4258-8C20-D391FBDB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4AF-1106-4ECE-B30E-2C5A2D6C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3257-1FAB-4EAD-BB88-A3E5EF124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941C-0172-4ADB-8CE4-50822A26B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ATIONAL ADVISORY COUNCIL ON HEALTHCARE RESEARCH AND QUAL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ubcommittee on Quality Measures for Children's Healthcare in Medicaid and CHIP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the CMS and AHRQ Partnership for Improving the Quality of Health Care for Children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id and CHIP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ndy Mann, Director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enters for Medicaid &amp; State Operations</a:t>
            </a:r>
            <a:br>
              <a:rPr sz="1800"/>
            </a:br>
            <a:br>
              <a:rPr sz="18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rbara Dailey, Direct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vision of Quality, Evaluation, and Health Outcomes</a:t>
            </a:r>
            <a:br>
              <a:rPr sz="18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22, 2009</a:t>
            </a:r>
            <a:br>
              <a:rPr sz="2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MS Technical Assistance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es &amp; Provi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MS will provide assistance to States as they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opt  &amp; integrate specific performance measur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reate &amp; implement quality improvement initiativ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tilize &amp; interpret reported measu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se evidence to identify exemplary performers and opportunities for improvement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vide program and provider repor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upport State initiatives including public reporting and pay for performa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010E-E776-44D9-9DCA-D3406E524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D8A-F4CC-4C54-9215-B9E5C0A7A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6600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ivering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ight C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Every Pers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F:\My Pictures\Mattie_MDASpeech.jpg"/>
          <p:cNvPicPr/>
          <p:nvPr/>
        </p:nvPicPr>
        <p:blipFill>
          <a:blip r:embed="rId1"/>
          <a:stretch/>
        </p:blipFill>
        <p:spPr>
          <a:xfrm>
            <a:off x="380880" y="1371600"/>
            <a:ext cx="2752920" cy="180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Placeholder 10" descr="child.jpg"/>
          <p:cNvPicPr/>
          <p:nvPr/>
        </p:nvPicPr>
        <p:blipFill>
          <a:blip r:embed="rId2"/>
          <a:srcRect l="0" t="7437" r="0" b="7437"/>
          <a:stretch/>
        </p:blipFill>
        <p:spPr>
          <a:xfrm>
            <a:off x="4267080" y="4114800"/>
            <a:ext cx="2826000" cy="198756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MS Foundation for Establishing 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diatric Quality Measures Progra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AHR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Quality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d Care External Quality Repor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diatric Measurement Program for C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Measures Compen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s with National Stakehol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1A0D-5DEE-49E5-963F-75D8EC4A8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905120" y="3049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4920" y="9907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Framework for CHIP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id Quality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038480" y="25146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5"/>
          <p:cNvGrpSpPr/>
          <p:nvPr/>
        </p:nvGrpSpPr>
        <p:grpSpPr>
          <a:xfrm>
            <a:off x="1830240" y="3581280"/>
            <a:ext cx="5103360" cy="2731680"/>
            <a:chOff x="1830240" y="3581280"/>
            <a:chExt cx="5103360" cy="2731680"/>
          </a:xfrm>
        </p:grpSpPr>
        <p:sp>
          <p:nvSpPr>
            <p:cNvPr id="126" name="Oval 6"/>
            <p:cNvSpPr/>
            <p:nvPr/>
          </p:nvSpPr>
          <p:spPr>
            <a:xfrm>
              <a:off x="1905480" y="3581280"/>
              <a:ext cx="3618720" cy="2607120"/>
            </a:xfrm>
            <a:prstGeom prst="ellipse">
              <a:avLst/>
            </a:prstGeom>
            <a:solidFill>
              <a:srgbClr val="8585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Oval 7"/>
            <p:cNvSpPr/>
            <p:nvPr/>
          </p:nvSpPr>
          <p:spPr>
            <a:xfrm>
              <a:off x="3582000" y="3581280"/>
              <a:ext cx="3263760" cy="2731680"/>
            </a:xfrm>
            <a:prstGeom prst="ellipse">
              <a:avLst/>
            </a:prstGeom>
            <a:solidFill>
              <a:srgbClr val="8585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3140280" y="3581280"/>
              <a:ext cx="2558520" cy="2731680"/>
            </a:xfrm>
            <a:prstGeom prst="ellipse">
              <a:avLst/>
            </a:prstGeom>
            <a:solidFill>
              <a:srgbClr val="8585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1830240" y="4419360"/>
              <a:ext cx="14115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National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Quality Improvement Effor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5610600" y="4450320"/>
              <a:ext cx="132300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Quality Improvement Effort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3493440" y="4078080"/>
              <a:ext cx="185256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undation of Framework 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sensus on Menu of Goals, Measures, and Interven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15"/>
          <p:cNvSpPr/>
          <p:nvPr/>
        </p:nvSpPr>
        <p:spPr>
          <a:xfrm>
            <a:off x="152280" y="1295280"/>
            <a:ext cx="1600200" cy="52488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IPRA and Recovery Act Guidan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OM Reports on Qual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pt. of Health &amp; Human Services Value-Driven Health Care Initia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Regulatory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rants to 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HRQ, Health Resources &amp; Services Admin. (HRSA), Centers for Disease Control &amp; Prevention (CDC), Office of Surgeon General, and External Stakeholder Initiativ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edicare/Medicaid Cross-Cutting Initiativ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MS Medicaid-CHIP Quality Strate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MS Quality Roadma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7391520" y="1295280"/>
            <a:ext cx="1371600" cy="548856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>
                <a:alpha val="8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Health IT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Home &amp; Community-Based Services Quality Management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ternal Quality Review Activi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Value-Based Purchasing Initiativ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Legislative Requirem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pproved Medicaid Gra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Collaborations, Cross-Agency Initiatives, and Other State-Led Effor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HIP Quality Measu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Stud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tate Quality Strate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1"/>
          <p:cNvSpPr/>
          <p:nvPr/>
        </p:nvSpPr>
        <p:spPr>
          <a:xfrm>
            <a:off x="57150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3429000" y="2057400"/>
            <a:ext cx="1905120" cy="914400"/>
          </a:xfrm>
          <a:prstGeom prst="ellipse">
            <a:avLst/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ght Care, Every Person, E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3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1"/>
          <p:cNvSpPr/>
          <p:nvPr/>
        </p:nvSpPr>
        <p:spPr>
          <a:xfrm>
            <a:off x="7924680" y="5943600"/>
            <a:ext cx="0" cy="30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>
            <a:off x="1981080" y="6400800"/>
            <a:ext cx="52578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838080" y="5562720"/>
            <a:ext cx="0" cy="304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2860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58E4-05BA-42C6-A39B-C046CC412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P Quality Measures Progra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States began collection of data on four core clinical performance measures for the State Child Health Insurance Program (SCHIP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child visits in the first 15 months of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child visits in the third, fourth, and sixth years of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appropriate medications for children with asth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access to primary care practition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2224-9561-4340-9249-A6AFCD7B3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4557600" y="3414600"/>
            <a:ext cx="28800" cy="28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2"/>
          <p:cNvSpPr/>
          <p:nvPr/>
        </p:nvSpPr>
        <p:spPr>
          <a:xfrm>
            <a:off x="380880" y="3049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3" descr=""/>
          <p:cNvPicPr/>
          <p:nvPr/>
        </p:nvPicPr>
        <p:blipFill>
          <a:blip r:embed="rId3"/>
          <a:stretch/>
        </p:blipFill>
        <p:spPr>
          <a:xfrm>
            <a:off x="1752480" y="1143000"/>
            <a:ext cx="4800600" cy="53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0262-2B51-480F-B84A-A8DFCD6D8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9144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ew and Ongoing Partnerships Fuel Our Ability to Support State Quality Effo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 Academy of Pedia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ciation for Community Affiliated 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ciations of State Program Directors (Nat’l Assn. of State Medicaid Directors, Nat’l Assn. of State Directors of Developmental Disabilities Servic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okings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er for Health Care Strateg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 and Adolescent Health Measurement Initi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eral Agencies (AHRQ, CDC, HRSA, National Institutes of Health, Substance Abuse and Mental Health Services Administration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an Healt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 of D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Association of Children’s Hospit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Academy for State Health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Initiative for Children’s Healthcare Qua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fice of the National 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any, many mor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3636-48D5-43C9-9A54-338DF1638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228b"/>
                </a:solidFill>
                <a:latin typeface="Times New Roman"/>
              </a:rPr>
              <a:t>The Right Care, </a:t>
            </a:r>
            <a:br>
              <a:rPr sz="4000"/>
            </a:br>
            <a:r>
              <a:rPr b="0" lang="en-US" sz="4000" spc="-1" strike="noStrike">
                <a:solidFill>
                  <a:srgbClr val="22228b"/>
                </a:solidFill>
                <a:latin typeface="Times New Roman"/>
              </a:rPr>
              <a:t>For Every Person, </a:t>
            </a:r>
            <a:br>
              <a:rPr sz="4000"/>
            </a:br>
            <a:r>
              <a:rPr b="0" lang="en-US" sz="4000" spc="-1" strike="noStrike">
                <a:solidFill>
                  <a:srgbClr val="22228b"/>
                </a:solidFill>
                <a:latin typeface="Times New Roman"/>
              </a:rPr>
              <a:t>Every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20"/>
          <p:cNvGrpSpPr/>
          <p:nvPr/>
        </p:nvGrpSpPr>
        <p:grpSpPr>
          <a:xfrm>
            <a:off x="533520" y="3200400"/>
            <a:ext cx="7321320" cy="2035080"/>
            <a:chOff x="533520" y="3200400"/>
            <a:chExt cx="7321320" cy="2035080"/>
          </a:xfrm>
        </p:grpSpPr>
        <p:sp>
          <p:nvSpPr>
            <p:cNvPr id="155" name="Rectangle 5"/>
            <p:cNvSpPr/>
            <p:nvPr/>
          </p:nvSpPr>
          <p:spPr>
            <a:xfrm>
              <a:off x="533520" y="3209760"/>
              <a:ext cx="7321320" cy="1610280"/>
            </a:xfrm>
            <a:prstGeom prst="rect">
              <a:avLst/>
            </a:prstGeom>
            <a:solidFill>
              <a:srgbClr val="002e69"/>
            </a:soli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Picture 6" descr="5127687-2709x1806.jpg"/>
            <p:cNvPicPr/>
            <p:nvPr/>
          </p:nvPicPr>
          <p:blipFill>
            <a:blip r:embed="rId1"/>
            <a:srcRect l="0" t="5909" r="0" b="11396"/>
            <a:stretch/>
          </p:blipFill>
          <p:spPr>
            <a:xfrm>
              <a:off x="4270320" y="3290400"/>
              <a:ext cx="1455480" cy="1393920"/>
            </a:xfrm>
            <a:prstGeom prst="rect">
              <a:avLst/>
            </a:prstGeom>
            <a:ln w="0">
              <a:noFill/>
            </a:ln>
            <a:effectLst>
              <a:outerShdw dist="431731" dir="2700000" blurRad="0" rotWithShape="0">
                <a:srgbClr val="808080">
                  <a:alpha val="99000"/>
                </a:srgbClr>
              </a:outerShdw>
            </a:effectLst>
          </p:spPr>
        </p:pic>
        <p:pic>
          <p:nvPicPr>
            <p:cNvPr id="157" name="Picture 7" descr="5127733-1806x2709.jpg"/>
            <p:cNvPicPr/>
            <p:nvPr/>
          </p:nvPicPr>
          <p:blipFill>
            <a:blip r:embed="rId2"/>
            <a:srcRect l="22282" t="0" r="9045" b="0"/>
            <a:stretch/>
          </p:blipFill>
          <p:spPr>
            <a:xfrm>
              <a:off x="5846760" y="3287880"/>
              <a:ext cx="1868400" cy="1396440"/>
            </a:xfrm>
            <a:prstGeom prst="rect">
              <a:avLst/>
            </a:prstGeom>
            <a:ln w="0">
              <a:noFill/>
            </a:ln>
            <a:effectLst>
              <a:outerShdw dist="431731" dir="2700000" blurRad="0" rotWithShape="0">
                <a:srgbClr val="808080">
                  <a:alpha val="99000"/>
                </a:srgbClr>
              </a:outerShdw>
            </a:effectLst>
          </p:spPr>
        </p:pic>
        <p:pic>
          <p:nvPicPr>
            <p:cNvPr id="158" name="Picture 8" descr="12459732-2546x1697.jpg"/>
            <p:cNvPicPr/>
            <p:nvPr/>
          </p:nvPicPr>
          <p:blipFill>
            <a:blip r:embed="rId3"/>
            <a:stretch/>
          </p:blipFill>
          <p:spPr>
            <a:xfrm>
              <a:off x="548640" y="3200400"/>
              <a:ext cx="1999440" cy="20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9" descr="5127693-1806x2709.jpg"/>
            <p:cNvPicPr/>
            <p:nvPr/>
          </p:nvPicPr>
          <p:blipFill>
            <a:blip r:embed="rId4"/>
            <a:srcRect l="19237" t="0" r="16553" b="16318"/>
            <a:stretch/>
          </p:blipFill>
          <p:spPr>
            <a:xfrm>
              <a:off x="2033640" y="3282840"/>
              <a:ext cx="2041560" cy="1401480"/>
            </a:xfrm>
            <a:prstGeom prst="rect">
              <a:avLst/>
            </a:prstGeom>
            <a:ln w="0">
              <a:noFill/>
            </a:ln>
            <a:effectLst>
              <a:outerShdw dist="431731" dir="2700000" blurRad="0" rotWithShape="0">
                <a:srgbClr val="808080">
                  <a:alpha val="99000"/>
                </a:srgbClr>
              </a:outerShdw>
            </a:effectLst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MS (Centers for Medicare &amp; Medicaid Services) and Health Re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id and CHIP (Children’s Health Insurance Program) Health Care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ing Elig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ing Accessibility and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ment with Employer-Based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ing Transitions in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re-Medicaid Dual-Eligible Individu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raging Successes and Lessons-Learned from Medicare Quality Improvement Eff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3EDA-5404-4B56-B888-50B46073C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ime for Action Is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752480"/>
            <a:ext cx="7467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S and States are committed to improve the quality of care for Medicaid and CHIP benefic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e of Medicine (IOM) and Government Accountability Office reports, as well as many recent articles on quality agree: there is significant opportunity for improvement in the quality of care for children eligible for Medicaid and C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CMS vision is successful, more than 48 million low-income children, families, and aged, blind and disabled individuals across the country will move closer toward receiv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ight care, for every person every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00AB-CC3B-4266-912F-BD27DA757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P &amp; Medicaid Quality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ion:  The right care, for every person e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ms:  Make care safe, effective, efficient, person-centered, timely and equi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pillars of the CHIP/Medicaid Quality Strate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Beneficiary Concerns/ Focus on Patient Centered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Evidenced-Based Care and Quality Measur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Value-Based Payme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rage Health Information Technology (Health IT)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to Build Effective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eminate Information and Provide Technical Ass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Equity in the Delivery of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73AE-0DFF-4839-85BA-1C5A6740F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6668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hildren’s Health Insurance Program Reauthorization Ac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HIPRA)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Opportunity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09E9-2A0B-477F-810C-CB22E0C9F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E662-26D2-4DE9-87F5-CC0245A06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itle 3"/>
          <p:cNvSpPr/>
          <p:nvPr/>
        </p:nvSpPr>
        <p:spPr>
          <a:xfrm>
            <a:off x="457200" y="228600"/>
            <a:ext cx="76201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PRA Quality Measures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ounded Rectangle 30"/>
          <p:cNvSpPr/>
          <p:nvPr/>
        </p:nvSpPr>
        <p:spPr>
          <a:xfrm>
            <a:off x="3200400" y="1081080"/>
            <a:ext cx="251460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dentify and Publish Core Measure S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ounded Rectangle 31"/>
          <p:cNvSpPr/>
          <p:nvPr/>
        </p:nvSpPr>
        <p:spPr>
          <a:xfrm>
            <a:off x="5943600" y="1919160"/>
            <a:ext cx="190512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rd Demonstration 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ounded Rectangle 32"/>
          <p:cNvSpPr/>
          <p:nvPr/>
        </p:nvSpPr>
        <p:spPr>
          <a:xfrm>
            <a:off x="3505320" y="191916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 EHR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ounded Rectangle 33"/>
          <p:cNvSpPr/>
          <p:nvPr/>
        </p:nvSpPr>
        <p:spPr>
          <a:xfrm>
            <a:off x="990720" y="1919160"/>
            <a:ext cx="1904760" cy="4572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courage Voluntary Reporting of Core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ounded Rectangle 34"/>
          <p:cNvSpPr/>
          <p:nvPr/>
        </p:nvSpPr>
        <p:spPr>
          <a:xfrm>
            <a:off x="3429000" y="3290760"/>
            <a:ext cx="990720" cy="6098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sign Obe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monstr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5"/>
          <p:cNvSpPr/>
          <p:nvPr/>
        </p:nvSpPr>
        <p:spPr>
          <a:xfrm>
            <a:off x="6095880" y="260496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aluate Core 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6"/>
          <p:cNvSpPr/>
          <p:nvPr/>
        </p:nvSpPr>
        <p:spPr>
          <a:xfrm>
            <a:off x="6095880" y="374796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mote H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7"/>
          <p:cNvSpPr/>
          <p:nvPr/>
        </p:nvSpPr>
        <p:spPr>
          <a:xfrm>
            <a:off x="6095880" y="336708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aluate Provider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8"/>
          <p:cNvSpPr/>
          <p:nvPr/>
        </p:nvSpPr>
        <p:spPr>
          <a:xfrm>
            <a:off x="6095880" y="298620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valuate EHR Imp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9"/>
          <p:cNvSpPr/>
          <p:nvPr/>
        </p:nvSpPr>
        <p:spPr>
          <a:xfrm>
            <a:off x="6095880" y="412920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ther State Activit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3505320" y="5272200"/>
            <a:ext cx="2057400" cy="533160"/>
          </a:xfrm>
          <a:prstGeom prst="roundRect">
            <a:avLst>
              <a:gd name="adj" fmla="val 16667"/>
            </a:avLst>
          </a:prstGeom>
          <a:solidFill>
            <a:srgbClr val="009973"/>
          </a:solidFill>
          <a:ln w="9360">
            <a:solidFill>
              <a:srgbClr val="0099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stablish a Pediatrics Measures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ounded Rectangle 41"/>
          <p:cNvSpPr/>
          <p:nvPr/>
        </p:nvSpPr>
        <p:spPr>
          <a:xfrm>
            <a:off x="3505320" y="603396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009973"/>
          </a:soli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 Changes to Measures for Broad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Rounded Rectangle 42"/>
          <p:cNvGrpSpPr/>
          <p:nvPr/>
        </p:nvGrpSpPr>
        <p:grpSpPr>
          <a:xfrm>
            <a:off x="3749760" y="4017960"/>
            <a:ext cx="1487520" cy="1096920"/>
            <a:chOff x="3749760" y="4017960"/>
            <a:chExt cx="1487520" cy="1096920"/>
          </a:xfrm>
        </p:grpSpPr>
        <p:pic>
          <p:nvPicPr>
            <p:cNvPr id="76" name="Rounded Rectangle 42" descr=""/>
            <p:cNvPicPr/>
            <p:nvPr/>
          </p:nvPicPr>
          <p:blipFill>
            <a:blip r:embed="rId1"/>
            <a:stretch/>
          </p:blipFill>
          <p:spPr>
            <a:xfrm>
              <a:off x="3749760" y="4017960"/>
              <a:ext cx="1487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857760" y="4102200"/>
              <a:ext cx="127620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port t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ng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Rectangle 43"/>
          <p:cNvSpPr/>
          <p:nvPr/>
        </p:nvSpPr>
        <p:spPr>
          <a:xfrm>
            <a:off x="1143000" y="2604960"/>
            <a:ext cx="1600200" cy="29052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vide States Technical Assi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4"/>
          <p:cNvSpPr/>
          <p:nvPr/>
        </p:nvSpPr>
        <p:spPr>
          <a:xfrm>
            <a:off x="1143000" y="298620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Best Pract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5"/>
          <p:cNvSpPr/>
          <p:nvPr/>
        </p:nvSpPr>
        <p:spPr>
          <a:xfrm>
            <a:off x="1143000" y="3367080"/>
            <a:ext cx="1600200" cy="228600"/>
          </a:xfrm>
          <a:prstGeom prst="rect">
            <a:avLst/>
          </a:prstGeom>
          <a:solidFill>
            <a:srgbClr val="adadeb"/>
          </a:solidFill>
          <a:ln w="9360">
            <a:solidFill>
              <a:srgbClr val="adade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nually report mea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traight Connector 46"/>
          <p:cNvSpPr/>
          <p:nvPr/>
        </p:nvSpPr>
        <p:spPr>
          <a:xfrm>
            <a:off x="1905120" y="1689120"/>
            <a:ext cx="510516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Elbow Connector 47"/>
          <p:cNvCxnSpPr>
            <a:stCxn id="66" idx="1"/>
          </p:cNvCxnSpPr>
          <p:nvPr/>
        </p:nvCxnSpPr>
        <p:spPr>
          <a:xfrm flipH="1" flipV="1" rot="10800000">
            <a:off x="989640" y="2147400"/>
            <a:ext cx="2819880" cy="2401200"/>
          </a:xfrm>
          <a:prstGeom prst="bentConnector3">
            <a:avLst>
              <a:gd name="adj1" fmla="val -8094"/>
            </a:avLst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83" name="Rounded Rectangle 51"/>
          <p:cNvSpPr/>
          <p:nvPr/>
        </p:nvSpPr>
        <p:spPr>
          <a:xfrm>
            <a:off x="4572000" y="3290760"/>
            <a:ext cx="990720" cy="6098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nduct Child Health / Quality Stud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Straight Arrow Connector 52"/>
          <p:cNvCxnSpPr>
            <a:stCxn id="63" idx="2"/>
            <a:endCxn id="65" idx="0"/>
          </p:cNvCxnSpPr>
          <p:nvPr/>
        </p:nvCxnSpPr>
        <p:spPr>
          <a:xfrm flipH="1">
            <a:off x="4455360" y="1539360"/>
            <a:ext cx="3960" cy="38196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85" name="Down Arrow 53"/>
          <p:cNvSpPr/>
          <p:nvPr/>
        </p:nvSpPr>
        <p:spPr>
          <a:xfrm>
            <a:off x="4495680" y="5119560"/>
            <a:ext cx="76320" cy="76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Down Arrow 54"/>
          <p:cNvSpPr/>
          <p:nvPr/>
        </p:nvSpPr>
        <p:spPr>
          <a:xfrm>
            <a:off x="4495680" y="5881680"/>
            <a:ext cx="76320" cy="76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Straight Arrow Connector 56"/>
          <p:cNvCxnSpPr/>
          <p:nvPr/>
        </p:nvCxnSpPr>
        <p:spPr>
          <a:xfrm flipH="1">
            <a:off x="7008120" y="1677600"/>
            <a:ext cx="3960" cy="2293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88" name="Straight Arrow Connector 57"/>
          <p:cNvCxnSpPr/>
          <p:nvPr/>
        </p:nvCxnSpPr>
        <p:spPr>
          <a:xfrm flipH="1">
            <a:off x="1904760" y="1676160"/>
            <a:ext cx="2160" cy="2293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89" name="Straight Connector 58"/>
          <p:cNvSpPr/>
          <p:nvPr/>
        </p:nvSpPr>
        <p:spPr>
          <a:xfrm flipH="1">
            <a:off x="1905120" y="2362320"/>
            <a:ext cx="144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59"/>
          <p:cNvSpPr/>
          <p:nvPr/>
        </p:nvSpPr>
        <p:spPr>
          <a:xfrm flipH="1">
            <a:off x="1905120" y="2819520"/>
            <a:ext cx="14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traight Connector 60"/>
          <p:cNvSpPr/>
          <p:nvPr/>
        </p:nvSpPr>
        <p:spPr>
          <a:xfrm flipH="1">
            <a:off x="1905120" y="3200400"/>
            <a:ext cx="14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traight Connector 61"/>
          <p:cNvSpPr/>
          <p:nvPr/>
        </p:nvSpPr>
        <p:spPr>
          <a:xfrm flipH="1">
            <a:off x="6858000" y="2362320"/>
            <a:ext cx="1440" cy="228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traight Connector 62"/>
          <p:cNvSpPr/>
          <p:nvPr/>
        </p:nvSpPr>
        <p:spPr>
          <a:xfrm flipH="1">
            <a:off x="6858000" y="2819520"/>
            <a:ext cx="14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traight Connector 63"/>
          <p:cNvSpPr/>
          <p:nvPr/>
        </p:nvSpPr>
        <p:spPr>
          <a:xfrm flipH="1">
            <a:off x="6858000" y="3200400"/>
            <a:ext cx="14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traight Connector 64"/>
          <p:cNvSpPr/>
          <p:nvPr/>
        </p:nvSpPr>
        <p:spPr>
          <a:xfrm flipH="1">
            <a:off x="6858000" y="3581280"/>
            <a:ext cx="1440" cy="152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traight Connector 65"/>
          <p:cNvSpPr/>
          <p:nvPr/>
        </p:nvSpPr>
        <p:spPr>
          <a:xfrm flipH="1">
            <a:off x="6858000" y="3962520"/>
            <a:ext cx="1440" cy="152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Shape 67"/>
          <p:cNvCxnSpPr/>
          <p:nvPr/>
        </p:nvCxnSpPr>
        <p:spPr>
          <a:xfrm flipH="1" rot="16200000">
            <a:off x="4875840" y="1904760"/>
            <a:ext cx="724680" cy="1639080"/>
          </a:xfrm>
          <a:prstGeom prst="bentConnector2">
            <a:avLst/>
          </a:prstGeom>
          <a:ln w="9360">
            <a:solidFill>
              <a:srgbClr val="3333cc"/>
            </a:solidFill>
            <a:prstDash val="dash"/>
            <a:miter/>
            <a:tailEnd len="med" type="arrow" w="med"/>
          </a:ln>
        </p:spPr>
      </p:cxnSp>
      <p:cxnSp>
        <p:nvCxnSpPr>
          <p:cNvPr id="98" name="Shape 68"/>
          <p:cNvCxnSpPr/>
          <p:nvPr/>
        </p:nvCxnSpPr>
        <p:spPr>
          <a:xfrm>
            <a:off x="4419360" y="3505320"/>
            <a:ext cx="76680" cy="457920"/>
          </a:xfrm>
          <a:prstGeom prst="bentConnector2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99" name="Elbow Connector 69"/>
          <p:cNvCxnSpPr/>
          <p:nvPr/>
        </p:nvCxnSpPr>
        <p:spPr>
          <a:xfrm flipH="1">
            <a:off x="5180760" y="2133360"/>
            <a:ext cx="2667960" cy="2400840"/>
          </a:xfrm>
          <a:prstGeom prst="bentConnector3">
            <a:avLst>
              <a:gd name="adj1" fmla="val -8556"/>
            </a:avLst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100" name="Straight Connector 76"/>
          <p:cNvSpPr/>
          <p:nvPr/>
        </p:nvSpPr>
        <p:spPr>
          <a:xfrm flipH="1" flipV="1">
            <a:off x="4419360" y="3505320"/>
            <a:ext cx="152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S &amp; AHRQ Collaboration for CHIPRA Qualit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1625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ing Initiatives for AH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2514600"/>
            <a:ext cx="7010640" cy="3657600"/>
          </a:xfrm>
          <a:prstGeom prst="rect">
            <a:avLst/>
          </a:prstGeom>
          <a:noFill/>
          <a:ln w="9360">
            <a:solidFill>
              <a:srgbClr val="22228b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a)(1-3) –Initial Core Set of Pediatric Quality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s 401(a)(8) –Core Quality Measures (with (a)(1-3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b)(1-6) –Pediatric Quality Measuremen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f) – Electronic Health Records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g) – IOM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D68E-829C-402F-A4B4-445DD9E2D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295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S &amp; AHRQ Collaboration for CHIPRA Qualit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0106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ing Initiatives for C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2514600"/>
            <a:ext cx="7010640" cy="3657600"/>
          </a:xfrm>
          <a:prstGeom prst="rect">
            <a:avLst/>
          </a:prstGeom>
          <a:noFill/>
          <a:ln w="9360">
            <a:solidFill>
              <a:srgbClr val="22228b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a)(4) – Voluntary Reporting of Quality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a)(5) – Identification of Best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s 401(a)(6) – Reports to Con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a)(7) – Technical Assistance to States/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c) – Annual State Reports 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401(d)(1-4) – Quality Demonstration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DE4E-1BF3-4D5F-9ED6-8CF002EC9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MS  Strategy for CHIPR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ality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201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lish a Pediatrics Measures Program assimilating information learned from CHIPRA Demonstrations and Report to Congress starting in 201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Meas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Health Records and Health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 State Reporting 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of Provid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s for Performance-Based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3CBD-3066-4012-9E20-9BB76DF0F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00:20:25Z</dcterms:created>
  <dc:creator>CMS</dc:creator>
  <dc:description/>
  <dc:language>en-US</dc:language>
  <cp:lastModifiedBy> </cp:lastModifiedBy>
  <dcterms:modified xsi:type="dcterms:W3CDTF">2010-03-02T16:18:11Z</dcterms:modified>
  <cp:revision>240</cp:revision>
  <dc:subject/>
  <dc:title>CMS Quality Initiatives  The Saga Continues</dc:title>
</cp:coreProperties>
</file>