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11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643572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50560" y="5077080"/>
            <a:ext cx="643572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481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50560" y="507708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48160" y="507708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6760" y="396252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2960" y="396252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50560" y="507708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6760" y="507708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2960" y="507708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314028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48160" y="3962520"/>
            <a:ext cx="314028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120" y="2819520"/>
            <a:ext cx="7790040" cy="424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48160" y="3962520"/>
            <a:ext cx="314028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0560" y="507708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314028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481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48160" y="507708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481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0560" y="5077080"/>
            <a:ext cx="643572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643572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0560" y="5077080"/>
            <a:ext cx="643572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481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0560" y="507708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48160" y="507708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6760" y="396252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2960" y="396252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0560" y="507708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6760" y="507708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2960" y="5077080"/>
            <a:ext cx="20721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314028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48160" y="3962520"/>
            <a:ext cx="314028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2819520"/>
            <a:ext cx="7790040" cy="424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48160" y="3962520"/>
            <a:ext cx="314028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50560" y="507708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314028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481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48160" y="507708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05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48160" y="3962520"/>
            <a:ext cx="314028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50560" y="5077080"/>
            <a:ext cx="643572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9423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HRQ NAC Subcommittee on Children’s Healthcare Quality Measures for Medicaid and CHIP Progra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8500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olyn Clancy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or, AHR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ory Remarks and Charge to the Sub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ly 22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imeline to January 1 Posting for Public Com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886200"/>
            <a:ext cx="8839080" cy="0"/>
          </a:xfrm>
          <a:prstGeom prst="line">
            <a:avLst/>
          </a:prstGeom>
          <a:ln w="250920">
            <a:solidFill>
              <a:srgbClr val="cc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705120"/>
            <a:ext cx="8305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065480"/>
            <a:ext cx="8305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1360" y="37051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315200" y="350496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1920" y="2359080"/>
            <a:ext cx="170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aw passed, CMS-AHRQ partnership establish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752480" y="356040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4240" y="370512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u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52800" y="37051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r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3416400"/>
            <a:ext cx="0" cy="28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4065480"/>
            <a:ext cx="0" cy="14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32280" y="370512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u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92720" y="426708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committee Meeting #2 (Septemb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35268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771640"/>
            <a:ext cx="163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committee Meeting #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4160" y="37051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to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4065480"/>
            <a:ext cx="0" cy="43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62640" y="4508640"/>
            <a:ext cx="1257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sed draft to Secretary (Novemb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1828800"/>
            <a:ext cx="126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rst full draft of initial core set for Federal re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24680" y="37051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16002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nal for posting (Dec. 2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67560" y="2603520"/>
            <a:ext cx="125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sions  if needed (Decemb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001000" y="251424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ree Charges to                  the Subcommittee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267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-406440">
              <a:lnSpc>
                <a:spcPct val="95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lang="en-US" sz="2600" spc="-1" strike="noStrike">
                <a:solidFill>
                  <a:srgbClr val="fafd00"/>
                </a:solidFill>
                <a:latin typeface="Arial"/>
              </a:rPr>
              <a:t>guidance on criteri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for identification of initial core 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guidance on a strategy for identifying </a:t>
            </a:r>
            <a:r>
              <a:rPr b="0" lang="en-US" sz="2600" spc="-1" strike="noStrike">
                <a:solidFill>
                  <a:srgbClr val="fafd00"/>
                </a:solidFill>
                <a:latin typeface="Arial"/>
              </a:rPr>
              <a:t>additional measures in u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for conside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"/>
              </a:rPr>
              <a:t>Review and apply criteria to compilation of measur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urrently in use by Medicaid/CH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71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266760"/>
            <a:ext cx="6934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HRQ’s Guidance – Consider Measures in Use by Medicaid/CHI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52578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ona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availa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use” an indicator of fea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ILL BE CHALLENG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ati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diatric Measures Development and Enhancement Progr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5 million/year for 4 years – extramural awa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deral Register notice to come – recommendations for priorities for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6760" y="1905120"/>
            <a:ext cx="264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266760"/>
            <a:ext cx="6934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HRQ’s Guidance – Transparency and Public Engagement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6390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ay, tomorrow, July 24 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17-1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il your comments any tim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72200" y="134784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43000" y="3922560"/>
            <a:ext cx="6172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IPRAqualitymeasures@ahrq.hhs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6027840"/>
            <a:ext cx="5943600" cy="477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http://ahrq.gov.chip/chipraact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stions for AHRQ to Dat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ity and feasibility as core criteria for including as a priority? 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 base – Be explic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“stretch” measur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definition of “stretc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ant to move all measures along the continua of validity, reliability, feasi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measures in the ideal core set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the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think about health care qu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is health care quality? Leading complementary definitions/frame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 -- “The degree to which health services for individuals and populations increase the likelihood of desired health outcomes and are consistent with current professional knowledge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9 - “Doing the right thing for the right person at the right time in the right way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 -- A high quality health care system is one in which care is reliably Safe, Timely, Effective, Efficient, Equitable and Patient-centered (STEEP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es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ullets one and two are clinician-focused; by 2001 – explicitly system-foc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l are aspira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6095880"/>
            <a:ext cx="8458200" cy="762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M, Medicare:  A Strategy for Quality Assurance, 1990, p. 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Eisenberg, Testimony to Congress, 1999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M, Crossing the Quality Chasm, 200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tting more specific:   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measurement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, process and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:  characteristics of the resources in the health care system; presumed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essional – licensure, board cer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ies – government certification, accreditation, policies, procedures, HIT cap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– policies, procedures, incentives, reg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(of care) – clinical activities undertaken during prevention, diagnosis, treatment,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s – survival, symptom relie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 Donabedian, 196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tting more specific:  A consumer framework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ing healt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pro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 pre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with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ng with the end of lif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:   Bethell/FACCT, adopted by the Institute of Medicine (IOM), Guidance on National Healthcare Quality Reports (NHQR) and National Healthcare Disparities Reports (NHDR), 2001, 200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rehensive Framework, NHQR and NHD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0880" y="2057400"/>
          <a:ext cx="8077320" cy="4032360"/>
        </p:xfrm>
        <a:graphic>
          <a:graphicData uri="http://schemas.openxmlformats.org/drawingml/2006/table">
            <a:tbl>
              <a:tblPr/>
              <a:tblGrid>
                <a:gridCol w="2035440"/>
                <a:gridCol w="1054080"/>
                <a:gridCol w="949320"/>
                <a:gridCol w="1325520"/>
                <a:gridCol w="1266840"/>
                <a:gridCol w="1446120"/>
              </a:tblGrid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i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-Cente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ying health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 bet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ing with illness and disa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ping with end of lif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28600" y="6248520"/>
            <a:ext cx="8763120" cy="304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in each cell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, process, outc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asures (aspirat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447920"/>
            <a:ext cx="8153280" cy="533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ROSS ALL DOMAINS, WITHIN ALL CELLS: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anks to…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a Mangione-Smith and Jeff Schi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o-chai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ible for everything good about this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subcommittee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auth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ildren’s Healthcare          Quality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’s Role in Children’s Health Insurance Program Reauthorization Act (CHIPRA) Qua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committee Focus and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775320" cy="5029200"/>
          </a:xfrm>
          <a:prstGeom prst="rect">
            <a:avLst/>
          </a:prstGeom>
          <a:ln w="3240">
            <a:solidFill>
              <a:srgbClr val="00279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66880" y="3200400"/>
            <a:ext cx="3733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stion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 of AHRQ’s work in CHIPRA Quality – 2009-2013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2" marL="1569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53400" indent="-6534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initial core measur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3400" indent="-6534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diatric quality measure development progr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3400" indent="-6534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an improved core measur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3400" indent="-6534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of the Centers for Medicare &amp; Medicaid Services (CMS) demonstration grants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3400" indent="-6534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a model pediatric electronic health record (EHR) tem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3400" indent="-6534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on Institute of Medicine (IOM) stu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3400" indent="-6534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6324480"/>
            <a:ext cx="7391520" cy="152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AHRQ Wanted to be Engaged in CHIPRA Qualit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uality is in our name  and 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ildr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a priority population for AHRQ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Measurement Experti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er Assessment of Health Providers and Systems (CAHP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care Cost and Utilization Project (HCUP) Quality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cal Expenditure Panel Survey (MEPS) Quality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 repor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 Health Insurance Research Initiative (CHIRI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Improvement Experti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 information technology (HIT) portfol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safety portfoli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ention/care management portfol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portfoli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novations in research and evaluation metho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 from Comparative Effectiveness Research to Qual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’s Engagement in CHIPRA (Continued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49532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yond repeated identification of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that will get us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1736640" cy="1822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ther Federal Part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the Secret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ant Secretary for Planning and Evaluation (AS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the National Coordinator for Health Information Technology (ON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s for Disease Control and Prevention (C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676160"/>
            <a:ext cx="3921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Resources and Services Administration (HR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 Health Service (I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 Abuse and Mental Health Services Administration (SAMH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, CMS,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ederal Part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368520" cy="412452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rge to this Subcommittee Charge VERY Focused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initial core health care quality measurement set for Medicaid and CHIP pr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 set must be posted for public comment by January 1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5715000"/>
            <a:ext cx="8610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ubcommittee charter expires December 31,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4360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51d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51d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HRQ, NAC, and        Subcommittee Ro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2819520"/>
            <a:ext cx="1676160" cy="1066680"/>
          </a:xfrm>
          <a:prstGeom prst="rect">
            <a:avLst/>
          </a:prstGeom>
          <a:solidFill>
            <a:srgbClr val="8a04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rector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HR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1600200"/>
            <a:ext cx="1676160" cy="1143000"/>
          </a:xfrm>
          <a:prstGeom prst="rect">
            <a:avLst/>
          </a:prstGeom>
          <a:solidFill>
            <a:srgbClr val="8a04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ecretar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90512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HRQ National Advisory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n Healthcare Research and Qual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3519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51d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19112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bcommittee on Children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ealthcare Quality Measures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dicaid and CHIP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MGrady</cp:lastModifiedBy>
  <cp:lastPrinted>2003-01-21T20:19:23Z</cp:lastPrinted>
  <dcterms:modified xsi:type="dcterms:W3CDTF">2009-08-04T20:22:02Z</dcterms:modified>
  <cp:revision>120</cp:revision>
  <dc:subject/>
  <dc:title>AHRQ Slide Template 2004</dc:title>
</cp:coreProperties>
</file>