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C3DD-DC5A-4679-A1EB-A98050281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obyn Stone’s titl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the Practice Profile Database and its ob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list of the practice categories that are included in the Practice Profil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a program found in the Practice Profile Database: Linking Employment Abilities and Potential (LEAP), in Cuyahoga County,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a program found in the Practice Profile Database: Cooperative Home Care Associates Employment Counseling and Mentoring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a program found in the Practice Profile Database: Leap for a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, Mather Life Ways, in Mather Institute on Aging, 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a program found in the Practice Profile Database: Wellspring Innovative Solutions in Wiscon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a program found in the Practice Profile Database: San Francisco In-Home Supportiv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C84E-673C-474C-9F77-04A32D9E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8D943-322B-42A1-B7C8-E14F5BAD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7B75-309E-4D94-9CC3-0969210A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E95F-76DA-4865-9B2D-14F2D169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43C9-A88E-4B58-986B-7C58F722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44E4-3BBB-4054-9BD2-F7681F93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99E0-CAD7-4CC4-9D40-A23D4633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2BE4-E8E7-4407-AF51-8266CE46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9DEA-064D-41AE-B7EE-7DDE26A2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F8A7-0E6B-4AFF-8C3A-11ADB044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5D0A-168B-4571-B99F-605DA7DA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10C5-D52A-47C5-8301-DE32513D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86C7-2D99-48CE-8938-AEA58176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3609-B866-4193-AF93-7F10E7F9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55E9-1958-4886-96DB-7138005B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1E3D-C574-4F93-8807-2E305A80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7B6F-D794-4CB5-BE6F-83CEC163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EA10-A03F-4DFF-BA8C-8CD6E5D0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7207-5495-4A24-8570-B84A836E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65F6-9416-4A4C-889A-FE4B8B85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1454-FA41-4A36-BF81-726FE985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4844-2A99-4B73-8C5B-0021D94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F66B-E2C7-4778-B5C4-B5DE3A9C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78E8-CC7D-4175-BB2D-1EDAD3CE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9F1B-4F56-4CF1-95FF-B9BA0BCDFE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33A8-303A-4600-A9A6-D23BB521C6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Caregivers and Quality in Long Term C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obyn Stone, Dr.P.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ecutive Directo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stitute for Future of Aging Servic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merican Association of Homes and Services for the Ag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867280" y="2514600"/>
          <a:ext cx="2270160" cy="33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27016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22200"/>
            <a:ext cx="80773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Profile Databa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9820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laboration between the Institute for the Future of Aging Services and the Paraprofessional Healthcare Institute, funded by U.S. Department of Health and Human Servic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identify successful recruitment and retention pract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mote cross-lear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files available on www.futureofaging.org or www.directcareclearinghouse.org/practices/index.js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Catego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ruitment and entry-level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er support and mento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reer Advanc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nagement and supervisory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hensive culture change interven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ges, benefits and worker-suppo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inking Employment Abilities and Potential (LEAP) of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uyahoga County, Ohi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ins people with disabilities to become PCAs, home health aides and CN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week basic attendant training cla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umer consultants provide hands-on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cement and follow-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Garamond"/>
              </a:rPr>
              <a:t>Cooperative Home Care Associates Employment Counseling and Mentoring Program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 full time employment counsel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ition assistance for traine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ng-term peer mentoring for new employe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sistance in accessing public benef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ap for a 21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st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Century </a:t>
            </a:r>
            <a:br>
              <a:rPr sz="4000"/>
            </a:br>
            <a:r>
              <a:rPr b="1" lang="en-US" sz="2900" spc="-1" strike="noStrike">
                <a:solidFill>
                  <a:srgbClr val="e5e5ff"/>
                </a:solidFill>
                <a:latin typeface="Garamond"/>
              </a:rPr>
              <a:t>Mather Life Ways</a:t>
            </a:r>
            <a:br>
              <a:rPr sz="2900"/>
            </a:br>
            <a:r>
              <a:rPr b="1" lang="en-US" sz="2900" spc="-1" strike="noStrike">
                <a:solidFill>
                  <a:srgbClr val="e5e5ff"/>
                </a:solidFill>
                <a:latin typeface="Garamond"/>
              </a:rPr>
              <a:t>Mather Institute on Aging, IL</a:t>
            </a:r>
            <a:endParaRPr b="1" lang="en-US" sz="2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N and LPN Development Mo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inical gerontological expert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eam building ski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erson centered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NA Development Mo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inical assess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eam buil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ow to mentor new CN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erson centered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ellspring Innovative Solutions in Wisconsi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iance super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inical training mo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hared advanced practice nur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ursing coordinator to link components at facility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are resource t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ystematic collection and use of outcome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n-hierarchical management philosoph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an Francisco In-Home Supportive Servi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entral worker registry and on-call services for independent personal care work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ocate for higher wages (hourly wage increased from $5.29 in 1997 to $9.70 in 200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fers health insurance plan (workers pay $3 monthly premium, rest averaging $150 paid by IHS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8:02:18Z</dcterms:created>
  <dc:creator>AAHSA</dc:creator>
  <dc:description/>
  <dc:language>en-US</dc:language>
  <cp:lastModifiedBy>McDaniel</cp:lastModifiedBy>
  <dcterms:modified xsi:type="dcterms:W3CDTF">2003-05-30T14:59:52Z</dcterms:modified>
  <cp:revision>7</cp:revision>
  <dc:subject/>
  <dc:title>Practice Profile Databa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933840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 on health workforce shortages</vt:lpwstr>
  </property>
  <property fmtid="{D5CDD505-2E9C-101B-9397-08002B2CF9AE}" pid="6" name="_PreviousAdHocReviewCycleID">
    <vt:r8>-2024162269</vt:r8>
  </property>
</Properties>
</file>