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CC2-9C89-4B81-9C79-8495488D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byn Stone’s titl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the Practice Profile Database and its ob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the practice categories that are included in the Practice Profil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Linking Employment Abilities and Potential (LEAP), in Cuyahoga County,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Cooperative Home Care Associates Employment Counseling and Mentoring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Leap for a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Mather Life Ways, in Mather Institute on Aging, 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Wellspring Innovative Solutions in Wiscon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San Francisco In-Home Supportiv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7161-C09B-451E-8561-FABC5776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7A91-7E30-4595-B268-3D85D263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78B3-9802-4A2B-94FD-A5209178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F4C8-14B8-4162-84F1-B491DB35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9A68-BC2B-49E3-AE0C-1332D605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0B4A-7BA1-44D5-A7C2-1512499F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0088-4AF7-4EF1-B2B7-5A351A88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76AB-4106-472D-93D0-FF2F9ECC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A8E-2CC6-4F0C-953D-D5A91959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2FE8-93E7-497C-914D-0B232346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CEE3-8893-43B2-A295-7B98A45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1515-C59B-470B-96F7-AF45BC2C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A2C0-EDC1-4CCD-B2EA-F3FDCB32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8A8-A3F3-4FC9-8FAB-902A873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2309-0C3A-4DAB-8E94-787FDD7F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17A-A8FD-4AF9-BC47-E595E201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D9E3-B522-49BA-AD4C-1ED22477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C995-DD6C-41B5-9E3A-C3D241BC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E410-80CE-4B11-A273-9728CF5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25BA-6997-44A3-B028-4B3F5535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A15E-4374-4C06-97FF-5118F8B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3B63-C076-4B7A-B99F-1EBF4327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C49F-EA07-43B2-B265-9B49D29B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72FC-4B0B-4E39-8CD6-9C06353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F19-79FF-4DBC-8803-813D1CF4E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75E-23A6-4270-B694-76F81D071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Caregivers and Quality in Long Term 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byn Stone, Dr.P.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ecutive Direct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titute for Future of Aging Servic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merican Association of Homes and Services for the Ag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867280" y="2514600"/>
          <a:ext cx="2270160" cy="33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27016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22200"/>
            <a:ext cx="80773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Profile Datab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9820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laboration between the Institute for the Future of Aging Services and the Paraprofessional Healthcare Institute, funded by U.S. Department of Health and Human Servi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identify successful recruitment and retention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mote cross-lear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files available on www.futureofaging.org or www.directcareclearinghouse.org/practices/index.js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Catego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ruitment and entry-level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er support and mento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reer Advanc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nagement and supervisory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hensive culture change interven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ges, benefits and worker-supp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nking Employment Abilities and Potential (LEAP)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uyahoga County, Ohi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ins people with disabilities to become PCAs, home health aides and CN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week basic attendant training cla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umer consultants provide hands-on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cement and follow-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Cooperative Home Care Associates Employment Counseling and Mentoring Program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full time employment counsel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ition assistance for train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ng-term peer mentoring for new employ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sistance in accessing public benef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ap for a 21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st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Century </a:t>
            </a:r>
            <a:br>
              <a:rPr sz="4000"/>
            </a:br>
            <a:r>
              <a:rPr b="1" lang="en-US" sz="2900" spc="-1" strike="noStrike">
                <a:solidFill>
                  <a:srgbClr val="e5e5ff"/>
                </a:solidFill>
                <a:latin typeface="Garamond"/>
              </a:rPr>
              <a:t>Mather Life Ways</a:t>
            </a:r>
            <a:br>
              <a:rPr sz="2900"/>
            </a:br>
            <a:r>
              <a:rPr b="1" lang="en-US" sz="2900" spc="-1" strike="noStrike">
                <a:solidFill>
                  <a:srgbClr val="e5e5ff"/>
                </a:solidFill>
                <a:latin typeface="Garamond"/>
              </a:rPr>
              <a:t>Mather Institute on Aging, IL</a:t>
            </a:r>
            <a:endParaRPr b="1" lang="en-US" sz="2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N and LPN Development Mo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nical gerontological expert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eam building sk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erson center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NA Development Mo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nical assess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eam buil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ow to mentor new CN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erson center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llspring Innovative Solutions in Wiscons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iance super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inical training mo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ared advanced practice nu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ursing coordinator to link components at facility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re resource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ystematic collection and use of outcom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n-hierarchical management philosoph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an Francisco In-Home Supportive Serv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entral worker registry and on-call services for independent personal care wor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ocate for higher wages (hourly wage increased from $5.29 in 1997 to $9.70 in 200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fers health insurance plan (workers pay $3 monthly premium, rest averaging $150 paid by IHS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02:18Z</dcterms:created>
  <dc:creator>AAHSA</dc:creator>
  <dc:description/>
  <dc:language>en-US</dc:language>
  <cp:lastModifiedBy>McDaniel</cp:lastModifiedBy>
  <dcterms:modified xsi:type="dcterms:W3CDTF">2003-05-30T14:59:52Z</dcterms:modified>
  <cp:revision>7</cp:revision>
  <dc:subject/>
  <dc:title>Practice Profile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933840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-2024162269</vt:r8>
  </property>
</Properties>
</file>