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2600" y="699840"/>
            <a:ext cx="464688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BE6648-986F-4781-8622-B59E5D0F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Edward Salsberg’s title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description of the health workforce crisis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sts the short term and long term factors contributing to health workforc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sts the workplace factors contributing to health workforc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at employment in all health care occupations is expected to grow rapidly in coming years, as evidenced by increases in total job open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at direct care workers comprise the majority of workers in long term care, specifically in the home health care workforce and the nursing home work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direct care worker’s perspective on the long term care aid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provider’s perspective on long term care aid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various state government roles related to the health work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040-957C-401E-9BBE-6D088D4B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1E1-F47A-4E97-9EAE-6041FC4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002-AAB7-40C4-A08D-3B850502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561-9786-4706-A972-153A634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0CA-6981-4E56-B881-72EBBFFD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749-54B2-426D-AFCB-367174E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C26-4CC9-4C6E-9AAF-F46DA56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FD2-51E8-4B57-B205-65195A56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9FB-C84A-486E-B4F3-198CACD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C67-A346-4C77-8395-03F221D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3D8-CFB8-4884-90CF-20CDFCF4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1C0-65AE-4EFF-940A-1188C98B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09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3604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31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586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620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526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32A-E718-4CC7-8C37-303E4B80C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ws.albany.edu/" TargetMode="External"/><Relationship Id="rId2" Type="http://schemas.openxmlformats.org/officeDocument/2006/relationships/hyperlink" Target="http://chws.albany.edu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aregivers and Quality 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n Long Term Car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5105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ward Salsberg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nter for Health Workforce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University of New Y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 Alb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hws.albany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80988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The Health Workforce Cris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 shortages threatening ability to delive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queeze -- few new dollars and the high cost of more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s with medical errors and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er and management dis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ied in paperwork and reg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ial and ethnic imbal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d interest in health car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ystematic data on workforce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Factors Contributing to Health Workforce Short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hort term fac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system response 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ing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case mix complex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ng Term fac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ing of America: increasing demand and decreasing supply of 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demand due to increasing income, expanding interventions, and increased survival of individuals with chronic illn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racial/ethnic m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ed career choices for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Factors Contributing to Health Workforce Shortages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ontinu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place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ly and emotionally demand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competitive wages and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design and work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 and lack of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ly trained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Employment in Health Care Is Expected to Grow Rapidly in Coming Yea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ureau of Labor Statistics (BLS) forecasts tha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ployment in all health care occupa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grow by 29% between 2000 and 2010, twice as fast as the rest of the econom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ob opening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ue to growth and replacements between  2000 and 2010 are forecast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ed Nur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1,004,0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rse Aides, Orderlies, Attenda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98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me Health Aid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70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sonal and Home Care Aid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22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ensed Practical Nur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22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reau of Labor Statistics: Occupational Employment Projections to 2010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hly Labor Review, Nov 200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Direct Care Workers Comprise the Majority of Workers in Long Term C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Health Car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Home health aides and other a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% 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%  LP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rsing Hom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% CNAs and other a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% LP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% 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ong Term Care Aide Shortages:</a:t>
            </a:r>
            <a:br>
              <a:rPr sz="3200"/>
            </a:b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.  </a:t>
            </a:r>
            <a:r>
              <a:rPr b="1" i="1" lang="en-US" sz="3200" spc="-1" strike="noStrike">
                <a:solidFill>
                  <a:srgbClr val="333399"/>
                </a:solidFill>
                <a:latin typeface="Rockwell"/>
              </a:rPr>
              <a:t>The Worker Perspectiv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wages and benefi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ertified Nurse Aide:  $9.22 per hour; Home Health Aide: $8.38 per ho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work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jobs – physically/mentally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career opportunities: dead end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recognition or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p between training and real job de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ong Term Care Aide Shortages: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Rockwell"/>
              </a:rPr>
              <a:t>The Provider Perspectiv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little reimburs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nd federal regulations and over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ly prepared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turn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unemploymen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patient ac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wth in total number of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State Government Roles Related to the Health Workfor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ure and regulation of health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ion of health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ion of educational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colleges and univers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id reimbursement policies and regulation of private 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or Department training programs and employment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er in state facilities and ag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workforce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13:16:53Z</dcterms:created>
  <dc:creator>Mark Dionne</dc:creator>
  <dc:description/>
  <dc:language>en-US</dc:language>
  <cp:lastModifiedBy>McDaniel</cp:lastModifiedBy>
  <cp:lastPrinted>2001-05-25T20:31:43Z</cp:lastPrinted>
  <dcterms:modified xsi:type="dcterms:W3CDTF">2003-05-30T14:40:01Z</dcterms:modified>
  <cp:revision>11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2773869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1799303715</vt:r8>
  </property>
</Properties>
</file>