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563B-A470-48CA-962F-346ED9DAC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hristine Kovner’s title slid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s the full citations for all of the works referenced in this present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statistics for total nurse staffing hours per resident per day in 200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31A8-2A8C-4A57-BB54-C469DA49F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50920" y="692280"/>
            <a:ext cx="4556160" cy="34160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sts the reported staff ratios on each shift (e.g., for each type of nurse) in nursing homes in 200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scribes the relationship between licensed nurses and quality in nursing hom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ses research studies to show there is a positive relationship between licensed nurses and qual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s are statistics on the prevalence of medication errors in home care for patients 65 years and old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at significantly less training hours are required for nursing assistants than manicurists and barb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the minimum nurse staffing standards for nursing facilities in the U.S. recommended by exper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statistics on the number of working RNs who are certified in geriatrics, the number of pharmacists who are certified in geriatrics, and the number of physician residents slots that are for geriatri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66BBF4-68E8-46E8-8928-D71ABCA999F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222DD7DA-3548-48FE-89B8-D95609804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A04F2ACC-98ED-4B7E-802C-995C07129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27ED4A02-7D66-41D1-A4B7-F7D4529B7CA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89F67D-6E7A-43C2-BF23-E2E3BD22BF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4"/>
          </p:nvPr>
        </p:nvSpPr>
        <p:spPr/>
        <p:txBody>
          <a:bodyPr/>
          <a:p>
            <a:fld id="{7E89F9F4-DC6B-4BA4-B2CB-F7B3253A0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4"/>
          </p:nvPr>
        </p:nvSpPr>
        <p:spPr/>
        <p:txBody>
          <a:bodyPr/>
          <a:p>
            <a:fld id="{1E65454B-8A48-490A-8F93-962E037D56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4"/>
          </p:nvPr>
        </p:nvSpPr>
        <p:spPr/>
        <p:txBody>
          <a:bodyPr/>
          <a:p>
            <a:fld id="{64143F04-CFB5-48C7-9559-0ED34862D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sldNum" idx="4"/>
          </p:nvPr>
        </p:nvSpPr>
        <p:spPr/>
        <p:txBody>
          <a:bodyPr/>
          <a:p>
            <a:fld id="{0196F576-2704-4A5E-9770-49B7F2F7B3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4"/>
          </p:nvPr>
        </p:nvSpPr>
        <p:spPr/>
        <p:txBody>
          <a:bodyPr/>
          <a:p>
            <a:fld id="{F212A49D-BEB2-49A1-8A39-B5F80D8568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0A8AE2A0-9AD1-47F0-A048-87DF9CB58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869DF261-E1B8-4539-9100-F42C63D26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F6B44F6A-9295-4572-A32F-CFE5C3EB5B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3E78D7DE-7D1F-431D-9D9B-52B87DDEA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4"/>
          </p:nvPr>
        </p:nvSpPr>
        <p:spPr/>
        <p:txBody>
          <a:bodyPr/>
          <a:p>
            <a:fld id="{BBA0ADBB-0732-4137-A903-42316DCFF2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4"/>
          </p:nvPr>
        </p:nvSpPr>
        <p:spPr/>
        <p:txBody>
          <a:bodyPr/>
          <a:p>
            <a:fld id="{3537C9DF-3500-442A-BB43-4B80F76B2F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4"/>
          </p:nvPr>
        </p:nvSpPr>
        <p:spPr/>
        <p:txBody>
          <a:bodyPr/>
          <a:p>
            <a:fld id="{3EF673CD-92DD-47C2-8C65-476AEB98AE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C2E1F707-C72B-4AA3-885F-07812D3EB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7FE44A83-A292-47C0-87D2-7BE3AD476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sldNum" idx="2"/>
          </p:nvPr>
        </p:nvSpPr>
        <p:spPr/>
        <p:txBody>
          <a:bodyPr/>
          <a:p>
            <a:fld id="{FF96314A-B9C4-473E-88CB-00272CF61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5604510D-600C-4648-9ECC-CB057BF6F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708ECA96-0944-4B45-9EDE-88FD37B43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8E0FD1E9-E2B8-4A9E-8DF8-C5E609D23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DE53CA37-3D03-4E4B-8252-07C14733A38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6147-3B6F-483F-9A87-95BF93F0B77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3" name=""/>
          <p:cNvGrpSpPr/>
          <p:nvPr/>
        </p:nvGrpSpPr>
        <p:grpSpPr>
          <a:xfrm>
            <a:off x="0" y="0"/>
            <a:ext cx="8458200" cy="5943600"/>
            <a:chOff x="0" y="0"/>
            <a:chExt cx="8458200" cy="5943600"/>
          </a:xfrm>
        </p:grpSpPr>
        <p:sp>
          <p:nvSpPr>
            <p:cNvPr id="44"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7" name="PlaceHolder 2"/>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F832-E89A-443D-9ED2-1B64FA983B4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52280"/>
            <a:ext cx="7772400" cy="135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aregivers ARE Quality in Long Term Care</a:t>
            </a:r>
            <a:endParaRPr b="0" lang="en-US" sz="5400" spc="-1" strike="noStrike">
              <a:solidFill>
                <a:srgbClr val="ffffcc"/>
              </a:solidFill>
              <a:latin typeface="Tahoma"/>
            </a:endParaRPr>
          </a:p>
        </p:txBody>
      </p:sp>
      <p:sp>
        <p:nvSpPr>
          <p:cNvPr id="94" name="PlaceHolder 2"/>
          <p:cNvSpPr>
            <a:spLocks noGrp="1"/>
          </p:cNvSpPr>
          <p:nvPr>
            <p:ph type="subTitle"/>
          </p:nvPr>
        </p:nvSpPr>
        <p:spPr>
          <a:xfrm>
            <a:off x="380520" y="3886200"/>
            <a:ext cx="579132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ristine T. Kovner, R.N., Ph.D.</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vision of Nursing, Steinhardt School of Education, NYU</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ril 30, 2003</a:t>
            </a:r>
            <a:endParaRPr b="0" lang="en-US" sz="2400" spc="-1" strike="noStrike">
              <a:solidFill>
                <a:srgbClr val="ffffff"/>
              </a:solidFill>
              <a:latin typeface="Tahoma"/>
            </a:endParaRPr>
          </a:p>
        </p:txBody>
      </p:sp>
      <p:graphicFrame>
        <p:nvGraphicFramePr>
          <p:cNvPr id="95" name=""/>
          <p:cNvGraphicFramePr/>
          <p:nvPr/>
        </p:nvGraphicFramePr>
        <p:xfrm>
          <a:off x="6477120" y="3505320"/>
          <a:ext cx="2228760" cy="2971800"/>
        </p:xfrm>
        <a:graphic>
          <a:graphicData uri="http://schemas.openxmlformats.org/presentationml/2006/ole">
            <p:oleObj r:id="rId1" spid="">
              <p:embed/>
              <p:pic>
                <p:nvPicPr>
                  <p:cNvPr id="96" name="" descr=""/>
                  <p:cNvPicPr/>
                  <p:nvPr/>
                </p:nvPicPr>
                <p:blipFill>
                  <a:blip r:embed="rId2"/>
                  <a:stretch/>
                </p:blipFill>
                <p:spPr>
                  <a:xfrm>
                    <a:off x="6477120" y="3505320"/>
                    <a:ext cx="2228760" cy="297180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
          <p:cNvSpPr/>
          <p:nvPr/>
        </p:nvSpPr>
        <p:spPr>
          <a:xfrm>
            <a:off x="0" y="-6480"/>
            <a:ext cx="9144000" cy="70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ea typeface="Times New Roman"/>
              </a:rPr>
              <a:t>References</a:t>
            </a:r>
            <a:r>
              <a:rPr b="0"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nderson, R. A., Hsieh, P., Su, H. (1998). Resource allocation and resident outcomes in nursing homes: Comparisons between the best and worst. Research in Nursing and Health, 21, 297-313.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ovner, C.T., Menezes, J. &amp; Feldman, P. (2003). Paper in progress.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Harrington, C., Kovner, C., Mezey, M., Kayser-Jones, J., Berger, S., Muhler, M., Reilly, K., Burice, R., Zimmerman, D. (2000).  Experts recommend minimum nurse staffing standards for nursing facilities in the U.S.  </a:t>
            </a:r>
            <a:r>
              <a:rPr b="0" lang="en-US" sz="1200" spc="-1" strike="noStrike" u="sng">
                <a:solidFill>
                  <a:srgbClr val="ffffff"/>
                </a:solidFill>
                <a:uFillTx/>
                <a:latin typeface="Times New Roman"/>
                <a:ea typeface="Times New Roman"/>
              </a:rPr>
              <a:t>The Gerontologist 40</a:t>
            </a:r>
            <a:r>
              <a:rPr b="0" lang="en-US" sz="1200" spc="-1" strike="noStrike">
                <a:solidFill>
                  <a:srgbClr val="ffffff"/>
                </a:solidFill>
                <a:latin typeface="Times New Roman"/>
                <a:ea typeface="Times New Roman"/>
              </a:rPr>
              <a:t>, 5-16.</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ovner, C.T., Mezey, M., &amp; Harrington, C. (2002).  Who cares for older adults?  Workforce implications of an aging Society.  </a:t>
            </a:r>
            <a:r>
              <a:rPr b="0" lang="en-US" sz="1200" spc="-1" strike="noStrike" u="sng">
                <a:solidFill>
                  <a:srgbClr val="ffffff"/>
                </a:solidFill>
                <a:uFillTx/>
                <a:latin typeface="Times New Roman"/>
                <a:ea typeface="Times New Roman"/>
              </a:rPr>
              <a:t>Health Affairs 21(5)</a:t>
            </a:r>
            <a:r>
              <a:rPr b="0" lang="en-US" sz="1200" spc="-1" strike="noStrike">
                <a:solidFill>
                  <a:srgbClr val="ffffff"/>
                </a:solidFill>
                <a:latin typeface="Times New Roman"/>
                <a:ea typeface="Times New Roman"/>
              </a:rPr>
              <a:t>, 78-89.</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Bliesmer, M. M., Smayling, M. , Kane, R. &amp; Shannon, I. (1998) The relationship between nursing staffing levels and nursing home outcomes. Journal of Aging and Health, 10(3), 351-371.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Harrington, C. Zimmerman, D., Karon, S. L., Robinson, J. &amp; Beutel, P. (2000). Nursing home staffing and its relationship to deficiencies. Journal of Gerontology: Social Sciences, 55B(5), S278-S287.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inn, M. G., L. &amp; Linn, B. A. (1977). Patient outcomes as a measure of quality of nursing home care. American Journal of Public Health. 67(4), 337-344.</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Nyman, J. A. (1988). Improving the quality of nursing home outcomes: Are adequacy or incentive-oriented policies more effective? Medical Care, 26(12), 1158-1171.</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yser-Jones, Wiener, C. L.  &amp; Barbaccia, J. C. (1989). Factors contributing to the hospitalization of nursing home residents. The Gerontologist, 29, 502-510.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pector, W. D., &amp; Takada, H. A.  (1991). Characteristics of nursing homes that affect resident outcomes. Journal of Aging and Health 3(4), 427-454.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herry, R. L. (1991). Agents of nursing home quality of care: Ombudsman and staff ratios revised. The Gerontologist. 31, 302-308.</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yser-Jones, J. &amp; Schell, E. (1997). The effect of staffing on the quality of care at mealtime. Nursing Outlook, 45(2), 64-72.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Harrington, C., Carrillo, H., Thollaug, S., &amp; Summers, P. (1999)Nursing facilties, staffing, residents, and facility deficiencies 1991-1997. (Report prepared for the Health Care Financing Administration. San Francisco: University of California.</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tal Nurse Staffing Hours per Resident per Day, 2001</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rtified nurse aides (CNA)- 2.1 hour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censed practical/vocational nurse (LPN/LVN) - 0.7 hour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gistered nurses (RN) – 0.7 hour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RN hours have increased from 0.4 hours per day in 1993, while acuity has increased</a:t>
            </a: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arrington from CMS OSCAR data</a:t>
            </a:r>
            <a:endParaRPr b="0" lang="en-US" sz="1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066680"/>
            <a:ext cx="7772400" cy="952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cc"/>
                </a:solidFill>
                <a:latin typeface="Tahoma"/>
              </a:rPr>
              <a:t> </a:t>
            </a:r>
            <a:r>
              <a:rPr b="1" lang="en-US" sz="4400" spc="-1" strike="noStrike">
                <a:solidFill>
                  <a:srgbClr val="ffffcc"/>
                </a:solidFill>
                <a:latin typeface="Tahoma"/>
              </a:rPr>
              <a:t>Reported Staff Ratios on each Shift – Nursing Homes 2001</a:t>
            </a:r>
            <a:endParaRPr b="0" lang="en-US" sz="4400" spc="-1" strike="noStrike">
              <a:solidFill>
                <a:srgbClr val="ffffcc"/>
              </a:solidFill>
              <a:latin typeface="Tahoma"/>
            </a:endParaRPr>
          </a:p>
        </p:txBody>
      </p:sp>
      <p:sp>
        <p:nvSpPr>
          <p:cNvPr id="100" name="PlaceHolder 2"/>
          <p:cNvSpPr>
            <a:spLocks noGrp="1"/>
          </p:cNvSpPr>
          <p:nvPr>
            <p:ph/>
          </p:nvPr>
        </p:nvSpPr>
        <p:spPr>
          <a:xfrm>
            <a:off x="762120" y="2209680"/>
            <a:ext cx="7772400" cy="4114800"/>
          </a:xfrm>
          <a:prstGeom prst="rect">
            <a:avLst/>
          </a:prstGeom>
          <a:noFill/>
          <a:ln w="0">
            <a:noFill/>
          </a:ln>
        </p:spPr>
        <p:txBody>
          <a:bodyPr lIns="90360" rIns="90360" tIns="44280" bIns="44280" anchor="t">
            <a:normAutofit fontScale="96000"/>
          </a:bodyPr>
          <a:p>
            <a:pPr marL="329040" indent="-329040">
              <a:lnSpc>
                <a:spcPct val="90000"/>
              </a:lnSpc>
              <a:spcBef>
                <a:spcPts val="102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ahoma"/>
              </a:rPr>
              <a:t>1 CNA to 11.8 Residents</a:t>
            </a:r>
            <a:r>
              <a:rPr b="0" lang="en-US" sz="4100" spc="-1" strike="noStrike">
                <a:solidFill>
                  <a:srgbClr val="ffffff"/>
                </a:solidFill>
                <a:latin typeface="Tahoma"/>
              </a:rPr>
              <a:t>	</a:t>
            </a:r>
            <a:r>
              <a:rPr b="0" lang="en-US" sz="4100" spc="-1" strike="noStrike">
                <a:solidFill>
                  <a:srgbClr val="ffffff"/>
                </a:solidFill>
                <a:latin typeface="Tahoma"/>
              </a:rPr>
              <a:t>	</a:t>
            </a:r>
            <a:r>
              <a:rPr b="0" lang="en-US" sz="4100" spc="-1" strike="noStrike">
                <a:solidFill>
                  <a:srgbClr val="ffffff"/>
                </a:solidFill>
                <a:latin typeface="Tahoma"/>
              </a:rPr>
              <a:t> </a:t>
            </a:r>
            <a:endParaRPr b="0" lang="en-US" sz="4100" spc="-1" strike="noStrike">
              <a:solidFill>
                <a:srgbClr val="ffffff"/>
              </a:solidFill>
              <a:latin typeface="Tahoma"/>
            </a:endParaRPr>
          </a:p>
          <a:p>
            <a:pPr marL="329040" indent="-329040">
              <a:lnSpc>
                <a:spcPct val="90000"/>
              </a:lnSpc>
              <a:spcBef>
                <a:spcPts val="102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ahoma"/>
              </a:rPr>
              <a:t>1 LVN/LPN to 34 Residents</a:t>
            </a:r>
            <a:endParaRPr b="0" lang="en-US" sz="4100" spc="-1" strike="noStrike">
              <a:solidFill>
                <a:srgbClr val="ffffff"/>
              </a:solidFill>
              <a:latin typeface="Tahoma"/>
            </a:endParaRPr>
          </a:p>
          <a:p>
            <a:pPr marL="329040" indent="-329040">
              <a:lnSpc>
                <a:spcPct val="90000"/>
              </a:lnSpc>
              <a:spcBef>
                <a:spcPts val="102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ahoma"/>
              </a:rPr>
              <a:t>1 RN to  32 Residents </a:t>
            </a:r>
            <a:r>
              <a:rPr b="0" lang="en-US" sz="4100" spc="-1" strike="noStrike">
                <a:solidFill>
                  <a:srgbClr val="ffffff"/>
                </a:solidFill>
                <a:latin typeface="Tahoma"/>
              </a:rPr>
              <a:t>	</a:t>
            </a:r>
            <a:r>
              <a:rPr b="1" lang="en-US" sz="4100" spc="-1" strike="noStrike">
                <a:solidFill>
                  <a:srgbClr val="ffffff"/>
                </a:solidFill>
                <a:latin typeface="Tahoma"/>
              </a:rPr>
              <a:t>	</a:t>
            </a:r>
            <a:r>
              <a:rPr b="1" lang="en-US" sz="4100" spc="-1" strike="noStrike">
                <a:solidFill>
                  <a:srgbClr val="ffffff"/>
                </a:solidFill>
                <a:latin typeface="Tahoma"/>
              </a:rPr>
              <a:t>	</a:t>
            </a:r>
            <a:endParaRPr b="0" lang="en-US" sz="41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arrington from CMS OSCAR data</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ahoma"/>
              </a:rPr>
              <a:t>Research Studies: Positive Relationship Between Licensed Nurses &amp; Quality</a:t>
            </a:r>
            <a:endParaRPr b="0" lang="en-US" sz="3400" spc="-1" strike="noStrike">
              <a:solidFill>
                <a:srgbClr val="ffffcc"/>
              </a:solidFill>
              <a:latin typeface="Tahoma"/>
            </a:endParaRPr>
          </a:p>
        </p:txBody>
      </p:sp>
      <p:sp>
        <p:nvSpPr>
          <p:cNvPr id="102" name="PlaceHolder 2"/>
          <p:cNvSpPr>
            <a:spLocks noGrp="1"/>
          </p:cNvSpPr>
          <p:nvPr>
            <p:ph/>
          </p:nvPr>
        </p:nvSpPr>
        <p:spPr>
          <a:xfrm>
            <a:off x="457200" y="17521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licensed nursing hours were related to improved functional ability and decreased probability of death</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ies with higher nurse staffing levels have fewer deficienci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ies with more RNs per LPN had fewer  assessment deficiencie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1800" spc="-1" strike="noStrike">
                <a:solidFill>
                  <a:srgbClr val="ffffff"/>
                </a:solidFill>
                <a:latin typeface="Tahoma"/>
              </a:rPr>
              <a:t>Bliesmer et al., 1998; Harrington et al., 2000; Moseley &amp; Jones, 2003</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ahoma"/>
              </a:rPr>
              <a:t>Research Studies: Positive Relationship Between Licensed Nurses &amp; Quality</a:t>
            </a:r>
            <a:endParaRPr b="0" lang="en-US" sz="3400" spc="-1" strike="noStrike">
              <a:solidFill>
                <a:srgbClr val="ffffcc"/>
              </a:solidFill>
              <a:latin typeface="Tahoma"/>
            </a:endParaRPr>
          </a:p>
        </p:txBody>
      </p:sp>
      <p:sp>
        <p:nvSpPr>
          <p:cNvPr id="10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rsing homes meeting HHS preferred minimum staffing levels had no violation that caused actual harm to patien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8% of homes that did not meet HHS standards had such violation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ss than 2.0 hours of nurse aid care per nursing home resident were almost 4 times more likely to get pressure sores than those in nursing homes that provided more than 2 hour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Stark report, 2001); (DHHS Report to Congress: Appropriateness of Minimum Nursing Staffing Ratios in Nursing Homes, 12- 1 (Spring 2000).</a:t>
            </a:r>
            <a:endParaRPr b="0" lang="en-US" sz="16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dication Errors in Home Care for Patients 65 years and older</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1.4% of patients taking medications older adults should always avoid</a:t>
            </a:r>
            <a:endParaRPr b="0" lang="en-US" sz="3000" spc="-1" strike="noStrike">
              <a:solidFill>
                <a:srgbClr val="ffffff"/>
              </a:solidFill>
              <a:latin typeface="Tahoma"/>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5880" indent="-335880">
              <a:spcBef>
                <a:spcPts val="7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8.4% of patients taking medications rarely appropriate for older adults</a:t>
            </a:r>
            <a:endParaRPr b="0" lang="en-US" sz="3000" spc="-1" strike="noStrike">
              <a:solidFill>
                <a:srgbClr val="ffffff"/>
              </a:solidFill>
              <a:latin typeface="Tahoma"/>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Kovner, Menezes, &amp; Feldman, 2003; MEPS data from AHRQ</a:t>
            </a:r>
            <a:endParaRPr b="0" lang="en-US" sz="2000" spc="-1" strike="noStrike">
              <a:solidFill>
                <a:srgbClr val="ffffff"/>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ccupational Training Requirements </a:t>
            </a:r>
            <a:endParaRPr b="0" lang="en-US" sz="4400" spc="-1" strike="noStrike">
              <a:solidFill>
                <a:srgbClr val="ffffcc"/>
              </a:solidFill>
              <a:latin typeface="Tahoma"/>
            </a:endParaRPr>
          </a:p>
        </p:txBody>
      </p:sp>
      <p:sp>
        <p:nvSpPr>
          <p:cNvPr id="108"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Many believe minimum training for nursing assistants should be increased:</a:t>
            </a:r>
            <a:endParaRPr b="0" lang="en-US" sz="3600" spc="-1" strike="noStrike">
              <a:solidFill>
                <a:srgbClr val="ffffff"/>
              </a:solidFill>
              <a:latin typeface="Tahoma"/>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ursing Assistants --75 hours</a:t>
            </a:r>
            <a:endParaRPr b="0" lang="en-US" sz="3600" spc="-1" strike="noStrike">
              <a:solidFill>
                <a:srgbClr val="ffffff"/>
              </a:solidFill>
              <a:latin typeface="Tahoma"/>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icurists -- 400 hours</a:t>
            </a:r>
            <a:endParaRPr b="0" lang="en-US" sz="3600" spc="-1" strike="noStrike">
              <a:solidFill>
                <a:srgbClr val="ffffff"/>
              </a:solidFill>
              <a:latin typeface="Tahoma"/>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rber -- 1500 hours</a:t>
            </a:r>
            <a:endParaRPr b="0" lang="en-US" sz="36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ww.barbercosmo.ca.gov/</a:t>
            </a:r>
            <a:endParaRPr b="0" lang="en-US" sz="1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commended Nursing Hours in NHs (direct and indirect) </a:t>
            </a:r>
            <a:endParaRPr b="0" lang="en-US" sz="4400" spc="-1" strike="noStrike">
              <a:solidFill>
                <a:srgbClr val="ffffcc"/>
              </a:solidFill>
              <a:latin typeface="Tahoma"/>
            </a:endParaRPr>
          </a:p>
        </p:txBody>
      </p:sp>
      <p:graphicFrame>
        <p:nvGraphicFramePr>
          <p:cNvPr id="110" name=""/>
          <p:cNvGraphicFramePr/>
          <p:nvPr/>
        </p:nvGraphicFramePr>
        <p:xfrm>
          <a:off x="838080" y="1676520"/>
          <a:ext cx="7543800" cy="4064040"/>
        </p:xfrm>
        <a:graphic>
          <a:graphicData uri="http://schemas.openxmlformats.org/drawingml/2006/table">
            <a:tbl>
              <a:tblPr/>
              <a:tblGrid>
                <a:gridCol w="3314520"/>
                <a:gridCol w="4229280"/>
              </a:tblGrid>
              <a:tr h="1060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istered Nurs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9 minutes (1.15 hours) per day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0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censed practical/ vocational nurs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2 minutes (.70 hours) per day</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0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rsing assistant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2 minutes (2.7 hours) per day</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0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Nursing</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73 minutes (4.55 hours) per day</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 name=""/>
          <p:cNvSpPr/>
          <p:nvPr/>
        </p:nvSpPr>
        <p:spPr>
          <a:xfrm>
            <a:off x="1295280" y="5791320"/>
            <a:ext cx="67057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rrington, C., Kovner, C., et al. (2000).  Experts recommend minimum nurse staffing standards for nursing facilities in the U.S.  </a:t>
            </a:r>
            <a:r>
              <a:rPr b="0" lang="en-US" sz="1600" spc="-1" strike="noStrike" u="sng">
                <a:solidFill>
                  <a:srgbClr val="ffffff"/>
                </a:solidFill>
                <a:uFillTx/>
                <a:latin typeface="Tahoma"/>
              </a:rPr>
              <a:t>The Gerontologist</a:t>
            </a:r>
            <a:r>
              <a:rPr b="0" lang="en-US" sz="1600" spc="-1" strike="noStrike">
                <a:solidFill>
                  <a:srgbClr val="ffffff"/>
                </a:solidFill>
                <a:latin typeface="Tahoma"/>
              </a:rPr>
              <a:t> 40, 5-16.</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riatric Preparation</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 than &lt;1% (21,500) of working RNs are certified in geriatrics</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wer than 0.3% (333) of the 97,362 physician residents slots are for geriatrics</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0.3% (720) of 200,000 pharmacists have geriatric certification </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	</a:t>
            </a:r>
            <a:r>
              <a:rPr b="0" lang="en-US" sz="2000" spc="-1" strike="noStrike">
                <a:solidFill>
                  <a:srgbClr val="ffffff"/>
                </a:solidFill>
                <a:latin typeface="Tahoma"/>
                <a:ea typeface="Times New Roman"/>
              </a:rPr>
              <a:t>Kovner, C.T., Mezey, M., &amp; Harrington, C. (2002). </a:t>
            </a:r>
            <a:endParaRPr b="0" lang="en-US" sz="2000" spc="-1" strike="noStrike">
              <a:solidFill>
                <a:srgbClr val="ffffff"/>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9:22:46Z</dcterms:created>
  <dc:creator>Kovner</dc:creator>
  <dc:description/>
  <dc:language>en-US</dc:language>
  <cp:lastModifiedBy>McDaniel</cp:lastModifiedBy>
  <dcterms:modified xsi:type="dcterms:W3CDTF">2003-05-30T14:07:55Z</dcterms:modified>
  <cp:revision>44</cp:revision>
  <dc:subject/>
  <dc:title>Caregivers and Quality in Long Term Care – Evidence Based Practic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12695635</vt:r8>
  </property>
  <property fmtid="{D5CDD505-2E9C-101B-9397-08002B2CF9AE}" pid="3" name="_AuthorEmail">
    <vt:lpwstr>JBokow@ahrq.gov</vt:lpwstr>
  </property>
  <property fmtid="{D5CDD505-2E9C-101B-9397-08002B2CF9AE}" pid="4" name="_AuthorEmailDisplayName">
    <vt:lpwstr>Bokow, Jerry</vt:lpwstr>
  </property>
  <property fmtid="{D5CDD505-2E9C-101B-9397-08002B2CF9AE}" pid="5" name="_EmailSubject">
    <vt:lpwstr>ULP teleconference on health workforce shortages</vt:lpwstr>
  </property>
  <property fmtid="{D5CDD505-2E9C-101B-9397-08002B2CF9AE}" pid="6" name="_PreviousAdHocReviewCycleID">
    <vt:r8>1498637739</vt:r8>
  </property>
</Properties>
</file>