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66AB2-74E6-49F6-8607-7B036807CC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Patrick Flood’s title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list of what Patrick Flood wanted most when he worked as a licensed nurse’s aide (LNA) in a nursing h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the results of the Vermont Survey of Personal Care Givers, a statewide survey of personal care givers, including LNA’s in nursing homes and home health agencies, and private care givers hired in Vermont’s consumer - directed progra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lists the efforts Vermont has made to improve nursing home staffing.  They established staffing minimums were in 2001 and increased wages through “wage supplements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describes other initiatives Vermont has used to improve nursing home staffing, including creating career ladder opportunities, developing a Caregiver’s Association, and developing a set of “best practices” to promote recruitment and retention of nursing home staf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describes the benefits of the consumer-directed option of care that Vermont has initi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621C-710B-4634-91C7-1A1294E59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6D9F-7A1C-4D09-A07B-0B854CEA2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54BF-91C2-4E5F-8A29-EF834CFC9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C68C-1E6A-4CC1-9F40-44B6EF1F3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32D3B-A8C5-44F3-9949-D13AB096E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DDD57-CE0B-49BE-94E5-1A96AE1A8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04111-09CA-4736-8674-0C7C62002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34F1F-BE5F-47E5-98E1-05009AC41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1B9FA-E89B-4E79-ADBC-124EE0DC4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F4436-CD42-42F2-833F-1A1EC5422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83DEB-FDE7-4295-890E-5D5276F0E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4CC9-99E9-4375-BF83-D61682EF6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2682B-02CD-4E48-90EE-F38CE86DD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AE2A2-A1D3-44D6-9590-B069E56EC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76CB7-B980-4F18-B4B9-1C70DAD4B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835FB-779C-48E5-8FDF-7D8CB3848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1DBE0-4A0B-4B0E-BA8B-D6CF2C209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C920-310A-43C8-A892-BA0F039DF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025A-0B03-4DC3-BC69-25D12C96A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1398-757E-4FAB-BC46-A7A032013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E924-F60D-47B3-BBD2-4A4D6828E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F1C5-E709-4E6C-800C-49B412C9D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B3F0-7482-4B3E-BFD9-B2E5694D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E647-F1EC-4E1E-9245-5961AEFD7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3E6A2-A60D-44E1-B002-3A5DE4FAB5F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27194-E040-47E7-9E0B-00F0C60DEFD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Long Term Care Initiatives in Vermon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Patrick Flood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ommissioner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Vermont Department of Aging and Disabilitie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85800" y="3581280"/>
            <a:ext cx="262260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8377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s a Licensed Nurse’s Aide (LNA) in a Nursing Home, What I Wanted Most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More mone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More staff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More continuity of car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More of a say in how the work was don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480" y="834120"/>
            <a:ext cx="80085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ermont Survey of Personal Care Give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01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e caregivers cited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w wages and benefi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ck of respect and appreciation by supervisors and professional staff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or working conditions such as lack of staff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flexibility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sire to be more involved in care decision-mak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82371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mproved Nursing Home Staffing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 Vermo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66"/>
                </a:solidFill>
                <a:uFillTx/>
                <a:latin typeface="Arial"/>
              </a:rPr>
              <a:t>Staffing Minimum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verage staffing statewide increas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66"/>
                </a:solidFill>
                <a:uFillTx/>
                <a:latin typeface="Arial"/>
              </a:rPr>
              <a:t>Increased Wag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age Supplements” appropriated twic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average wage for an LNA in a nursing home has risen from $8.14 in 1998 to $10.41 in 2002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ther Initiatives in Vermo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areer Ladder” opportunit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NA II program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velopment of a Caregiver’s Associ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o strengthen caregivers’ voi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velopment of a set of “best practices” to promote recruitment and reten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ordination with Nursing Home Association and Home Health Associ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sumer-Directed Op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specially effective in home ca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rings friends, neighbors and relatives into the work force who otherwise are unlikely to work for a facility or agency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ts high customer satisfactio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sts less than agency or facility ca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7T21:30:30Z</dcterms:created>
  <dc:creator>isabel</dc:creator>
  <dc:description/>
  <dc:language>en-US</dc:language>
  <cp:lastModifiedBy>McDaniel</cp:lastModifiedBy>
  <dcterms:modified xsi:type="dcterms:W3CDTF">2003-05-30T13:43:40Z</dcterms:modified>
  <cp:revision>1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53026127</vt:r8>
  </property>
  <property fmtid="{D5CDD505-2E9C-101B-9397-08002B2CF9AE}" pid="3" name="_AuthorEmail">
    <vt:lpwstr>JBokow@ahrq.gov</vt:lpwstr>
  </property>
  <property fmtid="{D5CDD505-2E9C-101B-9397-08002B2CF9AE}" pid="4" name="_AuthorEmailDisplayName">
    <vt:lpwstr>Bokow, Jerry</vt:lpwstr>
  </property>
  <property fmtid="{D5CDD505-2E9C-101B-9397-08002B2CF9AE}" pid="5" name="_EmailSubject">
    <vt:lpwstr>ULP teleconference on health workforce shortages</vt:lpwstr>
  </property>
  <property fmtid="{D5CDD505-2E9C-101B-9397-08002B2CF9AE}" pid="6" name="_PreviousAdHocReviewCycleID">
    <vt:r8>-279284759</vt:r8>
  </property>
</Properties>
</file>