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5E52-2E55-4F3A-B77A-C581DA6C4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Patrick Flood’s title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list of what Patrick Flood wanted most when he worked as a licensed nurse’s aide (LNA) in a nursing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results of the Vermont Survey of Personal Care Givers, a statewide survey of personal care givers, including LNA’s in nursing homes and home health agencies, and private care givers hired in Vermont’s consumer - directed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ists the efforts Vermont has made to improve nursing home staffing.  They established staffing minimums were in 2001 and increased wages through “wage supplements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escribes other initiatives Vermont has used to improve nursing home staffing, including creating career ladder opportunities, developing a Caregiver’s Association, and developing a set of “best practices” to promote recruitment and retention of nursing home sta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escribes the benefits of the consumer-directed option of care that Vermont has initi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EA9F-F39F-43B8-9B1B-9E72FB24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220B-60AA-4E6D-8344-0BEA9E75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24D2-9C17-4519-99D9-15ACEE7A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E115-787C-44B2-BC32-8E7892DC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3626-5E65-46AD-8115-D0C28BC4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A9F8-F6AD-4164-ABA3-CC22A5AC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3355-8346-4B37-9A19-A5F41DE3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A509-739C-456B-807D-920CC614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3965-019A-43EE-AB71-46E86FFC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35D6-8DF4-44A9-BEED-954FCD71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F9DB-7283-4539-9A2E-CB4C4866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7D80-9421-4203-98AE-5FB579F0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B9FE-5441-408B-BC2B-E4FD6E66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CB28-9A0F-4845-B24F-39BAE34B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CD90-72B2-4EC3-AB94-84ADAA4A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6DFD-A7CA-4269-82B4-30CE6243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FEEC-BB35-44DF-987E-61350551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FBAD-F5F4-46B0-88FD-D435F339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CB5-A127-4CAE-9691-544368C3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6CA9-DD0C-4E6A-954B-47740EF0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17F4-D9FD-44D2-AFC7-2A7413A5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4315-3B11-4D02-9DFF-02C5B7E3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9C5D-7547-478F-8324-2D1BFD68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EFFA-D6D2-4A44-996A-8B53A84B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2AB5-B67F-496C-816A-E53B0A6AE76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1A7E-1F29-44C2-955F-24A1996DF77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ong Term Care Initiatives in Vermon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atrick Floo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ommissione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Vermont Department of Aging and Disabiliti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26226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s a Licensed Nurse’s Aide (LNA) in a Nursing Home, What I Wanted Most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ore mone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ore staff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ore continuity of ca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ore of a say in how the work was do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480" y="834120"/>
            <a:ext cx="8008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ermont Survey of Personal Care Giv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caregivers cited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 wages and benef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ck of respect and appreciation by supervisors and professional staf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or working conditions such as lack of staff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flexibilit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ire to be more involved in care decision-ma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roved Nursing Home Staffing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 Vermo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Staffing Minimum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verage staffing statewide increas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Increased Wag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age Supplements” appropriated twi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average wage for an LNA in a nursing home has risen from $8.14 in 1998 to $10.41 in 2002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Initiatives in Vermo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areer Ladder”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NA II program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velopment of a Caregiver’s Associ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 strengthen caregivers’ vo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velopment of a set of “best practices” to promote recruitment and reten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ordination with Nursing Home Association and Home Health Associ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sumer-Directed Op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pecially effective in home c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ings friends, neighbors and relatives into the work force who otherwise are unlikely to work for a facility or agenc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ts high customer satisfac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ts less than agency or facility c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21:30:30Z</dcterms:created>
  <dc:creator>isabel</dc:creator>
  <dc:description/>
  <dc:language>en-US</dc:language>
  <cp:lastModifiedBy>McDaniel</cp:lastModifiedBy>
  <dcterms:modified xsi:type="dcterms:W3CDTF">2003-05-30T13:43:40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53026127</vt:r8>
  </property>
  <property fmtid="{D5CDD505-2E9C-101B-9397-08002B2CF9AE}" pid="3" name="_AuthorEmail">
    <vt:lpwstr>JBokow@ahrq.gov</vt:lpwstr>
  </property>
  <property fmtid="{D5CDD505-2E9C-101B-9397-08002B2CF9AE}" pid="4" name="_AuthorEmailDisplayName">
    <vt:lpwstr>Bokow, Jerry</vt:lpwstr>
  </property>
  <property fmtid="{D5CDD505-2E9C-101B-9397-08002B2CF9AE}" pid="5" name="_EmailSubject">
    <vt:lpwstr>ULP teleconference on health workforce shortages</vt:lpwstr>
  </property>
  <property fmtid="{D5CDD505-2E9C-101B-9397-08002B2CF9AE}" pid="6" name="_PreviousAdHocReviewCycleID">
    <vt:r8>-279284759</vt:r8>
  </property>
</Properties>
</file>