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contains a picture of Julie Sochalsk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sts the result of a survey of over 13,000 staff nurses working in 210 hospitals in Pennsylvania that was done in 199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532400" cy="339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tinues to list the results of the surv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532400" cy="339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etails the relationship between nurse staffing in hospitals and the patient “outcome” of mort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532400" cy="339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etails the relationship between nurse staffing in hospitals and the nurse “outcome” of job burn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532400" cy="339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etails the relationship between nurse staffing and the nurse outcome of “job satisf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532400" cy="339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escribes “magnet” hospitals, one of the responses to hospital nursing shortages.  Characteristics of a magnet hospital include nurse autonomy and control over practice, strong nursing leadership, participation in policymaking, and career development opportun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532400" cy="3398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50000">
              <a:srgbClr val="0000ff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50000">
              <a:srgbClr val="0000ff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ursing Staffing and Hospital Out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487692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ulie Sochalski, Ph.D., R.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nter for Health Outcomes and Policy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versity of Pennsylv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20032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50000">
              <a:srgbClr val="0000ff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Times New Roman"/>
              </a:rPr>
              <a:t>Results of Survey of Hospital Nurs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28560" indent="-503280"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 survey of over 13,000 staff nurses working in 210 hospitals in Pennsylvania was done in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ver 40% of hospital staff nurses reported being dissatisfied with their current jo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ese rates are about 3 times higher than the rates of job satisfaction for workers in general in the U.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 addition, 43% of the nurses reported high levels of job burnout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6920" y="636264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ealth Affai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May-June, 2001, 43-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50000">
              <a:srgbClr val="0000ff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sults of Survey of Hospital Nurses</a:t>
            </a:r>
            <a:r>
              <a:rPr b="1" lang="en-US" sz="3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(con’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28560" indent="-503280"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ver 80% of the nurses reported that the number of patients they were required to care for had increased in the past ye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round 45% reported that the quality of patient care at their hospital had deteriorated over the past ye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nly about 1/3 of the nurses reported that the quality of nursing care at their hospital was excell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nly 1/3 expressed confidence that their patients were able to manage their own care after being discharged from the hospit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6920" y="636264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ealth Affai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May-June, 2001, 43-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50000">
              <a:srgbClr val="0000ff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Times New Roman"/>
              </a:rPr>
              <a:t>Relationship Between Nurse Staffing and Patient Outcomes: Mortality Rat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28560" indent="-503280"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ursing workload had a significant impact on patient outcomes in hospit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atient mortality increased 7% for every additional patient that is added to the average nurse’s worklo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Implications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A hospital with an average patient-per-nurse ratio of  8:1 has a 31% higher mortality rate than a hospital with a ratio of 4: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6560" y="636264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AM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ober 23/30, 2002, 1987-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50000">
              <a:srgbClr val="0000ff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Times New Roman"/>
              </a:rPr>
              <a:t>Relationship Between Nurse Staffing and Nurse Outcomes: Job Burnou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28560" indent="-503280"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ursing workload also had a significant impact on nurse outcomes in hospit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Job burnout increased 23% for every additional patient that is added to the average nurse’s worklo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Implications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A nurse working in a hospital with an average patient-per-nurse ratio of  8:1 is more than twice as likely to show high job burnout than a nurse working in a hospital with a ratio of 4: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6560" y="636264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AM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ober 23/30, 2002, 1987-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50000">
              <a:srgbClr val="0000ff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Times New Roman"/>
              </a:rPr>
              <a:t>Relationship Between Nurse Staffing and Nurse Outcomes: Job Satisfac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28560" indent="-503280"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Nursing workload had similar effects on nurse job satisf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Job dissatisfaction increased 15% for every additional patient that is added to the average nurse’s worklo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03280">
              <a:lnSpc>
                <a:spcPct val="80000"/>
              </a:lnSpc>
              <a:spcBef>
                <a:spcPts val="649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Implications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A nurse working in a hospital with an average patient-per-nurse ratio of  8:1 is 75% more likely to be dissatisfied than a nurse working in a hospital with a ratio of 4: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6560" y="636264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AM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ctober 23/30, 2002, 1987-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8"/>
            </a:gs>
            <a:gs pos="50000">
              <a:srgbClr val="0000ff"/>
            </a:gs>
            <a:gs pos="100000">
              <a:srgbClr val="0000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sponses to Hospital Nursing Shortages: “Magnet” Hos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622080" indent="-498240">
              <a:lnSpc>
                <a:spcPct val="8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sponding to a nursing shortage in the early 1980s, the American Academy of Nursing embarked on the “magnet hospital” projec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0">
              <a:spcBef>
                <a:spcPts val="649"/>
              </a:spcBef>
              <a:spcAft>
                <a:spcPts val="1624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dentify hospitals that attract and retain nur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4982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ey Magnet Hospital characteris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4880" indent="-24840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urse autonomy and control over practi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4880" indent="-24840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strong nursing leadershi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4880" indent="-24840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articipation in policy-mak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4880" indent="-24840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areer development opportunit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498240">
              <a:lnSpc>
                <a:spcPct val="80000"/>
              </a:lnSpc>
              <a:spcBef>
                <a:spcPts val="2112"/>
              </a:spcBef>
              <a:spcAft>
                <a:spcPts val="1624"/>
              </a:spcAft>
              <a:buClr>
                <a:srgbClr val="ffffff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agnet hospitals also found to have lower patient mortality rates, higher job satisfaction, and lower nurse turnov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5120" y="6362640"/>
            <a:ext cx="53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cClure &amp; Hinshaw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Magnet Hospitals Revisite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8T09:49:52Z</dcterms:created>
  <dc:creator>Julie Sochalski</dc:creator>
  <dc:description/>
  <dc:language>en-US</dc:language>
  <cp:lastModifiedBy>McDaniel</cp:lastModifiedBy>
  <dcterms:modified xsi:type="dcterms:W3CDTF">2003-05-29T22:26:07Z</dcterms:modified>
  <cp:revision>110</cp:revision>
  <dc:subject/>
  <dc:title>Utilization-Benefit Cu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3985125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 on health workforce shortages</vt:lpwstr>
  </property>
  <property fmtid="{D5CDD505-2E9C-101B-9397-08002B2CF9AE}" pid="6" name="_PreviousAdHocReviewCycleID">
    <vt:r8>-562911726</vt:r8>
  </property>
</Properties>
</file>