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DED4-C2F8-432D-8F4F-708DECA52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contains a picture of Susan Ger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list of what Arizona has done to address the nursing shortage in their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list of what research showed Arizona policymakers that they specifically needed to work on to address the nursing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escription of how the Governor’s Task Force worked to address the nursing crisis: they first analyzed the problem, then developed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escription of a piece of legislation enacted by Arizona to establish the Caregiver and Resource Expansion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escribes how Arizona worked to expand nursing programs.  They created an accelerated program for BSN, a LPN to RN program, funded more slots in nursing programs, and provided evening and weekend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escription of the work the Arizona Hospital and Health Care Association did with a grant from the Robert Wood Johnson Foundation’s Campaign for Ca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final list of the lessons Susan Gerard has learned as she worked to address the nursing crisis in Arizo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17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1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68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1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izona's Response to the Nursing Shortag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Susan Gerard, M.B.A.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ahoma"/>
              </a:rPr>
              <a:t>Health Policy Advisor</a:t>
            </a:r>
            <a:endParaRPr b="0" lang="en-US" sz="20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ahoma"/>
              </a:rPr>
              <a:t>Office of the Governor</a:t>
            </a:r>
            <a:endParaRPr b="0" lang="en-US" sz="20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ahoma"/>
              </a:rPr>
              <a:t>State of Arizona</a:t>
            </a:r>
            <a:endParaRPr b="0" lang="en-US" sz="20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705720" y="4038480"/>
            <a:ext cx="1912680" cy="247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Has Arizona Done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and develop a databa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or’s Taskforce on Nursing Shor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WJF Campaign for Ca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search showed that we need t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ract more people to the profe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and the pipeline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 the workplace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ain more nurses in the profession providing direct patient care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overnor’s Task Forc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43828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 I: Analyze the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ought stakeholders toge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ucted research and analy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 II: Develop Solu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 work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 education/curricul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 q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islation (SB1260/2002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egiver and Resource Expansion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5280" y="25909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capacity at State universities and Community Colle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the number of students graduating from our programs by 200 each year starting in ’03 - ’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itment from AZ hospitals to provi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ding for clinical rota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junct faculty for nursing edu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panding Nursing Program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5280" y="2819160"/>
            <a:ext cx="7315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lerated program for BS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4 month program for people with Bachelors to get their BS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PN to RN program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ing of more slots in nursing program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ing and weekend 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WJF Campaign for Caring: Arizona Hospital and Health Care Associatio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awareness and attraction of nursing prof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ise money for scholarshi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 innov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ssons Learned: Keys to Success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5280" y="22856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reinvent the wheel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 from other states and from 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ct state-specific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leadership: business, academic, polit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ng all stakeholders toge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e: business, academic, polit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oc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Daniel</cp:lastModifiedBy>
  <dcterms:modified xsi:type="dcterms:W3CDTF">2003-05-29T22:07:5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2678333</vt:r8>
  </property>
  <property fmtid="{D5CDD505-2E9C-101B-9397-08002B2CF9AE}" pid="3" name="_AuthorEmail">
    <vt:lpwstr>JBokow@ahrq.gov</vt:lpwstr>
  </property>
  <property fmtid="{D5CDD505-2E9C-101B-9397-08002B2CF9AE}" pid="4" name="_AuthorEmailDisplayName">
    <vt:lpwstr>Bokow, Jerry</vt:lpwstr>
  </property>
  <property fmtid="{D5CDD505-2E9C-101B-9397-08002B2CF9AE}" pid="5" name="_EmailSubject">
    <vt:lpwstr>ULP teleconference on health workforce shortages</vt:lpwstr>
  </property>
  <property fmtid="{D5CDD505-2E9C-101B-9397-08002B2CF9AE}" pid="6" name="_PreviousAdHocReviewCycleID">
    <vt:r8>-845937039</vt:r8>
  </property>
</Properties>
</file>