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7" name="PlaceHolder 4"/>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8" name="PlaceHolder 5"/>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A5DC-28BA-48AB-97C4-D8291924936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99" name="PlaceHolder 6"/>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26708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anta’s slides for the presentation “Stretching Scarce Resources: State Strategies to Design Effective, Affordable Benefit Pack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anta is the Administrator of the Office for Oregon Health Policy and Research.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gon is still looking for answers to a lot of questions, including those related to cost-sharing, especially in poor adults and people below 100% of the Federal poverty level. They are looking at the basic health plan in the State of Washington, which has had cost-sharing for poor adults for some time. Oregon is also interested in premium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mportantly, officials want to know what are the ways in which they could improve the health of the population from a population point of view by trading off benefits for expansi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egon they know a bit about the resources available to the poor and low-income, but would like to know more. Oregon’s focus has been on adults, and while it is clear that they have very little or no discretionary income, the sense from talking to them is that many would like to have the choice of paying a premium or co-pay, rather than having a benefit eliminated in some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gon has looked specifically at the population of adults who have zero income, and found that a high proportion of those people do have resources in terms of family, friends and other sources. Officials in Oregon are also intrigued by the financing options that emerge in those communities that are more oriented to providing universal or continuous cover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gon has also found that oftentimes the poor have not fully leveraged the resources that are available to them.  They are not getting the assistance they are eligible for in terms of food or housing, which might bring more resources to bear for them in general.</a:t>
            </a:r>
            <a:r>
              <a:rPr b="0" lang="en-US" sz="1200" spc="-1" strike="noStrike">
                <a:solidFill>
                  <a:srgbClr val="000000"/>
                </a:solidFill>
                <a:latin typeface="Courier New"/>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strategies to moderate the negative impact of cost-sharing. Strategies include helping to finance and subsidize premiums and co-payments. Some communities will also see the benefit of continuous enroll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a medical culture change that occurs with these approaches because costs and the cost of healthcare become more important to everybody. And finally, communities will hopefully step up to moderate the imp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gon is still working on identifying alternatives to cost-sharing. They are looking to services they could eliminate, people to move to a different side of service, and substituting group visits for individual meetings, especially in the case of mental health care. They have gotten interested in providing detoxification for drug and alcohol for a subset of patients in outpatient or residential settings rather than inpat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so looking at some guidelines that would involve potentially paying higher co-payments for high variation surgeries, such as  prostate or back surgery, for exampl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ce resources for insurance coverage have been an issue for Oregon for the last decade.  In late 2000 and early 2001, conditions started to change in Oregon to make them even more so; rates of uninsurance started to rise then and Oregon started to move into recession.  Events of September 11 only made this more dramatic, and like many States Oregon now has a very large deficit. Oregon now has the highest unemployment rate in the United States.</a:t>
            </a:r>
            <a:r>
              <a:rPr b="0" lang="en-US" sz="1200" spc="-1" strike="noStrike">
                <a:solidFill>
                  <a:srgbClr val="000000"/>
                </a:solidFill>
                <a:latin typeface="Courier New"/>
              </a:rPr>
              <a:t>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has done is caused Oregon to look at structuring the Oregon Health Plan in a new and a bit different way, though still retaining some of the original strategies and principles.  Specifically, Oregon is interested in returning to more flexibility around benefits and eligibility issues. This State has really tried to focus on leveraging all available resources to the greatest degree possible. The hope is to use the resources to actually expand eligibility.  At the same time, there are clearly realities from a budget point of view and a part of the approach would be to have the ability to cap enrollment for expansion popu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well-established environment in Oregon to look at rationing services rather than people, and they are very familiar and comfortable with an explicit public decision process. They also try to look at the data and have spent the last decade trying to improve the information they have that gives us some reference and relevance to the extent of the problem.  Also, they are using evidence from research in other States when it is available and relev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gon has certainly made its priorities very explicit. Prevention has come out very high on the prioritized list, while futile and inefficient care has come out the lowest. When people understand the overall rankings, they make sense. This has resulted in a relatively modest financial contribution, which is around 3% compared to a traditional insurance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oritized list is a challenge to administer because the issues surrounding treatments and their corresponding conditions are complex and emotional.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gon has had two rounds of public sessions -  one in the spring of 2000 and one in the summer of 2001 to discuss specific changes to the Oregon Health Plan. They have learned how to get a lot of people involved and that it is important to really target a specific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as led to an ability to explain these trade-offs to Oregonians so they understand the elements of difficult choices.  For example, in their most recent round of public sessions, officials got the sense that even low-income people would prefer cost-sharing to the elimination of major benefit families. Officials learned that prescription drug benefits are very important to the Medicaid population, as are dental benefits, which seem to rank almost as important as mental health benefits.</a:t>
            </a:r>
            <a:r>
              <a:rPr b="0" lang="en-US" sz="1200" spc="-1" strike="noStrike">
                <a:solidFill>
                  <a:srgbClr val="000000"/>
                </a:solidFill>
                <a:latin typeface="Courier New"/>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ooking at a significant reduction in benefits for a large portion of the adult population that is eligible by income only, dental benefits ended up on the cusp. The easiest solution would have been to eliminate dental benefits entirely, but the dental community got organized to prevent that from happening. The data showed that a very high portion of the benefits for dental care were going to a small number of high cost patients.  The dental community then looked at that data and emerged with a dental benefit plan that focused on maintaining function -  the ability to eat painlessly and have a smile that will work out in the job market.  The benefit resulted in some co-pays on especially restorative services, but most importantly a dollar limit over a six-month perio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416480"/>
            <a:ext cx="5029200" cy="4270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services research has been very helpful in informing decision-making in Oregon in some respects, but in others there are still some questions that remain unanswered.  For example, there is pretty good research on low-income populations between 100-200% of the Federal poverty level. Research shows that lesser benefit packages are clearly preferable to no coverage at all for this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gon also knows a lot about churning because of a study done of all the enrollment eligibility issues and the churning that results. There is also research on employer-sponsored insurance (ESI) that has helped determine the different options available for subsidy pr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regon has struggled with is that the current proposed benefit does have significant cost-sharing for both low-income and poor people, people below 100% of the Federal poverty level, and while there is some research on the effects of cost-sharing on the poor, they are still looking for ans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unique strategy that Oregon is pursuing concerns prescription drugs. The evidence-based practice center at Oregon Health and Sciences University is doing evidence-based assessments of prescription drug families in which there are multiple prescription drugs that may have similar effectiveness but very different cost. They expect results in the spring, 2002. </a:t>
            </a:r>
            <a:r>
              <a:rPr b="0" lang="en-US" sz="1200" spc="-1" strike="noStrike">
                <a:solidFill>
                  <a:srgbClr val="000000"/>
                </a:solidFill>
                <a:latin typeface="Courier New"/>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benefit packages and stretching scarce resources is tough work - it’s hard to feel like a good guy while taking things away from people. The uninsured have relatively little leverage compared to more vocal stakeholders. It’s necessary hang in there, keep presenting options,and keep the participants talking. Officials in Oregon try and play the role of catalyst. They try and get stakeholders to focus on what are the most important services, just like the dental community did.  In general, they have learned to keep pursuing every option until they get pushed back, but it is a tough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2438280"/>
            <a:ext cx="9009000" cy="1052640"/>
            <a:chOff x="0" y="2438280"/>
            <a:chExt cx="9009000" cy="1052640"/>
          </a:xfrm>
        </p:grpSpPr>
        <p:grpSp>
          <p:nvGrpSpPr>
            <p:cNvPr id="46" name=""/>
            <p:cNvGrpSpPr/>
            <p:nvPr/>
          </p:nvGrpSpPr>
          <p:grpSpPr>
            <a:xfrm>
              <a:off x="290520" y="2546280"/>
              <a:ext cx="711360" cy="474840"/>
              <a:chOff x="290520" y="2546280"/>
              <a:chExt cx="711360" cy="474840"/>
            </a:xfrm>
          </p:grpSpPr>
          <p:sp>
            <p:nvSpPr>
              <p:cNvPr id="47"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9" name=""/>
            <p:cNvGrpSpPr/>
            <p:nvPr/>
          </p:nvGrpSpPr>
          <p:grpSpPr>
            <a:xfrm>
              <a:off x="414360" y="2968560"/>
              <a:ext cx="737640" cy="474840"/>
              <a:chOff x="414360" y="2968560"/>
              <a:chExt cx="737640" cy="474840"/>
            </a:xfrm>
          </p:grpSpPr>
          <p:sp>
            <p:nvSpPr>
              <p:cNvPr id="50"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2"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685800"/>
            <a:ext cx="77724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tretching Scarce Resources: State Strategies to Design Effective, Affordable Benefit Packages</a:t>
            </a:r>
            <a:r>
              <a:rPr b="0" lang="en-US" sz="3200" spc="-1" strike="noStrike">
                <a:solidFill>
                  <a:srgbClr val="333399"/>
                </a:solidFill>
                <a:latin typeface="Tahoma"/>
              </a:rPr>
              <a:t> </a:t>
            </a:r>
            <a:br>
              <a:rPr sz="3200"/>
            </a:br>
            <a:endParaRPr b="0" lang="en-US" sz="3200" spc="-1" strike="noStrike">
              <a:solidFill>
                <a:srgbClr val="333399"/>
              </a:solidFill>
              <a:latin typeface="Tahoma"/>
            </a:endParaRPr>
          </a:p>
        </p:txBody>
      </p:sp>
      <p:sp>
        <p:nvSpPr>
          <p:cNvPr id="101" name="PlaceHolder 2"/>
          <p:cNvSpPr>
            <a:spLocks noGrp="1"/>
          </p:cNvSpPr>
          <p:nvPr>
            <p:ph type="subTitle"/>
          </p:nvPr>
        </p:nvSpPr>
        <p:spPr>
          <a:xfrm>
            <a:off x="380520" y="3886200"/>
            <a:ext cx="49532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ohn Santa, M.D.</a:t>
            </a:r>
            <a:endParaRPr b="0" lang="en-US" sz="2800" spc="-1" strike="noStrike">
              <a:solidFill>
                <a:srgbClr val="000000"/>
              </a:solidFill>
              <a:latin typeface="Tahoma"/>
            </a:endParaRPr>
          </a:p>
          <a:p>
            <a:pPr lvl="1" marL="339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ministrator</a:t>
            </a:r>
            <a:endParaRPr b="0" lang="en-US" sz="1800" spc="-1" strike="noStrike">
              <a:solidFill>
                <a:srgbClr val="000000"/>
              </a:solidFill>
              <a:latin typeface="Tahoma"/>
            </a:endParaRPr>
          </a:p>
          <a:p>
            <a:pPr lvl="1" marL="339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ffice for Oregon Health Policy and Research</a:t>
            </a:r>
            <a:endParaRPr b="0" lang="en-US" sz="1800" spc="-1" strike="noStrike">
              <a:solidFill>
                <a:srgbClr val="000000"/>
              </a:solidFill>
              <a:latin typeface="Tahoma"/>
            </a:endParaRPr>
          </a:p>
          <a:p>
            <a:pPr lvl="1" marL="3398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ttp://www.ohppr.state.or.us</a:t>
            </a:r>
            <a:endParaRPr b="0" lang="en-US" sz="1800" spc="-1" strike="noStrike">
              <a:solidFill>
                <a:srgbClr val="000000"/>
              </a:solidFill>
              <a:latin typeface="Tahoma"/>
            </a:endParaRPr>
          </a:p>
          <a:p>
            <a:pPr lvl="1" marL="339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2" name="John%20Santa" descr=""/>
          <p:cNvPicPr/>
          <p:nvPr/>
        </p:nvPicPr>
        <p:blipFill>
          <a:blip r:embed="rId1"/>
          <a:stretch/>
        </p:blipFill>
        <p:spPr>
          <a:xfrm>
            <a:off x="5562720" y="2743200"/>
            <a:ext cx="2835000" cy="390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ortant Questions</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 sharing in poor adults</a:t>
            </a:r>
            <a:endParaRPr b="0" lang="en-US" sz="32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works, what doesn’t?</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can delivery systems and communities help?</a:t>
            </a:r>
            <a:endParaRPr b="0" lang="en-US" sz="28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ect of premiums on poor adults</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trading off benefits for expansion of eligibility result in net benefits to the population as a whole?</a:t>
            </a:r>
            <a:endParaRPr b="0" lang="en-US" sz="3200" spc="-1" strike="noStrike">
              <a:solidFill>
                <a:srgbClr val="000000"/>
              </a:solidFill>
              <a:latin typeface="Tahoma"/>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s for Poor/Low Income</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cus on adults—no premium/nominal copays for childre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discretionary incom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mily/friends/other sour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ancing op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ther resource help—food, hous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ategies to Moderate Impact</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mium subsid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mium financ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pay financ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inuous enroll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dical cultur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 cultu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ternatives to Cost-sharing</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iminate coverage for specific treatments—return to lis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te of service strategies—individual visit to group, subacute detox</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mits on visi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idelin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regon 2001</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 9/11</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nsurance ris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onomy in recess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t 9/11</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800M defici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ghest unemployment in U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HP2</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efits/eligibility flexibili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ximize leverage—access all $$ sources possib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resources—expand eligibili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 enrollment for expansion popula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king Tough Choice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ion services rather than peop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licit, public decision proce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egon data for reference and releva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y on evidence when availab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rioritized List – Lessons Learned</a:t>
            </a:r>
            <a:endParaRPr b="0" lang="en-US" sz="40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orities made explicit—prevention high on list. Futile and inefficient care lowest </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verall rankings make sense</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ss valued services excluded—about   3% more than usual exclusions</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fficult to administer</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ll complex and emotional process</a:t>
            </a:r>
            <a:endParaRPr b="0" lang="en-US" sz="3200" spc="-1" strike="noStrike">
              <a:solidFill>
                <a:srgbClr val="000000"/>
              </a:solidFill>
              <a:latin typeface="Tahom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stening to the Public</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e public sessions—over 2000 participa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egonians understand tradeoff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fer cost-sharing to benefit elimin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scription drugs highest valued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ntal and mental health simila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ntal—”on the cusp”</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ntal—first benefit with substantial resources “on the cus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tivated managed dental pla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shows minimal preventive, substantial high cost u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cus on maintaining func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 month $ limit, copays on restorati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ortance of Research</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ood research on low income, churning, subsidy for ESI</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ck of research on cost-sharing at lowest incomes other than Rx</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ing evidence-based analysis done by Oregon Evidence Based Practice Center for high cost prescription drug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ssons Learned</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king benefits away is tough work</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nsured have little leverag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presenting options, keep participants talking, be a cataly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basic servic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less valued, less effective servic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sue every option until you get pushed bac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2T05:09:50Z</dcterms:created>
  <dc:creator>SANTAJ</dc:creator>
  <dc:description/>
  <dc:language>en-US</dc:language>
  <cp:lastModifiedBy>Emily Saslow</cp:lastModifiedBy>
  <cp:lastPrinted>2002-03-04T17:52:34Z</cp:lastPrinted>
  <dcterms:modified xsi:type="dcterms:W3CDTF">2002-05-15T18:49:00Z</dcterms:modified>
  <cp:revision>26</cp:revision>
  <dc:subject/>
  <dc:title>Oregon political/economic climate</dc:title>
</cp:coreProperties>
</file>